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00E8F-FAD3-4FBF-97CF-6B1CFFFF6BB9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77F95-5803-4709-A009-4E6B82680BB3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D40C9-250F-4621-8C76-7782CAEB7119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36CA5-2393-4B04-9A2C-972CF00DA39D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F4541-98DC-45AF-80FA-E50FEB81A540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1A80C-3627-4654-9D1D-A9BDBE6B4F1A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6223F-A4D8-471F-B068-E7A40743C49D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E8B04-24E1-4F0E-9A2D-6BEB2F1E36B4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AF123-B79D-46AD-8001-6313A192AB90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36EBA-625A-4E63-A4A5-4C7C612ED530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F9006-91EA-45DA-B61C-BE2117D38668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315A1-3793-4808-820F-B2F41A1B0602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88A96-31EA-44C7-92AD-3328B0231E82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878BF-8E39-43FF-96DA-2D4269776B40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FCD11-DBFE-4691-9242-2487907DF2D1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C526-F9EE-4C57-8D4E-A8741858F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638D-404E-4790-86F6-54C102E3B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124A-DA8D-4A92-B41B-BBDDE73BA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0F2C-4D8A-4182-B1B7-850AEF0EA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C3C78-8C5A-4067-8EBF-FAD840857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87AB7-5279-4C10-BEFB-9999A5B0B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77CA1-0B04-464E-8954-2342ED0FC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089B6-4C2B-4EF3-8CE3-D091E60FC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744C4-64A2-4CEB-A0E5-63A051F3E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61A61-01CF-4646-8163-963DFB470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9B675-2C65-4908-A654-05099BEB9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0A46-BE68-436B-BA23-8CFD73CFB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0C449-F401-4814-83A2-E7431E495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97132-C124-4751-AF29-05A76BF38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49D9A-FCD8-44CE-97D1-48A459F7A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19CD1-ECE7-4BD2-A527-E70197C4D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3D57C-E14F-4991-9B15-C666F1C15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46F2-B9DE-4162-BF6E-F87F48E3B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29DF-A081-4064-82C5-8D9ED8AE6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3326-9E43-469F-A25C-3282190EB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EB39-E4FB-4701-AF60-72B9CEF03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A4CE-EA95-424C-BD65-A38F1DD60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FC2F-FDED-407E-BDFD-626CE80DF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4A6F-12FA-4021-BD5B-7AA4FE522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0B28F-1F2B-49DD-BBEB-236B2793CE43}" type="slidenum">
              <a:rPr b="0" lang="ar-SA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21F37-2A08-419B-A991-CF7D99396C2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467480" cy="29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odern Systems Analysi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nd Design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ird Edition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066320" y="327672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Chapter 6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Initiating and Planning Systems Development Projec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.</a:t>
            </a:r>
            <a:fld id="{CDD93D7E-9716-41CC-99FA-ED830C13C411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404280"/>
            <a:ext cx="7772400" cy="9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ssessing Other Project Feasibility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755280" y="1773000"/>
            <a:ext cx="7854840" cy="476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perational Feasi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sessment of how a proposed system solves business problems or takes advantage of opportun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chedule Feasi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sessment of time frame and project completion dates with respect to organization constraints for affecting chan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egal and Contractual Feasi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sessment of legal and contractual ramifications of new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olitical Feasi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sessment of key stakeholders in organization’s view toward proposed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.</a:t>
            </a:r>
            <a:fld id="{2C8E70EE-7D87-4319-BCBF-E450FB055292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620640"/>
            <a:ext cx="7772400" cy="5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uilding the Baseline Project Pl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bjectiv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sures that customer and development group have a complete understanding of the proposed system and require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sponsoring organization with a clear idea of scope, benefits and duration of proje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 Sec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ystem Descrip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easibility Assess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nagement Issu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.</a:t>
            </a:r>
            <a:fld id="{8EA781CC-6AEC-488C-AA23-748FEA062228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620640"/>
            <a:ext cx="7772400" cy="6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uilding the Baseline Project Pl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75564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ief overvie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commended course of ac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ject scope defin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its affect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o inside and outside the organization would be involv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action with other syste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ange of system capabilit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2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ystem Descrip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utline of possible alternative solu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arrative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.</a:t>
            </a:r>
            <a:fld id="{EBC20D66-A15F-4D6E-8C71-50528C378616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549360"/>
            <a:ext cx="7772400" cy="6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uilding the Baseline Project Pl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755640" y="1412640"/>
            <a:ext cx="7772400" cy="50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easibility Assess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ject costs and benefi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echnical difficul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igh-level project schedu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nagement Issu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utlines concerns that management may have about the proje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eam composi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munication pl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bjectiv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sure conformity to organizational standar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ll parties agree to continue with proje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.</a:t>
            </a:r>
            <a:fld id="{2824BCBE-145E-4799-BB34-CB6C35FDE31A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475920"/>
            <a:ext cx="777240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Reviewing the Baseline Project Pla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755280" y="1413000"/>
            <a:ext cx="77835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alkthroug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er group revie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ticipa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esen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reta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andards Bear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intenance Orac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ctivit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alkthrough Review 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dividuals poll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alkthrough Action Li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dvantag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ures that review occurs during projec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.</a:t>
            </a:r>
            <a:fld id="{FD952891-2F90-486D-85C0-BBD9448C106B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itiating and Planning System Development Proje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755640" y="1762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ject Initi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stablishment of project te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velopment of relationship with custom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ject Initiation Pl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stablishment of Management Procedu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stablishment of Project Workbook and Project Management Environ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ject Plan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fining clear, discrete activities and the work needed to complete each activ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.</a:t>
            </a:r>
            <a:fld id="{3A21A3E6-C744-489A-A6CD-9AAFAD24DC5B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itiating and Planning System Development Proje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82692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liverables and Outcom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Baseline Project Plan (BPP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c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enefi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s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is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our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tatement of Work (SOW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scribes deliverab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utlines work needed to be perform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.</a:t>
            </a:r>
            <a:fld id="{DC890CD5-CC1A-4F3E-A2F6-2AC0F7355691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475920"/>
            <a:ext cx="777240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ssessing Project Feasi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 Categor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conomi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echnic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ration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egal and contractu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olitic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.</a:t>
            </a:r>
            <a:fld id="{32480606-5104-4637-B310-74270E69B47C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476280"/>
            <a:ext cx="7772400" cy="6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ssessing Economic Feasi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83808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ost – Benefit Analys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etermine Benefi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angible Benefi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n be measured easil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amp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st reduction and avoida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rror reduc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creased flexibil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creased speed of activ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roved management planning and contro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ning new markets and increasing sales opportunit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.</a:t>
            </a:r>
            <a:fld id="{AD6881B7-A522-405B-8CEB-02E1EA4DE2DE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620640"/>
            <a:ext cx="7772400" cy="6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ssessing Economic Feasi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539640" y="1557000"/>
            <a:ext cx="7777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ntangible Benefi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nnot be measured easil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amp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creased employee mora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mpetitive necess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re timely inform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motion of organizational learning and understand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etermine Co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angible Cos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n easily be measured in dolla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ample: Hardwa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ntangible Cos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nnot be easily measured in dolla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ample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ss of customer goodwil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ss of employee mora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.</a:t>
            </a:r>
            <a:fld id="{B4A6114D-07C4-4F9F-ACEE-F010219AF74E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620640"/>
            <a:ext cx="7772400" cy="5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ssessing Economic Feasi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3808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ne-Time Co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sociated with project startup, initiation and developmen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clud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ystem Develop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ew hardware and software purchas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er trai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te prepar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 or system conversio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.</a:t>
            </a:r>
            <a:fld id="{1931E559-3B6D-4CE6-9C4E-C58E2003EF99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549360"/>
            <a:ext cx="7772400" cy="6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ssessing Economic Feasi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83808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ecurring Co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sociated with ongoing use of the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clude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pplication software maintena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cremental data storage expen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ew software and hardware releas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sumable suppl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cremental communic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ime value of mone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(TVM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process of comparing present cash outlays to future expected retur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.</a:t>
            </a:r>
            <a:fld id="{421C88D2-7980-490A-920A-9A6EA5CCA446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620640"/>
            <a:ext cx="7772400" cy="6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ssessing Technical Feasi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echnical Feasi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sessment of the development organization’s ability to construct a proposed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ject risk can be assessed based upon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ject siz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ject structu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velopment group’s experience with the applic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er group’s experience with development projects and the application are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.</a:t>
            </a:r>
            <a:fld id="{2BCDE27D-56B5-4B32-A76D-D708B2D07B3C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1T00:26:26Z</dcterms:created>
  <dc:creator>John Russo</dc:creator>
  <dc:description/>
  <dc:language>en-US</dc:language>
  <cp:lastModifiedBy>K AlSultan</cp:lastModifiedBy>
  <dcterms:modified xsi:type="dcterms:W3CDTF">2015-02-06T15:48:59Z</dcterms:modified>
  <cp:revision>98</cp:revision>
  <dc:subject/>
  <dc:title>Modern  Systems Analysis and Design  Joey F. George  Jeffrey A. Hoffer  Joseph S. Valacich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