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D8F9-E7EC-48C2-9A9C-3821B6D498C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518B-8700-4FB2-A100-B58A1E60A99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00911-99F1-4DBC-84FA-6B195F885AC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0E50-BAA8-48B3-A1A0-C857DA46FA5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A8F9-FEC9-4F8A-81E6-9CE4D8CE158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EBF9-2809-4BDD-86D9-6B45466B353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E171-1DE3-4EED-BF44-DD38F96F092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72615-A1EE-4C30-872F-D85ED9406C0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414D-E897-43F9-88BF-569A3746F32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B092-3DF1-47B6-B751-9024875BAF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AF4B-DC37-47E1-AE7E-B5923B9E77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20E7-6337-4FE9-BBE8-2460C593232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435E1-E231-42E6-B81A-CEFC59DAEF1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5AFC-FBD7-4DF0-85B0-2B2F3685B0F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0CD1-71C6-4877-BC58-B0C95A24A0D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7CE-1EC2-4711-8F8C-61429B3D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F628-F8A0-4349-83CA-D551E359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715-E438-441D-AA28-DCA09A420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BC13-15F3-4208-A795-BBDE10F58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AE1B-C66C-4E2E-98E6-910C4F818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34CF-CE2E-4FA2-8609-3529481D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C73A-E258-4DAA-9197-C5415B50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AF6E-9324-4577-9770-32A38FA4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06BD-6F8E-480F-A2CF-D3B770C0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25FB-33E8-4C23-9193-C237A88B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4AEA2-1AF5-4FE3-A8AF-64F33C61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63D8-C481-4E08-9AE4-D4584F80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0B7A-E692-4419-852D-10D7D816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B7ACB-7164-42A8-85F3-E65D75BE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A9BF-5650-4CB3-B59C-19BD2010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652C-49F8-4095-BBF5-49AC7853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F34A-16EC-468E-A17C-55070782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0547-6F65-4B80-A12F-31C890F0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D6D-C743-4E13-A95E-8C4607BC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D670-30DD-473C-9BFC-A470A49B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02FF-2739-414B-93DF-61569461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FC3-409A-45CE-859C-7722AAE2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E745-4E14-4148-9A37-9F25D403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878-A9A9-49D8-9AAE-6C15CA7E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79E0-6ADD-4402-8C55-17CD3158CD56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2B81-2EAF-48D7-BAE5-E6602B0757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Determining System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630A5E1C-86B8-44E0-99BA-A9D34A79BD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information to be discovered in a docu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s with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portunity to meet new n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di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tles and names of key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information processing circum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current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s for process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B29D94B9-3948-4945-BA47-E38241943F1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useful docu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Written work procedure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for an individual or a work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how a job is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 data and information used and created in the process of performing the job or 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syste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official way a system works as described in the organizational docum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l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way a system actually 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Business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icitly indicate what data flow in or out of a system and which are necessary for the system to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Report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generated by curr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the analyst to work backwards from the report to the data that generated it – company’s performance is past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Description of current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current system is computer b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60C7253A-43BD-482A-BC40-DDA4D0B8430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rn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155736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group interview as it brings together key users, managers and systems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collect system requirements simultaneously from key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ular structure of roles and agenda is followed and analysts control the sequence of questions answered by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off-s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keep participants away from distr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last from four hours to an entire week and may consist of many wee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etitive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dimentary version of system is bui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s or augments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al: to develop concrete specifications for ultimat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F9CDDC7-347F-47AC-BB42-C673323BB95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560" y="1545840"/>
            <a:ext cx="7921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ssion Leader – organizes and runs the J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– key users of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rs of the workgroups who use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onsor – needed to cover expe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Analysts – to learn from users and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ibe –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Staff – other IS staff like programmers, database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D se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usually held in special-purpose rooms where participants sit in a horse-shoe shaped t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oms have whiteboards, audio-visual tools like overhead projectors, flip charts, transparen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0A354A6-BCC4-4C4E-BAA2-776990FE95E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detailing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tures of proposed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During J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per CASE tools are u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analysts to enter system models directly into CASE during the JAD s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een designs and prototyping can be done during JAD and shown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07A05B7-69DD-4AC1-A18B-E1594397B2B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628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ckly converts requirements to working version of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ce the user sees requirements converted to system, will ask for modifications or will generate additional re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useful wh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requests are not cl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w users are involved in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s are complex and require concrete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 of communication problems between analyst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ls are readily available to build proto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dency to avoid formal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 to adapt to more general user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ing data with other systems is often not consid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Development Life Cycle (SDLC) checks are often bypa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A334F299-C1B6-4D91-B06D-164ACA59B3E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has three sub p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de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structu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Generating alternative design and selecting best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ther information on what system should do from many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632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istics for gathering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ertin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 every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rti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the best organizational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xation of constraints assuming anything is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tion to det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r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 the organization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D3C119B8-E203-4187-91B9-339DA4733B4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7002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liverab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ormation collected from us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terview transcripts, questionnaire responses, notes of observ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isting written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ample business forms and reports, procedure manuals, training manu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uter-based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SE repository contents and reports of existing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derstanding of organizational compon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usiness objectiv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formation people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ata handled and when, how and who moves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ules of data process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ev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B1E3C60F-F904-4BAA-AB04-6A752EA493A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55736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dividually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people who knows current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urvey people via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questionnai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 group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of people with different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Observe worker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at selected times to see how data is hand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Study business docu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uidelines for Effective Interview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interviewe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set up appointment time and duration convenient for interviewe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</a:t>
            </a:r>
            <a:r>
              <a:rPr b="1" lang="en-US" sz="1700" spc="-1" strike="noStrike">
                <a:solidFill>
                  <a:srgbClr val="ff0505"/>
                </a:solidFill>
                <a:latin typeface="Calibri"/>
              </a:rPr>
              <a:t>checklis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agenda and questions: to know the sequence and duration of questions to as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isten carefully and take no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view notes within 2 days of intervie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 neutral and seek diverse view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270A94B3-A7FF-45C9-B1B3-9249DC09E43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000" y="1599840"/>
            <a:ext cx="84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oosing Interview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pre-specified answers like </a:t>
            </a:r>
            <a:r>
              <a:rPr b="0" i="1" lang="en-US" sz="1800" spc="-1" strike="noStrike">
                <a:solidFill>
                  <a:srgbClr val="ff0505"/>
                </a:solidFill>
                <a:latin typeface="Calibri"/>
              </a:rPr>
              <a:t>what you think about …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ive interviewees more sense of involvement; put interviewee at ease as they respond in their own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ong time to answer; difficult to summar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ose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dent is asked to choose from a set of specified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True or False, Multiple choice, rating a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ess time to answer and more topics cov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seful information may be overlo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itional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phrase questions in ways that imply a wrong or right ans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 very carefully to what is being said – take notes or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 up notes within 48 h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set expectations about the new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51ADF145-BC7A-41F4-9035-B48B60AC7A3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6880" y="1628640"/>
            <a:ext cx="8456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ministering Question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Questionnaires Vs Intervie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very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not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can gather information from many people simultaneously in a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latively short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ha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 ques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i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ess depth of understa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they provide no direct means to ask follow-up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vide the opportunity to judge the truthfulness of responses by the words or voice tone or the body language of the respo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provide the opportunity to judge the accuracy of respo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A507EEF7-1E25-40FD-A175-E3D6D8F97FB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55640" y="141300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oosing Questionnaire respond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if more people to survey decid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which set of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end questionnaire to or which questionnaire to send to which group of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onveni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eople at a local site or willing to get survey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any person from a li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fu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people who satisfy certai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tratifi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random set from each of many catego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ing Questionnai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are most useful when used for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pecif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not for general information gath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typically include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osed-ended ques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must be extremel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ear in mean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logical in sequ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s any doubts cannot be cl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How often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?) 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do you backup your computer file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C: or hard disk)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) frequently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      b) sometimes       c) hardly at all      d) nev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A5943252-11A1-47C7-B6FF-84E1F698276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280" y="1557000"/>
            <a:ext cx="831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rviewing Grou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key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at o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ne asks questions other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effective use of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s people to hear opinions of others and to agree or disa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scheduling convenient time as many people ar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minal Group Techniq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process to support idea generation b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work al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generate ideas which are pooled under guidance of a trained facilitator which are then discussed and then number of ideas are reduced and carry forw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rectly Observing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cannot always be trusted to reliably report their own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difficult to obtain unbiased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often work differently when being obser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652C5493-213F-4A08-B043-99A1ACF009D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23Z</dcterms:modified>
  <cp:revision>133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