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D01-96F5-4203-A5F4-C0E514EAB76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48C5-AA5B-43FA-991B-3E4882E1789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041A-3684-4E17-8905-DE8963A762F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5F75-2097-4082-9702-11DBE4B7B8B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603A-938C-4A47-BE12-EAB2E69DA46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B4A5-5450-4747-90D8-A35F2A72F5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5895-F0E5-4F7C-955A-8041935B0FD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CB7B-2A7A-487F-9493-7F1E70B7140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1A71-EF7C-4D7D-8564-0E18B3B63A4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DB82-3805-4A3F-979C-845AB8E6AD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BA1B-2B93-442B-8D02-CE19CF2CA0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F9FB-8EDE-4700-9F84-56EC2FD7CDB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73F1-2330-4247-813F-AAEE0C1813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C3C1-4936-4FD1-B7AF-18995B62AE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D962-0200-48F2-A515-7493FBEAD96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A73-2FFA-4586-AAC3-F99CA24C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368-3E9E-4D63-AC6E-27D44535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F90-CA4C-4A1F-A5BB-C2B94029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8C1-9771-4D58-B97F-1A6FCACD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FED1-994F-48AF-9F25-6A7486F8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F714-DA3B-4C37-84B3-D08B04AD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DC2D-5E1F-4961-9E21-F1213AF2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3394-E819-4786-ACFE-ABDF82F0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402D-15C5-4336-995E-A2355B02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AB1D-1763-4CCB-8613-8593B2F4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A88D-5108-46E1-AE15-17507FE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1A7-99BA-4617-811D-9407F2A6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7526-99FE-4BF6-B6CA-923E75C9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272D-5221-4A25-9A75-9196A20E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8538-ABCC-44AB-A1D0-91B8AF32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DD97-2351-4C3A-BAC4-242D57CE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E8CA-6D6A-40DA-86AF-014F1618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2BB-91CE-484F-BDDF-159218FC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8C2-69CA-4284-9DD0-EBE0EAEF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434-ECBD-46EB-BBAE-D4AF5261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885-285B-44ED-87E5-322E96B1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ABE-9D15-43A2-B682-1E0C3DA9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421-7857-4113-816F-7402104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6BC-0336-48B3-ABD2-3E294B61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9428-8DAA-43B1-A5BE-0721AE8BC26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F99B-9AB8-4981-B0E5-527D026F5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termining Syste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0BEE7779-BC29-4C29-B559-37FEBA4CE68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information to be discovered in a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s with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meet new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tles and names of key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information processing circum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current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for process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21BA9902-58DE-4F7B-8884-8C9E0DC189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useful docu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Written work procedure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for an individual or a work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how a job is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data and information used and created in the process of performing the job or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syste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fficial way a system works as described in the organizational docu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l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way a system actually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Business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ly indicate what data flow in or out of a system and which are necessary for the system to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Report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generated by curr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the analyst to work backwards from the report to the data that generated it – company’s performance is past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Description of current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current system is computer 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37839A17-134E-4708-BB7A-E8596B1B46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rn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group interview as it brings together key users, managers and systems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collect system requirements simultaneously from key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ular structure of roles and agenda is followed and analysts control the sequence of questions answered by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off-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keep participants away from di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last from four hours to an entire week and may consist of many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titive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dimentary version of system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s or augments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: to develop concrete specifications for ultimat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7683834-3F25-47B9-946D-A6D33F75C06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560" y="1545840"/>
            <a:ext cx="7921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ssion Leader – organizes and runs the J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– key users of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rs of the workgroups who use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nsor – needed to cover exp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Analysts – to learn from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ibe –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Staff – other IS staff like programmers, database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D s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usually held in special-purpose rooms where participants sit in a horse-shoe shaped t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ms have whiteboards, audio-visual tools like overhead projectors, flip charts, transpar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CAEE656-8A3B-4DBC-8F3B-C46763A2787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detailing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proposed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During J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per CASE tools are u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analysts to enter system models directly into CASE during the JA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een designs and prototyping can be done during JAD and show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F142A4C-F2AA-4A3C-82FB-43076A8521F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628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ckly converts requirements to working version of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the user sees requirements converted to system, will ask for modifications or will generate additional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useful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ests are not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w users are involved in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s are complex and require concrete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 of communication problems between analyst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s are readily available to build proto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ency to avoid formal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adapt to more general use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ing data with other systems is often not consid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Development Life Cycle (SDLC) checks are often by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7993AA16-85D3-471E-A65D-EFD907A7CF8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has three sub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de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structu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Generating alternative design and selecting best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ther information on what system should do from many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632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for gath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ertin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every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rti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best organization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xation of constraints assuming anything i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tion to de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r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the organization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9F025B2E-DFC7-4512-A588-E43B0CA3913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7002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livera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ormation collected from us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rview transcripts, questionnaire responses, notes of observ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isting written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ample business forms and reports, procedure manuals, training manu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uter-based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SE repository contents and reports of existing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standing of organizational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usiness objectiv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formation people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handled and when, how and who moves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ules of data process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4E908329-2E46-4417-80D0-B1F063AF17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55736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dividually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eople who knows current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rvey people via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questionnai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 group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of people with different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Observe worker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at selected times to see how data is hand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Study business docu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uidelines for Effective Interview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interviewe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set up appointment time and duration convenient for interview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</a:t>
            </a:r>
            <a:r>
              <a:rPr b="1" lang="en-US" sz="1700" spc="-1" strike="noStrike">
                <a:solidFill>
                  <a:srgbClr val="ff0505"/>
                </a:solidFill>
                <a:latin typeface="Calibri"/>
              </a:rPr>
              <a:t>checklis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genda and questions: to know the sequence and duration of questions to as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sten carefully and take no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view notes within 2 days of intervie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 neutral and seek diverse view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C91ED410-10AC-4BF4-858E-20CD195F7F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9840"/>
            <a:ext cx="84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oosing Interview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pre-specified answers like </a:t>
            </a:r>
            <a:r>
              <a:rPr b="0" i="1" lang="en-US" sz="1800" spc="-1" strike="noStrike">
                <a:solidFill>
                  <a:srgbClr val="ff0505"/>
                </a:solidFill>
                <a:latin typeface="Calibri"/>
              </a:rPr>
              <a:t>what you think about …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ive interviewees more sense of involvement; put interviewee at ease as they respond in their ow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ong time to answer; difficult to summar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dent is asked to choose from a set of specified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True or False, Multiple choice, rating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ess time to answer and more topics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seful information may be overlo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phrase questions in ways that imply a wrong or right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very carefully to what is being said – take notes or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up notes within 48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expectations about the new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4CCC5B48-C112-4861-A8A6-E87858488F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6880" y="1628640"/>
            <a:ext cx="845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ministering Question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Questionnaires Vs 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very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not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gather information from many people simultaneously in a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latively shor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ha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 ques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ess depth of understa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y provide no direct means to ask follow-up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vide the opportunity to judge the truthfulness of responses by the words or voice tone or the body language of the respo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provide the opportunity to judge the accuracy of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A0DD57BC-C9F3-476D-B08E-5715BA1B5EC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413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oosing Questionnaire respon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if more people to survey decid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which set of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end questionnaire to or which questionnaire to send to which group of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ople at a local site or willing to get surve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any person from a li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people who satisfy certai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tratifi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random set from each of many 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ing Questionna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are most useful when used for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not for general information gath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typically include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osed-ended 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must be extremel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ear in mean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logical in sequ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s any doubts cannot be cl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How often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?) 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do you backup your computer file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C: or hard disk)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) frequently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      b) sometimes       c) hardly at all      d) nev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C56BBD65-1FF2-48BE-A7AC-C0D82153EE7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280" y="1557000"/>
            <a:ext cx="83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ing 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key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at o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sks questions other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effective use of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s people to hear opinions of others and to agree or dis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scheduling convenient time as many people ar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minal Group Techni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process to support idea generation b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work al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generate ideas which are pooled under guidance of a trained facilitator which are then discussed and then number of ideas are reduced and carry for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ly Observin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cannot always be trusted to reliably report their own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difficult to obtain unbias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often work differently when being obser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4BB57269-EABD-4ED5-A366-DC294B56C22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23Z</dcterms:modified>
  <cp:revision>13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