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4964-6433-444F-BB0B-92F3D3AE990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B4A4-F623-4B6D-81E8-AC0B4CFEAEB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8FAF-83EA-4612-A3D3-B97D108CB23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FA20-3E7A-44F2-BAAE-72A1A4CF798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4D82-FBEE-4229-B4D6-B38B69EE1CA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F0F2-70E9-4E11-A854-21132C40AFF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073F-B9A9-473C-AE2F-1B1A830C689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DA11-E88B-477A-AFD5-3F149961B17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3900-C834-4802-BE1C-0FBE4F9AD11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0655-E7DF-4E68-8B3D-85A3903BD90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09B9-8C5C-4E64-9497-F6D3C474F4C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A1DA-A2CD-4BA8-89A8-C7DDB16E6E8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8B5B-2AAE-4A8B-8C34-EB9C4370AF2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03A1-AE6F-4E73-9858-FA99CE5CA4D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84C8-4DB0-446F-9897-E0EDF0B0F55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B244-C9A5-4033-896C-9E3BBB179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8831-0990-4E32-9B8E-941292F2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43A6-612E-4BC3-AEBD-3C92376D0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28A1-8F71-472E-9CFC-2F987AF4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87BB-A06E-4CD8-983B-8E397750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4143-5143-4F92-9061-793AAAB1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C991-19AD-4B92-9C26-24ECE157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39E6-CB16-4DB1-B036-3A014AD2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169E-FB59-4C65-803B-5F41CE1F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B772-CADC-44E2-ABE5-4BFE1EF6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3367-8BB2-44D9-9E01-F3504323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3803-E7CB-4B3C-950B-23A5F7BB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7876-E8AA-4DE4-9634-A9C6555E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B73B-820A-4920-94D1-429BE59F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D65D-1322-418D-B1ED-B69E347B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1840-ACC5-49C7-958B-7F2B925E8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03DF-CDA8-46D0-9A55-2EAA3FFB5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6340-0775-4BBE-AB7E-C9EFEFB7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069F-5EE9-4695-8D25-79BE2197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17B9-5CB0-40A5-8F51-6867DC6E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E697-4E0B-4CA1-A11F-B1D31617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7928-10A1-4A5C-8C10-DEEA644F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783C-A471-44E1-BA71-45D7DF79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6A13-A644-4AFA-8C0C-D6CDA6CD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65F2-8941-44AC-8920-E10561240BCA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81B6-323E-4B78-ACFF-E251CE12E2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Determining System Require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5D59B5AB-281F-4485-9047-EBC11B49587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6028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alyzing Procedures and Other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ypes of information to be discovered in a docum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s with existing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portunity to meet new ne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al dir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tles and names of key individu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lues of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al information processing circumsta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sons for current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les for process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889585AB-FD39-404B-949A-B804321AC62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60280"/>
            <a:ext cx="777240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alyzing Procedures and Other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10920" y="1557360"/>
            <a:ext cx="82818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types of useful docu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505"/>
                </a:solidFill>
                <a:latin typeface="Calibri"/>
              </a:rPr>
              <a:t>Written work procedure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 for an individual or a work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cribes how a job is perform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s data and information used and created in the process of performing the job or ta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rmal system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official way a system works as described in the organizational document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ormal syste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he way a system actually wor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505"/>
                </a:solidFill>
                <a:latin typeface="Calibri"/>
              </a:rPr>
              <a:t>Business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licitly indicate what data flow in or out of a system and which are necessary for the system to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505"/>
                </a:solidFill>
                <a:latin typeface="Calibri"/>
              </a:rPr>
              <a:t>Report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 generated by current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s the analyst to work backwards from the report to the data that generated it – company’s performance is past ye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Description of current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e current system is computer ba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95FC4488-C7E6-48A5-A3E2-78507634F13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dern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9280" y="1557360"/>
            <a:ext cx="8604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Joint Application Design (JA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ilar to group interview as it brings together key users, managers and systems analy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urpo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collect system requirements simultaneously from key peo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icular structure of roles and agenda is followed and analysts control the sequence of questions answered by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ducted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off-si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keep participants away from distra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last from four hours to an entire week and may consist of many wee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toty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etitive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dimentary version of system is bui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laces or augments SDL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al: to develop concrete specifications for ultimat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D1152788-389F-466B-9172-1B18165D832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oint Application Design (JA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560" y="1545840"/>
            <a:ext cx="79218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rticip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ssion Leader – organizes and runs the J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– key users of the curr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rs of the workgroups who use the curr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onsor – needed to cover expen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Analysts – to learn from users and manag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ribe – takes no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Staff – other IS staff like programmers, database analy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AD sess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re usually held in special-purpose rooms where participants sit in a horse-shoe shaped tab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oms have whiteboards, audio-visual tools like overhead projectors, flip charts, transparenc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A068E8BD-3DED-40A7-8F0A-43BFB0D44E6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54900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oint Application Design (JA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 Resu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 detailing existing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atures of proposed syste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Tools During J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per CASE tools are us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s analysts to enter system models directly into CASE during the JAD se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reen designs and prototyping can be done during JAD and shown to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B8E81266-4F29-4172-9D81-68772261F1F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toty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16286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ickly converts requirements to working version of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ce the user sees requirements converted to system, will ask for modifications or will generate additional reque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st useful whe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 requests are not cl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w users are involved in the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igns are complex and require concrete 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story of communication problems between analysts and 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ols are readily available to build proto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wbac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ndency to avoid formal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icult to adapt to more general user aud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ring data with other systems is often not conside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s Development Life Cycle (SDLC) checks are often bypa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85490B15-C538-43D5-82DD-F25BA3CB3EF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760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Performing Requirements Determination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55640" y="1690560"/>
            <a:ext cx="77724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aly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ase has three sub ph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Requirements determi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Requirements structu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Generating alternative design and selecting best 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ther information on what system should do from many 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d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632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rforming Requirements Determinatio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55640" y="1690560"/>
            <a:ext cx="77724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racteristics for gathering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ertine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stion everyth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arti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nd the best organizational 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xation of constraints assuming anything is poss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tion to deta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ra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ew the organization in new w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F7650636-B0DF-46D5-9E6C-46896D1F924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liverables and Outc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9280" y="1700280"/>
            <a:ext cx="8929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ypes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liverabl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nformation collected from us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nterview transcripts, questionnaire responses, notes of observa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xisting written inform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ample business forms and reports, procedure manuals, training manua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mputer-based inform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ASE repository contents and reports of existing syst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nderstanding of organizational compon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usiness objectiv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nformation people need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ata handled and when, how and who moves dat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ules of data process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Key even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B9AC5980-B780-4B9E-9CB6-C6E8D1EF783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4046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itional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24000" y="155736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ndividually </a:t>
            </a:r>
            <a:r>
              <a:rPr b="1" i="1" lang="en-US" sz="1700" spc="-1" strike="noStrike">
                <a:solidFill>
                  <a:srgbClr val="ff0505"/>
                </a:solidFill>
                <a:latin typeface="Calibri"/>
              </a:rPr>
              <a:t>interview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people who knows current syst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urvey people via </a:t>
            </a:r>
            <a:r>
              <a:rPr b="1" i="1" lang="en-US" sz="1700" spc="-1" strike="noStrike">
                <a:solidFill>
                  <a:srgbClr val="ff0505"/>
                </a:solidFill>
                <a:latin typeface="Calibri"/>
              </a:rPr>
              <a:t>questionnaires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505"/>
                </a:solidFill>
                <a:latin typeface="Calibri"/>
              </a:rPr>
              <a:t>Interview group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of people with different need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505"/>
                </a:solidFill>
                <a:latin typeface="Calibri"/>
              </a:rPr>
              <a:t>Observe workers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at selected times to see how data is hand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505"/>
                </a:solidFill>
                <a:latin typeface="Calibri"/>
              </a:rPr>
              <a:t>Study business documen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a2212"/>
                </a:solidFill>
                <a:latin typeface="Calibri"/>
              </a:rPr>
              <a:t>Interviewing and Liste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Guidelines for Effective Interview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505"/>
                </a:solidFill>
                <a:latin typeface="Calibri"/>
              </a:rPr>
              <a:t>Prepare interviewe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: set up appointment time and duration convenient for interviewe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505"/>
                </a:solidFill>
                <a:latin typeface="Calibri"/>
              </a:rPr>
              <a:t>Prepare </a:t>
            </a:r>
            <a:r>
              <a:rPr b="1" lang="en-US" sz="1700" spc="-1" strike="noStrike">
                <a:solidFill>
                  <a:srgbClr val="ff0505"/>
                </a:solidFill>
                <a:latin typeface="Calibri"/>
              </a:rPr>
              <a:t>checklist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, agenda and questions: to know the sequence and duration of questions to ask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isten carefully and take not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view notes within 2 days of interview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 neutral and seek diverse view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D4314D5C-9638-4B4F-890A-78188BEA1DA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33300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itional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4000" y="1599840"/>
            <a:ext cx="8459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oosing Interview Qu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pen-Ended ques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pre-specified answers like </a:t>
            </a:r>
            <a:r>
              <a:rPr b="0" i="1" lang="en-US" sz="1800" spc="-1" strike="noStrike">
                <a:solidFill>
                  <a:srgbClr val="ff0505"/>
                </a:solidFill>
                <a:latin typeface="Calibri"/>
              </a:rPr>
              <a:t>what you think about …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1c821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Advanta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give interviewees more sense of involvement; put interviewee at ease as they respond in their own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5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Disadvanta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takes long time to answer; difficult to summari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lose-Ended ques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pondent is asked to choose from a set of specified respon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: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True or False, Multiple choice, rating a respon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1c821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Advanta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takes less time to answer and more topics cove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5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Disadvanta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useful information may be overlook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ditional Guide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 not phrase questions in ways that imply a wrong or right answ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sten very carefully to what is being said – take notes or reco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e up notes within 48 h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 not set expectations about the new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C7B3FFE8-A719-43BE-A4CC-83B3DECF7F1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404640"/>
            <a:ext cx="7772400" cy="10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itional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6880" y="1628640"/>
            <a:ext cx="8456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ministering Questionn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Questionnaires Vs Interview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rview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re </a:t>
            </a:r>
            <a:r>
              <a:rPr b="0" i="1" lang="en-US" sz="2000" spc="-1" strike="noStrike">
                <a:solidFill>
                  <a:srgbClr val="ff3b3b"/>
                </a:solidFill>
                <a:latin typeface="Calibri"/>
              </a:rPr>
              <a:t>very expens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ff3b3b"/>
                </a:solidFill>
                <a:latin typeface="Calibri"/>
              </a:rPr>
              <a:t>time-consu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estionnair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re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not expens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can gather information from many people simultaneously in a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relatively short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rview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have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limited number of ques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limited number o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peop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estionnair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give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less depth of understand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s they provide no direct means to ask follow-up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rview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ovide the opportunity to judge the truthfulness of responses by the words or voice tone or the body language of the respond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estionnair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 not provide the opportunity to judge the accuracy of respon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B383EF79-B23C-404F-99A3-EEB8AEA07E0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itional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55640" y="1413000"/>
            <a:ext cx="77724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hoosing Questionnaire respond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if more people to survey decide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which set of peop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end questionnaire to or which questionnaire to send to which group of peo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Conveni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people at a local site or willing to get survey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Rand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ample: select any person from a li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Purposefu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ample: select people who satisfy certain crite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Stratifi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ample: select random set from each of many catego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signing Questionnai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estionnaires are most useful when used for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specif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purpos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not for general information gathe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estionnaires typically include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closed-ended ques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estionnaires must be extremely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clear in mean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logical in sequen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s any doubts cannot be clea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How often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(?) </a:t>
            </a: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do you backup your computer files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(C: or hard disk)</a:t>
            </a: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a) frequently</a:t>
            </a: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      b) sometimes       c) hardly at all      d) nev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EF6566EA-B69F-448B-8B49-08A250204A6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59920"/>
            <a:ext cx="777240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itional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280" y="1557000"/>
            <a:ext cx="8317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terviewing Group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several key peop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at o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y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several analys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one asks questions other takes no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re effective use of 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ables people to hear opinions of others and to agree or disag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advant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iculty in scheduling convenient time as many people are involv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ominal Group Techniq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ed process to support idea generation by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grou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viduals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work alon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o generate ideas which are pooled under guidance of a trained facilitator which are then discussed and then number of ideas are reduced and carry forw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irectly Observing Us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ople cannot always be trusted to reliably report their own a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ten difficult to obtain unbiased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ople often work differently when being observ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71A95585-6E01-42B0-92D6-A689D2D7F56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0:23Z</dcterms:modified>
  <cp:revision>133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