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107D-D944-471C-A838-9CCC6C70D26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19F2-B049-4E7C-BC94-D9CE26E8CEB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7484-2E5D-4974-A69E-F6F64995D55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99DB-DA3D-4222-95A2-FB16FD80204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0ECDE-7D13-43AC-8A16-0C17EB68A7B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0FDA-3D29-42B4-9454-1124941F164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230A-A1C6-41C6-BA66-48226039797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CB0E-9453-46BA-AAFB-91D771B3CC9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AAA1-EC81-4B0B-A370-4614BD459B7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341A5-34E6-4BD3-BE8B-069336F8E90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7AE3-BDF9-41BD-89E3-EFFDEED86B7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A041-0313-4566-8999-3089FF56143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D450-FFC0-48F5-81CA-36A273AAA5B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6266-B5C5-4DCD-8145-C8BD1DCF92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416A-00E7-426A-B52C-D9700FFB368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E93-BC5C-4430-84D8-87CCF6D5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CA33-E4C7-4B5A-9D93-E16EBD65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A158-5D52-43CB-ADFC-AB141E20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E1C-7635-404F-BA49-2CE62789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4EC7-F0BC-4009-845D-E2235E70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8ED8-6B93-4B61-B19E-80CAB4356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56F2-E422-48C7-BA08-E7975C56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E2A3-B1BC-42E5-B827-A36C9C56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5854E-273A-4503-9F69-ECAF7369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2745-9B08-408E-80D8-4943FA11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0FCB-1424-4048-9B75-383A2BD5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CEB-FF5C-417B-9227-89541539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9D0F-9511-4388-847B-466F13F0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2E15-1BB2-469E-972F-8655736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AE0D-1E82-430D-8CA9-1DC3D090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88A5-8E98-43C6-B9C3-5DC2AD9B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3C96-16F0-493A-8F60-A626305B0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2463-5E53-47F8-BA22-B8A1C062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AD0-A910-485F-818A-C988BAFA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0C03-9B64-4FE9-8CD2-C38275D3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07F7-2DD9-4C77-865C-B9B98AF5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DE0-29CD-4F08-A886-AA33A3AD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696-F3D6-469A-BD0B-C262F556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989B-283B-437C-9803-C5A8552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E62D-0099-475E-9CA5-07A2CCE68CAD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67C1-4014-485B-9326-00717356D2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Determining Syste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EAD66742-E399-4F61-B6AE-9AD6F5E7CD4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information to be discovered in a doc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s with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portunity to meet new n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tles and names of key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information processing circum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current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s for process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DA41534C-2F30-43FF-AB25-E341FCD86D0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useful docu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Written work procedure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for an individual or a work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how a job is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 data and information used and created in the process of performing the job or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syste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fficial way a system works as described in the organizational docu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l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way a system actually 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Business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icitly indicate what data flow in or out of a system and which are necessary for the system to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Report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generated by curr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the analyst to work backwards from the report to the data that generated it – company’s performance is past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Description of current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current system is computer b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0ADF1251-3054-45D9-9ED4-5D2B1DAA88A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rn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1557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group interview as it brings together key users, managers and systems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collect system requirements simultaneously from key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ular structure of roles and agenda is followed and analysts control the sequence of questions answered by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off-s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keep participants away from dist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last from four hours to an entire week and may consist of many wee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etitive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dimentary version of system is bui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s or augments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: to develop concrete specifications for ultimat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8E40DED-2374-41E8-BCD4-41DF600BCEB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560" y="1545840"/>
            <a:ext cx="7921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ssion Leader – organizes and runs the J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– key users of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rs of the workgroups who use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nsor – needed to cover expe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Analysts – to learn from users and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ibe –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Staff – other IS staff like programmers, database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D se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usually held in special-purpose rooms where participants sit in a horse-shoe shaped t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ms have whiteboards, audio-visual tools like overhead projectors, flip charts, transpar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5E969E6-1BD2-4600-98D5-85F51521888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detailing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s of proposed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During J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per CASE tools are u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analysts to enter system models directly into CASE during the JAD 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een designs and prototyping can be done during JAD and shown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2AD33E6-8EAD-4F9E-ADF4-6C8F3FA6D5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628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ckly converts requirements to working version of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the user sees requirements converted to system, will ask for modifications or will generate additional re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useful wh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requests are not cl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w users are involved in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s are complex and require concrete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 of communication problems between analyst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s are readily available to build proto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dency to avoid formal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adapt to more general user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ing data with other systems is often not consid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Development Life Cycle (SDLC) checks are often by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7F5F45AC-46A4-4A5A-835C-07EF8FDCB7C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has three sub p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de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structu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Generating alternative design and selecting best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ther information on what system should do from many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632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for gathering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ertin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every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rti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the best organization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xation of constraints assuming anything i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tion to det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r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 the organization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DFD462AC-1DAF-4ED9-B9C3-94AAA9A1555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7002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liverab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ormation collected from us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terview transcripts, questionnaire responses, notes of observ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isting written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ample business forms and reports, procedure manuals, training manu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uter-based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SE repository contents and reports of existing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derstanding of organizational compon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usiness objectiv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formation people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ta handled and when, how and who moves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ules of data process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ev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F7E00E27-BD13-4A44-8A7B-A1C1D18E04F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55736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dividually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people who knows current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rvey people via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questionnai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 group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of people with different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Observe worker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at selected times to see how data is hand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Study business docu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uidelines for Effective Interview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interviewe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set up appointment time and duration convenient for interview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</a:t>
            </a:r>
            <a:r>
              <a:rPr b="1" lang="en-US" sz="1700" spc="-1" strike="noStrike">
                <a:solidFill>
                  <a:srgbClr val="ff0505"/>
                </a:solidFill>
                <a:latin typeface="Calibri"/>
              </a:rPr>
              <a:t>checklis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agenda and questions: to know the sequence and duration of questions to as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isten carefully and take no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view notes within 2 days of intervie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 neutral and seek diverse view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D9D53E63-D44F-4A32-B7EC-C0989764041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000" y="1599840"/>
            <a:ext cx="84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oosing Interview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pre-specified answers like </a:t>
            </a:r>
            <a:r>
              <a:rPr b="0" i="1" lang="en-US" sz="1800" spc="-1" strike="noStrike">
                <a:solidFill>
                  <a:srgbClr val="ff0505"/>
                </a:solidFill>
                <a:latin typeface="Calibri"/>
              </a:rPr>
              <a:t>what you think about …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ive interviewees more sense of involvement; put interviewee at ease as they respond in their own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ong time to answer; difficult to summar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ose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dent is asked to choose from a set of specified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True or False, Multiple choice, rating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ess time to answer and more topics cov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seful information may be overlo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tional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phrase questions in ways that imply a wrong or right ans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 very carefully to what is being said – take notes or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 up notes within 48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set expectations about the new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ACC4D2DE-A967-4AE7-910E-4A076905FFA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6880" y="1628640"/>
            <a:ext cx="8456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ministering Question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Questionnaires Vs Intervi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very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not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gather information from many people simultaneously in a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latively short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ha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 ques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i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ess depth of understa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y provide no direct means to ask follow-up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vide the opportunity to judge the truthfulness of responses by the words or voice tone or the body language of the respo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provide the opportunity to judge the accuracy of respo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4A7B7745-0657-4EEA-9108-2B3EBE41670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55640" y="141300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oosing Questionnaire respon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if more people to survey decid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which set of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end questionnaire to or which questionnaire to send to which group of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onveni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eople at a local site or willing to get survey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any person from a li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fu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people who satisfy certai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tratifi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random set from each of many categ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ing Questionna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are most useful when used for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pecif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not for general information gath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typically include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osed-ended ques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must be extremel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ear in mean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logical in sequ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s any doubts cannot be cl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How often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?) 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do you backup your computer file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C: or hard disk)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) frequently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      b) sometimes       c) hardly at all      d) nev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7441432B-CB18-42A2-BF6B-06611F8E989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280" y="1557000"/>
            <a:ext cx="831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rviewing Grou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key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at o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ne asks questions other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effective use of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s people to hear opinions of others and to agree or disa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scheduling convenient time as many people ar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minal Group Techniq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process to support idea generation b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work al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generate ideas which are pooled under guidance of a trained facilitator which are then discussed and then number of ideas are reduced and carry forw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ly Observing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cannot always be trusted to reliably report their own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difficult to obtain unbiase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often work differently when being obser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AE164D66-61D0-4781-BF12-EDA37E73A3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23Z</dcterms:modified>
  <cp:revision>133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