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820B-0C5D-45F9-AF63-3B7284D414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1AD-0E12-4196-BF14-B96EEF8F84D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912F-CE13-45BB-80AC-6BFBC5B4CB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963D-A6DA-4A1F-AA91-FE7B93D072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6C61-42C7-420F-B2A7-79241E3A9E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6D6A-0EAE-4DE8-A23A-86748130B7E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3BC-2738-48E0-9B24-66212ADB49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8D0-D27E-44D9-8956-BE0081360BA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6CE4-E965-4A34-818B-240EDD5C55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C8E0-3583-4287-B056-54FCBD65F34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61AA-0676-462E-A16C-950BDC16722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4F3B-4181-45A0-B282-053E1717FA9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8CDF-6381-483E-BCEB-725E4A53D1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BB0-EC06-40C9-A17E-C52C85358D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DDC-87BB-4CB8-B4CE-2E0A6641A5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32F-338C-420D-B1E5-7B2042D5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12E-EC01-4DAB-B9D3-FC4C38D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7DB-A8F5-46CA-9930-0E6149D3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AD0-290C-42D1-96A1-462A8A5F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2F7E-936A-457A-8B55-0115104B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455F-35C3-42EA-A65B-0F23D79F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81A6-BE0A-463B-A6D3-3CB78B66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09E1-E29C-4361-8970-7368C18B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20CC-C296-415A-A3A9-3864910E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6644-75AA-4395-B234-C3F9EBEE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218-BE7F-4084-8E88-58F9674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533-713E-4D74-B6B1-C9689937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7DAE-7E15-4DB3-9A2D-D0D22ED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CB77-A9FE-4553-83A1-EAA7711D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25DE-0D75-4F30-A5AE-8D6C2125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F16F-8D86-4FB3-8A39-A1F39835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AA92-F340-401F-B994-3FB13FBB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912-0382-4797-883F-D1F10AA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30D-219B-48EF-A0B8-40A1B4D0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C84-AC5C-4954-A18D-AEEAEB6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2DB-4205-4A08-8E20-EFB5CDF3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FE8-2E0A-404D-8F57-083CC7E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3D7-92D2-4A0D-87AB-E48F7779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634-0FFE-40A7-936A-6CB38B2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D2E5-D459-42ED-8957-C4153DBA332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68D0-3DA5-4520-B1F3-25201C302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termining Syste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F5CB5D03-6D5D-41D2-979C-3578535C41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information to be discovered in a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s with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meet new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tles and names of key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information processing circum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current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for process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261E14C5-7389-484E-B77F-5D31E44CF7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useful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Written work procedure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for an individual or a work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how a job is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data and information used and created in the process of performing the job or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syste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fficial way a system works as described in the organizational doc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l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way a system actually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Business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ly indicate what data flow in or out of a system and which are necessary for the system to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Report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generated by curr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the analyst to work backwards from the report to the data that generated it – company’s performance is past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Description of current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current system is computer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1CF82732-5FB5-414D-8498-7EEA82BDC4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rn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group interview as it brings together key users, managers and systems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llect system requirements simultaneously from key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r structure of roles and agenda is followed and analysts control the sequence of questions answered by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off-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keep participants away from di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last from four hours to an entire week and may consist of many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titive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dimentary version of system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s or augments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to develop concrete specifications for ultimat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2864081-9CD7-4854-8136-603290D0270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545840"/>
            <a:ext cx="7921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ssion Leader – organizes and runs the J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– key users of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rs of the workgroups who use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nsor – needed to cover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Analysts – to learn from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ibe –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Staff – other IS staff like programmers, database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D s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usually held in special-purpose rooms where participants sit in a horse-shoe shaped t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ms have whiteboards, audio-visual tools like overhead projectors, flip charts, transpar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9D33745-36F2-4509-8505-C995B166F6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detailing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proposed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During J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per CASE tools are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analysts to enter system models directly into CASE during the JA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een designs and prototyping can be done during JAD and show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C031AD6-98F6-4A66-84CD-A6DEEDEC0EB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628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ckly converts requirements to working version of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he user sees requirements converted to system, will ask for modifications or will generate additional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useful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ests are not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 users are involved in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s are complex and require concrete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 of communication problems between analyst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are readily available to build proto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 to avoid formal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adapt to more general use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ing data with other systems is often not consid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Development Life Cycle (SDLC) checks are often by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1281D9FA-E7D5-4901-9CEB-E9A59FD431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has three sub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de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structu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Generating alternative design and selecting bes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ther information on what system should do from man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632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for gath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ertin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rti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best organization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xation of constraints assuming anything i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tion to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r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the organization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EA234AA3-D11E-46A0-A27C-30F643F3E4E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7002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liver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ormation collected from us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rview transcripts, questionnaire responses, notes of observ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isting written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ample business forms and reports, procedure manuals, training manu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uter-based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SE repository contents and reports of existing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standing of organizational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usiness objectiv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formation people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handled and when, how and who moves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ules of data process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7A5DD650-BD8D-45D1-B51D-0F7F9BFBF5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557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dividually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eople who knows current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rvey people via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questionnai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 group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f people with different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Observe worker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at selected times to see how data is hand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Study business docu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uidelines for Effective Interview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interviewe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set up appointment time and duration convenient for interview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</a:t>
            </a:r>
            <a:r>
              <a:rPr b="1" lang="en-US" sz="1700" spc="-1" strike="noStrike">
                <a:solidFill>
                  <a:srgbClr val="ff0505"/>
                </a:solidFill>
                <a:latin typeface="Calibri"/>
              </a:rPr>
              <a:t>checkli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genda and questions: to know the sequence and duration of questions to as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sten carefully and take no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view notes within 2 days of intervie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 neutral and seek diverse view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9F2D8E72-DFE0-4B55-B7CF-D3F0ED4143E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9840"/>
            <a:ext cx="84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oosing Interview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pre-specified answers like </a:t>
            </a:r>
            <a:r>
              <a:rPr b="0" i="1" lang="en-US" sz="1800" spc="-1" strike="noStrike">
                <a:solidFill>
                  <a:srgbClr val="ff0505"/>
                </a:solidFill>
                <a:latin typeface="Calibri"/>
              </a:rPr>
              <a:t>what you think about …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ive interviewees more sense of involvement; put interviewee at ease as they respond in their ow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ong time to answer; difficult to summar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 is asked to choose from a set of specified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True or False, Multiple choice, rating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ess time to answer and more topics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seful information may be overlo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phrase questions in ways that imply a wrong or righ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very carefully to what is being said – take notes or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up notes within 48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expectations about the new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46272356-C297-48E8-B409-85FA592528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6880" y="1628640"/>
            <a:ext cx="845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nistering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Questionnaires Vs 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very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not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gather information from many people simultaneously in a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latively shor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a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 ques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ess depth of understa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y provide no direct means to ask follow-up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vide the opportunity to judge the truthfulness of responses by the words or voice tone or the body language of the respo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provide the opportunity to judge the accuracy of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6105A7A9-E04A-414A-88F0-7DF9946099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413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oosing Questionnaire respon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if more people to survey decid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which set of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end questionnaire to or which questionnaire to send to which group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ople at a local site or willing to get surve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any person from a 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people who satisfy certai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tratifi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random set from each of many 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ing Questionna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are most useful when used for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not for general information gath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typically include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osed-ended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must be extremel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ear in mean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logical in sequ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any doubts cannot be cl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How often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?) 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do you backup your computer file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C: or hard disk)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) frequently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      b) sometimes       c) hardly at all      d) nev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0E239483-0E02-437A-867C-5FBE23FC70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280" y="1557000"/>
            <a:ext cx="83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ing 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key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at o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sks questions other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effective use of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s people to hear opinions of others and to agree or dis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scheduling convenient time as many people ar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minal Group Techni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process to support idea generation b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work al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generate ideas which are pooled under guidance of a trained facilitator which are then discussed and then number of ideas are reduced and carry for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ly Observin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cannot always be trusted to reliably report their own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difficult to obtain unbias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often work differently when being ob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E66A2B29-9CCB-42C8-88E9-27D83EE6AA2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23Z</dcterms:modified>
  <cp:revision>13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