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8F8-631C-4C2D-9B04-25DE9C6758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B4C6-DEB6-4C51-8A6F-55E8130068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10C4-F1F6-4A3F-B57A-1A4DD9862D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C188-A0E9-4E78-BC7B-3272F11F81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C87C-7E1B-4BD2-974B-E2F66E0BC0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F675-1E44-4A06-B768-388DB5A027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2912-199C-4B9C-BB9D-7F4F3AEEE5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B23E-0ED9-438B-BE1E-F7C436A452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A54D-DC9B-4645-9EF4-4E77822DA90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2750-DE37-4148-B50E-8981E79A77B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4711-2324-44EF-A07A-CFF6F8DDFA9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7DDB-4B38-45E8-BEBD-C6A15C20F5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E4B1-9913-4F2F-9570-FCE64710188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EE54-575A-4CC6-94C8-D15F8AE535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172C-2016-4B4A-A0D2-F5732C16D7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8EB-7F89-4042-B6FA-C745E5B2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61CB-13B6-4F15-8071-BE7E54B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D5BE-05C3-4D4E-BDF4-77DB7A8E1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203B-6ABE-4010-AAF7-B9615A5D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8B29-AA2E-47C4-A00C-851D30760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EC6B-AAF9-4DBB-AAC5-286B9184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211F-8697-4ECE-8DC5-D387DD0D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C4D49-0A80-4F05-9F9A-5944ACF9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A9F7-AAA7-476A-8BBD-DCD0E9AC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8D50-875D-4665-A33D-D407B574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1C34-4216-4101-A38A-E71BCEFF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7B3-05E0-4855-924B-B382B015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7C27-70E1-47EE-954E-061A8726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52BF-C232-4198-B049-D71686AEA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F92C-BA73-4F3F-93A0-FC5CED09B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69E0-496B-4D57-81C5-8BD14688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2E1D0-FB01-41A9-8CB4-FB3AE280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1F5-FF69-4457-ACD1-BCB90BE1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3DF-DDFE-46C0-8C77-E197C7C1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24A4-360C-430A-B381-CDA1C230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3555-93A1-4F46-A58D-124D5391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05B-8C5D-402F-940F-D8AB298C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979-A820-4C56-AA3E-1432969C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E7B8-500B-4972-A768-003993F8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3B6E-11D8-4D06-92AF-25AFC59623B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C14F-8F35-40D2-A79E-8C4F4A96B5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Determining System 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E64FB801-9569-421B-AD61-1A7A4B4191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information to be discovered in a documen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s with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portunity to meet new n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dir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tles and names of key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lue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al information processing circumsta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current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les for process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8343656-2F89-46BB-9706-05AA77F390F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60280"/>
            <a:ext cx="7772400" cy="8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zing Procedures and Other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10920" y="1557360"/>
            <a:ext cx="8281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useful docu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Written work procedure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for an individual or a work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how a job is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 data and information used and created in the process of performing the job or ta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system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official way a system works as described in the organizational documen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l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way a system actually wor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Business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licitly indicate what data flow in or out of a system and which are necessary for the system to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505"/>
                </a:solidFill>
                <a:latin typeface="Calibri"/>
              </a:rPr>
              <a:t>Report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 generated by curr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the analyst to work backwards from the report to the data that generated it – company’s performance is past y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Description of current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the current system is computer ba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E3D6D44-1B83-45E4-9470-DDD06FCACD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rn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280" y="1557360"/>
            <a:ext cx="860436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group interview as it brings together key users, managers and systems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urpo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collect system requirements simultaneously from key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ular structure of roles and agenda is followed and analysts control the sequence of questions answered by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off-si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keep participants away from distra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last from four hours to an entire week and may consist of many wee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etitive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udimentary version of system is bui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places or augments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oal: to develop concrete specifications for ultimat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F9F98EF-903D-487B-8F2F-61F17BBF599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560" y="1545840"/>
            <a:ext cx="7921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ssion Leader – organizes and runs the J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– key users of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rs of the workgroups who use the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onsor – needed to cover expe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Analysts – to learn from users and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ibe –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Staff – other IS staff like programmers, database analy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AD sess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usually held in special-purpose rooms where participants sit in a horse-shoe shaped tab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oms have whiteboards, audio-visual tools like overhead projectors, flip charts, transparenci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5925499-729A-4CC3-82E5-514E789653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oint Application Design (J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Resul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detailing exist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tures of proposed syste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During J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per CASE tools are us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analysts to enter system models directly into CASE during the JAD ses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reen designs and prototyping can be done during JAD and shown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7150A29-35FE-435F-B45C-165466C88DA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162864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ickly converts requirements to working version of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ce the user sees requirements converted to system, will ask for modifications or will generate additional req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st useful whe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 requests are not cl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ew users are involved in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s are complex and require concrete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story of communication problems between analyst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ols are readily available to build proto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rawbac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ndency to avoid formal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 to adapt to more general user aud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ring data with other systems is often not consid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stems Development Life Cycle (SDLC) checks are often bypa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1E0DFAC1-2C2D-421F-8F7B-46D2E929B8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760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 has three sub p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de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quirements structu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Generating alternative design and selecting best 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ther information on what system should do from many 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d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632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erforming Requirements Determination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55640" y="169056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acteristics for gathering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ertin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 everyt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arti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d the best organizational 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xation of constraints assuming anything is pos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tion to det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ra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ew the organization in new w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21E61B4-CF36-41F4-AD80-696A103119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39280" y="1700280"/>
            <a:ext cx="8929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es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liverabl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ormation collected from user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terview transcripts, questionnaire responses, notes of observa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xisting written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ample business forms and reports, procedure manuals, training manu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omputer-based information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ASE repository contents and reports of existing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derstanding of organizational compon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usiness objectiv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formation people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ata handled and when, how and who moves dat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ules of data process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F407181F-6B46-496F-A1E8-DFFEC35E6B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55736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ndividually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people who knows current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urvey people via </a:t>
            </a: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questionnaire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Interview group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of people with different nee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Observe workers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at selected times to see how data is hand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0505"/>
                </a:solidFill>
                <a:latin typeface="Calibri"/>
              </a:rPr>
              <a:t>Study business docu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uidelines for Effective Interview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interviewe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: set up appointment time and duration convenient for interview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505"/>
                </a:solidFill>
                <a:latin typeface="Calibri"/>
              </a:rPr>
              <a:t>Prepare </a:t>
            </a:r>
            <a:r>
              <a:rPr b="1" lang="en-US" sz="1700" spc="-1" strike="noStrike">
                <a:solidFill>
                  <a:srgbClr val="ff0505"/>
                </a:solidFill>
                <a:latin typeface="Calibri"/>
              </a:rPr>
              <a:t>checklist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, agenda and questions: to know the sequence and duration of questions to ask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isten carefully and take not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view notes within 2 days of interview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 neutral and seek diverse view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CAE1CA7B-6878-4283-B4E1-5A5100F1CA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330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000" y="1599840"/>
            <a:ext cx="845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oosing Interview Qu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pre-specified answers like </a:t>
            </a:r>
            <a:r>
              <a:rPr b="0" i="1" lang="en-US" sz="1800" spc="-1" strike="noStrike">
                <a:solidFill>
                  <a:srgbClr val="ff0505"/>
                </a:solidFill>
                <a:latin typeface="Calibri"/>
              </a:rPr>
              <a:t>what you think about …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ive interviewees more sense of involvement; put interviewee at ease as they respond in their own 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ong time to answer; difficult to summar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ose-Ended ques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pondent is asked to choose from a set of specified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True or False, Multiple choice, rating a respon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1c821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akes less time to answer and more topics cov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50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Disadvantag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useful information may be overlo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ditional Guide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phrase questions in ways that imply a wrong or right answ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en very carefully to what is being said – take notes or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e up notes within 48 ho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not set expectations about the new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5F27E3BC-B6BE-46AA-8D41-A85A7DA5D1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404640"/>
            <a:ext cx="7772400" cy="10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6880" y="1628640"/>
            <a:ext cx="84567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ministering Questionn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Questionnaires Vs Intervie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very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ff3b3b"/>
                </a:solidFill>
                <a:latin typeface="Calibri"/>
              </a:rPr>
              <a:t>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r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not expen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can gather information from many people simultaneously in a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relatively short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ha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 ques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imited number of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giv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less depth of understand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s they provide no direct means to ask follow-up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ervie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ovide the opportunity to judge the truthfulness of responses by the words or voice tone or the body language of the respond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estionnair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not provide the opportunity to judge the accuracy of respon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8B3E3A43-FAA3-48AE-BA05-33F96C9E26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55640" y="1413000"/>
            <a:ext cx="77724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oosing Questionnaire responden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 if more people to survey decide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which set of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end questionnaire to or which questionnaire to send to which group of peo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onvenie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people at a local site or willing to get survey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Rand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any person from a li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fu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people who satisfy certai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50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tratifie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ample: select random set from each of many catego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ing Questionnai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are most useful when used for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specif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purpo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not for general information gath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typically include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osed-ended ques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uestionnaires must be extremel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clear in meani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logical in sequen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s any doubts cannot be clea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How often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?) 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do you backup your computer file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(C: or hard disk)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a) frequently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1c821c"/>
                </a:solidFill>
                <a:latin typeface="Calibri"/>
              </a:rPr>
              <a:t>      b) sometimes       c) hardly at all      d) nev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48A4B4BB-AB9D-48D0-8C79-0A11CF7A2B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59920"/>
            <a:ext cx="7772400" cy="10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ditional Methods for Determining Requi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280" y="1557000"/>
            <a:ext cx="8317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rviewing Group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key peop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at o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y </a:t>
            </a:r>
            <a:r>
              <a:rPr b="0" lang="en-US" sz="2000" spc="-1" strike="noStrike">
                <a:solidFill>
                  <a:srgbClr val="ff0505"/>
                </a:solidFill>
                <a:latin typeface="Calibri"/>
              </a:rPr>
              <a:t>several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ne asks questions other takes no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effective use of ti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ables people to hear opinions of others and to agree or disag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scheduling convenient time as many people ar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minal Group Techniq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process to support idea generation by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grou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</a:t>
            </a:r>
            <a:r>
              <a:rPr b="0" lang="en-US" sz="1800" spc="-1" strike="noStrike">
                <a:solidFill>
                  <a:srgbClr val="ff0505"/>
                </a:solidFill>
                <a:latin typeface="Calibri"/>
              </a:rPr>
              <a:t>work alon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o generate ideas which are pooled under guidance of a trained facilitator which are then discussed and then number of ideas are reduced and carry forw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irectly Observing 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cannot always be trusted to reliably report their own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ten difficult to obtain unbiased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often work differently when being obser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</a:t>
            </a:r>
            <a:fld id="{8CF70221-1EE5-482A-81CE-2EF00E97AF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23Z</dcterms:modified>
  <cp:revision>133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