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1BA-E089-4381-A76F-2F140A22A20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C109-D0DE-4C68-84FA-791D1E36673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1CD9-AFF6-4221-8959-07AEEFA79B9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999D-17F4-4F64-8D08-5ED40DE5050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982F-BF5A-4553-81F2-B3DE4978845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06AB-4717-4303-93A2-FF12ACFE032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5BF7-1284-42D0-B126-0BE4A56FA8D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168F-B365-4028-B6D4-1C0908B706C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059F-DCC4-4FB3-ADC1-47422270E6C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2BED-0EE6-4151-AD72-0079381D290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DC29-4C56-47AE-9D82-5BB569FA403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0B6B-0694-4713-9B8F-64F4BB64DB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38D9-989A-4693-84A0-806F5D9F593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0764-776A-42F0-AD8F-07F1848AD4A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B860-185B-47BD-962A-4F0154145BB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A35-F930-4287-ABF7-BCE7F6AA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08E0-0D38-4849-8DD5-2520DCB2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DF9-711B-407A-BDBD-CBCCCDAE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842-6A07-4B7B-97B7-5DFDB31E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5EE6-643A-43A8-B57F-41001666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ADF3-77CD-45A1-A114-C14B98D5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AAB1-B73D-4037-9131-64B26D62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9346-EDB0-4106-BC91-C4F99F25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E683-F1A1-4636-AA68-52092ACD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6F38-15FC-448A-A8D9-539BCBE7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F707-54A4-4386-84B7-72C680D0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52F-5B61-4749-B5DF-700B7FF3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9C02-63F1-42BE-B1D8-356EF003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6D29-532C-4248-957F-52150A7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F81E2-D8C8-4BDC-B350-20B609FC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6096-07A6-47EF-98C7-553F2A63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8290-F58A-49EF-920A-041B11E5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859-97B8-4CF8-8033-9653F5F4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956-D3EA-4A23-8A54-6DBA3B94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848-83EC-482B-BEE6-7C2B0833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1CB-F04F-40CF-B577-7FB94B42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A490-3B33-4BE7-95B1-EC264AE4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E73-23ED-4CE9-B0BF-334F7623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05B4-E640-496D-9031-84F5169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FD61-674E-4422-B03B-2B6238730EBF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0930-8B0F-489A-86DC-2455C205E4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Determining Syste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7AB7FC3E-094C-40EF-9224-7C112715ECC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information to be discovered in a docu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s with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portunity to meet new n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tles and names of key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information processing circum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current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s for process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37D36E54-0029-47BA-8249-362ECEAC278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useful docu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Written work procedure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for an individual or a work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how a job is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 data and information used and created in the process of performing the job or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syste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official way a system works as described in the organizational docu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l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way a system actually 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Business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icitly indicate what data flow in or out of a system and which are necessary for the system to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Report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generated by curr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the analyst to work backwards from the report to the data that generated it – company’s performance is past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Description of current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current system is computer b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A8A2718E-8A6E-4A36-8935-52F78A37C12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rn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155736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group interview as it brings together key users, managers and systems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collect system requirements simultaneously from key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ular structure of roles and agenda is followed and analysts control the sequence of questions answered by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off-s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keep participants away from distr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last from four hours to an entire week and may consist of many wee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etitive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dimentary version of system is bui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s or augments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al: to develop concrete specifications for ultimat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CFD809D-B414-4C19-AE05-BB18F8602E2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560" y="1545840"/>
            <a:ext cx="7921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ssion Leader – organizes and runs the J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– key users of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rs of the workgroups who use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nsor – needed to cover expe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Analysts – to learn from users and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ibe –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Staff – other IS staff like programmers, database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D se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usually held in special-purpose rooms where participants sit in a horse-shoe shaped t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oms have whiteboards, audio-visual tools like overhead projectors, flip charts, transparen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84681B0-80B3-46AB-AE8A-EB778DA073E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detailing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s of proposed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During J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per CASE tools are u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analysts to enter system models directly into CASE during the JAD s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een designs and prototyping can be done during JAD and shown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87387E4-C287-4629-9EEF-D1F1975BEB0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628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ckly converts requirements to working version of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ce the user sees requirements converted to system, will ask for modifications or will generate additional re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useful wh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requests are not cl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w users are involved in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s are complex and require concrete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 of communication problems between analyst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ls are readily available to build proto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dency to avoid formal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 to adapt to more general user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ing data with other systems is often not consid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Development Life Cycle (SDLC) checks are often by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1DB98EE9-55C1-490F-BEA3-CFDE4E556E1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has three sub p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de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structu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Generating alternative design and selecting best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ther information on what system should do from many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632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stics for gathering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ertin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 every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rti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the best organization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xation of constraints assuming anything i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tion to det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r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 the organization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7D2392CA-07BF-4767-862C-5D2A6BFE720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7002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liverab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ormation collected from us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terview transcripts, questionnaire responses, notes of observ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isting written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ample business forms and reports, procedure manuals, training manu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uter-based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SE repository contents and reports of existing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derstanding of organizational compon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usiness objectiv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formation people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ata handled and when, how and who moves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ules of data process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ev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329D4F90-296B-49C1-8162-62889360018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55736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dividually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people who knows current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rvey people via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questionnai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 group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of people with different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Observe worker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at selected times to see how data is hand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Study business docu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uidelines for Effective Interview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interviewe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set up appointment time and duration convenient for interviewe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</a:t>
            </a:r>
            <a:r>
              <a:rPr b="1" lang="en-US" sz="1700" spc="-1" strike="noStrike">
                <a:solidFill>
                  <a:srgbClr val="ff0505"/>
                </a:solidFill>
                <a:latin typeface="Calibri"/>
              </a:rPr>
              <a:t>checklis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agenda and questions: to know the sequence and duration of questions to as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isten carefully and take no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view notes within 2 days of intervie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 neutral and seek diverse view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611FAC0C-ED5E-4AC6-A2C6-CD5FA90A1EA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000" y="1599840"/>
            <a:ext cx="84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oosing Interview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pre-specified answers like </a:t>
            </a:r>
            <a:r>
              <a:rPr b="0" i="1" lang="en-US" sz="1800" spc="-1" strike="noStrike">
                <a:solidFill>
                  <a:srgbClr val="ff0505"/>
                </a:solidFill>
                <a:latin typeface="Calibri"/>
              </a:rPr>
              <a:t>what you think about …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ive interviewees more sense of involvement; put interviewee at ease as they respond in their own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ong time to answer; difficult to summar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ose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dent is asked to choose from a set of specified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True or False, Multiple choice, rating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ess time to answer and more topics cov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seful information may be overlo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itional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phrase questions in ways that imply a wrong or right ans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 very carefully to what is being said – take notes or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 up notes within 48 h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set expectations about the new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24C72709-E34B-465B-82C2-286127C153A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6880" y="1628640"/>
            <a:ext cx="8456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ministering Question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Questionnaires Vs Intervi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very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not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can gather information from many people simultaneously in a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latively short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ha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 ques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i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ess depth of understa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y provide no direct means to ask follow-up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vide the opportunity to judge the truthfulness of responses by the words or voice tone or the body language of the respo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provide the opportunity to judge the accuracy of respo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04215D46-29F4-4295-9A0F-A6B7FFF0E65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55640" y="141300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oosing Questionnaire respond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if more people to survey decid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which set of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end questionnaire to or which questionnaire to send to which group of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onveni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eople at a local site or willing to get survey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any person from a li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fu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people who satisfy certai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tratifi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random set from each of many categ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ing Questionnai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are most useful when used for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pecif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not for general information gath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typically include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osed-ended ques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must be extremel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ear in mean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logical in sequ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s any doubts cannot be cl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How often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?) 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do you backup your computer file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C: or hard disk)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) frequently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      b) sometimes       c) hardly at all      d) nev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CEB094A8-5DB5-4BF6-BF3E-9AB96752F7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280" y="1557000"/>
            <a:ext cx="831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rviewing Grou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key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at o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ne asks questions other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effective use of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s people to hear opinions of others and to agree or disa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scheduling convenient time as many people ar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minal Group Techniq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process to support idea generation b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work al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generate ideas which are pooled under guidance of a trained facilitator which are then discussed and then number of ideas are reduced and carry forw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rectly Observing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cannot always be trusted to reliably report their own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difficult to obtain unbiase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often work differently when being obser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ACD5F69A-374D-406F-BD71-E379783F54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dcterms:modified xsi:type="dcterms:W3CDTF">2015-02-06T15:49:47Z</dcterms:modified>
  <cp:revision>133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