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AD61-F5ED-4A01-935D-183867F397A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D0F6-344B-45ED-A350-39AD0A3B172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8F1F-7999-400D-B34F-CA9FBA616C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C5DB-F488-4C24-8DF2-E855FA3E724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B863-8D9C-45E0-B0FF-E1454673CF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A9CE-3731-4B36-B5F3-43E4FA0C130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9B16-8845-4A34-9852-ED6716C88DC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E35A-E39D-4A33-AD14-C9ECA8008F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DEE9-5E1F-4A7A-8CD9-0385BE4F06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87EE-96DE-4DCB-8F86-9371E8F113A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03C0-A23F-4CAD-9A01-D2509ECA801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3E3-D242-4065-B8BC-DD07F4A7683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CC74-6BF1-4673-A778-B7BC5C791F3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E276-BEDD-44B6-AC9C-1F642D4B57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3393-6E5C-480F-B7C2-8A90B9348D0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5EC-1170-48FE-A1C3-D8CD83C3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CE1-2D55-4BB4-8390-B15DD1B3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9DE-B0E4-4B80-8D47-A6677EC4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486-6F53-4D7F-9CDA-E7FBC2D2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7DC7-4609-4C54-BEB2-90E8917B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BE5F-012B-427E-A687-66E921FD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6C89-A12A-413E-8BB0-86E033B1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A463-A1E3-4E6F-A308-533005ED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FEF4-5F6C-433D-B107-937D0798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1B53-3879-48A6-BD30-2D6858E6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5CAE-90E7-4FD2-AA62-A5B89BB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DD2-FF80-4C66-97D1-D506D543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0512-4AA5-4269-AD1C-25DBEE91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6CFF-3E26-4B9F-B0D8-E9951BE3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F10F-6D51-4A98-91ED-DF1839A0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018F-09F1-4E91-A4ED-892307C0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8D42-F996-4E41-8086-0C471763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1C4-0E6D-4A29-83E0-5A5A6D53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65E-8B01-4992-B575-D5D8D5F1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8C6-61A9-41D6-9FF0-49357BCE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773-4961-4E18-9E58-9D2C0DF3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299-0504-48AD-A03B-E77B20BD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7C2-434E-4C8B-8C9D-DBC7B20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4C4-B50F-443A-9088-C2BBBCD5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9717-8A03-4276-84C6-4181C0C0CDDD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132C-551E-4B8E-A754-B5B79F473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Determining Syste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3179A617-90F5-4361-AA36-15A59B7CCEB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information to be discovered in a doc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s with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to meet new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tles and names of key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information processing circum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current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s for process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056E28AA-11DB-43DF-9A19-19C4756928D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useful docu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Written work procedure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for an individual or a work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how a job is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 data and information used and created in the process of performing the job or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syste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fficial way a system works as described in the organizational docu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l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way a system actually 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Business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icitly indicate what data flow in or out of a system and which are necessary for the system to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Report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generated by curr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the analyst to work backwards from the report to the data that generated it – company’s performance is past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Description of current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current system is computer b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BD645738-5049-4017-8961-70DECAF5AF9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rn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1557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group interview as it brings together key users, managers and systems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collect system requirements simultaneously from key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ular structure of roles and agenda is followed and analysts control the sequence of questions answered by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off-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keep participants away from dist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last from four hours to an entire week and may consist of many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titive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dimentary version of system is bui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s or augments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: to develop concrete specifications for ultimat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D0CD04E-C6C7-403D-8F20-3E5678E3998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560" y="1545840"/>
            <a:ext cx="7921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ssion Leader – organizes and runs the J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– key users of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rs of the workgroups who use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nsor – needed to cover expe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Analysts – to learn from users and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ibe –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Staff – other IS staff like programmers, database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D se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usually held in special-purpose rooms where participants sit in a horse-shoe shaped t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ms have whiteboards, audio-visual tools like overhead projectors, flip charts, transpar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195CF4B-4E12-4A57-931A-8A690785234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detailing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s of proposed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During J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per CASE tools are u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analysts to enter system models directly into CASE during the JAD 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een designs and prototyping can be done during JAD and shown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51610E7-D20E-47EA-980D-B453A2D014D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628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ckly converts requirements to working version of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the user sees requirements converted to system, will ask for modifications or will generate additional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useful w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requests are not 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w users are involved in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s are complex and require concrete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 of communication problems between analyst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s are readily available to build proto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dency to avoid formal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adapt to more general user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ing data with other systems is often not consid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Development Life Cycle (SDLC) checks are often by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F876E404-6DEB-4953-8D90-25E9A02C8F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has three sub p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de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structu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Generating alternative design and selecting best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ther information on what system should do from many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632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for gathering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ertin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every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rti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the best organization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xation of constraints assuming anything i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tion to de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r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the organization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A328F938-FDB8-45D7-B288-7DCBDD0A499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7002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liverab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ormation collected from us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terview transcripts, questionnaire responses, notes of observ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isting written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ample business forms and reports, procedure manuals, training manu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uter-based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SE repository contents and reports of existing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derstanding of organizational compon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usiness objectiv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formation people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ta handled and when, how and who moves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ules of data process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34DD9D72-A497-4500-81FA-9B62D9D26EE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55736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dividually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people who knows current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rvey people via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questionnai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 group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of people with different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Observe worker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at selected times to see how data is hand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Study business docu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uidelines for Effective Interview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interviewe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set up appointment time and duration convenient for interview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</a:t>
            </a:r>
            <a:r>
              <a:rPr b="1" lang="en-US" sz="1700" spc="-1" strike="noStrike">
                <a:solidFill>
                  <a:srgbClr val="ff0505"/>
                </a:solidFill>
                <a:latin typeface="Calibri"/>
              </a:rPr>
              <a:t>checklis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agenda and questions: to know the sequence and duration of questions to as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isten carefully and take no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view notes within 2 days of intervie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 neutral and seek diverse view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9024904C-9963-41C8-AD2B-46CE909D0C3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599840"/>
            <a:ext cx="84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oosing Interview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pre-specified answers like </a:t>
            </a:r>
            <a:r>
              <a:rPr b="0" i="1" lang="en-US" sz="1800" spc="-1" strike="noStrike">
                <a:solidFill>
                  <a:srgbClr val="ff0505"/>
                </a:solidFill>
                <a:latin typeface="Calibri"/>
              </a:rPr>
              <a:t>what you think about …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ive interviewees more sense of involvement; put interviewee at ease as they respond in their own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ong time to answer; difficult to summar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ose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dent is asked to choose from a set of specified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True or False, Multiple choice, rating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ess time to answer and more topics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seful information may be overlo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tional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phrase questions in ways that imply a wrong or right ans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 very carefully to what is being said – take notes or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up notes within 48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set expectations about the new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6DAFD970-A818-4383-861F-9FA5A33203B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6880" y="1628640"/>
            <a:ext cx="8456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ministering Question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Questionnaires Vs Inter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very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not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gather information from many people simultaneously in a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latively short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ha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 ques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ess depth of understa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y provide no direct means to ask follow-up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vide the opportunity to judge the truthfulness of responses by the words or voice tone or the body language of the respo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provide the opportunity to judge the accuracy of respo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56C1EFDE-1028-4E5A-947C-6031B19BFC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141300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oosing Questionnaire respon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if more people to survey decid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which set of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end questionnaire to or which questionnaire to send to which group of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eople at a local site or willing to get survey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any person from a li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people who satisfy certai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tratifi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random set from each of many categ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ing Questionna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are most useful when used for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pecif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not for general information gath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typically include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osed-ended qu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must be extremel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ear in mean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logical in sequ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s any doubts cannot be cl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How often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?) 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do you backup your computer file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C: or hard disk)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) frequently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      b) sometimes       c) hardly at all      d) nev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3B0B9FB3-6530-4C12-B802-A3BD3551491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280" y="1557000"/>
            <a:ext cx="831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viewing Grou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key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at o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ne asks questions other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effective use of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s people to hear opinions of others and to agree or disa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scheduling convenient time as many people ar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minal Group Techni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process to support idea generation b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work al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generate ideas which are pooled under guidance of a trained facilitator which are then discussed and then number of ideas are reduced and carry forw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ly Observing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cannot always be trusted to reliably report their own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difficult to obtain unbiase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often work differently when being obser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DF5F31D3-4736-441F-A023-395A0401080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6T15:49:47Z</dcterms:modified>
  <cp:revision>133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