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69113" cy="9993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68800" cy="99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764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9440" y="-360"/>
            <a:ext cx="29764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9492840"/>
            <a:ext cx="29764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9440" y="9492840"/>
            <a:ext cx="29764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E42F-B3B1-4206-A922-45327E9D041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9440" y="9493200"/>
            <a:ext cx="297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2B90-42D8-49D5-9F12-0CBD3C776FFC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9440" y="9493200"/>
            <a:ext cx="297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A6A8-5F75-497C-B2F5-82478E2BF576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9440" y="9493200"/>
            <a:ext cx="297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6862-9BF1-45DC-946D-F6B0FCDCE0EC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9440" y="9493200"/>
            <a:ext cx="297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F197-1364-4C9E-B943-442FB38AA412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9440" y="9493200"/>
            <a:ext cx="297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88609-C78E-49E4-AA0E-143A83971898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9440" y="9493200"/>
            <a:ext cx="297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855A-28AF-4AA1-B076-5E9C7785307E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9440" y="9493200"/>
            <a:ext cx="297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E5E9-CD7F-4495-93E3-59046A386545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9440" y="9493200"/>
            <a:ext cx="297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FE01-BF44-4F7D-A947-05F17138C307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9440" y="9493200"/>
            <a:ext cx="297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55FD-308D-4164-AF5F-5A8F9BD12BDF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9440" y="9493200"/>
            <a:ext cx="297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5A42-943C-4C6C-A4E5-CCA98C3269BB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9440" y="9493200"/>
            <a:ext cx="297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4564-A032-42CA-B38F-78BB4731A662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9440" y="9493200"/>
            <a:ext cx="297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02DB-BC97-4472-A517-9297E74358DE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9440" y="9493200"/>
            <a:ext cx="297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DCE6-8F33-47CD-9481-EA1C1875F0AC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E38B-9872-4F76-B0BA-2F58E9BC8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0654-6883-4130-BB84-CDA42033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7542-8220-46C6-B69D-3FD4DC6B5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8C08-798F-4ABA-82E8-6EBB17358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D1A81-CFD5-4916-BE9F-BC5C630BEF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191676-AC39-4D00-8612-BAE526D197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A51BF1-6BB4-4E40-A2DD-3F70928187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7235AE-54E3-4610-9E14-345AE16473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F13B6-451C-46BB-B342-E127FEA17A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6A2A5-E3B0-48C7-B0D9-48C33E98BDD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0C548E-6019-44BC-81AC-A5C518C1F7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099C-FC73-4D78-B32C-CF2C57E0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1DD141-0D49-428D-8085-0EE0DB1959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97831-E539-433C-8327-6AF3D3A5EB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DA43D-DAB6-4F6B-9BE7-B69B623EBD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BC87DA-420C-4307-AD8A-61534980DB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A8950B-8747-4612-9E2A-A7C0F6AF16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D85D-3724-4A3F-9E94-8DDC353C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A324-19E5-40C5-8327-05032EAC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382D-1D53-4D28-9DCC-B06A53E9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04E4-CA43-44CA-A740-962F5BA7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4B32-1C8E-4CD7-A333-2A8FCD2B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E6CF-05F8-443F-9FB3-EA63A97C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66C8-B43F-40EB-BD3B-8E1FACAE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C676-2AA2-4DA4-B604-B935442979B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3E54-3CA9-43AD-932E-9B50F5A605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3ECF-BEAF-4F49-8D6B-29667616A45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276360"/>
            <a:ext cx="7315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Chapter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Structuring System Requireme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Logic Mo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914400" y="0"/>
            <a:ext cx="7467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Modern Systems Analysis</a:t>
            </a:r>
            <a:br>
              <a:rPr sz="4000"/>
            </a:b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and Design</a:t>
            </a:r>
            <a:br>
              <a:rPr sz="4000"/>
            </a:b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Fourth Edition</a:t>
            </a: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B126-7CD2-46C8-971B-377BBE9C49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6477120" y="432756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ed English is used here to describe dec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FIG08_03"/>
          <p:cNvPicPr/>
          <p:nvPr/>
        </p:nvPicPr>
        <p:blipFill>
          <a:blip r:embed="rId1"/>
          <a:stretch/>
        </p:blipFill>
        <p:spPr>
          <a:xfrm>
            <a:off x="1230480" y="228600"/>
            <a:ext cx="5170320" cy="66294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"/>
          <p:cNvSpPr/>
          <p:nvPr/>
        </p:nvSpPr>
        <p:spPr>
          <a:xfrm>
            <a:off x="1066680" y="3581280"/>
            <a:ext cx="1067040" cy="685800"/>
          </a:xfrm>
          <a:prstGeom prst="rect">
            <a:avLst/>
          </a:prstGeom>
          <a:solidFill>
            <a:srgbClr val="4f81bd">
              <a:alpha val="1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1066680" y="5257800"/>
            <a:ext cx="1067040" cy="685800"/>
          </a:xfrm>
          <a:prstGeom prst="rect">
            <a:avLst/>
          </a:prstGeom>
          <a:solidFill>
            <a:srgbClr val="4f81bd">
              <a:alpha val="1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7"/>
          <p:cNvCxnSpPr>
            <a:stCxn id="127" idx="1"/>
            <a:endCxn id="129" idx="3"/>
          </p:cNvCxnSpPr>
          <p:nvPr/>
        </p:nvCxnSpPr>
        <p:spPr>
          <a:xfrm flipH="1" flipV="1">
            <a:off x="2133360" y="3924000"/>
            <a:ext cx="4343760" cy="90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AutoShape 8"/>
          <p:cNvCxnSpPr>
            <a:stCxn id="127" idx="1"/>
            <a:endCxn id="130" idx="3"/>
          </p:cNvCxnSpPr>
          <p:nvPr/>
        </p:nvCxnSpPr>
        <p:spPr>
          <a:xfrm flipH="1">
            <a:off x="2133360" y="4830480"/>
            <a:ext cx="4343760" cy="77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05C0-3D56-480B-A067-3561AFAD70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3"/>
          <p:cNvSpPr/>
          <p:nvPr/>
        </p:nvSpPr>
        <p:spPr>
          <a:xfrm>
            <a:off x="6324480" y="2895480"/>
            <a:ext cx="2819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ed English is used here to describe invoking other proce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FIG08_03"/>
          <p:cNvPicPr/>
          <p:nvPr/>
        </p:nvPicPr>
        <p:blipFill>
          <a:blip r:embed="rId1"/>
          <a:stretch/>
        </p:blipFill>
        <p:spPr>
          <a:xfrm>
            <a:off x="1077840" y="228600"/>
            <a:ext cx="5170680" cy="662940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6"/>
          <p:cNvSpPr/>
          <p:nvPr/>
        </p:nvSpPr>
        <p:spPr>
          <a:xfrm>
            <a:off x="2514600" y="38577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2604960" y="48006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2666880" y="54864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BA30-8D8E-479C-8299-0F7562468E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Modeling Logic with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Decision Tabl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44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uctured English is not good to represent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omplicated logi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having several different conditions) as it becomes difficult to underst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cision tab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trix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representation of the logic of a dec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fies all the possible conditions and the resulting actions in 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abular 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st used for complicated decision log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 Parts of a Decision T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dition stub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sts condition relevant to dec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tion stub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ons that result from a given set of condi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fy which actions are to be followed for a given set of condi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different Cond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dition whose valu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oes not affec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which action is taken for two or more 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70B0-1FA9-46D3-9360-98681069B4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cedure for Creating Decision 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4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 the conditions and values each condition can assu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conditions values will be just “yes” or “no” and some may have many values (called an extended entr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 all possible actions that can occ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st all possible ru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 exhaustive set of rules – every possible combination of conditions must be repres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rules may b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edunda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r mak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o sens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at can be altered l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umber of rules = number of values for </a:t>
            </a:r>
            <a:r>
              <a:rPr b="1" i="1" lang="en-US" sz="1800" spc="-1" strike="noStrike">
                <a:solidFill>
                  <a:srgbClr val="ba2212"/>
                </a:solidFill>
                <a:latin typeface="Calibri"/>
              </a:rPr>
              <a:t>condition 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X number of values for </a:t>
            </a:r>
            <a:r>
              <a:rPr b="1" i="1" lang="en-US" sz="1800" spc="-1" strike="noStrike">
                <a:solidFill>
                  <a:srgbClr val="ba2212"/>
                </a:solidFill>
                <a:latin typeface="Calibri"/>
              </a:rPr>
              <a:t>condition 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X …..X number of values for </a:t>
            </a:r>
            <a:r>
              <a:rPr b="1" i="1" lang="en-US" sz="1800" spc="-1" strike="noStrike">
                <a:solidFill>
                  <a:srgbClr val="ba2212"/>
                </a:solidFill>
                <a:latin typeface="Calibri"/>
              </a:rPr>
              <a:t>condition 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ine the actions for each ru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an action doesn’t make sense create an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mpossib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” row for that a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the action is not known place a ? for that r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plify the t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move any rules with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mpossib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C9148-0C39-4E8B-BED6-4362761844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7" descr="FIG08_04"/>
          <p:cNvPicPr/>
          <p:nvPr/>
        </p:nvPicPr>
        <p:blipFill>
          <a:blip r:embed="rId1"/>
          <a:stretch/>
        </p:blipFill>
        <p:spPr>
          <a:xfrm>
            <a:off x="762120" y="1600200"/>
            <a:ext cx="7619760" cy="40291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cision 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838080" y="56070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for salaried employees the action stub chosen will always be the same…therefore hours worked is a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different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F314-C030-4124-9653-4451830D86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duced Decision 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990720" y="568332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cause of indifferent condition, the complete decision table can be reduced to one with fewer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FIG08_05"/>
          <p:cNvPicPr/>
          <p:nvPr/>
        </p:nvPicPr>
        <p:blipFill>
          <a:blip r:embed="rId1"/>
          <a:stretch/>
        </p:blipFill>
        <p:spPr>
          <a:xfrm>
            <a:off x="762120" y="1571760"/>
            <a:ext cx="7619760" cy="4066920"/>
          </a:xfrm>
          <a:prstGeom prst="rect">
            <a:avLst/>
          </a:prstGeom>
          <a:ln w="0">
            <a:noFill/>
          </a:ln>
        </p:spPr>
      </p:pic>
      <p:sp>
        <p:nvSpPr>
          <p:cNvPr id="153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75FF-AF8B-4250-8860-795D9CD253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60948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Procedure for Creating Decision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85800" y="1600200"/>
            <a:ext cx="8458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tables can also be used to specify additional decision-related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actions for a rule are more complicated and can’t be conveyed in one or two lines of text (o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some conditions depend on other conditions (nested condition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use separate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inked decis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table by writing “Perform Table B” as action in the action st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able B could contain an action stub that returns to the origina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umbe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indicat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eque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rather than just Xs where rules and action stub inters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tables ar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pa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pack a lot of information into a small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tables allow you to check for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pleten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nsistenc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dundanc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DDD2-2B6A-4177-90B2-496962765E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odeling Logic with Decision Tr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33520" y="15235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cision tre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a graphical representation of a decision situ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situation points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are connected together by </a:t>
            </a:r>
            <a:r>
              <a:rPr b="1" lang="en-US" sz="2000" spc="-1" strike="noStrike">
                <a:solidFill>
                  <a:srgbClr val="ba2212"/>
                </a:solidFill>
                <a:latin typeface="Calibri"/>
              </a:rPr>
              <a:t>arc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terminate in </a:t>
            </a:r>
            <a:r>
              <a:rPr b="1" lang="en-US" sz="2000" spc="-1" strike="noStrike">
                <a:solidFill>
                  <a:srgbClr val="ba2212"/>
                </a:solidFill>
                <a:latin typeface="Calibri"/>
              </a:rPr>
              <a:t>ov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 compon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cision poin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represented by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o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ction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represented by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v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ticular choices from a decision point represented by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r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read a decision tree – begin at root node on far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od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numbered and each number corresponds to 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oices are spelled out in 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eg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m each node there ar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t least two path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leading to next step – another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ecision poi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r a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possibl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ction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re listed on the far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igh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leaf no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u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represented by tracing a series of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ath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from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oo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node to the next node and so on until an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c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v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reach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40BC-A73B-4E0A-BF88-A7138DD5A8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cision tree representation of salary dec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6" descr="FIG08_09"/>
          <p:cNvPicPr/>
          <p:nvPr/>
        </p:nvPicPr>
        <p:blipFill>
          <a:blip r:embed="rId1"/>
          <a:stretch/>
        </p:blipFill>
        <p:spPr>
          <a:xfrm>
            <a:off x="533520" y="1676520"/>
            <a:ext cx="8381880" cy="4074840"/>
          </a:xfrm>
          <a:prstGeom prst="rect">
            <a:avLst/>
          </a:prstGeom>
          <a:ln w="0">
            <a:noFill/>
          </a:ln>
        </p:spPr>
      </p:pic>
      <p:sp>
        <p:nvSpPr>
          <p:cNvPr id="162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4A8D-B633-45CB-95BD-2F81552030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lternative decision tree representation of salary dec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4" descr="FIG08_10"/>
          <p:cNvPicPr/>
          <p:nvPr/>
        </p:nvPicPr>
        <p:blipFill>
          <a:blip r:embed="rId1"/>
          <a:stretch/>
        </p:blipFill>
        <p:spPr>
          <a:xfrm>
            <a:off x="457200" y="1752480"/>
            <a:ext cx="8686800" cy="4321440"/>
          </a:xfrm>
          <a:prstGeom prst="rect">
            <a:avLst/>
          </a:prstGeom>
          <a:ln w="0">
            <a:noFill/>
          </a:ln>
        </p:spPr>
      </p:pic>
      <p:sp>
        <p:nvSpPr>
          <p:cNvPr id="165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E94A-0DD5-4E46-BDF8-663C18D9C4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ogic Mo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flow diagrams do not show the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logic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side the processes – what occurs within a a process? How input data is converted into output 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gic modeling involves representing internal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tructur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unctionalit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cess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depicted on a DF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cesses must be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learly describ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before translating them into programming languag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gic modeling can also be used to show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when process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n a DFD occu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gic modeling will be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neric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without taking syntax of a particular programming langu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6833-CE24-4803-B5DA-7878449ECF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ciding Among Structured English, Decision Tables, and Decision Tr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38080" y="1523880"/>
          <a:ext cx="7772400" cy="4616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er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uctured Engl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sion Tab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sion Tre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rmining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ition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rd 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orming Conditions and Actions into Sequ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rd 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ing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istenc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rd 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عنصر نائب لرقم الشريحة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9375-4713-4C3D-ADC1-BB1FFD7E65F4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ciding Between Decision Tables and Decision Tr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838080" y="1600200"/>
          <a:ext cx="7772400" cy="452592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68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er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sion Tab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sion Tre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raying complex log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raying simple r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ing decis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compa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sier to manipul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عنصر نائب لرقم الشريحة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BCA3-8C41-426A-BA4C-4521514839B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ogic Modeling Deliverables and Outco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ach process on the lowest level DFD will be represented by one or more of the following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ed Englis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T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e-transition dia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dia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ity dia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8326-997F-4A83-A0C0-E0027BF12B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odeling Logic with Structured Engli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440" y="16765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tructured Englis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s a modified form of English used to specify the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logic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information proces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s a subset of English vocabulary to express process procedu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c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verb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read, write, print, move, merge, add, s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Noun phras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name, addr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ba221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a2212"/>
                </a:solidFill>
                <a:latin typeface="Calibri"/>
              </a:rPr>
              <a:t>No adjectives or adverb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specific standards – each analyst will have his own w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le and variable names are CAPITALIZ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gical comparisons are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spelled ou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not used symbo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ructured English is used to represent processes in a shorthand manner that is relativel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as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for users and programmers to read and understa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8D0E-867D-4487-9495-1B5FD79FE2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60948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Modeling Logic with Structured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685800" y="1676520"/>
            <a:ext cx="84582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is possible to represent all three processes used in structured programming: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quence, conditional, re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quenc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special structure but one statement following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ndition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F THEN EL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tatement;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S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eti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O-UNTI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loops 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O-WHI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lo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mat of Structured English uses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dent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used in programming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ed English does not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itialize variabl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open and close fil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or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fi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related records in separate files – all are done in later desig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9AA4-2629-4734-885F-5681086DED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FIG08_02"/>
          <p:cNvPicPr/>
          <p:nvPr/>
        </p:nvPicPr>
        <p:blipFill>
          <a:blip r:embed="rId1"/>
          <a:stretch/>
        </p:blipFill>
        <p:spPr>
          <a:xfrm>
            <a:off x="228600" y="457200"/>
            <a:ext cx="8915400" cy="5505480"/>
          </a:xfrm>
          <a:prstGeom prst="rect">
            <a:avLst/>
          </a:prstGeom>
          <a:ln w="0">
            <a:noFill/>
          </a:ln>
        </p:spPr>
      </p:pic>
      <p:sp>
        <p:nvSpPr>
          <p:cNvPr id="103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F35E-5F78-43CE-AEA3-D5689BC9D9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6248520" y="2743200"/>
            <a:ext cx="289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ed English is used here to describe input and out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FIG08_03"/>
          <p:cNvPicPr/>
          <p:nvPr/>
        </p:nvPicPr>
        <p:blipFill>
          <a:blip r:embed="rId1"/>
          <a:stretch/>
        </p:blipFill>
        <p:spPr>
          <a:xfrm>
            <a:off x="1066680" y="0"/>
            <a:ext cx="5170680" cy="662940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6"/>
          <p:cNvSpPr/>
          <p:nvPr/>
        </p:nvSpPr>
        <p:spPr>
          <a:xfrm>
            <a:off x="2743200" y="96192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2666880" y="2133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2529000" y="332424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9"/>
          <p:cNvSpPr/>
          <p:nvPr/>
        </p:nvSpPr>
        <p:spPr>
          <a:xfrm>
            <a:off x="2438280" y="50007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8FB1-CA6A-46E8-95AB-DB69051BC5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6400800" y="259092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ed English is used here to describe arithmetic ope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FIG08_03"/>
          <p:cNvPicPr/>
          <p:nvPr/>
        </p:nvPicPr>
        <p:blipFill>
          <a:blip r:embed="rId1"/>
          <a:stretch/>
        </p:blipFill>
        <p:spPr>
          <a:xfrm>
            <a:off x="1004760" y="228600"/>
            <a:ext cx="5170680" cy="662940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5"/>
          <p:cNvSpPr/>
          <p:nvPr/>
        </p:nvSpPr>
        <p:spPr>
          <a:xfrm>
            <a:off x="5195880" y="13716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5348160" y="24382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BE68-FAEC-4A77-B528-501D1CEC23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6019920" y="265104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ed English is used here to describe repet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FIG08_03"/>
          <p:cNvPicPr/>
          <p:nvPr/>
        </p:nvPicPr>
        <p:blipFill>
          <a:blip r:embed="rId1"/>
          <a:stretch/>
        </p:blipFill>
        <p:spPr>
          <a:xfrm>
            <a:off x="685800" y="228600"/>
            <a:ext cx="5170320" cy="66294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762120" y="990720"/>
            <a:ext cx="1066680" cy="914400"/>
          </a:xfrm>
          <a:prstGeom prst="rect">
            <a:avLst/>
          </a:prstGeom>
          <a:solidFill>
            <a:srgbClr val="4f81bd">
              <a:alpha val="1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838080" y="2133720"/>
            <a:ext cx="1067040" cy="914400"/>
          </a:xfrm>
          <a:prstGeom prst="rect">
            <a:avLst/>
          </a:prstGeom>
          <a:solidFill>
            <a:srgbClr val="4f81bd">
              <a:alpha val="1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838080" y="3276720"/>
            <a:ext cx="1067040" cy="1143000"/>
          </a:xfrm>
          <a:prstGeom prst="rect">
            <a:avLst/>
          </a:prstGeom>
          <a:solidFill>
            <a:srgbClr val="4f81bd">
              <a:alpha val="1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838080" y="4800600"/>
            <a:ext cx="1067040" cy="1371600"/>
          </a:xfrm>
          <a:prstGeom prst="rect">
            <a:avLst/>
          </a:prstGeom>
          <a:solidFill>
            <a:srgbClr val="4f81bd">
              <a:alpha val="1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AutoShape 10"/>
          <p:cNvCxnSpPr>
            <a:stCxn id="116" idx="1"/>
            <a:endCxn id="118" idx="3"/>
          </p:cNvCxnSpPr>
          <p:nvPr/>
        </p:nvCxnSpPr>
        <p:spPr>
          <a:xfrm flipH="1" flipV="1">
            <a:off x="1828440" y="1447560"/>
            <a:ext cx="4191840" cy="170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AutoShape 11"/>
          <p:cNvCxnSpPr>
            <a:stCxn id="116" idx="1"/>
            <a:endCxn id="119" idx="3"/>
          </p:cNvCxnSpPr>
          <p:nvPr/>
        </p:nvCxnSpPr>
        <p:spPr>
          <a:xfrm flipH="1" flipV="1">
            <a:off x="1904760" y="2590200"/>
            <a:ext cx="4115520" cy="56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AutoShape 12"/>
          <p:cNvCxnSpPr>
            <a:stCxn id="116" idx="1"/>
            <a:endCxn id="120" idx="3"/>
          </p:cNvCxnSpPr>
          <p:nvPr/>
        </p:nvCxnSpPr>
        <p:spPr>
          <a:xfrm flipH="1">
            <a:off x="1904760" y="3153960"/>
            <a:ext cx="4115520" cy="69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AutoShape 13"/>
          <p:cNvCxnSpPr>
            <a:stCxn id="116" idx="1"/>
            <a:endCxn id="121" idx="3"/>
          </p:cNvCxnSpPr>
          <p:nvPr/>
        </p:nvCxnSpPr>
        <p:spPr>
          <a:xfrm flipH="1">
            <a:off x="1904760" y="3154320"/>
            <a:ext cx="4115520" cy="233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B504-19BB-4DE7-AB30-09304B78F9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0:04:24Z</dcterms:created>
  <dc:creator>KSU</dc:creator>
  <dc:description/>
  <dc:language>en-US</dc:language>
  <cp:lastModifiedBy>اذكر الله</cp:lastModifiedBy>
  <cp:lastPrinted>2012-11-23T15:56:32Z</cp:lastPrinted>
  <dcterms:modified xsi:type="dcterms:W3CDTF">2012-11-23T15:59:28Z</dcterms:modified>
  <cp:revision>2</cp:revision>
  <dc:subject/>
  <dc:title>Slide 1</dc:title>
</cp:coreProperties>
</file>