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69113" cy="9993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68800" cy="99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764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9440" y="-360"/>
            <a:ext cx="29764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9492840"/>
            <a:ext cx="29764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9440" y="9492840"/>
            <a:ext cx="29764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6429-4CB1-4642-86D6-4EA06E4912C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E079-689B-47F9-AAFE-E21FFB496331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F626-2775-4411-91DD-9E6CCE1D1577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AD3A-247C-4F06-8457-94ED10C06FA3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B105-C46C-42A9-BF64-F8D61F7F491F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9AA0-D6E5-4F21-A465-587AF503D79B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CC97-B153-43D0-8453-FBDFA44AB603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5AFE-0B74-4126-9D6A-F2321AC1D1BB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E743-1D7E-4B9D-9AFA-82A378B062AA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EE93-2B26-4316-B5A4-99C340794C02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2D59-FE9D-4325-90DB-51705B86E6FD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AB61-151F-4D1E-A244-57A591D32C02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0EA9-3C18-410B-95E8-E71F947D53ED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33F0-72DB-4469-B31B-4FD1C30D6CEF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6614-F498-4444-8D8F-9EB791FB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30FF-6DFD-49A4-B4C1-DFF8E536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5C6E-0E2B-4303-9859-C6AABDF3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2E94-899E-4183-9DC5-BD0B55EB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E60BB-525B-435E-A83D-AEAC0C2644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364A5-C65E-42D1-AFC7-C57840AE70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6B8F1-9681-41EB-99BB-DA5FCCBB10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65CB4-7AA3-452C-8F31-3553BE9DEE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6A930-A3A0-43C4-87B8-D1EE2998E5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318DC-A9E8-424E-9F3C-8956896121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D56E9-3880-4ADB-B358-2173D4B09E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25E8-E2D9-4F44-A2A4-73CE011A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383BF-DC2E-4A49-A925-3B3721E8ED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2E1D3-72F0-4B28-B849-214B6D8FE1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04739-1954-42D7-BF83-0D48047C90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6F834-3972-439D-8D9F-053E43F30F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7EDEB-FF4E-4DAF-A1BE-CF187C74C3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513B-03C3-4ABF-B622-B45FFD54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1E84-A7F0-49D3-8D6E-8D19BCB8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DFA8-BD02-4D14-94FE-1C670908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54B6-0BA2-4B0D-ADBB-CFC79F60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60AE-1BD2-4CF8-8AC9-DF1612D7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2C71-81D6-4D41-9D86-BE373585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8828-A6C4-4272-B928-D474132A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3CE5-2B32-47DF-9515-0E13F997DB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7FA1-0AD3-4C09-8D0D-750293153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2107-8458-46D2-8A13-63E3565387D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276360"/>
            <a:ext cx="7315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Chapter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Structuring System Requirem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Logic Mo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914400" y="0"/>
            <a:ext cx="7467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Modern Systems Analysis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and Design</a:t>
            </a:r>
            <a:br>
              <a:rPr sz="4000"/>
            </a:b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Fourth Edition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DAE4-8F03-42C2-9BC0-5DED242E2F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6477120" y="432756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d English is used here to describe dec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FIG08_03"/>
          <p:cNvPicPr/>
          <p:nvPr/>
        </p:nvPicPr>
        <p:blipFill>
          <a:blip r:embed="rId1"/>
          <a:stretch/>
        </p:blipFill>
        <p:spPr>
          <a:xfrm>
            <a:off x="1230480" y="228600"/>
            <a:ext cx="5170320" cy="66294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1066680" y="3581280"/>
            <a:ext cx="1067040" cy="685800"/>
          </a:xfrm>
          <a:prstGeom prst="rect">
            <a:avLst/>
          </a:prstGeom>
          <a:solidFill>
            <a:srgbClr val="4f81bd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1066680" y="5257800"/>
            <a:ext cx="1067040" cy="685800"/>
          </a:xfrm>
          <a:prstGeom prst="rect">
            <a:avLst/>
          </a:prstGeom>
          <a:solidFill>
            <a:srgbClr val="4f81bd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7"/>
          <p:cNvCxnSpPr>
            <a:stCxn id="127" idx="1"/>
            <a:endCxn id="129" idx="3"/>
          </p:cNvCxnSpPr>
          <p:nvPr/>
        </p:nvCxnSpPr>
        <p:spPr>
          <a:xfrm flipH="1" flipV="1">
            <a:off x="2133360" y="3924000"/>
            <a:ext cx="4343760" cy="90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AutoShape 8"/>
          <p:cNvCxnSpPr>
            <a:stCxn id="127" idx="1"/>
            <a:endCxn id="130" idx="3"/>
          </p:cNvCxnSpPr>
          <p:nvPr/>
        </p:nvCxnSpPr>
        <p:spPr>
          <a:xfrm flipH="1">
            <a:off x="2133360" y="4830480"/>
            <a:ext cx="4343760" cy="77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9DEB-DCCB-4ADC-92BA-9663F3844A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6324480" y="2895480"/>
            <a:ext cx="2819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d English is used here to describe invoking other proc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FIG08_03"/>
          <p:cNvPicPr/>
          <p:nvPr/>
        </p:nvPicPr>
        <p:blipFill>
          <a:blip r:embed="rId1"/>
          <a:stretch/>
        </p:blipFill>
        <p:spPr>
          <a:xfrm>
            <a:off x="1077840" y="228600"/>
            <a:ext cx="5170680" cy="662940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6"/>
          <p:cNvSpPr/>
          <p:nvPr/>
        </p:nvSpPr>
        <p:spPr>
          <a:xfrm>
            <a:off x="2514600" y="3857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2604960" y="48006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2666880" y="54864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329A-C769-44AA-BEC7-6A8E96FEC1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Modeling Logic with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Decision Tabl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44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uctured English is not good to represent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omplicated logi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having several different conditions) as it becomes difficult to underst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ision tab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tri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epresentation of the logic of a dec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ies all the possible conditions and the resulting actions in 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abular 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st used for complicated decision log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 Parts of a Decision T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dition stub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sts condition relevant to dec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tion stub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ons that result from a given set of cond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y which actions are to be followed for a given set of cond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different Cond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dition whose valu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oes not affec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hich action is taken for two or more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A038-985D-4808-967A-BC45D5ECE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cedure for Creating Decision 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4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 the conditions and values each condition can assu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conditions values will be just “yes” or “no” and some may have many values (called an extended entr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 all possible actions that can occ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st all possible ru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 exhaustive set of rules – every possible combination of conditions must be repres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rules may b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edunda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r mak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o sens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at can be altered l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umber of rules = number of values for </a:t>
            </a:r>
            <a:r>
              <a:rPr b="1" i="1" lang="en-US" sz="1800" spc="-1" strike="noStrike">
                <a:solidFill>
                  <a:srgbClr val="ba2212"/>
                </a:solidFill>
                <a:latin typeface="Calibri"/>
              </a:rPr>
              <a:t>condition 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X number of values for </a:t>
            </a:r>
            <a:r>
              <a:rPr b="1" i="1" lang="en-US" sz="1800" spc="-1" strike="noStrike">
                <a:solidFill>
                  <a:srgbClr val="ba2212"/>
                </a:solidFill>
                <a:latin typeface="Calibri"/>
              </a:rPr>
              <a:t>condition 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X …..X number of values for </a:t>
            </a:r>
            <a:r>
              <a:rPr b="1" i="1" lang="en-US" sz="1800" spc="-1" strike="noStrike">
                <a:solidFill>
                  <a:srgbClr val="ba2212"/>
                </a:solidFill>
                <a:latin typeface="Calibri"/>
              </a:rPr>
              <a:t>condition 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e the actions for each ru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an action doesn’t make sense create an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mpossib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” row for that a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the action is not known place a ? for that r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plify the t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move any rules with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mpossib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253C-CA50-451A-801F-3DCB389FE2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7" descr="FIG08_04"/>
          <p:cNvPicPr/>
          <p:nvPr/>
        </p:nvPicPr>
        <p:blipFill>
          <a:blip r:embed="rId1"/>
          <a:stretch/>
        </p:blipFill>
        <p:spPr>
          <a:xfrm>
            <a:off x="762120" y="1600200"/>
            <a:ext cx="7619760" cy="40291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cision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838080" y="56070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for salaried employees the action stub chosen will always be the same…therefore hours worked is a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different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2BB7-C33C-406C-93B7-7F55611B18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duced Decision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990720" y="568332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cause of indifferent condition, the complete decision table can be reduced to one with fewer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FIG08_05"/>
          <p:cNvPicPr/>
          <p:nvPr/>
        </p:nvPicPr>
        <p:blipFill>
          <a:blip r:embed="rId1"/>
          <a:stretch/>
        </p:blipFill>
        <p:spPr>
          <a:xfrm>
            <a:off x="762120" y="1571760"/>
            <a:ext cx="7619760" cy="4066920"/>
          </a:xfrm>
          <a:prstGeom prst="rect">
            <a:avLst/>
          </a:prstGeom>
          <a:ln w="0">
            <a:noFill/>
          </a:ln>
        </p:spPr>
      </p:pic>
      <p:sp>
        <p:nvSpPr>
          <p:cNvPr id="153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9EC9-ACBF-4750-9FCF-51701C830D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6094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Procedure for Creating Decision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85800" y="1600200"/>
            <a:ext cx="8458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tables can also be used to specify additional decision-related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actions for a rule are more complicated and can’t be conveyed in one or two lines of text (o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some conditions depend on other conditions (nested condition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use separate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inked decis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table by writing “Perform Table B” as action in the action st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able B could contain an action stub that returns to the origina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umb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indicat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eque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rather than just Xs where rules and action stub inters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tables a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a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pack a lot of information into a small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tables allow you to check for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leten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sistenc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dundanc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4A8A-243F-40DD-9C4C-CD25CF7ACD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deling Logic with Decision Tr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33520" y="15235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cision tre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a graphical representation of a decision situ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situation points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are connected together by </a:t>
            </a:r>
            <a:r>
              <a:rPr b="1" lang="en-US" sz="2000" spc="-1" strike="noStrike">
                <a:solidFill>
                  <a:srgbClr val="ba2212"/>
                </a:solidFill>
                <a:latin typeface="Calibri"/>
              </a:rPr>
              <a:t>arc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terminate in </a:t>
            </a:r>
            <a:r>
              <a:rPr b="1" lang="en-US" sz="2000" spc="-1" strike="noStrike">
                <a:solidFill>
                  <a:srgbClr val="ba2212"/>
                </a:solidFill>
                <a:latin typeface="Calibri"/>
              </a:rPr>
              <a:t>ov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 compon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ision poin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epresented b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tion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epresented b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v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ticular choices from a decision point represented b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r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read a decision tree – begin at root node on far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numbered and each number corresponds to 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oices are spelled out in 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eg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m each node there ar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t least two path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leading to next step – another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ecision poi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r a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possibl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tion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re listed on the far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gh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leaf n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u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represented by tracing a series of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ath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from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o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node to the next node and so on until an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v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reach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823E-9EB8-453C-B38A-E618F07EC4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cision tree representation of salary dec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6" descr="FIG08_09"/>
          <p:cNvPicPr/>
          <p:nvPr/>
        </p:nvPicPr>
        <p:blipFill>
          <a:blip r:embed="rId1"/>
          <a:stretch/>
        </p:blipFill>
        <p:spPr>
          <a:xfrm>
            <a:off x="533520" y="1676520"/>
            <a:ext cx="8381880" cy="4074840"/>
          </a:xfrm>
          <a:prstGeom prst="rect">
            <a:avLst/>
          </a:prstGeom>
          <a:ln w="0">
            <a:noFill/>
          </a:ln>
        </p:spPr>
      </p:pic>
      <p:sp>
        <p:nvSpPr>
          <p:cNvPr id="162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1C2F-076C-474D-B92D-2BED6C8E7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ternative decision tree representation of salary dec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4" descr="FIG08_10"/>
          <p:cNvPicPr/>
          <p:nvPr/>
        </p:nvPicPr>
        <p:blipFill>
          <a:blip r:embed="rId1"/>
          <a:stretch/>
        </p:blipFill>
        <p:spPr>
          <a:xfrm>
            <a:off x="457200" y="1752480"/>
            <a:ext cx="8686800" cy="4321440"/>
          </a:xfrm>
          <a:prstGeom prst="rect">
            <a:avLst/>
          </a:prstGeom>
          <a:ln w="0">
            <a:noFill/>
          </a:ln>
        </p:spPr>
      </p:pic>
      <p:sp>
        <p:nvSpPr>
          <p:cNvPr id="165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4378-6923-491A-B550-8607E45A30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gic Mo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flow diagrams do not show th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logic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side the processes – what occurs within a a process? How input data is converted into output 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gic modeling involves representing internal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ructur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unctionalit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cess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depicted on a DF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cesses must b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learly describ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before translating them into programming languag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gic modeling can also be used to show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when process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n a DFD occu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gic modeling will b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neric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without taking syntax of a particular programming langu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E01E-F76F-44C6-8570-C2B3A5F614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ciding Among Structured English, Decision Tables, and Decision Tr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38080" y="1523880"/>
          <a:ext cx="7772400" cy="4616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er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uctured Engl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 T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 Tre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rmining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ition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 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orming Conditions and Actions into Sequ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 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ing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istenc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 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عنصر نائب لرقم الشريحة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C8A9-9863-4289-A782-168A5192387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ciding Between Decision Tables and Decision Tr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838080" y="1600200"/>
          <a:ext cx="7772400" cy="452592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68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er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 T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 Tre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raying complex log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raying simple r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ing decis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compa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ier to manipul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عنصر نائب لرقم الشريحة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6EC8-1773-4B8C-A454-DA029797CFD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gic Modeling Deliverables and Outc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ach process on the lowest level DFD will be represented by one or more of the follow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d Englis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T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e-transition dia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dia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ity dia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D547-6844-4D3A-87F6-B712418872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deling Logic with Structured Engli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440" y="16765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ructured Englis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s a modified form of English used to specify th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logic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information proces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s a subset of English vocabulary to express process procedu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c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verb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read, write, print, move, merge, add, s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Noun phras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name, addr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ba221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a2212"/>
                </a:solidFill>
                <a:latin typeface="Calibri"/>
              </a:rPr>
              <a:t>No adjectives or adverb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specific standards – each analyst will have his own w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le and variable names are CAPITALIZ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gical comparisons are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pelled ou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not used symbo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uctured English is used to represent processes in a shorthand manner that is relativel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as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for users and programmers to read and understa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E14F-1967-4E30-A491-13218EC582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60948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Modeling Logic with Structured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685800" y="1676520"/>
            <a:ext cx="84582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s possible to represent all three processes used in structured programming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quence, conditional, re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quenc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special structure but one statement following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dition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F THEN EL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tatemen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S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eti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O-UNTI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oops 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O-WHI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o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mat of Structured English uses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dent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used in programming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d English does not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itialize variabl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open and close fil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or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fi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related records in separate files – all are done in later desig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2EC9-D5E0-439D-AFD5-497C947041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FIG08_02"/>
          <p:cNvPicPr/>
          <p:nvPr/>
        </p:nvPicPr>
        <p:blipFill>
          <a:blip r:embed="rId1"/>
          <a:stretch/>
        </p:blipFill>
        <p:spPr>
          <a:xfrm>
            <a:off x="228600" y="457200"/>
            <a:ext cx="8915400" cy="5505480"/>
          </a:xfrm>
          <a:prstGeom prst="rect">
            <a:avLst/>
          </a:prstGeom>
          <a:ln w="0">
            <a:noFill/>
          </a:ln>
        </p:spPr>
      </p:pic>
      <p:sp>
        <p:nvSpPr>
          <p:cNvPr id="103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3CEC-84AB-4A4C-A3B2-FD0845F68B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6248520" y="2743200"/>
            <a:ext cx="289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d English is used here to describe input and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FIG08_03"/>
          <p:cNvPicPr/>
          <p:nvPr/>
        </p:nvPicPr>
        <p:blipFill>
          <a:blip r:embed="rId1"/>
          <a:stretch/>
        </p:blipFill>
        <p:spPr>
          <a:xfrm>
            <a:off x="1066680" y="0"/>
            <a:ext cx="5170680" cy="662940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6"/>
          <p:cNvSpPr/>
          <p:nvPr/>
        </p:nvSpPr>
        <p:spPr>
          <a:xfrm>
            <a:off x="2743200" y="9619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2666880" y="2133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529000" y="332424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2438280" y="5000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CBCA-1211-43EE-887C-7E3ACAD1A1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6400800" y="25909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d English is used here to describe arithmetic ope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FIG08_03"/>
          <p:cNvPicPr/>
          <p:nvPr/>
        </p:nvPicPr>
        <p:blipFill>
          <a:blip r:embed="rId1"/>
          <a:stretch/>
        </p:blipFill>
        <p:spPr>
          <a:xfrm>
            <a:off x="1004760" y="228600"/>
            <a:ext cx="5170680" cy="662940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5"/>
          <p:cNvSpPr/>
          <p:nvPr/>
        </p:nvSpPr>
        <p:spPr>
          <a:xfrm>
            <a:off x="5195880" y="13716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5348160" y="24382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95CC-0D6B-49AA-9A60-AE27095824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6019920" y="265104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d English is used here to describe repet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FIG08_03"/>
          <p:cNvPicPr/>
          <p:nvPr/>
        </p:nvPicPr>
        <p:blipFill>
          <a:blip r:embed="rId1"/>
          <a:stretch/>
        </p:blipFill>
        <p:spPr>
          <a:xfrm>
            <a:off x="685800" y="228600"/>
            <a:ext cx="5170320" cy="66294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762120" y="990720"/>
            <a:ext cx="1066680" cy="914400"/>
          </a:xfrm>
          <a:prstGeom prst="rect">
            <a:avLst/>
          </a:prstGeom>
          <a:solidFill>
            <a:srgbClr val="4f81bd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838080" y="2133720"/>
            <a:ext cx="1067040" cy="914400"/>
          </a:xfrm>
          <a:prstGeom prst="rect">
            <a:avLst/>
          </a:prstGeom>
          <a:solidFill>
            <a:srgbClr val="4f81bd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838080" y="3276720"/>
            <a:ext cx="1067040" cy="1143000"/>
          </a:xfrm>
          <a:prstGeom prst="rect">
            <a:avLst/>
          </a:prstGeom>
          <a:solidFill>
            <a:srgbClr val="4f81bd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838080" y="4800600"/>
            <a:ext cx="1067040" cy="1371600"/>
          </a:xfrm>
          <a:prstGeom prst="rect">
            <a:avLst/>
          </a:prstGeom>
          <a:solidFill>
            <a:srgbClr val="4f81bd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AutoShape 10"/>
          <p:cNvCxnSpPr>
            <a:stCxn id="116" idx="1"/>
            <a:endCxn id="118" idx="3"/>
          </p:cNvCxnSpPr>
          <p:nvPr/>
        </p:nvCxnSpPr>
        <p:spPr>
          <a:xfrm flipH="1" flipV="1">
            <a:off x="1828440" y="1447560"/>
            <a:ext cx="4191840" cy="170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AutoShape 11"/>
          <p:cNvCxnSpPr>
            <a:stCxn id="116" idx="1"/>
            <a:endCxn id="119" idx="3"/>
          </p:cNvCxnSpPr>
          <p:nvPr/>
        </p:nvCxnSpPr>
        <p:spPr>
          <a:xfrm flipH="1" flipV="1">
            <a:off x="1904760" y="2590200"/>
            <a:ext cx="4115520" cy="56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AutoShape 12"/>
          <p:cNvCxnSpPr>
            <a:stCxn id="116" idx="1"/>
            <a:endCxn id="120" idx="3"/>
          </p:cNvCxnSpPr>
          <p:nvPr/>
        </p:nvCxnSpPr>
        <p:spPr>
          <a:xfrm flipH="1">
            <a:off x="1904760" y="3153960"/>
            <a:ext cx="4115520" cy="69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AutoShape 13"/>
          <p:cNvCxnSpPr>
            <a:stCxn id="116" idx="1"/>
            <a:endCxn id="121" idx="3"/>
          </p:cNvCxnSpPr>
          <p:nvPr/>
        </p:nvCxnSpPr>
        <p:spPr>
          <a:xfrm flipH="1">
            <a:off x="1904760" y="3154320"/>
            <a:ext cx="4115520" cy="233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DEEA-AB4D-431F-A1BD-77ACCEABE4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0:04:24Z</dcterms:created>
  <dc:creator>KSU</dc:creator>
  <dc:description/>
  <dc:language>en-US</dc:language>
  <cp:lastModifiedBy>اذكر الله</cp:lastModifiedBy>
  <cp:lastPrinted>2012-11-23T15:56:32Z</cp:lastPrinted>
  <dcterms:modified xsi:type="dcterms:W3CDTF">2012-11-23T15:59:28Z</dcterms:modified>
  <cp:revision>2</cp:revision>
  <dc:subject/>
  <dc:title>Slide 1</dc:title>
</cp:coreProperties>
</file>