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69113" cy="9993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68800" cy="99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9440" y="-36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949284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9440" y="949284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6FB6-5F4C-40D9-9794-7E358A3AAAE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2D64-E439-4377-9268-FC6E12C6673F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1A49-ECFB-4ED1-8E25-8CC5895883CA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A4F7-07A0-4DFF-BDFC-6F09AF5D9FC1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2532-48BC-49AC-A184-0124FAB1C616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61E8-AA14-4F8D-A9ED-41807718CD3F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05FC-2A3E-4553-916F-E5ABD6E50ED2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5313-0ACD-4FEC-AD57-A8ED2D05304A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24EB-80CB-4CE9-80C7-FD74470088DC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304B-1F36-495E-B049-B2D487CEA784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CF14-52B2-49F5-9B24-24AB44150A5C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9A3A-920E-435F-BE22-1ED94678FA80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D904-DED6-48A5-8348-C9D245053E4F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18FE-1F4C-4173-BDD1-B39B489D86AE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041-DAB8-4E84-BA77-5CB3C8CF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6795-6025-49A9-BE63-9B136DCB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046-1F39-4803-AEFE-EDB6709A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D66-C50E-4CB9-A586-BE149900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7ABDA-C160-4577-980D-6E481A4691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1FEA3-6409-4C59-A7C1-7DC87FDE9C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5A9EA-AA06-4389-B2ED-0D6EE7A59B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1F33F-71D3-4011-B279-A5C9110711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8DD3D-F38D-4654-9FAF-1A47033668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3836B-F995-4775-AD51-1142A7D6F0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382F4-E494-4968-84DE-8BDA8C6AA8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1CFC-B200-444B-A703-20A5FF1A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53444-B543-413A-BC7A-48C25424A6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19368-561B-472E-BF28-07A184C5D5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B5B3A-A13F-4481-B238-AAE4DA1D68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D83B2-8EE0-4E4D-BA36-C15DBC70E5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CA00B-F751-4B47-AC71-8A0F8E7DC3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581C-3652-426A-A822-25B70A48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F78-F0D0-4337-9ECF-A4FB5E7B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464A-EA47-48F9-8987-7E4A6B09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A95-8AE3-415A-A7E5-431C55EE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9BCF-64A2-4905-A1F3-D65C9BF8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3E92-4C2F-4BFB-A53A-7BA0A648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F68-6DE8-4BBE-A230-6DB98C77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B549-E548-42DB-9372-623FE758D0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2595-7BA4-47DE-B14B-1425C1F75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4366-7D89-4B62-B840-28D0A6EC451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27636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Chapter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Structuring System Require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Logic 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914400" y="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ourth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97E5-6A98-4099-8480-F38049936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6477120" y="432756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is used here to describe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FIG08_03"/>
          <p:cNvPicPr/>
          <p:nvPr/>
        </p:nvPicPr>
        <p:blipFill>
          <a:blip r:embed="rId1"/>
          <a:stretch/>
        </p:blipFill>
        <p:spPr>
          <a:xfrm>
            <a:off x="1230480" y="228600"/>
            <a:ext cx="5170320" cy="6629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066680" y="3581280"/>
            <a:ext cx="1067040" cy="6858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066680" y="5257800"/>
            <a:ext cx="1067040" cy="6858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7"/>
          <p:cNvCxnSpPr>
            <a:stCxn id="127" idx="1"/>
            <a:endCxn id="129" idx="3"/>
          </p:cNvCxnSpPr>
          <p:nvPr/>
        </p:nvCxnSpPr>
        <p:spPr>
          <a:xfrm flipH="1" flipV="1">
            <a:off x="2133360" y="3924000"/>
            <a:ext cx="4343760" cy="90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AutoShape 8"/>
          <p:cNvCxnSpPr>
            <a:stCxn id="127" idx="1"/>
            <a:endCxn id="130" idx="3"/>
          </p:cNvCxnSpPr>
          <p:nvPr/>
        </p:nvCxnSpPr>
        <p:spPr>
          <a:xfrm flipH="1">
            <a:off x="2133360" y="4830480"/>
            <a:ext cx="4343760" cy="77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1C59-D35F-47E0-B2A3-4E1C24109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6324480" y="289548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is used here to describe invoking other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FIG08_03"/>
          <p:cNvPicPr/>
          <p:nvPr/>
        </p:nvPicPr>
        <p:blipFill>
          <a:blip r:embed="rId1"/>
          <a:stretch/>
        </p:blipFill>
        <p:spPr>
          <a:xfrm>
            <a:off x="1077840" y="228600"/>
            <a:ext cx="5170680" cy="66294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6"/>
          <p:cNvSpPr/>
          <p:nvPr/>
        </p:nvSpPr>
        <p:spPr>
          <a:xfrm>
            <a:off x="2514600" y="385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604960" y="48006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2666880" y="54864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C55A-67BC-4199-96A3-30CE25BB4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odeling Logic with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Decision Tabl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44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uctured English is not good to represent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mplicated log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having several different conditions) as it becomes difficult to underst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ision ta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tr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presentation of the logic of a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es all the possible conditions and the resulting actions in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abular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st used for complicated decision log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 Parts of a Decision 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dition stu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s condition relevant to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tion stu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ons that result from a given set of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which actions are to be followed for a given set of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fferent Cond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dition whose valu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oes not affec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hich action is taken for two or more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4F2D-6FD5-4910-ACE2-CA38B2FF1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dure for Creating Decision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4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 the conditions and values each condition can assu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conditions values will be just “yes” or “no” and some may have many values (called an extended entr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 all possible actions that can occ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 all possible r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exhaustive set of rules – every possible combination of conditions must be repres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rules may b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edunda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 mak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 sen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at can be altered l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umber of rules = number of values for </a:t>
            </a:r>
            <a:r>
              <a:rPr b="1" i="1" lang="en-US" sz="1800" spc="-1" strike="noStrike">
                <a:solidFill>
                  <a:srgbClr val="ba2212"/>
                </a:solidFill>
                <a:latin typeface="Calibri"/>
              </a:rPr>
              <a:t>condition 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X number of values for </a:t>
            </a:r>
            <a:r>
              <a:rPr b="1" i="1" lang="en-US" sz="1800" spc="-1" strike="noStrike">
                <a:solidFill>
                  <a:srgbClr val="ba2212"/>
                </a:solidFill>
                <a:latin typeface="Calibri"/>
              </a:rPr>
              <a:t>condition 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X …..X number of values for </a:t>
            </a:r>
            <a:r>
              <a:rPr b="1" i="1" lang="en-US" sz="1800" spc="-1" strike="noStrike">
                <a:solidFill>
                  <a:srgbClr val="ba2212"/>
                </a:solidFill>
                <a:latin typeface="Calibri"/>
              </a:rPr>
              <a:t>condition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the actions for each r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an action doesn’t make sense create an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ossi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 row for that 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the action is not known place a ? for that r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ify the 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ve any rules wit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ossi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EB52-F04A-4F37-81D3-DB4966019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FIG08_04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0291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sion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838080" y="56070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for salaried employees the action stub chosen will always be the same…therefore hours worked is a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different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0A51-EB6D-40FB-B1F2-5EBECF7F2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duced Decision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990720" y="568332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 of indifferent condition, the complete decision table can be reduced to one with fewer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FIG08_05"/>
          <p:cNvPicPr/>
          <p:nvPr/>
        </p:nvPicPr>
        <p:blipFill>
          <a:blip r:embed="rId1"/>
          <a:stretch/>
        </p:blipFill>
        <p:spPr>
          <a:xfrm>
            <a:off x="762120" y="1571760"/>
            <a:ext cx="7619760" cy="4066920"/>
          </a:xfrm>
          <a:prstGeom prst="rect">
            <a:avLst/>
          </a:prstGeom>
          <a:ln w="0">
            <a:noFill/>
          </a:ln>
        </p:spPr>
      </p:pic>
      <p:sp>
        <p:nvSpPr>
          <p:cNvPr id="153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2FA2-3084-4C45-B0FA-FEB5940E6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094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Procedure for Creating Decisi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85800" y="1600200"/>
            <a:ext cx="8458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ables can also be used to specify additional decision-related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ctions for a rule are more complicated and can’t be conveyed in one or two lines of text (o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some conditions depend on other conditions (nested condition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se separate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inked decis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table by writing “Perform Table B” as action in the action st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able B could contain an action stub that returns to the origina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umb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ndicat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eque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ather than just Xs where rules and action stub inters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ables a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pack a lot of information into a small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ables allow you to check for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ete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isten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dundan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5EE6-97FD-41CB-BA2F-5BA6A35DF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ling Logic with Decision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52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cision tre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a graphical representation of a decision sit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ituation points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are connected together by </a:t>
            </a:r>
            <a:r>
              <a:rPr b="1" lang="en-US" sz="2000" spc="-1" strike="noStrike">
                <a:solidFill>
                  <a:srgbClr val="ba2212"/>
                </a:solidFill>
                <a:latin typeface="Calibri"/>
              </a:rPr>
              <a:t>arc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erminate in </a:t>
            </a:r>
            <a:r>
              <a:rPr b="1" lang="en-US" sz="2000" spc="-1" strike="noStrike">
                <a:solidFill>
                  <a:srgbClr val="ba2212"/>
                </a:solidFill>
                <a:latin typeface="Calibri"/>
              </a:rPr>
              <a:t>ov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compon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ision poi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presented b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presented b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v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cular choices from a decision point represented b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r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read a decision tree – begin at root node on fa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numbered and each number corresponds to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ices are spelled out in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each node there ar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t least two path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eading to next step – another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cision po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 a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possibl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listed on the fa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gh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leaf 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u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presented by tracing a series of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ath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o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node to the next node and so on until a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v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ach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F3C0-192C-400C-BC9C-A68A4EB40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sion tree representation of salary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6" descr="FIG08_09"/>
          <p:cNvPicPr/>
          <p:nvPr/>
        </p:nvPicPr>
        <p:blipFill>
          <a:blip r:embed="rId1"/>
          <a:stretch/>
        </p:blipFill>
        <p:spPr>
          <a:xfrm>
            <a:off x="533520" y="1676520"/>
            <a:ext cx="8381880" cy="4074840"/>
          </a:xfrm>
          <a:prstGeom prst="rect">
            <a:avLst/>
          </a:prstGeom>
          <a:ln w="0">
            <a:noFill/>
          </a:ln>
        </p:spPr>
      </p:pic>
      <p:sp>
        <p:nvSpPr>
          <p:cNvPr id="162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F04F-C011-48F6-B407-1EEFD2DBD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ternative decision tree representation of salary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FIG08_10"/>
          <p:cNvPicPr/>
          <p:nvPr/>
        </p:nvPicPr>
        <p:blipFill>
          <a:blip r:embed="rId1"/>
          <a:stretch/>
        </p:blipFill>
        <p:spPr>
          <a:xfrm>
            <a:off x="457200" y="1752480"/>
            <a:ext cx="8686800" cy="4321440"/>
          </a:xfrm>
          <a:prstGeom prst="rect">
            <a:avLst/>
          </a:prstGeom>
          <a:ln w="0">
            <a:noFill/>
          </a:ln>
        </p:spPr>
      </p:pic>
      <p:sp>
        <p:nvSpPr>
          <p:cNvPr id="165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2F50-659D-4F12-92D4-7602B1900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ic Mo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do not show th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og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side the processes – what occurs within a a process? How input data is converted into output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 modeling involves representing internal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uctur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unctionali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epicted on a DF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es must b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early describ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before translating them into programming langu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 modeling can also be used to show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 proces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a DFD occu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 modeling will b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ner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without taking syntax of a particular programming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6B7C-7C46-4812-8A92-E4FD93915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ding Among Structured English, Decision Tables, and Decision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1523880"/>
          <a:ext cx="7772400" cy="4616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ed 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r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orming Conditions and Actions into Sequ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stenc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عنصر نائب لرقم الشريحة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F122-3E39-4A69-8105-F9046D073B8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ding Between Decision Tables and Decision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38080" y="1600200"/>
          <a:ext cx="7772400" cy="45259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8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r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raying complex log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raying simple r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ing decis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compa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ier to manipul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عنصر نائب لرقم الشريحة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45BD-6BBC-4EB4-B4DE-CF74594E0C9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ic Modeling Deliverables and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rocess on the lowest level DFD will be represented by one or more of the follow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-transition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y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6B7C-7637-4BC7-A712-A3381403A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ling Logic with Structured Engl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440" y="16765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uctured Englis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s a modified form of English used to specify th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og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information proc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s a subset of English vocabulary to express process proced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erb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read, write, print, move, merge, add, s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oun phra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name, add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ba221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a2212"/>
                </a:solidFill>
                <a:latin typeface="Calibri"/>
              </a:rPr>
              <a:t>No adjectives or adver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specific standards – each analyst will have his own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le and variable names are CAPITALIZ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comparisons ar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pelled ou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not used symbo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uctured English is used to represent processes in a shorthand manner that is relativel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as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for users and programmers to read and underst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1389-4757-40B7-8C15-2DFEE703E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60948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Modeling Logic with Structured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85800" y="1676520"/>
            <a:ext cx="84582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possible to represent all three processes used in structured programming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quence, conditional, re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quen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pecial structure but one statement following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dition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 THEN E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eti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O-UNTI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oops 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O-WHI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at of Structured English use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d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sed in programming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does no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itialize variab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pen and close fi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i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elated records in separate files – all are done in later desig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DFF7-A8A5-413C-BC18-B98E136D8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FIG08_02"/>
          <p:cNvPicPr/>
          <p:nvPr/>
        </p:nvPicPr>
        <p:blipFill>
          <a:blip r:embed="rId1"/>
          <a:stretch/>
        </p:blipFill>
        <p:spPr>
          <a:xfrm>
            <a:off x="228600" y="457200"/>
            <a:ext cx="8915400" cy="5505480"/>
          </a:xfrm>
          <a:prstGeom prst="rect">
            <a:avLst/>
          </a:prstGeom>
          <a:ln w="0">
            <a:noFill/>
          </a:ln>
        </p:spPr>
      </p:pic>
      <p:sp>
        <p:nvSpPr>
          <p:cNvPr id="103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E84F-B244-473B-A314-337440479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6248520" y="274320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is used here to describe input and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FIG08_03"/>
          <p:cNvPicPr/>
          <p:nvPr/>
        </p:nvPicPr>
        <p:blipFill>
          <a:blip r:embed="rId1"/>
          <a:stretch/>
        </p:blipFill>
        <p:spPr>
          <a:xfrm>
            <a:off x="1066680" y="0"/>
            <a:ext cx="5170680" cy="66294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6"/>
          <p:cNvSpPr/>
          <p:nvPr/>
        </p:nvSpPr>
        <p:spPr>
          <a:xfrm>
            <a:off x="2743200" y="9619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2666880" y="2133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529000" y="33242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2438280" y="5000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3005-BC90-4156-BDCA-FF47D97B1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6400800" y="25909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is used here to describe arithmetic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FIG08_03"/>
          <p:cNvPicPr/>
          <p:nvPr/>
        </p:nvPicPr>
        <p:blipFill>
          <a:blip r:embed="rId1"/>
          <a:stretch/>
        </p:blipFill>
        <p:spPr>
          <a:xfrm>
            <a:off x="1004760" y="228600"/>
            <a:ext cx="5170680" cy="66294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/>
          <p:cNvSpPr/>
          <p:nvPr/>
        </p:nvSpPr>
        <p:spPr>
          <a:xfrm>
            <a:off x="5195880" y="13716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5348160" y="2438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5A63-2779-4499-858C-DA6B38C92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6019920" y="265104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is used here to describe repet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FIG08_03"/>
          <p:cNvPicPr/>
          <p:nvPr/>
        </p:nvPicPr>
        <p:blipFill>
          <a:blip r:embed="rId1"/>
          <a:stretch/>
        </p:blipFill>
        <p:spPr>
          <a:xfrm>
            <a:off x="685800" y="228600"/>
            <a:ext cx="5170320" cy="6629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762120" y="990720"/>
            <a:ext cx="1066680" cy="9144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838080" y="2133720"/>
            <a:ext cx="1067040" cy="9144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838080" y="3276720"/>
            <a:ext cx="1067040" cy="11430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838080" y="4800600"/>
            <a:ext cx="1067040" cy="13716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AutoShape 10"/>
          <p:cNvCxnSpPr>
            <a:stCxn id="116" idx="1"/>
            <a:endCxn id="118" idx="3"/>
          </p:cNvCxnSpPr>
          <p:nvPr/>
        </p:nvCxnSpPr>
        <p:spPr>
          <a:xfrm flipH="1" flipV="1">
            <a:off x="1828440" y="1447560"/>
            <a:ext cx="4191840" cy="170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AutoShape 11"/>
          <p:cNvCxnSpPr>
            <a:stCxn id="116" idx="1"/>
            <a:endCxn id="119" idx="3"/>
          </p:cNvCxnSpPr>
          <p:nvPr/>
        </p:nvCxnSpPr>
        <p:spPr>
          <a:xfrm flipH="1" flipV="1">
            <a:off x="1904760" y="2590200"/>
            <a:ext cx="4115520" cy="56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AutoShape 12"/>
          <p:cNvCxnSpPr>
            <a:stCxn id="116" idx="1"/>
            <a:endCxn id="120" idx="3"/>
          </p:cNvCxnSpPr>
          <p:nvPr/>
        </p:nvCxnSpPr>
        <p:spPr>
          <a:xfrm flipH="1">
            <a:off x="1904760" y="3153960"/>
            <a:ext cx="4115520" cy="69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AutoShape 13"/>
          <p:cNvCxnSpPr>
            <a:stCxn id="116" idx="1"/>
            <a:endCxn id="121" idx="3"/>
          </p:cNvCxnSpPr>
          <p:nvPr/>
        </p:nvCxnSpPr>
        <p:spPr>
          <a:xfrm flipH="1">
            <a:off x="1904760" y="3154320"/>
            <a:ext cx="4115520" cy="233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5EE7-D047-416A-9DFB-A2EF6C44A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0:04:24Z</dcterms:created>
  <dc:creator>KSU</dc:creator>
  <dc:description/>
  <dc:language>en-US</dc:language>
  <cp:lastModifiedBy>اذكر الله</cp:lastModifiedBy>
  <cp:lastPrinted>2012-11-23T15:56:32Z</cp:lastPrinted>
  <dcterms:modified xsi:type="dcterms:W3CDTF">2012-11-23T15:59:28Z</dcterms:modified>
  <cp:revision>2</cp:revision>
  <dc:subject/>
  <dc:title>Slide 1</dc:title>
</cp:coreProperties>
</file>