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69113" cy="9993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68800" cy="99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9440" y="-36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9440" y="9492840"/>
            <a:ext cx="29764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BDD-1FAF-4A6E-81DF-5B3C960B97A4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8DC-D194-4F8E-9F9F-5C3074969FC4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6C25-58B4-423F-A1E5-D728173FA0D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F53-098F-4563-8945-F01D61791C6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2848-6D90-4BD8-BBF3-7FCD18B8C56A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4A9A-7395-4162-8FC5-49CA4A9B9C25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755B-0A58-4A60-AD6A-7AA247BFC5C7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F392-A7DC-4569-A659-1B2CD6D95FC8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67F8-1F04-4A08-A0AE-92A01F0AA80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1E23-2CBE-4644-9087-B2AB2DFE45F9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1A8D-5379-4452-AD96-3B5DF4610251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9740-6F10-495A-916E-F71FB0A7B570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7FFF3-3280-4E06-BA70-C8E9D22B785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9440" y="9493200"/>
            <a:ext cx="29764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AA38-ADFB-4823-8628-CF116D87E10C}" type="slidenum">
              <a:rPr b="0" lang="ar-SA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34920" y="749160"/>
            <a:ext cx="4997520" cy="37483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7240" y="4747680"/>
            <a:ext cx="549288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C97-7050-4FEA-ACD4-27301814F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5FA6-0777-4144-A8E6-E4C6BF9C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AB7B-BBD3-4CFA-AB8A-152B253CE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D1B-E1E0-4183-98D4-7D8CCA162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359D8-7AAB-4CDA-8B85-C55539F93CB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BEAB8-894D-4B58-9C69-A75A0F8283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AA3D0-C369-467D-B2E4-7F0B5DE836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B2CE8-15BB-436A-95A4-E35C4B45A4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373F9-52C4-4484-B17F-BB2708EDD2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83526-1B32-4D99-A9B1-6A4F55366D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C9BD0-644E-4CA6-AE44-32E5CE76C1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02A-88C1-4E1F-805C-922807C4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9E935C-1410-43E5-B236-9C042A592B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17D57-9785-452A-B7F9-1FF91D6AE0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0CA8AD-CF7E-49BB-991C-988970AB65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4C17-B9F0-4E54-8362-3B5578D69F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B647B-063F-4A63-A3D8-05A9309340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65AC-60BF-4AF9-BCF5-F57FDCC5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AF7C-C404-4841-AA2A-F0422753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141F-E422-444C-A2C9-3A4DDD69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66D-4A43-4887-A30E-0BED1C99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A9C-4D58-47A2-B1F2-474225A2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7DE-9A29-4003-9C63-87841E4D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575-0A0B-4871-BA1C-2853CF17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AAE3-5E38-40AF-B52A-856B086746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0A44-DC8B-4241-894D-A653705535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F103-199F-413A-BBD1-ACBA3870CE3C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315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Chapter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Structuring System Require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98989"/>
                </a:solidFill>
                <a:latin typeface="Calibri"/>
              </a:rPr>
              <a:t>Logic Mo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914400" y="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Calibri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Calibri"/>
              </a:rPr>
              <a:t>Fourth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3483-1E63-4A60-AB66-8C9EA440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6477120" y="432756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IG08_03"/>
          <p:cNvPicPr/>
          <p:nvPr/>
        </p:nvPicPr>
        <p:blipFill>
          <a:blip r:embed="rId1"/>
          <a:stretch/>
        </p:blipFill>
        <p:spPr>
          <a:xfrm>
            <a:off x="123048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066680" y="358128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066680" y="5257800"/>
            <a:ext cx="1067040" cy="6858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7"/>
          <p:cNvCxnSpPr>
            <a:stCxn id="127" idx="1"/>
            <a:endCxn id="129" idx="3"/>
          </p:cNvCxnSpPr>
          <p:nvPr/>
        </p:nvCxnSpPr>
        <p:spPr>
          <a:xfrm flipH="1" flipV="1">
            <a:off x="2133360" y="3924000"/>
            <a:ext cx="4343760" cy="90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AutoShape 8"/>
          <p:cNvCxnSpPr>
            <a:stCxn id="127" idx="1"/>
            <a:endCxn id="130" idx="3"/>
          </p:cNvCxnSpPr>
          <p:nvPr/>
        </p:nvCxnSpPr>
        <p:spPr>
          <a:xfrm flipH="1">
            <a:off x="2133360" y="4830480"/>
            <a:ext cx="4343760" cy="77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2F74-666F-4836-9CE8-6E4956CBB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6324480" y="28954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voking other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IG08_03"/>
          <p:cNvPicPr/>
          <p:nvPr/>
        </p:nvPicPr>
        <p:blipFill>
          <a:blip r:embed="rId1"/>
          <a:stretch/>
        </p:blipFill>
        <p:spPr>
          <a:xfrm>
            <a:off x="107784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6"/>
          <p:cNvSpPr/>
          <p:nvPr/>
        </p:nvSpPr>
        <p:spPr>
          <a:xfrm>
            <a:off x="2514600" y="385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604960" y="4800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2666880" y="54864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F7D9-1BCA-4252-AABE-1475F8FBD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odeling Logic with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 Decision Tabl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uctured English is not good to represent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complicated logic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(having several different conditions) as it becomes difficult to 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tr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ation of the logic of a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s all the possible conditions and the resulting actions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abular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st used for complicated decision log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 Parts of a Decision T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di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sts condition relevant to deci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tion stu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s that result from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which actions are to be followed for a given set of condi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dition whose valu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oes not affec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hich action is taken for two or more ru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B592-0B14-4E55-B2F8-4644B52459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4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the conditions and values each condition can assu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conditions values will be just “yes” or “no” and some may have many values (called an extended entr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 all possible actions that can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all possible r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 exhaustive set of rules – every possible combination of conditions must be repres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rules may b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redunda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mak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o sen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at can be altered l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umber of rules =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2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X …..X number of values for </a:t>
            </a:r>
            <a:r>
              <a:rPr b="1" i="1" lang="en-US" sz="1800" spc="-1" strike="noStrike">
                <a:solidFill>
                  <a:srgbClr val="ba2212"/>
                </a:solidFill>
                <a:latin typeface="Calibri"/>
              </a:rPr>
              <a:t>condition 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e the actions for each r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an action doesn’t make sense create an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 row for that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the action is not known place a ? for that r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plify the 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move any rules wit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ossib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00C4-4DF8-4953-B2EC-9799E7A7FB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FIG08_04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029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838080" y="56070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for salaried employees the action stub chosen will always be the same…therefore hours worked is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ifferent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1FB7-D171-46A3-A668-24BEFC0BE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duced Decision 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90720" y="568332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cause of indifferent condition, the complete decision table can be reduced to one with fewer 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FIG08_05"/>
          <p:cNvPicPr/>
          <p:nvPr/>
        </p:nvPicPr>
        <p:blipFill>
          <a:blip r:embed="rId1"/>
          <a:stretch/>
        </p:blipFill>
        <p:spPr>
          <a:xfrm>
            <a:off x="762120" y="1571760"/>
            <a:ext cx="7619760" cy="4066920"/>
          </a:xfrm>
          <a:prstGeom prst="rect">
            <a:avLst/>
          </a:prstGeom>
          <a:ln w="0">
            <a:noFill/>
          </a:ln>
        </p:spPr>
      </p:pic>
      <p:sp>
        <p:nvSpPr>
          <p:cNvPr id="15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9C9-9AFD-4F6C-B22C-3F2426B92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6094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Procedure for Creating Decision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685800" y="1600200"/>
            <a:ext cx="8458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can also be used to specify additional decision-related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actions for a rule are more complicated and can’t be conveyed in one or two lines of text (o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some conditions depend on other conditions (nested condition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use separate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inked decis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table by writing “Perform Table B” as action in the action st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able B could contain an action stub that returns to the origina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umb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ndicat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eque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ather than just Xs where rules and action stub inters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pack a lot of information into a small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 allow you to check for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siste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dundan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42BD-6A6A-4E70-B8C8-7504BC63E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523520"/>
            <a:ext cx="86104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tre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a graphical representation of a decision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ituation points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are connected together by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arc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erminate in </a:t>
            </a:r>
            <a:r>
              <a:rPr b="1" lang="en-US" sz="2000" spc="-1" strike="noStrike">
                <a:solidFill>
                  <a:srgbClr val="ba2212"/>
                </a:solidFill>
                <a:latin typeface="Calibri"/>
              </a:rPr>
              <a:t>ov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compon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cision poin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v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ular choices from a decision point represented b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c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read a decision tree – begin at root node on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d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numbered and each number corresponds to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ices are spelled out in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g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rom each node there ar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t least two 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leading to next step – another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decision 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r a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possibl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isted on the fa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gh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leaf n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presented by tracing a series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ath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o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node to the next node and so on until an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ov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reach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F009-CEF4-4CB0-A16B-B5559F307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FIG08_09"/>
          <p:cNvPicPr/>
          <p:nvPr/>
        </p:nvPicPr>
        <p:blipFill>
          <a:blip r:embed="rId1"/>
          <a:stretch/>
        </p:blipFill>
        <p:spPr>
          <a:xfrm>
            <a:off x="533520" y="1676520"/>
            <a:ext cx="8381880" cy="4074840"/>
          </a:xfrm>
          <a:prstGeom prst="rect">
            <a:avLst/>
          </a:prstGeom>
          <a:ln w="0">
            <a:noFill/>
          </a:ln>
        </p:spPr>
      </p:pic>
      <p:sp>
        <p:nvSpPr>
          <p:cNvPr id="16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45D1-2128-43AC-812B-738939564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ernative decision tree representation of salary d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FIG08_10"/>
          <p:cNvPicPr/>
          <p:nvPr/>
        </p:nvPicPr>
        <p:blipFill>
          <a:blip r:embed="rId1"/>
          <a:stretch/>
        </p:blipFill>
        <p:spPr>
          <a:xfrm>
            <a:off x="457200" y="1752480"/>
            <a:ext cx="8686800" cy="4321440"/>
          </a:xfrm>
          <a:prstGeom prst="rect">
            <a:avLst/>
          </a:prstGeom>
          <a:ln w="0">
            <a:noFill/>
          </a:ln>
        </p:spPr>
      </p:pic>
      <p:sp>
        <p:nvSpPr>
          <p:cNvPr id="16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7BC2-58C2-4299-8CF7-024430D30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do not show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side the processes – what occurs within a a process? How input data is converted into output 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involves representing intern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unctional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epicted on a DF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es must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learly describe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before translating them into programming languag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can also be used to show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 proces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a DFD occu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 modeling will b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ner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without taking syntax of a particular programming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332E-14C6-4FEA-8615-3643364449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Among Structured English, Decision Tables,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1523880"/>
          <a:ext cx="7772400" cy="461664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ed Englis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ition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orming Conditions and Actions into 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ck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istenc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n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rd 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6EAD8-5CEE-4DFA-A428-DD602B6118DB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iding Between Decision Tables and Decision Tr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838080" y="1600200"/>
          <a:ext cx="7772400" cy="452592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Tre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complex log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raying simple ru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ing deci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compa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sier to manipu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عنصر نائب لرقم الشريحة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BDE1-4070-4808-AB00-ECB8F243FF67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ogic Modeling Deliverables and Outco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rocess on the lowest level DFD will be represented by one or more of the follow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-transition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y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B6FC-2540-488E-94E7-80FC5193F6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uctured Englis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s a modified form of English used to specify the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ogic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information proc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s a subset of English vocabulary to express process procedur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verb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read, write, print, move, merge, add, s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Noun phrase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name, add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ba221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ba2212"/>
                </a:solidFill>
                <a:latin typeface="Calibri"/>
              </a:rPr>
              <a:t>No adjectives or adver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specific standards – each analyst will have his own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le and variable names are CAPITALIZ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comparisons are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pelled ou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not used symbo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uctured English is used to represent processes in a shorthand manner that is relativel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as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for users and programmers to read and underst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3287-A484-4456-A4FB-07E30B021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609480" y="4572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Modeling Logic with Structured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685800" y="1676520"/>
            <a:ext cx="84582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is possible to represent all three processes used in structured programming: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, conditional, re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quenc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pecial structure but one statement following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F THEN EL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tatement;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S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eti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UNTI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 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O-WHI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lo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mat of Structured English uses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d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in programming langu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does no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nitialize variab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open and close fil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related records in separate files – all are done in later desig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6AE9-C9D3-4D1A-ACB6-71082F566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IG08_02"/>
          <p:cNvPicPr/>
          <p:nvPr/>
        </p:nvPicPr>
        <p:blipFill>
          <a:blip r:embed="rId1"/>
          <a:stretch/>
        </p:blipFill>
        <p:spPr>
          <a:xfrm>
            <a:off x="228600" y="457200"/>
            <a:ext cx="8915400" cy="5505480"/>
          </a:xfrm>
          <a:prstGeom prst="rect">
            <a:avLst/>
          </a:prstGeom>
          <a:ln w="0">
            <a:noFill/>
          </a:ln>
        </p:spPr>
      </p:pic>
      <p:sp>
        <p:nvSpPr>
          <p:cNvPr id="103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9BB6-0B81-4757-A35E-51304DAE55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6248520" y="274320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input and out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FIG08_03"/>
          <p:cNvPicPr/>
          <p:nvPr/>
        </p:nvPicPr>
        <p:blipFill>
          <a:blip r:embed="rId1"/>
          <a:stretch/>
        </p:blipFill>
        <p:spPr>
          <a:xfrm>
            <a:off x="1066680" y="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6"/>
          <p:cNvSpPr/>
          <p:nvPr/>
        </p:nvSpPr>
        <p:spPr>
          <a:xfrm>
            <a:off x="2743200" y="9619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2666880" y="21337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529000" y="33242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2438280" y="5000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1CD9-74DE-48BB-9DD9-5278F18DB9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6400800" y="259092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arithmetic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IG08_03"/>
          <p:cNvPicPr/>
          <p:nvPr/>
        </p:nvPicPr>
        <p:blipFill>
          <a:blip r:embed="rId1"/>
          <a:stretch/>
        </p:blipFill>
        <p:spPr>
          <a:xfrm>
            <a:off x="1004760" y="228600"/>
            <a:ext cx="5170680" cy="6629400"/>
          </a:xfrm>
          <a:prstGeom prst="rect">
            <a:avLst/>
          </a:prstGeom>
          <a:ln w="0">
            <a:noFill/>
          </a:ln>
        </p:spPr>
      </p:pic>
      <p:sp>
        <p:nvSpPr>
          <p:cNvPr id="113" name="AutoShape 5"/>
          <p:cNvSpPr/>
          <p:nvPr/>
        </p:nvSpPr>
        <p:spPr>
          <a:xfrm>
            <a:off x="5195880" y="13716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5348160" y="24382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BC90-BFF1-4EBC-8088-382C2DE53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6019920" y="265104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d English is used here to describe repet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FIG08_03"/>
          <p:cNvPicPr/>
          <p:nvPr/>
        </p:nvPicPr>
        <p:blipFill>
          <a:blip r:embed="rId1"/>
          <a:stretch/>
        </p:blipFill>
        <p:spPr>
          <a:xfrm>
            <a:off x="685800" y="228600"/>
            <a:ext cx="5170320" cy="6629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762120" y="990720"/>
            <a:ext cx="106668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38080" y="2133720"/>
            <a:ext cx="1067040" cy="9144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38080" y="3276720"/>
            <a:ext cx="1067040" cy="11430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838080" y="4800600"/>
            <a:ext cx="1067040" cy="1371600"/>
          </a:xfrm>
          <a:prstGeom prst="rect">
            <a:avLst/>
          </a:prstGeom>
          <a:solidFill>
            <a:srgbClr val="4f81bd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AutoShape 10"/>
          <p:cNvCxnSpPr>
            <a:stCxn id="116" idx="1"/>
            <a:endCxn id="118" idx="3"/>
          </p:cNvCxnSpPr>
          <p:nvPr/>
        </p:nvCxnSpPr>
        <p:spPr>
          <a:xfrm flipH="1" flipV="1">
            <a:off x="1828440" y="1447560"/>
            <a:ext cx="4191840" cy="170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AutoShape 11"/>
          <p:cNvCxnSpPr>
            <a:stCxn id="116" idx="1"/>
            <a:endCxn id="119" idx="3"/>
          </p:cNvCxnSpPr>
          <p:nvPr/>
        </p:nvCxnSpPr>
        <p:spPr>
          <a:xfrm flipH="1" flipV="1">
            <a:off x="1904760" y="2590200"/>
            <a:ext cx="4115520" cy="56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AutoShape 12"/>
          <p:cNvCxnSpPr>
            <a:stCxn id="116" idx="1"/>
            <a:endCxn id="120" idx="3"/>
          </p:cNvCxnSpPr>
          <p:nvPr/>
        </p:nvCxnSpPr>
        <p:spPr>
          <a:xfrm flipH="1">
            <a:off x="1904760" y="3153960"/>
            <a:ext cx="4115520" cy="694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AutoShape 13"/>
          <p:cNvCxnSpPr>
            <a:stCxn id="116" idx="1"/>
            <a:endCxn id="121" idx="3"/>
          </p:cNvCxnSpPr>
          <p:nvPr/>
        </p:nvCxnSpPr>
        <p:spPr>
          <a:xfrm flipH="1">
            <a:off x="1904760" y="3154320"/>
            <a:ext cx="4115520" cy="2332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عنصر نائب لرقم الشريحة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D5AE-8090-4F75-9A7D-121790C7E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0:04:24Z</dcterms:created>
  <dc:creator>KSU</dc:creator>
  <dc:description/>
  <dc:language>en-US</dc:language>
  <cp:lastModifiedBy>اذكر الله</cp:lastModifiedBy>
  <cp:lastPrinted>2012-11-23T15:56:32Z</cp:lastPrinted>
  <dcterms:modified xsi:type="dcterms:W3CDTF">2012-11-23T15:59:28Z</dcterms:modified>
  <cp:revision>2</cp:revision>
  <dc:subject/>
  <dc:title>Slide 1</dc:title>
</cp:coreProperties>
</file>