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F8EA-15F0-4B52-83F8-631DBB29F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D164-4E00-4AA8-BDE2-5C384367B9D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2CA2-BF67-4235-8F13-1AF0C91FEB6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25CF-64FD-4C11-B5FC-3F52AFC088B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E79B-17DD-491F-847D-8E8534AE5E3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62B8-73E9-43F2-AD87-651F8C26A97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3F50-F0B1-494A-BADE-9F44101A89E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6A99-3C75-4D22-810C-FE8D8158542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1031-FBA6-4A83-B3AC-A40B4981F43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E9E2-7C08-4FFC-B433-23469CCA117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B28D-F469-4A48-BDA1-E1B424CD4D5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1F15-1F4B-49FA-B326-4FE2F7677B8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A83F-CFE5-4949-8591-746DAFA6F4B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304C-59B3-4506-A835-3455265E7FF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3B8-D38E-465B-8C3F-E01E911E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7C4C-93EE-4B11-BFEB-AEEA581B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DF4-93C7-4732-A52C-E83D1665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51B6-F423-489D-AA6F-616E25AE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08120-1B0B-4250-8E4F-116EB29209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449EB-3311-45C5-A050-2F6F54B3E4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700B6-B146-47F5-83D1-E9457D0AEA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5371D-AF63-4D1B-90ED-2131DCCC52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E2D3E-BC14-4DA5-8311-E677CE0742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14ECC-117B-411B-86D8-DAB69F2E34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854E9-13D5-4554-BA4F-13CAD12DD4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4552-CB81-42F8-93EC-544998C8E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69882-A1F0-4340-892D-EF45237401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252F4-E648-4576-8C0C-33CD90BEA1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8049F-50C9-4988-9F2A-1BA00CF7E6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50B1B6-42D8-4E77-8911-28718B27A8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8DB42-D338-4E92-B01A-1681347B1C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3F25-D895-4B14-8467-414DF444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5D8-3DA5-4CEE-B48F-92A061A4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591C-3817-4FCC-8855-A21CBC75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06C8-E779-41AC-88E1-79A81011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BEE-FF58-45E8-A9F3-3867E6BD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08E-6A42-47B4-BAA7-2539C997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62EE-20A8-4A4E-AB93-E9F0AB45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BDD5-81D4-406E-8FFF-D99804CFF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D492-78CB-49DF-A0C7-8E6D406E1C8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2763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tructuring System Requir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ogic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914400" y="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  <a:ea typeface="Arial"/>
              </a:rPr>
              <a:t>Fourth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6477120" y="43275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FIG08_03"/>
          <p:cNvPicPr/>
          <p:nvPr/>
        </p:nvPicPr>
        <p:blipFill>
          <a:blip r:embed="rId1"/>
          <a:stretch/>
        </p:blipFill>
        <p:spPr>
          <a:xfrm>
            <a:off x="123048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066680" y="358128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066680" y="525780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7"/>
          <p:cNvCxnSpPr>
            <a:stCxn id="118" idx="1"/>
            <a:endCxn id="120" idx="3"/>
          </p:cNvCxnSpPr>
          <p:nvPr/>
        </p:nvCxnSpPr>
        <p:spPr>
          <a:xfrm flipH="1" flipV="1">
            <a:off x="2133360" y="3924000"/>
            <a:ext cx="434376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8"/>
          <p:cNvCxnSpPr>
            <a:stCxn id="118" idx="1"/>
            <a:endCxn id="121" idx="3"/>
          </p:cNvCxnSpPr>
          <p:nvPr/>
        </p:nvCxnSpPr>
        <p:spPr>
          <a:xfrm flipH="1">
            <a:off x="2133360" y="4830480"/>
            <a:ext cx="434376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6324480" y="28954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invoking other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FIG08_03"/>
          <p:cNvPicPr/>
          <p:nvPr/>
        </p:nvPicPr>
        <p:blipFill>
          <a:blip r:embed="rId1"/>
          <a:stretch/>
        </p:blipFill>
        <p:spPr>
          <a:xfrm>
            <a:off x="107784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6"/>
          <p:cNvSpPr/>
          <p:nvPr/>
        </p:nvSpPr>
        <p:spPr>
          <a:xfrm>
            <a:off x="2514600" y="385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2604960" y="4800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2666880" y="5486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deling Logic with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Decision Tab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4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d English is not good to represent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having several different conditions) as it becomes difficult to 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tr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ation of the logic of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s all the possible conditions and the resulting actions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bula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 used for complicated decision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Parts of a Decision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di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s condition relevant to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s that result from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which actions are to be followed for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ition whose valu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es not aff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ich action is taken for two or more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the conditions and values each condition can ass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nditions values will be just “yes” or “no” and some may have many values (called an extended en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all possible actions that can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all possible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exhaustive set of rules – every possible combination of conditions must be repres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rules may b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dunda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mak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 se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can be altered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 of rules =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…..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the actions for each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n action doesn’t make sense create an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row for that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action is not known place a ? for that r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y the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any rules wi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FIG08_04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029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838080" y="56070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ote: for salaried employees the action stub chosen will always be the same…therefore hours worked is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duced 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990720" y="568332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cause of indifferent condition, the complete decision table can be reduced to one with fewe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FIG08_05"/>
          <p:cNvPicPr/>
          <p:nvPr/>
        </p:nvPicPr>
        <p:blipFill>
          <a:blip r:embed="rId1"/>
          <a:stretch/>
        </p:blipFill>
        <p:spPr>
          <a:xfrm>
            <a:off x="762120" y="1571760"/>
            <a:ext cx="761976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094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Arial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85800" y="160020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cision tables can also be used to specify additional decision-related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f actions for a rule are more complicated and can’t be conveyed in one or two lines of text (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f some conditions depend on other conditions (nested condi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separat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nked decis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table by writing “Perform Table B” as action in the action s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able B could contain an action stub that returns to the origin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umb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to indica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rather than just Xs where rules and action stub inter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cision tables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p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– pack a lot of information into a smal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cision tables allow you to check for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nsis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dunda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tr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graphical representation of a decision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ituation point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re connected together by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arc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erminate in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ov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poi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v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ular choices from a decision point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ad a decision tree – begin at root node on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numbered and each number corresponds to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ices are spelled out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each node there ar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t least two 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eading to next step – anot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ision po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possibl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isted on the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racing a series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de to the next node and so on until a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ach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6" descr="FIG08_09"/>
          <p:cNvPicPr/>
          <p:nvPr/>
        </p:nvPicPr>
        <p:blipFill>
          <a:blip r:embed="rId1"/>
          <a:stretch/>
        </p:blipFill>
        <p:spPr>
          <a:xfrm>
            <a:off x="533520" y="1676520"/>
            <a:ext cx="8381880" cy="40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ternative 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IG08_10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43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do not show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side the processes – what occurs within a a process? How input data is converted into output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involves representing intern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unctional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picted on a DF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es must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early describ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fore translating them into programming langu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can also be used to show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 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a DFD occ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will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ne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thout taking syntax of a particular programming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Among Structured English, Decision Tables,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1523880"/>
          <a:ext cx="7772400" cy="4616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d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ing Conditions and Actions into 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enc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Between Decision Tables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38080" y="1600200"/>
          <a:ext cx="7772400" cy="45259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complex 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simpl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deci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mp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er to manipu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 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rocess on the lowest level DFD will be represented by one or more of the follow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-transition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y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44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a modified form of English used to specify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information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s a subset of English vocabulary to express process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erb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read, write, print, move, merge, add, s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un phr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name, add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ba221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a2212"/>
                </a:solidFill>
                <a:latin typeface="Calibri"/>
              </a:rPr>
              <a:t>No adjectives or adver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specific standards – each analyst will have his own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 and variable names are CAPITAL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comparisons ar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pelled ou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not used symb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ed English is used to represent processes in a shorthand manner that is relativel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or users and programmers to read and under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Arial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8580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t is possible to represent all three processes used in structured programming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quence, conditional,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equ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o special structure but one statement following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F THEN 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statemen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pet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O-UNT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loops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O-WHI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ormat of Structured English us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d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used in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does no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itialize varia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open and close fi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related records in separate files – all are done in later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FIG08_02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55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6248520" y="274320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input and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FIG08_03"/>
          <p:cNvPicPr/>
          <p:nvPr/>
        </p:nvPicPr>
        <p:blipFill>
          <a:blip r:embed="rId1"/>
          <a:stretch/>
        </p:blipFill>
        <p:spPr>
          <a:xfrm>
            <a:off x="1066680" y="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2743200" y="9619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2666880" y="213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529000" y="33242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2438280" y="5000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6400800" y="2590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arithmetic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IG08_03"/>
          <p:cNvPicPr/>
          <p:nvPr/>
        </p:nvPicPr>
        <p:blipFill>
          <a:blip r:embed="rId1"/>
          <a:stretch/>
        </p:blipFill>
        <p:spPr>
          <a:xfrm>
            <a:off x="100476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>
            <a:off x="5195880" y="1371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5348160" y="2438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6019920" y="265104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tructured English is used here to describe re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FIG08_03"/>
          <p:cNvPicPr/>
          <p:nvPr/>
        </p:nvPicPr>
        <p:blipFill>
          <a:blip r:embed="rId1"/>
          <a:stretch/>
        </p:blipFill>
        <p:spPr>
          <a:xfrm>
            <a:off x="68580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762120" y="990720"/>
            <a:ext cx="106668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38080" y="2133720"/>
            <a:ext cx="106704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838080" y="3276720"/>
            <a:ext cx="1067040" cy="11430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38080" y="4800600"/>
            <a:ext cx="1067040" cy="13716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10"/>
          <p:cNvCxnSpPr>
            <a:stCxn id="108" idx="1"/>
            <a:endCxn id="110" idx="3"/>
          </p:cNvCxnSpPr>
          <p:nvPr/>
        </p:nvCxnSpPr>
        <p:spPr>
          <a:xfrm flipH="1" flipV="1">
            <a:off x="1828440" y="1447560"/>
            <a:ext cx="4191840" cy="17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AutoShape 11"/>
          <p:cNvCxnSpPr>
            <a:stCxn id="108" idx="1"/>
            <a:endCxn id="111" idx="3"/>
          </p:cNvCxnSpPr>
          <p:nvPr/>
        </p:nvCxnSpPr>
        <p:spPr>
          <a:xfrm flipH="1" flipV="1">
            <a:off x="1904760" y="2590200"/>
            <a:ext cx="411552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AutoShape 12"/>
          <p:cNvCxnSpPr>
            <a:stCxn id="108" idx="1"/>
            <a:endCxn id="112" idx="3"/>
          </p:cNvCxnSpPr>
          <p:nvPr/>
        </p:nvCxnSpPr>
        <p:spPr>
          <a:xfrm flipH="1">
            <a:off x="1904760" y="3153960"/>
            <a:ext cx="4115520" cy="69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AutoShape 13"/>
          <p:cNvCxnSpPr>
            <a:stCxn id="108" idx="1"/>
            <a:endCxn id="113" idx="3"/>
          </p:cNvCxnSpPr>
          <p:nvPr/>
        </p:nvCxnSpPr>
        <p:spPr>
          <a:xfrm flipH="1">
            <a:off x="1904760" y="3154320"/>
            <a:ext cx="4115520" cy="23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04:24Z</dcterms:created>
  <dc:creator>KSU</dc:creator>
  <dc:description/>
  <dc:language>en-US</dc:language>
  <cp:lastModifiedBy>K AlSultan</cp:lastModifiedBy>
  <dcterms:modified xsi:type="dcterms:W3CDTF">2015-02-06T15:44:44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