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51B-8E45-44ED-B11E-A7BE7A4DF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28F1-9FA5-45A4-842F-7DC9FF802A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913C-6FE2-4B43-A4D2-1370B536662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A8B2-8327-4699-8CAF-FEA9436F4C9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0441-F5D8-4270-A62F-F9D91098F93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FE60-A9EE-4E02-9E0E-C0B89530945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1C0-BC86-439C-892B-5858B2E904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8E93-7ED9-474A-AF6B-1C4926D5137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0D07-622E-4566-9308-1C38EEF7399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802-025D-4709-8779-BB2899C274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8C0-0AB0-4133-9008-26EECD0DA50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0E93-03E0-4CE2-90F4-40D42B43CB7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29B3-9944-4A30-BEF4-859014A92D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D0FE-798D-48E8-98AB-817972E3B4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42F-D8A4-48C4-B7CF-07755B3D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627-980C-40C1-BC7D-E5625FA2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ABC-5860-476E-89EF-4C8B1718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8C1-2438-4928-90CF-B5BD617D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8FECB-F1C4-40F8-8C87-2A9DBEFBD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18C3E-582F-4542-9073-3EF4DF1264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8D4B9-52BA-42F4-89C7-725289F13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1A4DC-73AA-40B0-8FE6-D7B4FEAB8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F65C0-9935-4918-BB5F-3139273B07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0B347-9BAB-4FEA-BF75-2E9906EF7B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1012B-8FA6-4492-8CB2-A20A81F1A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A54-F6E9-4847-9C30-B7BB7E2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665D3-9DDB-43F2-92E1-9156DF564B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71DB3-530A-4D23-929F-1AF4094498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A6984-5DC1-4B48-88BD-7287CBA647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8747F-7D18-4C8C-9560-63D8DD335A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F0439-D0C9-4954-A465-C54146C8C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7FE-EF4A-47A7-AA0D-0E4956DF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B18-31AF-48B3-AFB9-C76AD30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906-E1E7-43AC-A279-18F28F60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527-0791-45D0-AD1A-18548BD5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D2A-8A33-48A5-B175-701BD7FA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A3B-DE28-4307-B992-F7ACB5A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5EC-7A53-4C8D-AE5C-414F3CF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473E-F83E-40CB-8571-B1ABEE451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38C-B474-45C9-A527-116D019BBE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gic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14400" y="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Fourth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6477120" y="43275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IG08_03"/>
          <p:cNvPicPr/>
          <p:nvPr/>
        </p:nvPicPr>
        <p:blipFill>
          <a:blip r:embed="rId1"/>
          <a:stretch/>
        </p:blipFill>
        <p:spPr>
          <a:xfrm>
            <a:off x="123048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066680" y="358128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066680" y="525780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7"/>
          <p:cNvCxnSpPr>
            <a:stCxn id="118" idx="1"/>
            <a:endCxn id="120" idx="3"/>
          </p:cNvCxnSpPr>
          <p:nvPr/>
        </p:nvCxnSpPr>
        <p:spPr>
          <a:xfrm flipH="1" flipV="1">
            <a:off x="2133360" y="3924000"/>
            <a:ext cx="434376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8"/>
          <p:cNvCxnSpPr>
            <a:stCxn id="118" idx="1"/>
            <a:endCxn id="121" idx="3"/>
          </p:cNvCxnSpPr>
          <p:nvPr/>
        </p:nvCxnSpPr>
        <p:spPr>
          <a:xfrm flipH="1">
            <a:off x="2133360" y="4830480"/>
            <a:ext cx="434376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6324480" y="28954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invoking other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IG08_03"/>
          <p:cNvPicPr/>
          <p:nvPr/>
        </p:nvPicPr>
        <p:blipFill>
          <a:blip r:embed="rId1"/>
          <a:stretch/>
        </p:blipFill>
        <p:spPr>
          <a:xfrm>
            <a:off x="107784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2514600" y="385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604960" y="4800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266688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deling Logic wit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Decision Tab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d English is not good to represen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having several different conditions) as it becomes difficult to 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ation of the logic of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s all the possible conditions and the resulting actions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ula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 used for complicated decisio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Parts of a Decision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di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s condition relevant to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s that result from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which actions are to be followed for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 whose valu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es not 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ich action is taken for two or more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e conditions and values each condition can ass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nditions values will be just “yes” or “no” and some may have many values (called an extended e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ll possible actions that can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all possible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exhaustive set of rules – every possible combination of conditions must be repres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rules may b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dund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mak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se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can be altered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of rules =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…..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actions for each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n action doesn’t make sense create an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row for that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action is not known place a ? for that r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y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any rules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FIG08_04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029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838080" y="56070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te: for salaried employees the action stub chosen will always be the same…therefore hours worked is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ed 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90720" y="568332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cause of indifferent condition, the complete decision table can be reduced to one with fewe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FIG08_05"/>
          <p:cNvPicPr/>
          <p:nvPr/>
        </p:nvPicPr>
        <p:blipFill>
          <a:blip r:embed="rId1"/>
          <a:stretch/>
        </p:blipFill>
        <p:spPr>
          <a:xfrm>
            <a:off x="762120" y="1571760"/>
            <a:ext cx="761976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094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Arial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58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cision tables can also be used to specify additional decision-related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f actions for a rule are more complicated and can’t be conveyed in one or two lines of text (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f some conditions depend on other conditions (nested condi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separat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nked deci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table by writing “Perform Table B” as action in the action 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ble B could contain an action stub that returns to the origin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umb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to indica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ather than just Xs where rules and action stub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cision tabl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– pack a lot of information into a smal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cision tables allow you to check for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tr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graphical representation of a decision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ituation point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re connected together by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ar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erminate in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ov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v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r choices from a decision point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ad a decision tree – begin at root node on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umbered and each number corresponds to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ices are spelled out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each node there ar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t least two 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ading to next step – anot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ossi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isted on the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racing a series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de to the next node and so on until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ach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FIG08_09"/>
          <p:cNvPicPr/>
          <p:nvPr/>
        </p:nvPicPr>
        <p:blipFill>
          <a:blip r:embed="rId1"/>
          <a:stretch/>
        </p:blipFill>
        <p:spPr>
          <a:xfrm>
            <a:off x="533520" y="1676520"/>
            <a:ext cx="8381880" cy="40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ernative 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IG08_10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do not show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side the processes – what occurs within a a process? How input data is converted into outpu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involves representing intern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picted on a DF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es must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early describ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fore translating them into programming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can also be used to show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 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a DFD occ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will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ne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out taking syntax of a particular programming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Among Structured English, Decision Tables,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1523880"/>
          <a:ext cx="7772400" cy="4616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d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Conditions and Actions into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enc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Between Decision Tables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complex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simpl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deci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manipu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 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rocess on the lowest level DFD will be represented by one or more of the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-transition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a modified form of English used to specify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inform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s a subset of English vocabulary to express process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erb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read, write, print, move, merge, add, s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un phr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name, add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ba221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a2212"/>
                </a:solidFill>
                <a:latin typeface="Calibri"/>
              </a:rPr>
              <a:t>No adjectives or ad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standards – each analyst will have his own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 and variable names are CAPIT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comparisons ar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pelled ou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not used symb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ed English is used to represent processes in a shorthand manner that is relative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r users and programmers to read and under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Arial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580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t is possible to represent all three processes used in structured programming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quence, conditional,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qu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o special structure but one statement following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F THEN 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statemen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O-UNT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loops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O-WHI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ormat of Structured English us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d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used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does no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itialize vari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pen and close fi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elated records in separate files – all are done in later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FIG08_02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6248520" y="27432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input and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IG08_03"/>
          <p:cNvPicPr/>
          <p:nvPr/>
        </p:nvPicPr>
        <p:blipFill>
          <a:blip r:embed="rId1"/>
          <a:stretch/>
        </p:blipFill>
        <p:spPr>
          <a:xfrm>
            <a:off x="1066680" y="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2743200" y="9619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666880" y="213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529000" y="3324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438280" y="5000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6400800" y="2590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arithmetic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08_03"/>
          <p:cNvPicPr/>
          <p:nvPr/>
        </p:nvPicPr>
        <p:blipFill>
          <a:blip r:embed="rId1"/>
          <a:stretch/>
        </p:blipFill>
        <p:spPr>
          <a:xfrm>
            <a:off x="100476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5195880" y="1371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348160" y="2438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019920" y="26510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re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IG08_03"/>
          <p:cNvPicPr/>
          <p:nvPr/>
        </p:nvPicPr>
        <p:blipFill>
          <a:blip r:embed="rId1"/>
          <a:stretch/>
        </p:blipFill>
        <p:spPr>
          <a:xfrm>
            <a:off x="68580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62120" y="990720"/>
            <a:ext cx="106668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38080" y="2133720"/>
            <a:ext cx="106704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838080" y="3276720"/>
            <a:ext cx="1067040" cy="11430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38080" y="4800600"/>
            <a:ext cx="1067040" cy="13716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0"/>
          <p:cNvCxnSpPr>
            <a:stCxn id="108" idx="1"/>
            <a:endCxn id="110" idx="3"/>
          </p:cNvCxnSpPr>
          <p:nvPr/>
        </p:nvCxnSpPr>
        <p:spPr>
          <a:xfrm flipH="1" flipV="1">
            <a:off x="1828440" y="1447560"/>
            <a:ext cx="4191840" cy="17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11"/>
          <p:cNvCxnSpPr>
            <a:stCxn id="108" idx="1"/>
            <a:endCxn id="111" idx="3"/>
          </p:cNvCxnSpPr>
          <p:nvPr/>
        </p:nvCxnSpPr>
        <p:spPr>
          <a:xfrm flipH="1" flipV="1">
            <a:off x="1904760" y="2590200"/>
            <a:ext cx="411552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12"/>
          <p:cNvCxnSpPr>
            <a:stCxn id="108" idx="1"/>
            <a:endCxn id="112" idx="3"/>
          </p:cNvCxnSpPr>
          <p:nvPr/>
        </p:nvCxnSpPr>
        <p:spPr>
          <a:xfrm flipH="1">
            <a:off x="1904760" y="3153960"/>
            <a:ext cx="4115520" cy="69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3"/>
          <p:cNvCxnSpPr>
            <a:stCxn id="108" idx="1"/>
            <a:endCxn id="113" idx="3"/>
          </p:cNvCxnSpPr>
          <p:nvPr/>
        </p:nvCxnSpPr>
        <p:spPr>
          <a:xfrm flipH="1">
            <a:off x="1904760" y="3154320"/>
            <a:ext cx="4115520" cy="23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04:24Z</dcterms:created>
  <dc:creator>KSU</dc:creator>
  <dc:description/>
  <dc:language>en-US</dc:language>
  <cp:lastModifiedBy>K AlSultan</cp:lastModifiedBy>
  <dcterms:modified xsi:type="dcterms:W3CDTF">2015-02-06T15:44:4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