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664-A65B-4635-88EF-C2C025BB5D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BC0-1E7E-4BE9-8F0A-EB337B12CE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7E39-CFA4-4B2F-A507-A1F69D2D4F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873-BA40-431C-A324-CB188919C8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6FA-BA83-454B-B865-9E0BDE7C29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223-691E-4B25-A422-896768B254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473-2FE4-42D7-95A4-D01EC0063E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9853-AC35-4BFB-9919-F548136BB3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31FE-489B-40D0-A1D7-46057AD8B9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085-3C30-4648-A29B-7D5B8ED6B20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491-9840-48AB-8565-1F0175F39D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297-439D-4A01-AC46-7FC48655F4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A8D-3794-4D51-AB63-A1211DA53E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BC3-03E8-4727-A950-551DA9FA42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BBD7-AA58-4EF3-82CC-DD32BDBE2A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956-B415-4E22-9131-A284F655D4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1CB5-FAB2-4681-8F8F-C45FE67B098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599-3E9E-47F0-82FB-191653B02A4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EE55-BBCB-4338-8D5C-38379212A6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B0B-5CB7-4ACE-B996-12B089C4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FFC-0E49-446F-813D-0DC42CB1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C65-6850-4EEF-B41F-037D4030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8C8-499A-4ECA-9DEB-ABC3DD86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EF64-B4D4-48BB-9F40-5D59B711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3FA9-F334-4A29-9BFF-2CA4B60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644-DBE0-41EB-99B3-E36BE1AD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C3E-E826-4DBD-BFA1-8A20C54A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966B-ABEA-4537-95FB-0C23C2C7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FF46-703C-40C6-935D-FE6E1EC3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C43-2F13-4F99-B8D0-3C5821F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D3C-2106-48DC-9986-2FBF3659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1B74-50C7-4F8B-96A8-8AD4225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5641-90D2-44DE-B6E7-420215C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C08-E6A4-442A-BE7E-652F7FB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267B-8379-491D-800D-2D38136C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03D-9402-4A52-BF8B-0E23A2E0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439-198D-4A68-AA62-C6ECE482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F98-A532-4347-B8B7-55236CCD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144-989B-48E0-B76D-C795931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21B-6F34-4F38-9419-A803D4E2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587-1712-428D-84AE-590C543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8AD-3D52-49ED-8FC5-117BA4E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918-71B9-4265-AD3E-9DD1992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75E-E864-4C03-8C05-ECB00073F87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6A1-EB99-48FC-A3A2-975ACC60E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onceptual Data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A30F9D26-960A-4F14-AAE2-1E24182DDE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Gathering Information for Conceptual Data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er what period of time are you interested in this dat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you need historical trends, current snapshot values, or estimates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ity and time dimension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 all instances of each object the s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ome objects summaries or combinations of more detailed object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types, subtypes, and aggr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events occur that imply associations between various objec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s and their cardinality and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each activity or event always handled the same way or are there special circumstance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the associations between objects change over time (employee change departments)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 rules, minimum and maximum cardi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 to Entity-Relationship (E-R)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asic E-R modeling notation uses three main constr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ent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2d0b"/>
                </a:solidFill>
                <a:latin typeface="Calibri"/>
              </a:rPr>
              <a:t>Several different E-R notations exist but we use </a:t>
            </a:r>
            <a:r>
              <a:rPr b="1" lang="en-US" sz="2000" spc="-1" strike="noStrike">
                <a:solidFill>
                  <a:srgbClr val="f92d0b"/>
                </a:solidFill>
                <a:latin typeface="Calibri"/>
              </a:rPr>
              <a:t>crow’s foot</a:t>
            </a:r>
            <a:r>
              <a:rPr b="0" lang="en-US" sz="2000" spc="-1" strike="noStrike">
                <a:solidFill>
                  <a:srgbClr val="f92d0b"/>
                </a:solidFill>
                <a:latin typeface="Calibri"/>
              </a:rPr>
              <a:t> no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tity-Relationship Data Mod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E-R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detailed,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al represen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the data for an organization or for a business a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R model is expressed in term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tit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business environment,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lationshi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r associations among those entities,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ttribu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r properties of both the entities and their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tity-Relationship Diag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E-R diagr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graphical representation of an E-R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13911B8E-D70D-4BFB-B138-645EEAB279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5235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erson, place, object, event or concept in the user environment about which the organization maintain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its ow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dent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distinguishes it from other ent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– Person: EMPLOYEE, STUDENT, PAT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: SALE, RENEWAL, REG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: MACHINE, AUTOMOBILE,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ed by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E-R dia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inction between entity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yp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entity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ity Type or Entity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on of entit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share common properties or character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entity type is give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represents a set he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simple noun to name an entity type – use capital le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is placed inside rectangle representing ent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ity In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ingle occurr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an entity 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tity type can have many instances of that entity type represented by data stored in the 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D2E11C16-83AC-4CA1-A45D-0FA81928E0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 property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a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nt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is of interest to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entities and their associated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: Student_ID, Student_Name, Student_Address, Maj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OBILE: Vehicle_ID, Color, Weight, Power, Whe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ibute nam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u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initial capital letter, followed by lowercase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ibutes are represented in E-R diagrams by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lip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name inside and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connec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to the associated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didate keys and Identif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entity type must have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of attribu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distinguishes one instance from other instances of the sam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ndidate k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ibute (or combination of attributes) that uniquely identifies ea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didate key for STUDENT entity type may b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udent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times more than one attribute is needed to identify a unique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entities may ha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e than one candi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 may have one candidate key Employee_ID or a combination of Employee_Name and Add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A4E04242-1E30-474E-A116-D35753DF4E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didate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has been selected as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dentifying characteris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n entit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on rules for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candidate key that will no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its val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ike Employee_Add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candidate key that will never b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using intelligent keys whose structure indicates classifications, locations, and so on like first 2 digits of a key for a STUDENT entity might indicate college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substituting single value surrogate keys for large composite 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identifier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nderlin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an E-R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C29D5B11-A6CE-4589-BD04-DE2B37BA29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ltivalued At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ttribute that may take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e than 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 each entity in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UDENT can attend more than on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val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ed on E-R Diagram in two way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uble-lined ellip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ak ent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separate repeating data into another entity and then using relationship link it to its associated regular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eating grou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attributes that repeat together like EMPLOYE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pend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name, age, relation (spouse, chi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oci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instances of one or more entity types that is of interest to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ion indicates that an event has occurred or that there is a natural link between entity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s are always labeled 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C074897C-C840-49C9-9748-D143E092E0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gree of Relatio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 of entity types that participate in a relation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ship between two instanc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entity typ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also called recursive relationshi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ship between the instanc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o entity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ultaneous relationship among the instanc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ree entity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the same as three binary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recommended that all ternary and higher relationships be represented a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ssociative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111A2E5D-0B77-481E-B3DF-A70F8466037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10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relationships of different deg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D1D7E6FD-E01C-4D3F-AB1E-311742CABE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di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umber of instan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entity B that can be associated with each instance of entity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mum Cardi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inimum number of instances of entity B that may be associated with each instance of entity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minimum cardinality of an entity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at entity i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optional participa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minimum cardinality of an entity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at entity i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andatory participa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ximum Cardi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ximum number of instances of entity B that may be associated with each instance of entity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ntity type that associates the instances of one or more entity types and contains attributes that are peculiar to the relationship between those entity instances (also call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ru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0EC241D6-F8AF-4504-9ECB-DE433A9341A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876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Associativ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09480" y="54936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nceptual Data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1523880"/>
            <a:ext cx="853308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a2212"/>
                </a:solidFill>
                <a:latin typeface="Arial"/>
              </a:rPr>
              <a:t>does not s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the data but </a:t>
            </a:r>
            <a:r>
              <a:rPr b="0" lang="en-US" sz="1800" spc="-1" strike="noStrike">
                <a:solidFill>
                  <a:srgbClr val="ba2212"/>
                </a:solidFill>
                <a:latin typeface="Arial"/>
              </a:rPr>
              <a:t>s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are used  or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is most important part of information system requirements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ta captured during the data modeling are crucial in design of databases, program, computer screens, and printed reports – data element is numeric, a name is limited to a specified set, an item on a customer order can’t be moved to another custom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ather than processes are most complex aspects (validating data, coordinating movement of data) of many modern information systems like MIS, DSS, 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about data(length, format, relationships with other data) are reasonably permanent whereas paths of data flow are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format used for data modeling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ty-relationship (E-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ing and Defining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ationship name is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 phr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oid vague na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lines for defining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ion explains what action is being taken and why it is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examples to clarify the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onal participation should be expl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ain reasons for any explicit maximum cardin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 any restrictions on participation in the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 extent of the history that is kept in the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 whether an entity instance involved in a relationship instance can transfer participation to another relationship in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E43D2A88-6B08-41CB-BAAA-C425B0DD330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Representing Supertypes and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3520" y="15238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wo or more entity types share common properties but also have one or more distinct attributes o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ntities in an entity types meaningful to an organization. Example – STUDENT is an entity type that has two subtypes GRADUATE STUDENT and UNDERGRADUAT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ity type that has a relationship with one or more sub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tal specialization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each entity instance of th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ust be a member of som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the relationship (shown by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i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ial specialization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an entity instance of th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allowed not to belong to any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the reationship (shown by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i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joint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if an entity instance of th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a member of one subtype, it cannot simultaneously be a member of any other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verlap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an entity instance can simultaneously be a member of two or mor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isjoi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shown by a 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 and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overla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shown by a 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 in the cir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912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Business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specifications that preserve the integrity of logical data mod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 basic types of business rule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tity integrity – each instance of an entity type must have unique identifier that is not nul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ential integrity constraints – rules concerning the relationships between entity typ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mains – constraints on valid values for attribu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iggering operations – other business rules to protect validity of attribute val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Dom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set of all data types and ranges of values that an attribute can assume – data type, length, format, range, allowable values, mea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ral advantag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erify that the values for an attribute a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val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sure that various data manipulation operations a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ogi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lp conserve effort in describing attribute characteristi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227D4B5E-DD5F-4383-907F-D6BC83FAA1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igger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er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govern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alid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data manipulation operations such as insert, update and de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triggering operations may be limited to attributes with one entity or attributes of two or more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the following compon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 of the business rule to be enforced by the trig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manipulation operation that initiates th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ity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of entity being accessed or mod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ition that causes the operation to be trigg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on taken when the operation is trigg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13541D6E-0D5A-4581-9D00-8638F419EB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Role of CASE in Conceptu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bility for data integrity lies within scope of database management system, not individual appl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should be documented in CASE repository so that rules would be checked automatically by database softw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SE tools provide two important func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E-R diagrams as a visual depiction of structured data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 objects on E-R diagrams to corresponding descriptions in a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7FA779E3-62BC-4563-8E17-F66CBEF875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ual Data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ptual data model is a representation of organizational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is to show as man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u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mong data as are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ity-Relationship (E-R) diagrams are commonly used to show how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ata are organ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 goal of conceptual data modeling is to create accurate   E-R dia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such as interviewing, questionnaires and JAD are used to collec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ency and completeness must be maintained between process flow, decision logic and data modeling descri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890A4843-12A3-4022-876A-E46FEC19C71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 of Conceptual Data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step is to develop a data model for the system being replaced, if a system ex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xt, a new conceptual data model is built that includes all the requirements of the new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ptual data modeling is carried out throughout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design stage, the E-R model developed is translated into a format from which physical data storage decisions can be m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implementation files and databases are defined as system is co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repository links all design and data modeling steps performed during SDL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DF871D78-6AFC-4CCD-8C16-78EB78AB4A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deliverable is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tity-relationship dia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may be as many as four E-R diagrams produced and analyzed during conceptual data mo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that covers just the data needed in the project’s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for system being repla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for the whole database from which the new application’s data is extr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for the whole database from which data for the application system being replaced is dra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9BD96CDC-1195-4311-ADD1-BB5A2FD0D7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Deliverables and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deliverable is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of ent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ut data objects to be stored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ject dictio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, process and logic models of an inform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lements that are included in the DFD must appear in the data model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ata store in a process model must relate to business objects represented in th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10-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conceptual data model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A5E6C6F9-B748-4544-A820-8BCB712C07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thering Information for Conceptual Data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p-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is derived from an intimate understanding of the nature of 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is derived by reviewing specific business documents – computer displays, reports, business 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EB63455A-345C-42BA-AADD-A357053B3A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Gathering Information for Conceptual Data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etermination Questions for Data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are the subjects/objects of busines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type of people, places, things, events, etc., are used or interact in business whose data must be maintained? How many instances of each object might exist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ntities and their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unique characteristic (or characteristics) distinguishes each object from other objects of same typ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this distinguish character change over time or is it permanent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characteristics describe each object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what basis are objects referenced, selected, sorted and categorized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butes and secondary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 you use this dat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you the source of data, do you modify it or just refer it? Who is not permitted to use it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48:31Z</dcterms:modified>
  <cp:revision>170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