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B698-D265-4B07-9919-E0623293AD0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CE67-E174-4000-AC2A-A9B0CB94863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CE62-816C-44AA-935B-6A8416BDAE2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68C7-C4FA-4E74-91D9-4D97B9811B3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22BE-43F6-4E3D-8792-E45D2E3E47C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69F7-4184-4736-8181-EB2E1FFDABE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08C7-D30A-40EF-81C7-15AC7949BBF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7FD5-DBE4-49DA-9CF9-ED8BE5134B2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B72B-EFB3-441C-A9FE-0AE22262ED5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1F63-AACE-4FF2-85FD-960C77AFDD6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662E-2EE6-4BAF-9E75-16B44DDFD15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30FA-B2A8-47FF-8A36-82EA85BF3C1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C9DC-6765-416E-BDF2-2AB906BF50E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3CF1-3A92-405C-B975-D6FC8B9DC82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ED57-190B-4B78-9427-E8F20AB1A76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DC72-C9FF-4BAE-AA14-CDF046DDFC4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00E1-0E43-48D3-A2F9-87FA9C92639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91DC-A723-4C3C-964E-431B506D118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3293-9D59-4C28-93A5-1204611D085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A29D-C6EF-4B19-BBE8-DB6F8B11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810-8762-4D8E-A90E-28C45968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A2AE-CF3E-4CCC-B087-FAFA05CE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3FB1-2EF5-4F7E-93D1-187D37F7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DD0A-C385-477D-A88D-EFEAAD87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2856-0BFE-4C17-A2D8-A0409098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7F96-FDB9-430A-8C6D-9DD27F34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5504-6AFE-4EC5-8992-591BE87A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316E-2847-4CE5-BDA8-3C3B00CC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964A-AD6F-40AB-9AE3-2E991184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F04E-0267-4488-9FFD-70A31F95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8B21-C8B1-465A-A266-BD9682F5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7BA1-6C37-4706-BF22-D54A7FB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8427-BBBB-4827-BDA1-69FD4FD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7B43-01EE-4AE9-8FA3-7E50CB24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F78F-A6FE-46B5-A556-A9AED7B82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6ED9-D5EB-45C3-A063-9CAD9A8D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430-774B-427F-8E4C-6E03CB17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404E-DFB4-44F8-AF5A-73DADF61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83D-A6FF-4F05-B641-37CD526A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65C-47CF-4CF6-9063-05A94154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D17-5F8A-4703-9079-AE8E7933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680-272E-4F8D-B575-65BB3C29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582-09C3-405B-A69E-BAF4A9D7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C2D3-A574-4BD2-8848-85B73612C6C4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994E-269F-408E-9E2B-C001307F14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tructuring System Requiremen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onceptual Data Model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C839FCF8-CFE0-40F0-AD03-7F47607C1EF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Gathering Information for Conceptual Data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6094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ver what period of time are you interested in this data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 you need historical trends, current snapshot values, or estimates?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dinality and time dimension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e all instances of each object the sam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ome objects summaries or combinations of more detailed objects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types, subtypes, and aggre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events occur that imply associations between various object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ionships and their cardinality and deg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 each activity or event always handled the same way or are there special circumstance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the associations between objects change over time (employee change departments)?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ity rules, minimum and maximum cardi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 to Entity-Relationship (E-R)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5998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basic E-R modeling notation uses three main constr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ent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92d0b"/>
                </a:solidFill>
                <a:latin typeface="Calibri"/>
              </a:rPr>
              <a:t>Several different E-R notations exist but we use </a:t>
            </a:r>
            <a:r>
              <a:rPr b="1" lang="en-US" sz="2000" spc="-1" strike="noStrike">
                <a:solidFill>
                  <a:srgbClr val="f92d0b"/>
                </a:solidFill>
                <a:latin typeface="Calibri"/>
              </a:rPr>
              <a:t>crow’s foot</a:t>
            </a:r>
            <a:r>
              <a:rPr b="0" lang="en-US" sz="2000" spc="-1" strike="noStrike">
                <a:solidFill>
                  <a:srgbClr val="f92d0b"/>
                </a:solidFill>
                <a:latin typeface="Calibri"/>
              </a:rPr>
              <a:t> no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Entity-Relationship Data Mode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E-R mod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detailed,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al represent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the data for an organization or for a business ar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-R model is expressed in terms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titi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business environment,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lationshi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r associations among those entities,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ttribu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r properties of both the entities and their relation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Entity-Relationship Diagra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E-R diagra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graphical representation of an E-R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2D931A2F-70D5-4E98-A5F9-40F48DBEA16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tity-Relationship (E-R) Modeling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520" y="15235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erson, place, object, event or concept in the user environment about which the organization maintains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as its ow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dent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at distinguishes it from other ent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 – Person: EMPLOYEE, STUDENT, PAT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nt: SALE, RENEWAL, REGIS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: MACHINE, AUTOMOBILE,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resented by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ctang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 E-R dia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inction between entity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yp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entity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insta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tity Type or Entity Cl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lection of entiti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at share common properties or character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entity type is give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represents a set hen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u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simple noun to name an entity type – use capital lette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is placed inside rectangle representing ent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tity In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ingle occurr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an entity 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tity type can have many instances of that entity type represented by data stored in the data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1364DBBF-C238-4A84-AD7C-CA7AD40D63D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tity-Relationship (E-R) Modeling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1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amed property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acteris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an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ent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is of interest to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amples of entities and their associated attrib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ENT: Student_ID, Student_Name, Student_Address, Maj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OBILE: Vehicle_ID, Color, Weight, Power, Whe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ibute names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u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 initial capital letter, followed by lowercase let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ibutes are represented in E-R diagrams by 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llip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 name inside and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n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connect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t to the associated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tity-Relationship (E-R) Modeling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ndidate keys and Identif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ch entity type must have 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ttribu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t of attribu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distinguishes one instance from other instances of the same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andidate k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ibute (or combination of attributes) that uniquely identifies eac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a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entity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didate key for STUDENT entity type may b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udent_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times more than one attribute is needed to identify a unique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entities may ha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re than one candid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PLOYEE may have one candidate key Employee_ID or a combination of Employee_Name and Add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1245AE20-AB48-452A-8859-355F18A9170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tity-Relationship (E-R) Modeling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ndidate ke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has been selected as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dentifying characteristi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n entity ty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on rules for 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dent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candidate key that will no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nge its valu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ike Employee_Add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candidate key that will never b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oid using intelligent keys whose structure indicates classifications, locations, and so on like first 2 digits of a key for a STUDENT entity might indicate college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der substituting single value surrogate keys for large composite k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the identifier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underlin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n an E-R dia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95EC6817-CD44-4623-B1C6-B9304E1AF54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ntity-Relationship (E-R) Modeling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y Te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ultivalued Attrib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ttribute that may take o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re than 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or each entity in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UDENT can attend more than on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ultivalu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resented on E-R Diagram in two way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uble-lined ellip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ak ent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separate repeating data into another entity and then using relationship link it to its associated regular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eating grou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attributes that repeat together like EMPLOYE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penden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name, age, relation (spouse, chi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oci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tween the instances of one or more entity types that is of interest to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ion indicates that an event has occurred or that there is a natural link between entity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s are always labeled wit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erb phr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4A6917BF-345B-4B1E-8783-D2CEE96FFAA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gree of Relationsh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772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mber of entity types that participate in a relationsh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elationship between two instanc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ne entity typ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also called recursive relationshi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relationship between the instanc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wo entity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r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imultaneous relationship among the instances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ree entity ty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 the same as three binary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recommended that all ternary and higher relationships be represented as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associative ent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05DC9F2F-667C-4E10-AED8-828D1B3862C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gure 10-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 relationships of different deg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0A757B7F-1F19-4E72-B8A8-C574992C43D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696080" cy="44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di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3520" y="16761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umber of instan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entity B that can be associated with each instance of entity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mum Cardi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inimum number of instances of entity B that may be associated with each instance of entity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minimum cardinality of an entity 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n that entity is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optional participa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relatio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minimum cardinality of an entity 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then that entity is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mandatory participa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relatio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ximum Cardin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aximum number of instances of entity B that may be associated with each instance of entity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ntity type that associates the instances of one or more entity types and contains attributes that are peculiar to the relationship between those entity instances (also calle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eru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5EB10C11-E1B1-4DD4-8B86-FDF84A965B2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90720" y="4876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Associativ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609480" y="54936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nceptual Data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9640" y="1523880"/>
            <a:ext cx="853308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 mode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ba2212"/>
                </a:solidFill>
                <a:latin typeface="Arial"/>
              </a:rPr>
              <a:t>does not s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in the data but </a:t>
            </a:r>
            <a:r>
              <a:rPr b="0" lang="en-US" sz="1800" spc="-1" strike="noStrike">
                <a:solidFill>
                  <a:srgbClr val="ba2212"/>
                </a:solidFill>
                <a:latin typeface="Arial"/>
              </a:rPr>
              <a:t>s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are used  or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model is most important part of information system requirements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data captured during the data modeling are crucial in design of databases, program, computer screens, and printed reports – data element is numeric, a name is limited to a specified set, an item on a customer order can’t be moved to another customer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rather than processes are most complex aspects (validating data, coordinating movement of data) of many modern information systems like MIS, DSS, 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about data(length, format, relationships with other data) are reasonably permanent whereas paths of data flow are 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ommon format used for data modeling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ity-relationship (E-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a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ming and Defining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lationship name is 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erb phr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void vague na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uidelines for defining relation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ition explains what action is being taken and why it is import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ive examples to clarify the 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tional participation should be expl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lain reasons for any explicit maximum cardin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in any restrictions on participation in the relatio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in extent of the history that is kept in the relatio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ain whether an entity instance involved in a relationship instance can transfer participation to another relationship in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3EEA9B63-E943-4B35-B880-F78DD5BF830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Representing Supertypes and Sub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33520" y="1523880"/>
            <a:ext cx="8534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two or more entity types share common properties but also have one or more distinct attributes or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grou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ntities in an entity types meaningful to an organization. Example – STUDENT is an entity type that has two subtypes GRADUATE STUDENT and UNDERGRADUATE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tity type that has a relationship with one or more sub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SzPct val="1132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otal specialization ru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each entity instance of th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pertyp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must be a member of som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btyp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 the relationship (shown by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doub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lin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SzPct val="1132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rtial specialization ru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an entity instance of th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pertyp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allowed not to belong to any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btyp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n the reationship (shown by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ing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lin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SzPct val="1132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isjoint ru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if an entity instance of th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pertyp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a member of one subtype, it cannot simultaneously be a member of any other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btyp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SzPct val="1132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verlap rul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– an entity instance can simultaneously be a member of two or more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ubtyp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SzPct val="1132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Disjoi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shown by a 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 and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overlap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shown by a 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” in the circ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09120" y="8377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Business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specifications that preserve the integrity of logical data mode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our basic types of business rules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tity integrity – each instance of an entity type must have unique identifier that is not nul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ential integrity constraints – rules concerning the relationships between entity typ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omains – constraints on valid values for attribu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riggering operations – other business rules to protect validity of attribute valu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Domai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set of all data types and ranges of values that an attribute can assume – data type, length, format, range, allowable values, mean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everal advantag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erify that the values for an attribute ar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vali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sure that various data manipulation operations are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logic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elp conserve effort in describing attribute characteristic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4C7F4898-0C2C-4972-B034-1BEE99C91E7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iggering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sser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t govern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alid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data manipulation operations such as insert, update and dele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 of triggering operations may be limited to attributes with one entity or attributes of two or more ent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 the following compon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r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ment of the business rule to be enforced by the trig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manipulation operation that initiates the 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tity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of entity being accessed or mod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ition that causes the operation to be trigg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on taken when the operation is trigg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9E508316-A2D7-47B1-832E-632DF06AE6E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123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Role of CASE in Conceptual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ponsibility for data integrity lies within scope of database management system, not individual appl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should be documented in CASE repository so that rules would be checked automatically by database softwa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SE tools provide two important func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E-R diagrams as a visual depiction of structured data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nk objects on E-R diagrams to corresponding descriptions in a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49490336-C1B4-4CC4-891D-CC97D0BBCBF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eptual Data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ptual data model is a representation of organizational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urpose is to show as man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u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bout th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an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mong data as are possi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ity-Relationship (E-R) diagrams are commonly used to show how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ata are organ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 goal of conceptual data modeling is to create accurate   E-R dia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such as interviewing, questionnaires and JAD are used to collect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ency and completeness must be maintained between process flow, decision logic and data modeling descrip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81234FB0-50A3-4749-A896-C715EBCD702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ss of Conceptual Data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rst step is to develop a data model for the system being replaced, if a system ex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xt, a new conceptual data model is built that includes all the requirements of the new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ptual data modeling is carried out throughout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design stage, the E-R model developed is translated into a format from which physical data storage decisions can be ma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implementation files and databases are defined as system is cod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repository links all design and data modeling steps performed during SDL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DFEE0183-BC67-4565-A9D2-864EF5560D8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ary deliverable is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tity-relationship dia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may be as many as four E-R diagrams produced and analyzed during conceptual data mode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-R diagram that covers just the data needed in the project’s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-R diagram for system being replac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-R diagram for the whole database from which the new application’s data is extra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E-R diagram for the whole database from which data for the application system being replaced is dra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6016FB6C-C1FF-45E9-9BD8-DFA73A21A22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Deliverables and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deliverable is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 of entr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out data objects to be stored i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eposito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ject diction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, process and logic models of an inform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lements that are included in the DFD must appear in the data model and visa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data store in a process model must relate to business objects represented in the data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gure 10-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conceptual data model dia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DDFA429E-0C11-4609-8F13-41A278A4E7F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86600" cy="44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thering Information for Conceptual Data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12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persp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op-d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is derived from an intimate understanding of the nature of busi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ottom-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is derived by reviewing specific business documents – computer displays, reports, business 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</a:t>
            </a:r>
            <a:fld id="{F12ADAC1-BC28-43CE-9FF6-F3D1D698708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Gathering Information for Conceptual Data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948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 Determination Questions for Data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are the subjects/objects of business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type of people, places, things, events, etc., are used or interact in business whose data must be maintained? How many instances of each object might exist?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entities and their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unique characteristic (or characteristics) distinguishes each object from other objects of same typ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this distinguish character change over time or is it permanent?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at characteristics describe each object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what basis are objects referenced, selected, sorted and categorized?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ributes and secondary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do you use this data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you the source of data, do you modify it or just refer it? Who is not permitted to use it?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rity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cp:lastPrinted>2009-04-22T19:24:48Z</cp:lastPrinted>
  <dcterms:modified xsi:type="dcterms:W3CDTF">2015-02-06T15:48:31Z</dcterms:modified>
  <cp:revision>170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