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2B49-D074-4E8C-A660-8716FC150E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B13-7F04-45D8-84F5-3FC506BFA0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5C46-1E02-4882-86C8-872A95FCF5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377B-A955-444E-BC44-D79A5D383B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329-F186-488E-9BCF-B9553C74723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FA0-0B25-47A0-B941-D7696BC9AB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43A-73C1-447F-AFAF-E19707A0233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E91-517F-445A-90DE-37365AD138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E9C-F0BD-4406-8649-94749738A3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85E-598D-43F4-928A-FB5F5C75FE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D49-D46E-47B7-BF41-B6FDF93A9BE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7C2-A0F0-4405-BFBD-D01DDCD8D8C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8850-E41C-4CEF-A7D7-2B532F186E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97C9-A05F-43EC-AFC8-8D11F32F14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CC8A-E72B-4376-A428-EE7D7934DA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31E-C7FA-4065-AE08-49625AC99A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D39-8EBA-42EC-B79F-852E11F42A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436-38C0-48D3-BAA3-7B2DF40AFD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D0C-BE08-460B-B14C-74A9138230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F1A5-58F2-413A-98A3-479C31D0EF1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8EF-B057-4DCE-A3CE-5A1878714F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E884-99BD-4BFC-B650-704AEF5779A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6B3-FB49-43DA-9A06-076CD167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7F1-A3A3-4460-9DC2-A2C1838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BA0-22F4-4995-930E-CDCCAA53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653-967C-4435-A310-6A7523BB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696B-25F4-458C-9A8C-DAF2D407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600-D943-40C7-B21F-4BE0858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C1E3-3671-4299-B70B-36FE37C2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14E-09FC-4B03-B6AA-70790A6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F4D-EDAB-4FE5-9528-38B9EB9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B355-7530-40E3-9BB6-0602AE1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2439-7591-4790-94B9-2B3FA97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4C-D967-488D-A8C2-71A32B0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E4C8-D823-4159-9F76-B2B9A2E3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F722-D874-4B5F-A822-C3A3A8A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4B9-1540-440D-96D0-E6260C8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2D9-E2D4-40C7-B4D3-8E4D8E0F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90C2-2F57-4337-9E3E-86D5AC97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5C8-49A3-413A-B7C8-9BBFA5D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EBE-E5EF-4CDE-9788-CC32E478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64E-2C19-4A07-94B0-66A71FD2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5ED-066E-4C44-94B9-DD3E278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D25-323D-4C10-B830-8FA9E64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072-0940-485B-B498-B774ABFF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4AD-3E58-4FA3-9E20-3787695C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1D8-9856-45BD-AF52-FD4FCA56C56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CEE3-32D4-40AC-9336-127EEAE72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lecting the Best Alternative Desig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494DBEEA-89E5-425A-BF1D-E68BBAF0C6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teria for Choo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f-the-Shelf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House versus purch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datory, essential and desired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or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ability of Ven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91440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5E72E7BA-2DE8-4B62-92C5-8619AE5AA3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teria for Choo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f-the-Shelf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custom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cal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e of Insta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9ABFB744-5D78-4F18-B899-BD355E039E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ng Purchased Software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from ven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for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document provided to vendors to ask them to propose hardware and system software that will meet the requirements of your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evaluation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references from ven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software testing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677AC4DB-A299-4548-887A-11FFAC1926A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ware and Software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isting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er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 staff is familiar with op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odds of successfully integrating system with existing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dded costs of converting old systems to new platform or transferr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Hardware and System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software components will only run on new plat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ing system for new platform gives organization opportunity to upgrade technology ho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requirements may allow organization to radically change its computing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6007E51A-C543-4460-B61D-2ABDE68EC1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ementation and Organizationa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nd social aspects of implementation need to be add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ruption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all cost and availability of 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accep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D3F2632A-966C-494B-9C69-5A68A12250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acement for exis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11-2 ranks system requirements and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11-3 shows steps of current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proposing alternatives, the requirements and constraints must be consi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18A98D83-25E8-409F-9A59-A38B8F9F9B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11-4 lists 3 alter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A is a low-end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C is a high-end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B is a midrange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01B10FAB-37E3-4773-B02C-7439397F914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most likely altern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ed approach can be used to compare the three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11-5 shows a weighted approach for Hoosier Bu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 hand side of table contains decis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a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ights are arrived at by discussion with analysis team,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equirement and constraint is ran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indicates that the alternative does not match the request well or that it violates the constr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indicates that the alternative meets or exceeds requirements or clearly abides by the constr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352B711F-F49F-4D20-B93E-E022B83DC2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ng the most likely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rding to the weights used, alternative C appears to be the best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51A29A91-B32E-45B6-991F-4D16297845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ing the Baseline Project Plan (BP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line Project Plan (BPP) was developed during project initiation and 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 Project Plan (BPP) can be used as an outline of a status report at analysis 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 will be updated to reflect actual activities and du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ral presentation of project status is typically made at this 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FADB340E-1F6D-4D07-8490-52BBEF74253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basic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te a comprehensive set of alternative design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he one design strategy that is most likely to result in the desired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de requirements into different sets of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umerate different potential implementation environments that could be used to deliver the different sets of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different ways to source or acquire the various sets of capabilities for the different implementation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F224EA28-EB34-41E9-B631-3730A53202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et Development: 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Valley Furniture WebS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and constraints were compiled by consultant and team (see Table 11-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864542C2-07DA-45EA-8D78-3EE7287083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et Development: 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ed system is a scalable, three-tier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seamlessly upgrade the system through either hardware upgrades, software upgrades or b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t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connection to the internet and presentation of HTML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s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dle layer of software and hardware that lies between Web server and corporat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porat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organizational computing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7AA680DD-DC9D-44FA-A7A6-99A8406CCB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hree substantially different system design strategies for building the replacement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sign strategy judged most likely to lead to the most desirable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aseline Project Plan (BPP) for turning the most likely design strategy into a working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5F81B948-DC75-4B84-B5A5-C1885797A3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ting Alternative Design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to generate three alterna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-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ll required functionality users demand with a system that is minimally different from the current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ves problem in question and provides many extra features users des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omise of features of high-end alternative with frugality of low-end altern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C375D037-FDDD-42FD-8213-6C07723030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ing Bounds on Alternative Desig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features versus desired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s of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expectations on accessibility,response time and turnarou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8B4A95C0-7D80-44FB-B6FC-C59DAD3BC3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ing Bounds on Alternative Desig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on System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 when system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and huma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s of the system that canno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 and contractual consid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s of the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88500CBB-2275-454D-B716-31E9503170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to Consider in Generating Altern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actice of turning over responsibility of some to all of an organization’s information systems applications and operations to an outside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provide a cost effectiv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97D23255-A0DA-4DEA-80FC-8942D00D3F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to Consider in Generating Altern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manufactur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ed software produ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 software produ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prise solution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Servi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hous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6172200"/>
            <a:ext cx="76176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E02E24CC-4905-4311-984B-B32798B2526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7DD164E8-326B-4598-9C45-9C573D7683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46:58Z</dcterms:modified>
  <cp:revision>96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