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71863-FE27-4233-B18B-8EDF17CAABDA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A0A8A-5595-4AED-B5E6-3B1472BB7C06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0834F-E63D-4019-834A-6C34843E07E7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957DB-67C9-4C5C-834A-4375C0848D07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3EBC5-EB6A-404D-9457-AECBD41C651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3D371-EAC9-4BFD-8E0A-D58834D7CE8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C1B0F-67F8-441E-BD8C-C93CC116D95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BDC1E-3F29-4978-9124-0DF23C7CBFD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C5D35-02D7-4D40-BD72-E509C7ED1A74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87113-8099-4590-A089-8A95D50040E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E113C-B618-4E8B-A661-A4F05540B4A6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99478-3F45-425E-8514-F66F8761388B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5D8D2-3984-45C9-A556-99CA6B536711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7C481-C14F-49FE-9829-06AE1331CB3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97378-D43C-4BDA-A91D-8ED1CFCC3E79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F067F-EC8C-48F9-8AEE-D85A8C78950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80D87-9AFC-4C40-8B7B-17BC5C06FD0E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56227-B40A-4287-B941-D8A20F1427DC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4976D-56B3-40D6-82FC-53D4C34FD529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250B1-A290-4F4C-9DE1-659D1D98BBC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07615-40A5-4B01-9050-EC8F301656F3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969D0-7C8A-411C-9706-2D4902C2108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0101-691E-45FE-BFFD-AC2711E8C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AA0E-C47C-4DF6-B560-256A98F31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EFE4-7F95-4809-AAA8-BBCD0CC08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E124-6D9A-4961-AE8E-D031BA521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D0443-28AA-4DBB-92AA-184B8C78F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2972A-4F25-458D-BCDA-C1C5E44A5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29FC3-704C-49E7-90B6-E1B277BE0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6AD90-3EEC-4788-BD94-3B3FA905C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CC9B0-5B05-4A28-8431-97153812D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AF3DC-6B27-4D06-B104-6111DDDAA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C1B2E-ECF5-4816-9051-7DA23334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0368-C8C1-4551-9BA1-B98977B79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52894-7EAB-471B-B764-B9A91F6F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DE2EA-079B-40B5-8CEC-7790499F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2818B-EA6D-4B92-95E7-23A786845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28F8C-2FD3-440F-9B4F-FFE46E2AF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55F48-8B14-43D5-B0F1-3CEEC77CD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D652-9AB3-485A-82EA-9F306E737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CA25-FA60-4C61-A5BF-D369BDAF2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E0A8-3D19-4BF8-91B9-5D683EC12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4600-C65D-4B9E-A232-60F80CFE1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A58B-16F6-477D-82AC-D2E9F9F51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18ED-27AF-4710-BB14-B5BC8982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925E-B680-4FBF-B86E-EE1B0457A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1EF0F-77C8-47D7-B044-D14F7E5771ED}" type="slidenum">
              <a:rPr b="0" lang="ar-SA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B8004-57DE-45C2-8C15-E04EB63FDE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dern Systems Analysi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nd Design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ird Edition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066320" y="32767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Chapter 1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Selecting the Best Alternative Design Strateg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.</a:t>
            </a:r>
            <a:fld id="{9BC7BFF6-190B-49BE-85A1-CCC61C201C3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riteria for Choosing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ff-the-Shelf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-House versus purcha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nctiona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datory, essential and desired featu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endor Sup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stall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i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chnical Supp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ability of Vend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228600" y="6172200"/>
            <a:ext cx="91440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.</a:t>
            </a:r>
            <a:fld id="{DEF68AF1-556F-4768-A3C8-F7BC2109C1B2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riteria for Choosing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ff-the-Shelf Softw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exi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se of custom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r docu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chnical docu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ponse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se of Insta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228600" y="6172200"/>
            <a:ext cx="76212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.</a:t>
            </a:r>
            <a:fld id="{62A2B344-084A-4221-BA10-545B94AED9EA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alidating Purchased Software Inform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formation from vend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quest for propos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document provided to vendors to ask them to propose hardware and system software that will meet the requirements of your new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ftware evaluation peri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stomer references from vend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ependent software testing serv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de public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228600" y="6172200"/>
            <a:ext cx="76212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.</a:t>
            </a:r>
            <a:fld id="{08399F1D-DBC6-4EA8-AAF6-C7AABF4BCB89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ardware and Software Issu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isting Platfor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wer co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formation system staff is familiar with operation and mainten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reased odds of successfully integrating system with existing applic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 added costs of converting old systems to new platform or transferr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ew Hardware and System Softw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me software components will only run on new platfor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ing system for new platform gives organization opportunity to upgrade technology holding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w requirements may allow organization to radically change its computing oper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228600" y="6172200"/>
            <a:ext cx="76212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.</a:t>
            </a:r>
            <a:fld id="{8B1BBC54-9690-45BE-ADD5-46611821665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mplementation and Organizational Issu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ation Iss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chnical and social aspects of implementation need to be addres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i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ruption of 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izational Iss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verall cost and availability of fun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agement supp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r accept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228600" y="6172200"/>
            <a:ext cx="76212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.</a:t>
            </a:r>
            <a:fld id="{2E1720CB-CC8C-4411-8ED4-722532C548D2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osier Burger’s New Inventory Control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lacement for existing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gure 11-2 ranks system requirements and constrai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gure 11-3 shows steps of current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proposing alternatives, the requirements and constraints must be conside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228600" y="6172200"/>
            <a:ext cx="76212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.</a:t>
            </a:r>
            <a:fld id="{B5CD27F9-9ED1-4086-A1F2-7F12CE5F222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osier Burger’s New Inventory Control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gure 11-4 lists 3 alterna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ternative A is a low-end propos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ternative C is a high-end propos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ternative B is a midrange propos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228600" y="6172200"/>
            <a:ext cx="76212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.</a:t>
            </a:r>
            <a:fld id="{F0845FA6-E147-4F2D-81E7-B5CB88571CB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osier Burger’s New Inventory Control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lecting the most likely alterna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ighted approach can be used to compare the three alterna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gure 11-5 shows a weighted approach for Hoosier Burg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ft hand side of table contains decision crite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stants and requir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eights are arrived at by discussion with analysis team, users and manag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requirement and constraint is rank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 indicates that the alternative does not match the request well or that it violates the constrai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5 indicates that the alternative meets or exceeds requirements or clearly abides by the constrai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228600" y="6172200"/>
            <a:ext cx="76212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.</a:t>
            </a:r>
            <a:fld id="{71588AF2-F589-494F-82AC-8E5A1F0A68A6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osier Burger’s New Inventory Control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ecting the most likely alterna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ording to the weights used, alternative C appears to be the best cho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228600" y="6172200"/>
            <a:ext cx="76212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.</a:t>
            </a:r>
            <a:fld id="{041F2394-A8FB-4A41-8DDD-FBC43A47581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pdating the Baseline Project Plan (BPP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Baseline Project Plan (BPP) was developed during project initiation and 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line Project Plan (BPP) can be used as an outline of a status report at analysis ph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hedule will be updated to reflect actual activities and du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oral presentation of project status is typically made at this ph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228600" y="6172200"/>
            <a:ext cx="76212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.</a:t>
            </a:r>
            <a:fld id="{796864AC-0682-4423-B862-F745FB0BB886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lecting the Best Alternative Design Strateg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83808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basic ste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nerate a comprehensive set of alternative design strateg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lect the one design strategy that is most likely to result in the desired information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vide requirements into different sets of capabil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umerate different potential implementation environments that could be used to deliver the different sets of capabil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pose different ways to source or acquire the various sets of capabilities for the different implementation environ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.</a:t>
            </a:r>
            <a:fld id="{9C63C195-0FF3-42CA-BF02-633550CA45CD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ternet Development: Selecting the Best Alternative Design Strateg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ne Valley Furniture WebSt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quirements and constraints were compiled by consultant and team (see Table 11-8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228600" y="6172200"/>
            <a:ext cx="76212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.</a:t>
            </a:r>
            <a:fld id="{33A1B54C-C2D5-4499-9A5D-E49F761A18AA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ternet Development: Selecting the Best Alternative Design Strateg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posed system is a scalable, three-tier approa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cal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ability to seamlessly upgrade the system through either hardware upgrades, software upgrades or bot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ree-ti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b 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vides connection to the internet and presentation of HTML p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pplications 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ddle layer of software and hardware that lies between Web server and corporate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rporate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isting organizational computing infra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228600" y="6172200"/>
            <a:ext cx="76212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.</a:t>
            </a:r>
            <a:fld id="{A3AE04B4-26EA-4CD9-A637-1A3D96A83C40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lecting the Best Alternative Design Strateg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liver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11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t least three substantially different system design strategies for building the replacement information sys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11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design strategy judged most likely to lead to the most desirable information sys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11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Baseline Project Plan (BPP) for turning the most likely design strategy into a working information sys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.</a:t>
            </a:r>
            <a:fld id="{CEF38400-107F-4286-9A85-6F2DFCE89E66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enerating Alternative Design Strateg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83808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st to generate three alternativ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w-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all required functionality users demand with a system that is minimally different from the current sys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-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lves problem in question and provides many extra features users desi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dra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romise of features of high-end alternative with frugality of low-end alterna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.</a:t>
            </a:r>
            <a:fld id="{CD52B583-42F2-4E85-8BF7-C1460BD9B21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rawing Bounds on Alternative Desig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imum Requir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datory features versus desired feat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ms of feat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pu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aly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r expectations on accessibility,response time and turnaround t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.</a:t>
            </a:r>
            <a:fld id="{E3CC8C96-B590-4869-B4D8-11E8F98552B4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rawing Bounds on Alternative Desig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aints on System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te when system is need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nancial and human resour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ements of the system that cannot cha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gal and contractual consid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ynamics of the probl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.</a:t>
            </a:r>
            <a:fld id="{6AD14673-E00E-4545-9F6C-15ABC27AECD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ssues to Consider in Generating Alternativ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utsourc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ractice of turning over responsibility of some to all of an organization’s information systems applications and operations to an outside fi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provide a cost effective solu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.</a:t>
            </a:r>
            <a:fld id="{A0006F3D-8E93-46AA-AF62-41AEEB020E9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ssues to Consider in Generating Alternativ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urces of Softw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rdware manufactur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ckaged software produc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stom software produc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terprise solution softw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lication Service Provi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-house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304920" y="6172200"/>
            <a:ext cx="76176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.</a:t>
            </a:r>
            <a:fld id="{33B73389-C831-41D1-ABC6-298C87542813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228600" y="6172200"/>
            <a:ext cx="8380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.</a:t>
            </a:r>
            <a:fld id="{3BFFED95-4934-45B1-876E-F09CF03D7C8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7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5715000" cy="3809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00:26:26Z</dcterms:created>
  <dc:creator>John Russo</dc:creator>
  <dc:description/>
  <dc:language>en-US</dc:language>
  <cp:lastModifiedBy>K AlSultan</cp:lastModifiedBy>
  <cp:lastPrinted>2009-04-22T19:24:48Z</cp:lastPrinted>
  <dcterms:modified xsi:type="dcterms:W3CDTF">2015-02-06T15:46:58Z</dcterms:modified>
  <cp:revision>96</cp:revision>
  <dc:subject/>
  <dc:title>Modern  Systems Analysis and Design  Joey F. George  Jeffrey A. Hoffer  Joseph S. Valaci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