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44B-2F17-4239-9FD6-48FA3A150D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AE7-1258-4CF3-A075-B72530C2D3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87A-DB8F-4427-BD9C-3679F747A4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924-D0FC-427A-95F4-A00CCAC01A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CBE-CA48-4369-9671-5AD01EAEEB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BDEC-A29A-46D8-B135-A03FF50651C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7C5D-950B-4310-9745-B683D6474C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C07-6D48-4D0C-AE3C-186F9BBAF4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687-F2C7-47AB-A6AE-56B886D62F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844-F61E-4297-901F-76DC940B5F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797-6C0E-4895-9E91-C2A2FB432D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DDCE-D817-431D-9382-05E32CE462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E5B9-4179-4CE0-A955-19AE5F1A74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D53-97B9-4378-AAB0-CB14AAAB8E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98D5-7368-4ABC-925F-C16ACB5436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E44-8ECA-4789-BEE2-DDE664ECB3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140C-70A9-4D2A-AC18-DFA5CB8549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8C0-968B-4CAB-B2ED-8C5C9F4120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F9FC-1430-4375-A80B-21D6B9DD4D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D70-BD38-4877-9146-34FA0BBF33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3F0-9D68-4BD3-BF4A-F713620EE8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F760-06C2-42FE-8916-7FB287AA86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0440-636C-4C70-8844-017A886388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DDF-3C42-4935-9151-8E43FC8B22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41B-4B4D-47C6-96B7-23AB1C400E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4293-1237-480A-A527-A0E600A8A6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A8C-597D-4FD1-9F1D-587F1AE5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E96-09B5-476D-B5B2-37F580AA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10E-C393-43CB-9AD8-268A7958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BF8-A2CD-4449-AAF3-36D13D5E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922-D8CA-4659-B1BB-69F4E30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7423-C4CD-4B7A-879D-CAB1C59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330-4610-48C7-A1CA-6B2A079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74AE-12BC-4076-A683-5BCB58C7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570E-6B84-432C-8740-ED96D93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2C2E-EA62-4977-9BA0-6A3CD8D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50A2-3DE9-418B-A72C-9F9C220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DFB-9255-4856-99E4-DE8A4FDA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F63-5BFF-457E-A181-9311AEC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B28F-E545-423E-9B79-DAC302C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2D1-F7E8-452B-A8C4-8F074D2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F60-D884-44FC-8CEC-367B6ACC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EBF-E084-4CD2-8C53-1962CB88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52A-96EA-4A78-828F-768BB72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87D-DA53-4AC4-8CF0-13FC9F1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057-5A43-4973-B181-EFB61A7A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5D2-9E3A-41A7-A67D-69E7D42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C95-7094-4645-A11F-52619F3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F4A-176B-4D70-983C-09ADAFE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FB1-1DF9-4DEE-8A71-B55751D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623-6C7A-4F46-B63A-9711A35963C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2EF-FA67-4669-A0AB-74C0A098F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signing Datab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5BBA767F-0161-4010-9767-2612479911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rd Normal Form (3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is in third normal form (3NF) if it is in second normal form (2NF) and there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func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transitive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c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wo (or more) nonprimary key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ttribute that appears as a nonprimary key attribute in one relation and as a primary key attribute (or part of a primary key)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erential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tegrity constraint specifying that the value (or existence) of an attribute in one relation depends on the value (or existence) of the same attribute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183FCC6E-ABA7-4EAF-B83D-F23FE3EE70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useful to transform the conceptual data model into a set of normalized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malize the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ge the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regular entity type in E-R diagram is transformed into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entity type becom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orresponding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satisfy the following two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alue of the key must uniquely identify every row in the 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key should b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nredund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34FABF7-1326-4D7D-B255-96BB9D71B7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one-to-many (1:N)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attribute (or attributes) of the entity o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s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relationship as a foreign key in the relation on the right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s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gr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y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Unary one-to-one (1:1)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possible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of A as a foreign key of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of B as a foreign key of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f the ab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28505F02-0819-4410-8C33-B769D7EAEF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and Higher M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reate another re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nclude primary keys of all relations as primary key of new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 1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between instances of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gle 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ursive foreign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eign key in a relation that references the primary key values of that sam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 M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reate a separat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key of new relation is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o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wo attributes that both take their values from the same primary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41F9C5B-2C1D-45A1-88E7-76482EB7D0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ECD5422-CB5C-4002-80F8-48FCFB248C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0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ging Relations (View Integ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is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move redundant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Integration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different names used for the same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merging, get agreement from users on a single, standard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m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ngle attribute name that is used for two or more different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ved by creating a new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cies between non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endencies may be created as a result of view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resolve, the new relation must be norma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B2E226F2-6F83-49BA-B4FA-675AE290B6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ysical File and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llowing information is requ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ized relations, including volume estim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s of each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ptions of where and when data are used, entered, retrieved, deleted and updated (including frequenc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ations or requirements for response time and data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ptions of the technologies used for implementing the files and datab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B8F8C246-FB1B-4FBA-9391-F5E98FE51D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1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est un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named application data recognized by system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each relation will be represented as one or more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oosing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ding scheme recognized by system software for representing organizational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 storag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 all possible values of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data integrity of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all data manipulations desired on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culated (or computed or derived)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ield that can be derived from other database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6BE47135-6271-48EA-A0D0-2141E581AA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hods of Controlling Data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faul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value a field wil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u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less an explicit value is entered for that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ng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range of values which can be entered into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erential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tegrity constraint specifying that the value (or existence) of an attribute in one rela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the value (or existence) of the same attribute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pecial field value, distinct from 0, blank, or any other value, that indicates that the value for the field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s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otherwi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339E0F0B-3463-4722-84F5-F8B0C3003F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al database is a set of related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cal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set of rows and columns that specifies the fields in each row of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 us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stor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disk spa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ks are divided into units that can be read in one machin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ce is used most efficiently when the physical length of a table row divides close to evenly with storage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are most efficiently processed when stored next to each other in secondary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AE33CCAA-22E5-430D-A9B8-FC3445D2F8B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pose of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the data in stable structures, called normalized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likely to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al redund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base design that reflects actual data requirements that exists in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base design from which a physical database design can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late a relational database model into a technical file and database design that balances several performance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data storage technologies that will efficiently, accurately and securely process databas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EF0CAD7F-3825-4CF2-A239-48481F95C7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splitting or combining normalized relations into physical tables based on affinity of use of rows and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bility to split a table into separate s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cle 8i implements thre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– partitions defined by non overlapping range of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h – table row assigned to partition by an algorith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e – combines range and hash partit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es certain operations at the expense of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ormal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common situations where denormalization may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entities with a one-to-one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any-to-many relationship with nonkey attrib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A3B9592-E30D-41AA-9A08-CCA673E0C8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nging Table R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cal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set of table rows stored in a contiguous section of secondary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table may be a physical file or whole database may be one file, depending on database management software uti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echnique for physically arranging the records of a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for choosing 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data retrie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throughput for processing trans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t use of storage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ction from failures or data l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mizing need for re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mmodating grow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rom unauthorized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A794A3F-DFBB-4E48-A26E-E970136067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ypes of Fi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ws in the file are stored in sequence according to a primary key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ing and adding records may require rewriting the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ing records results in wasted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ws are stored either sequentially or nonsequentially and an index is created that allows softwar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dividual r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able used to determine the location of rows in a file that satisfy some 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x based upon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 of fiel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which more than one row may have same combination of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C8CEAFE-5EE9-4B78-8A28-64F6656634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elines for choos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 unique index for the primary key of each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n index for foreign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n index for nonkey fields that are referenced in qualification, sorting and grouping commands for the purpose of retriev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shed 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ddress for each row is determined using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2416442C-E954-42D0-A080-A942E42C91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B9811E74-DB14-475F-8202-EF881805BD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04920" y="458640"/>
            <a:ext cx="86104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Controls for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up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dic backup of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action log or audit tr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Security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ng or encryp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accoun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hibiting users from working directly with the data.  Users work with a copy which updates the files only after validation ch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B13AD10-4E6F-4086-86A0-205CA92923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Database Desig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ical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upon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nceptual data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key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 model for each known user interface for the application using normalization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normalized data requirements from all user interfaces into one consolidated logical database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late the conceptual E-R data model for the application into normalized data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 the consolidated logical database design with the translated E-R model and produce one final logical database model for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B25D5236-2BCE-47DD-A198-9DC3A444E4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upon results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database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ing storage format for each attribute from the logical database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ing attributes from the logical database model into physical 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nging related records in secondary memory (hard disks and magnetic tapes) so that records can be stored, retrieved and updated rapid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media and structures for storing data to make access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34E387A-75C3-46CB-BCF8-1ABFEF7868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database design must account for every data element on a system input or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rmalized rel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the primary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al database design results in converting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 into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4C707864-B6BD-426A-AF47-E60CFB7B23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al Databas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represented as a set of relat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, two-dimensional table of data.  Each relation consists of a set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amed colum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bitrary nu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nnamed rows;   </a:t>
            </a: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column – attribute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row – entity instance (reco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ties of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ies in cell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ies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lum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from the same set of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quence of columns can be interchanged without changing the meaning or use of the 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ows may be interchanged or stored in any seq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ll-Structured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that contain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nimum amount of 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allows users to insert, modify and delete the rows                 without errors or inconsist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418BBF8-4ED8-4052-A856-FF0831332C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rocess of converting complex data structures into simple, stable data 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malization is based on well-accepted principles and ru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are many rules and two such rules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nonprimary key attribute is identified by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whole ke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called full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functional dependenc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rd Normal Form (3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primary key attribute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o not depe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each other (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ransitive dependenc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sult of normalization is that every nonprimary key attribute depends upon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whole primary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013C6490-1DE9-43EE-A9B0-DAC7463D0A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 Depend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rticular relationship between two attributes. For a given relation, attribute B is functionally dependent on attribute A if, for every valid value of A, that value of A uniquely determines the value of B; represented as 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nctional dependence of B on A means that there can b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ly one valu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ach valu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or sample data) in a relation do not prove the existence of a functional depend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problem domain is most reliable method for identifying functional depend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se value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ross all occurrences of a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606C1EF-A8E4-45ED-AE88-724DEC197C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is in second normal form (2NF) if any of the following conditions app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imary key consists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only one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nonprimary key attributes exist in th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nonprimary key attribute is functionally dependent on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ull s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primary key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version to 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convert a relation into 2NF, decompose the relation into new relations using the attributes, calle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at determine other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come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new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6753A3EF-021D-4DF9-BE55-0C8263109E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6:38Z</dcterms:modified>
  <cp:revision>15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