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BB73-8E74-4301-920F-2FCB552D181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EE42-5302-4BE5-9591-59F9B9AC97D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AD6B-4A30-4F31-B95D-0932BCA5916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75D9-CD6D-49A2-9DA3-6624003D3A5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4439-2168-4011-9695-14F30B79C6B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9EAB-EA5E-4419-8381-2D10F1B8782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A01D-8D68-47B8-8418-EB605033C22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2A88-80F3-465C-8C43-4EC9C729D1A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7D43-9A23-4417-A9F1-DB86916DB4A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C4B7-3ADF-406A-AEE2-CD66A3AE530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94A6-961A-4794-B9F7-3FA1F2B52AE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243D-8451-4B33-9A68-B1CE20D940F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57A5-12DD-46C2-9A33-1279CFC4731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4A39-EB46-43E2-83F9-B0BE9DF2E98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8E67-247E-4641-9CFB-99E49EB4168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4682-3800-406F-85B1-D8446E9C48E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3E48-3B5D-4EAE-8FD9-3F4D0256D20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BD00-4DA8-4950-86FB-C179552057A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3145-8468-4DA3-8934-938CC9AAD89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1CE2-8270-40AD-92B6-55D71B7C48C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7278-307F-4A8D-A3AD-7528F2E5419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A362-C337-40AB-869C-9272AC573DA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F1B3-3B00-4482-859A-B692635A797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D45D-E604-493D-8A1E-136A903697F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3D17-8255-44CC-BCDE-EBA5277E2E4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2987-1E80-4B47-B93C-3088E15D6F4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1818-952F-4273-9EC6-6B07D0E3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B23-4203-4B96-98FD-74C3EC13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E41-6B25-477C-A716-45C1CF370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6C58-FA60-4595-8FEA-AFE03EF3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ACD9-EC2F-4A18-A183-C3D11709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A913-1321-4074-ADFF-3B297170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0D9A-4439-4855-9D55-D2CDEAB0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8BAE-268E-4DEB-A72E-87BB0818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E5CC-8D44-43E6-B815-DB16D7F8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89B6-F9C8-49E6-9F48-F6F1ED59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7F37-216B-4039-BFBA-A1B0123D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4CE-0963-4C41-BFE3-F0D7DE1C4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06FC-E4FA-494D-8B4B-A8B8F570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ABC2-8A6E-4FC9-B981-0A677BF8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C377-2EBB-4F13-8D2D-8453339D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CE9E-DFD5-4157-9915-7E35C6980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3389-4645-4BDC-A570-FF37EA2C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804F-6209-4608-9569-1D9EB5B0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04DB-0DD6-46FC-ACDF-A02E6288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7CA-A4C6-404A-B3BC-F2A18BA6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7F9-20D4-440F-9E4B-059B347D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93F-7AA9-4219-9F38-964E7F76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B17-4EDE-40A7-A7BF-D1260667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6A3-8C35-4D99-8D7C-2CCCFEBE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2FA6-46CF-4169-8C7A-EAE3E4541F80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2162-AE9E-41C6-A743-6CB93D62E5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Designing Datab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50A05D54-C1CE-4DA9-8FF9-63AF4CC0DD1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nctional Dependencies and Primary K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316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ird Normal Form (3N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relation is in third normal form (3NF) if it is in second normal form (2NF) and there a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 function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transitive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pendenc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wo (or more) nonprimary key attrib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eign 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ttribute that appears as a nonprimary key attribute in one relation and as a primary key attribute (or part of a primary key) in another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ferential Integ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integrity constraint specifying that the value (or existence) of an attribute in one relation depends on the value (or existence) of the same attribute in another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E9337273-DF4F-4081-B491-2A7430903B3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forming E-R Diagrams into Re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238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useful to transform the conceptual data model into a set of normalized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resent ent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resent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rmalize the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rge the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resent Ent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regular entity type in E-R diagram is transformed into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dentifi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entity type become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imary ke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corresponding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rimary ke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satisfy the following two cond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value of the key must uniquely identify every row in the re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key should be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nonredund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DA68E89B-2018-493E-99B6-5C7796100DF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forming E-R Diagrams into Re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9480" y="15238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resent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nary one-to-many (1:N)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he primary key attribute (or attributes) of the entity on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e sid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relationship as a foreign key in the relation on the right 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e sid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igra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y si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nar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Unary one-to-one (1:1) Relatio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possible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he primary key of A as a foreign key of 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he primary key of B as a foreign key of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th of the abo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D2F52A63-090C-468E-89C1-7C5DE42FEC5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forming E-R Diagrams into Re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15235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nary and Higher M:N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reate another rel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include primary keys of all relations as primary key of new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ary 1:N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between instances of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ngle entity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tilize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cursive foreign 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oreign key in a relation that references the primary key values of that same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ary M:N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Create a separate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y key of new relation is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osi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wo attributes that both take their values from the same primary 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B2278F5B-203B-4F37-A125-76639116E38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CB9503F8-D384-4D22-8A05-DAAC763C208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90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nsforming E-R Diagrams into Re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rging Relations (View Integr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is to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remove redundant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ew Integration Probl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ynony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different names used for the same attrib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merging, get agreement from users on a single, standard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mony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ingle attribute name that is used for two or more different attrib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lved by creating a new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pendencies between nonk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pendencies may be created as a result of view integ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rder to resolve, the new relation must be normaliz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61B8FE9A-3BBE-461E-A284-FFA5CE394B8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ysical File and Database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ollowing information is requi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rmalized relations, including volume estim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tions of each attrib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ptions of where and when data are used, entered, retrieved, deleted and updated (including frequenc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ctations or requirements for response time and data integ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ptions of the technologies used for implementing the files and datab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C3298B99-E3FC-42F4-8037-414F48C0965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ing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16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mallest uni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named application data recognized by system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each relation will be represented as one or more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oosing data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oding scheme recognized by system software for representing organizational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imize storage sp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resent all possible values of the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data integrity of the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port all data manipulations desired on the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lculated (or computed or derived)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ield that can be derived from other database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322BD007-4F9E-4A5B-9338-F79FB7595EB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hods of Controlling Data Integ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fault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value a field will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su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nless an explicit value is entered for that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ange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range of values which can be entered into fi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ferential Integ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integrity constraint specifying that the value (or existence) of an attribute in one relati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pen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n the value (or existence) of the same attribute in another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ull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pecial field value, distinct from 0, blank, or any other value, that indicates that the value for the field i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ss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otherwis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FE40592E-927B-4D01-AC10-F169B15EAE0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ing Physical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al database is a set of related 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ysical 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amed set of rows and columns that specifies the fields in each row of the 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 Go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icient use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ondary storag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disk spa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ks are divided into units that can be read in one machine 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ace is used most efficiently when the physical length of a table row divides close to evenly with storage 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ici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are most efficiently processed when stored next to each other in secondary mem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C5CF478D-CA11-427F-986C-CA5F8E2040B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urpose of Database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the data in stable structures, called normalized 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likely to change over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nimal redunda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 logical database design that reflects actual data requirements that exists in forms and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 logical database design from which a physical database design can be develo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late a relational database model into a technical file and database design that balances several performance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data storage technologies that will efficiently, accurately and securely process databas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F96A3D8D-D480-4720-8C3B-C1BB861EE84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ing Physical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094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norma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splitting or combining normalized relations into physical tables based on affinity of use of rows and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ability to split a table into separate s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cle 8i implements three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ge – partitions defined by non overlapping range of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h – table row assigned to partition by an algorith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site – combines range and hash partitio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timizes certain operations at the expense of oth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normal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common situations where denormalization may be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entities with a one-to-one relation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any-to-many relationship with nonkey attribu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e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349EC9B9-AB79-472D-AA89-47B7AA95FB0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ing Physical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1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ranging Table R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ysical 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amed set of table rows stored in a contiguous section of secondary mem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table may be a physical file or whole database may be one file, depending on database management software utiliz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l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technique for physically arranging the records of a 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for choosing fil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data retrie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 throughput for processing trans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icient use of storage s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tection from failures or data lo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nimizing need for reorgan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ommodating grow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from unauthorized 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663C8257-3252-47B1-A97C-1046B07212B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ing Physical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480" y="15238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ypes of Fil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quent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ws in the file are stored in sequence according to a primary key val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ing and adding records may require rewriting the 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eting records results in wasted sp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dex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ows are stored either sequentially or nonsequentially and an index is created that allows software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dividual r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d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table used to determine the location of rows in a file that satisfy some cond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condary Inde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x based upon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bination of fiel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which more than one row may have same combination of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0BB017EF-24EA-4422-93E3-D150A07CD57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ing Physical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uidelines for choos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de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y a unique index for the primary key of each 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y an index for foreign k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y an index for nonkey fields that are referenced in qualification, sorting and grouping commands for the purpose of retriev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ashed Fil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address for each row is determined using 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80DAE34C-7DDC-46BF-B41F-6B6A466D972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46BF58DF-AA06-4781-BE8B-645B0469187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304920" y="458640"/>
            <a:ext cx="8610480" cy="568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signing Controls for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ckup Techniq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iodic backup of fi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action log or audit tr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lo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Security Techniq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ng or encryp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accoun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hibiting users from working directly with the data.  Users work with a copy which updates the files only after validation che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E97AFA16-5450-4274-B04C-4DEBE164192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ss of Database Desig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gical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ed upon the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nceptual data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key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a logical data model for each known user interface for the application using normalization princip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 normalized data requirements from all user interfaces into one consolidated logical database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late the conceptual E-R data model for the application into normalized data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re the consolidated logical database design with the translated E-R model and produce one final logical database model for the appl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64A4DCDE-A72E-4712-9E91-25F4040BE3E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ss of Database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cal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ed upon results of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database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decis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ing storage format for each attribute from the logical database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ing attributes from the logical database model into physical reco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ranging related records in secondary memory (hard disks and magnetic tapes) so that records can be stored, retrieved and updated rapid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ng media and structures for storing data to make access more effici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72D13C1D-2F95-40C1-976A-527068C04D1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database design must account for every data element on a system input or outp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ormalized relation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re the primary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ysical database design results in converting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lations into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D0C1F206-1C49-4C3B-A28F-ED6B78E2BCF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al Databas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6002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represented as a set of relate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b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amed, two-dimensional table of data.  Each relation consists of a set of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named colum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rbitrary numb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unnamed rows;   </a:t>
            </a:r>
            <a:r>
              <a:rPr b="1" lang="en-US" sz="1800" spc="-1" strike="noStrike">
                <a:solidFill>
                  <a:srgbClr val="ba2212"/>
                </a:solidFill>
                <a:latin typeface="Calibri"/>
              </a:rPr>
              <a:t>column – attribute;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9900"/>
                </a:solidFill>
                <a:latin typeface="Calibri"/>
              </a:rPr>
              <a:t>row – entity instance (recor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erties of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ies in cells ar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ies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lum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from the same set of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n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equence of columns can be interchanged without changing the meaning or use of the re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ows may be interchanged or stored in any seq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ell-Structured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relation that contains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inimum amount of redunda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allows users to insert, modify and delete the rows                 without errors or inconsist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AB3A2386-03E2-4E2D-B0EC-D63D378DFD4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rm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9480" y="15238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process of converting complex data structures into simple, stable data struct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rmalization is based on well-accepted principles and ru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are many rules and two such rules ar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cond Normal Form (2N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nonprimary key attribute is identified by the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whole ke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called full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functional dependenc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ird Normal Form (3N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nprimary key attributes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o not depe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each other (called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transitive dependenci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result of normalization is that every nonprimary key attribute depends upon the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whole primary k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7FC2E065-9524-4DA8-B429-2F825AEDB31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nctional Dependencies and Primary K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unctional Dependenc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particular relationship between two attributes. For a given relation, attribute B is functionally dependent on attribute A if, for every valid value of A, that value of A uniquely determines the value of B; represented as A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unctional dependence of B on A means that there can be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nly one valu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ach valu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Instan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or sample data) in a relation do not prove the existence of a functional depend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problem domain is most reliable method for identifying functional depend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imary K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ose value i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ross all occurrences of a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DC9227B3-1ABC-446B-94CA-0C098B6778B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unctional Dependencies and Primary Ke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econd Normal Form (2N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relation is in second normal form (2NF) if any of the following conditions appl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imary key consists of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only one attrib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nonprimary key attributes exist in the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ery nonprimary key attribute is functionally dependent on th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full se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primary key attrib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nversion to second normal form (2N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convert a relation into 2NF, decompose the relation into new relations using the attributes, called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determinan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at determine other attrib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determinan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come the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rimary ke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new re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</a:t>
            </a:r>
            <a:fld id="{4E6573AF-11F1-4895-B4AD-74920C2DFA8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cp:lastPrinted>2009-04-22T19:24:48Z</cp:lastPrinted>
  <dcterms:modified xsi:type="dcterms:W3CDTF">2015-02-06T15:46:38Z</dcterms:modified>
  <cp:revision>15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