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F37B-9E00-419C-A71D-7A3FA6170AC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20F4-546C-4C62-B47B-8D55D082FEDA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9DDE-EEEA-4627-A356-2E6DCD030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DE93-7946-4528-A142-0302C31BE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A421-0E29-4412-9C02-FEC96AE08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FE49-2044-4668-BC28-0D7F7CA03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9943E-7D7E-4B21-9C94-B2BECE5B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5A626-B208-485E-9B8F-0A19BEEB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5763B-84EC-47C2-8EFE-12ACCF5A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36D59-614B-48DA-824B-CF087F0D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26824-FCAF-4831-89CB-2D9CBACF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7057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9738D-7762-44A5-B7A1-B6BDF5CC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5AF7D-F5FA-4191-B05C-6BCA62FB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B802-70C1-4E6C-AA80-013A226708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83EE3-19DD-49DF-A523-24425981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77BA3-6B15-4445-AED6-E12734DA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049E2-FEB5-4146-8DA2-FB26B79F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88124-BDD9-4A51-9751-D94D4951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CD4C1-81ED-434E-93B1-3E68B175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AC2BF-C3D1-47CC-B33D-2A26770F1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58FA-3C4B-49F1-B140-50B169873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A85F-ED6E-45CA-9311-CA2390115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040" y="304560"/>
            <a:ext cx="67057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EBDE-BDDB-4BD1-8786-2F757E6ED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D158-FF4A-4DE7-BC98-BFE07715E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0D13-012D-409C-9D29-93798F588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C213-BE4E-4A21-969E-B61C5B110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305920" y="6283440"/>
            <a:ext cx="838080" cy="574560"/>
          </a:xfrm>
          <a:prstGeom prst="rect">
            <a:avLst/>
          </a:prstGeom>
          <a:solidFill>
            <a:srgbClr val="f9c8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-</a:t>
            </a:r>
            <a:fld id="{7EE64E46-9F4F-4D3B-BD66-D80220D919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9241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ncepts of Nursing-NUR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9241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B6BE-F464-4B69-899E-73BF32696DA4}" type="slidenum">
              <a:rPr b="0" lang="ar-SA" sz="1400" spc="-1" strike="noStrike">
                <a:solidFill>
                  <a:srgbClr val="49241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92417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58672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74640" y="26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01592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pic>
        <p:nvPicPr>
          <p:cNvPr id="93" name="Picture 9" descr="شعار الكلية"/>
          <p:cNvPicPr/>
          <p:nvPr/>
        </p:nvPicPr>
        <p:blipFill>
          <a:blip r:embed="rId1"/>
          <a:stretch/>
        </p:blipFill>
        <p:spPr>
          <a:xfrm>
            <a:off x="2971800" y="6094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1600200" y="2590920"/>
            <a:ext cx="48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Concepts of Nursing</a:t>
            </a:r>
            <a:r>
              <a:rPr b="0" lang="en-GB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492417"/>
                </a:solidFill>
                <a:latin typeface="Times New Roman"/>
                <a:ea typeface="Times New Roman"/>
              </a:rPr>
              <a:t>NUR 123</a:t>
            </a:r>
            <a:endParaRPr b="0" lang="en-US" sz="3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s and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refer to the facility’s approved li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abbreviations that can be misunderst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every entry with the date and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in chronologic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medications immediately after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your name after each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scriptive terms to chart exactly what was observed or d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rrect spelling and gramm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complete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ing a Medication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in the nurses’ progress 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and dosage of the me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f the practitioner who was notified of th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of the no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rsing interventions or medic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’s response to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rse is responsible for protecting the privacy and confidentiality of client interactions, assessments, and c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-Oriented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-Oriented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E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ing by Exception (C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ized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Management with Critical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rrative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the client’s status, interventions and treatments; response to treatments is in story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 charting is now being replaced by other form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rce-Oriented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rrative recording by each member (source) of the health care team on separate rec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 example the admission department has an admission sheet, nurses use the nurses’ notes, physicians have a physician notes, etc…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-Oriented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tructured, logical format called S.O.A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: subjec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: object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assessment (conclusion stated in a form of nursing diagnoses or client proble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: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flow sheets to record routine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P entries are usually made at least every 24 hours on any unresolved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IE Cha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oblem stat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: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: Patient reports pain at surgical incision  as 7/10 on 0 to 10 sc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: Given morphine 1mg IV at 233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: Patient reports pain as 1/10 at 235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ation as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 and recording are the major communication techniques used by health care provi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cus Ch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of identifying and organizing the narrative documentation of all client concer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 columnar format within the progress notes to distinguish the entry from other recordings in the narrative notes (Date &amp; Time, Focus, Progress n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ess notes are organized into: Data (D), Action (A), Response (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 of focus cha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280" y="17521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 &amp; Time        Focus:                                                  Progress no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5.Jan.201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ute pain related to surgical incision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: Patient reports pain as 7/10 on 0 to 10 scale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A: Given morphine 1mg IV at 2335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R: Patient reports pain as 1/10 at 2355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arting by Exception (C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rse documents only deviations from pre-established norms (document only abnormal or significant finding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lengthy, repetitive no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puterized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the quality of documentation and save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legibility and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s statistical analysis of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hods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se Manage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hodology for organizing client care through an illness, using a critical path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ritical pathway is a multidisciplinary plan or tool that specifies assessments, interventions, treatments and outcomes of health related problems a cross a time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es’ Progres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harge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ardex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as a reference throughout the shift and during change-of-shift re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data (e.g name, age, admission date, all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diagnoses and nursing diagn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orders, list of med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, diagnostic tests, or specific data on the 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low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information on flow sheets can be formatted to meet the specific needs of the client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e.g.: graphic sheets for vital signs, intake &amp; output record, MAR, skin assessment record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urses’ Progress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sed to document the client’s condition, problems and complaints, interventions, responses, achievement of outcom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for Record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harg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’s status at admission and dis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ef summary of client’s c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s and education outc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ved problems and continuing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  instr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al communication of data regarding the client’s health status, needs, treatments, outcomes, and respo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is based on the nurs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ation as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 is defined as written evidenc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actions between and among health professionals, clients, their families, and health care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dministration of tests, procedures, treatments, and client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ults or client’s response to these diagnostic tests and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king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e Reports and 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ly occur at change of shift (or when client is transferr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lking 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 in the client’s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Nursing, physician, interdisciplinary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ciden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document any unusual occurrence or accident in the delivery of client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elephone Reports and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transfers, communicate referrals, obtain client data, solve problems, inform a physician and/or client’s family members regarding a change in the client’s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 orders are documented in the nurses’ progress notes and the physician order sh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-</a:t>
            </a:r>
            <a:fld id="{EEDC3C7E-3F82-4B20-9D1F-99407199815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4 by Delmar Learning, a division of Thomson Learning, Inc.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8580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ing a Telephone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16-10"/>
          <p:cNvPicPr/>
          <p:nvPr/>
        </p:nvPicPr>
        <p:blipFill>
          <a:blip r:embed="rId1"/>
          <a:stretch/>
        </p:blipFill>
        <p:spPr>
          <a:xfrm>
            <a:off x="1206360" y="1981080"/>
            <a:ext cx="6350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es of Health Car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Responsibility and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and Practic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gal and Practice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formed con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eans that the client understands the reasons and risks of the proposed interv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nessing confirms that the person who signs the consent is compet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ommon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reviations an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ing a Medication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Common Vocabu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communication and lessens the chance of misunderstanding between members of the health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if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erase or obliterate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the reason for the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 and date the corr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epts of Nursing-NUR 123</a:t>
            </a:r>
            <a:endParaRPr b="0" lang="en-US" sz="1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ments of Effective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28" descr="16-2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257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30"/>
          <p:cNvSpPr/>
          <p:nvPr/>
        </p:nvSpPr>
        <p:spPr>
          <a:xfrm>
            <a:off x="1295280" y="64008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ng a documentation error</a:t>
            </a:r>
            <a:endParaRPr b="0" lang="en-US" sz="2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8:25:34Z</dcterms:created>
  <dc:creator>Karen Levine/Alan Gelb</dc:creator>
  <dc:description/>
  <dc:language>en-US</dc:language>
  <cp:lastModifiedBy>thamir al-wadani</cp:lastModifiedBy>
  <cp:lastPrinted>2001-01-26T20:09:44Z</cp:lastPrinted>
  <dcterms:modified xsi:type="dcterms:W3CDTF">2014-03-18T23:50:19Z</dcterms:modified>
  <cp:revision>121</cp:revision>
  <dc:subject/>
  <dc:title>Chapter 3</dc:title>
</cp:coreProperties>
</file>