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5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6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7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8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F0E90-4207-4A73-AEC3-89F343242DD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CC5EB-78A3-480D-BCDA-F5D28C94C951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74C82-C5A9-4C01-829F-014B41400E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402084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3977E-58F0-43C7-BE3E-6BD576763C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8020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21DF4-1533-4E8C-B968-8A56CD5CBF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92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9132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92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9132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DD0CB-E5F7-4AEB-AD22-02A80E016A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B007FB-119C-47AD-A529-8CFEB6C94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FF3D6A-4A3C-4178-B135-5679ACC6F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2D4CB3-6E2C-4632-84DC-BAE04F2AF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DD44A2-A287-486E-BF31-C5D0B7CCA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88BB3D-E68E-41E2-9154-C7D6512EE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057040" y="304560"/>
            <a:ext cx="67057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D40BE6-F796-4C02-B76A-74CF7C4B7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52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84C0ED-35E1-4DFD-9A2D-D14D53D7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D5337-E5DB-453D-842A-437C3A9CB3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8020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EEF9CB-8E0A-4264-B255-D578456F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402084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F9E3A4-03B2-4D3A-8BD9-923FF0DB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520" y="402084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AA6FFA-764C-4D55-9DCB-7A28B6371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52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8020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9CF4F9-93DD-4B6E-9E29-6F1E44CD5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92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9132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52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92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9132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E69B35-5DBE-47B7-A4AF-F6968D876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B8A08-FE4F-4873-A931-4CCE16FBD0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1E17C-1C0B-4631-9E21-188427D5C4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BFB24-DAD0-4D18-9954-D41B86F2D0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57040" y="304560"/>
            <a:ext cx="67057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6C7D4-5675-4999-BD21-6D8AECC787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5C7B8-33F1-4445-8FA2-6397B08C64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8020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E90E8-975A-49D8-BDD0-14692D820B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402084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BCA79-FEB8-4C0E-A7E3-F15BBB494F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305920" y="6283440"/>
            <a:ext cx="838080" cy="574560"/>
          </a:xfrm>
          <a:prstGeom prst="rect">
            <a:avLst/>
          </a:prstGeom>
          <a:solidFill>
            <a:srgbClr val="f9c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5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01028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-</a:t>
            </a:r>
            <a:fld id="{89DC7AC4-4336-42A0-A158-2E4A1D1B381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4924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4924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4924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4924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9241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92417"/>
                </a:solidFill>
                <a:latin typeface="Arial"/>
              </a:rPr>
              <a:t>Concepts of Nursing-NUR 1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92417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F65BB-E951-4EE7-A334-A59ADEABCB36}" type="slidenum">
              <a:rPr b="0" lang="ar-SA" sz="1400" spc="-1" strike="noStrike">
                <a:solidFill>
                  <a:srgbClr val="492417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92417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914400" y="4267080"/>
            <a:ext cx="58672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 and Repor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674640" y="263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015920" y="365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pic>
        <p:nvPicPr>
          <p:cNvPr id="93" name="Picture 9" descr="شعار الكلية"/>
          <p:cNvPicPr/>
          <p:nvPr/>
        </p:nvPicPr>
        <p:blipFill>
          <a:blip r:embed="rId1"/>
          <a:stretch/>
        </p:blipFill>
        <p:spPr>
          <a:xfrm>
            <a:off x="2971800" y="6094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0"/>
          <p:cNvSpPr/>
          <p:nvPr/>
        </p:nvSpPr>
        <p:spPr>
          <a:xfrm>
            <a:off x="1600200" y="2590920"/>
            <a:ext cx="4894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92417"/>
                </a:solidFill>
                <a:latin typeface="Times New Roman"/>
                <a:ea typeface="Times New Roman"/>
              </a:rPr>
              <a:t>Concepts of Nursing</a:t>
            </a:r>
            <a:r>
              <a:rPr b="0" lang="en-GB" sz="3200" spc="-1" strike="noStrike">
                <a:solidFill>
                  <a:srgbClr val="492417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492417"/>
                </a:solidFill>
                <a:latin typeface="Times New Roman"/>
                <a:ea typeface="Times New Roman"/>
              </a:rPr>
              <a:t>NUR 123</a:t>
            </a:r>
            <a:endParaRPr b="0" lang="en-US" sz="3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ments of Effective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breviations and Symb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ways refer to the facility’s approved lis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abbreviations that can be misunderst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ments of Effective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every entry with the date and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t in chronological or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t medications immediately after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 your name after each en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ments of Effective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descriptive terms to chart exactly what was observed or d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orrect spelling and gramm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complete sente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ments of Effective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ing a Medication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in the nurses’ progress n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 and dosage of the med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 of the practitioner who was notified of the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of the no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rsing interventions or medical trea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’s response to trea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ments of Effective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urse is responsible for protecting the privacy and confidentiality of client interactions, assessments, and c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Methods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ative Cha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-Oriented Cha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-Oriented Cha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E Cha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Cha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ting by Exception (CB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ized 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e Management with Critical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thods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arrative Char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s the client’s status, interventions and treatments; response to treatments is in story form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ative charting is now being replaced by other forma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thods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urce-Oriented Char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arrative recording by each member (source) of the health care team on separate record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r example the admission department has an admission sheet, nurses use the nurses’ notes, physicians have a physician notes, etc…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thods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blem-Oriented Char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a structured, logical format called S.O.A.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: subjectiv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: objectiv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: assessment (conclusion stated in a form of nursing diagnoses or client proble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: pl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flow sheets to record routine c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AP entries are usually made at least every 24 hours on any unresolved prob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thods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IE Char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oblem stat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:  Inter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: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: Patient reports pain at surgical incision  as 7/10 on 0 to 10 sc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: Given morphine 1mg IV at 233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 Patient reports pain as 1/10 at 235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cumentation as Commun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ing and recording are the major communication techniques used by health care provid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thods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cus Cha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ethod of identifying and organizing the narrative documentation of all client concer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a columnar format within the progress notes to distinguish the entry from other recordings in the narrative notes (Date &amp; Time, Focus, Progress no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gress notes are organized into: Data (D), Action (A), Response (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ple of focus char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52280" y="175212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e &amp; Time        Focus:                                                  Progress not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5.Jan.2011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ute pain related to surgical incision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: Patient reports pain as 7/10 on 0 to 10 scale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A: Given morphine 1mg IV at 2335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R: Patient reports pain as 1/10 at 2355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oter Placeholder 3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thods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harting by Exception (CB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urse documents only deviations from pre-established norms (document only abnormal or significant finding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s lengthy, repetitive no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thods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omputerized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s the quality of documentation and save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s legibility and accura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litates statistical analysis of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thods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se Management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thodology for organizing client care through an illness, using a critical path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ritical pathway is a multidisciplinary plan or tool that specifies assessments, interventions, treatments and outcomes of health related problems a cross a time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ms for Recording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r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w She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rses’ Progress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harge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ms for Recording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Kardex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used as a reference throughout the shift and during change-of-shift repor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data (e.g name, age, admission date, allerg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l diagnoses and nursing diagno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l orders, list of med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, diagnostic tests, or specific data on the 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ms for Recording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low She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information on flow sheets can be formatted to meet the specific needs of the client.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e.g.: graphic sheets for vital signs, intake &amp; output record, MAR, skin assessment record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urses’ Progress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sed to document the client’s condition, problems and complaints, interventions, responses, achievement of outcom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ms for Recording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scharge 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’s status at admission and dischar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ef summary of client’s c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entions and education outco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lved problems and continuing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err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  instru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por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bal communication of data regarding the client’s health status, needs, treatments, outcomes, and respo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ing is based on the nursing pro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cumentation as Commun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 is defined as written evidence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ractions between and among health professionals, clients, their families, and health care organiz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dministration of tests, procedures, treatments, and client edu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sults or client’s response to these diagnostic tests and interven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por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king R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ident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phone Reports and 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por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ummary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ly occur at change of shift (or when client is transferre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alking R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r in the client’s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Nursing, physician, interdisciplinary te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cident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document any unusual occurrence or accident in the delivery of client c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por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elephone Reports and 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transfers, communicate referrals, obtain client data, solve problems, inform a physician and/or client’s family members regarding a change in the client’s cond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ephone orders are documented in the nurses’ progress notes and the physician order she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3"/>
          <p:cNvSpPr/>
          <p:nvPr/>
        </p:nvSpPr>
        <p:spPr>
          <a:xfrm>
            <a:off x="701028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-</a:t>
            </a:r>
            <a:fld id="{B8958706-FCF5-40B2-980F-73E7E0387AD9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2004 by Delmar Learning, a division of Thomson Learning, Inc.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85800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cumenting a Telephone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7" descr="16-10"/>
          <p:cNvPicPr/>
          <p:nvPr/>
        </p:nvPicPr>
        <p:blipFill>
          <a:blip r:embed="rId1"/>
          <a:stretch/>
        </p:blipFill>
        <p:spPr>
          <a:xfrm>
            <a:off x="1206360" y="1981080"/>
            <a:ext cx="63500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poses of Health Care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Responsibility and Accoun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al and Practice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gal and Practice Stand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formed cons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means that the client understands the reasons and risks of the proposed interven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nessing confirms that the person who signs the consent is compet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ments of Effective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Common Vocabu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breviations and Symb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ing a Medication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ments of Effective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Common Vocabu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s communication and lessens the chance of misunderstanding between members of the health te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ments of Effective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t if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erase or obliterate wri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the reason for the err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 and date the corr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ments of Effective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028" descr="16-2"/>
          <p:cNvPicPr/>
          <p:nvPr/>
        </p:nvPicPr>
        <p:blipFill>
          <a:blip r:embed="rId1"/>
          <a:stretch/>
        </p:blipFill>
        <p:spPr>
          <a:xfrm>
            <a:off x="914400" y="1600200"/>
            <a:ext cx="7238880" cy="52578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030"/>
          <p:cNvSpPr/>
          <p:nvPr/>
        </p:nvSpPr>
        <p:spPr>
          <a:xfrm>
            <a:off x="1295280" y="640080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ing a documentation error</a:t>
            </a:r>
            <a:endParaRPr b="0" lang="en-US" sz="2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7T18:25:34Z</dcterms:created>
  <dc:creator>Karen Levine/Alan Gelb</dc:creator>
  <dc:description/>
  <dc:language>en-US</dc:language>
  <cp:lastModifiedBy>thamir al-wadani</cp:lastModifiedBy>
  <cp:lastPrinted>2001-01-26T20:09:44Z</cp:lastPrinted>
  <dcterms:modified xsi:type="dcterms:W3CDTF">2014-03-18T23:50:19Z</dcterms:modified>
  <cp:revision>121</cp:revision>
  <dc:subject/>
  <dc:title>Chapter 3</dc:title>
</cp:coreProperties>
</file>