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5400" spc="-1" strike="noStrike" u="sng">
              <a:solidFill>
                <a:srgbClr val="492417"/>
              </a:solidFill>
              <a:uFillTx/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6"/>
          </p:nvPr>
        </p:nvSpPr>
        <p:spPr>
          <a:xfrm>
            <a:off x="518112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7"/>
          </p:nvPr>
        </p:nvSpPr>
        <p:spPr>
          <a:xfrm>
            <a:off x="-36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8"/>
          </p:nvPr>
        </p:nvSpPr>
        <p:spPr>
          <a:xfrm>
            <a:off x="518112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ABDE7-E27B-4BC3-A84F-0DBC914B21EC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7E23C-0AED-4B09-9ADE-F50265CFD2B2}" type="slidenum">
              <a:rPr b="0" lang="ar-SA" sz="1200" spc="-1" strike="noStrike" u="sng">
                <a:solidFill>
                  <a:srgbClr val="492417"/>
                </a:solidFill>
                <a:uFillTx/>
                <a:latin typeface="Times New Roman"/>
                <a:ea typeface="Times New Roman"/>
              </a:rPr>
              <a:t>&lt;number&gt;</a:t>
            </a:fld>
            <a:endParaRPr b="0" lang="en-US" sz="1200" spc="-1" strike="noStrike" u="sng">
              <a:solidFill>
                <a:srgbClr val="492417"/>
              </a:solidFill>
              <a:uFillTx/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EA503E-4A6B-4C36-AE82-6C7BA67B7A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057040" y="304560"/>
            <a:ext cx="67057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8001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520" y="4020840"/>
            <a:ext cx="8001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7FA805-B955-4834-80B2-118DF13B44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057040" y="304560"/>
            <a:ext cx="67057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480200" y="175212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520" y="402084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480200" y="402084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68074A-01EA-403B-9761-638436F842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057040" y="304560"/>
            <a:ext cx="67057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257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85920" y="1752120"/>
            <a:ext cx="257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91320" y="1752120"/>
            <a:ext cx="257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520" y="4020840"/>
            <a:ext cx="257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85920" y="4020840"/>
            <a:ext cx="257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91320" y="4020840"/>
            <a:ext cx="257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6EA146-D184-4391-AFE9-5FD80496EB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DB1245-D408-48AE-A036-0BB28CC32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057040" y="304560"/>
            <a:ext cx="67057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80520" y="175212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950764-9DBA-48CF-897C-A16E6E66D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057040" y="304560"/>
            <a:ext cx="67057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C3138E-9609-457F-BCDB-4A24EEF8C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057040" y="304560"/>
            <a:ext cx="67057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3904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480200" y="1752120"/>
            <a:ext cx="3904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92756E-155C-4DD3-96B7-44CE7408F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057040" y="304560"/>
            <a:ext cx="67057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37097C-E853-4EEF-AF95-85B19E147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057040" y="304560"/>
            <a:ext cx="6705720" cy="50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34DFF1-5374-4714-B72D-9A6F1351D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057040" y="304560"/>
            <a:ext cx="67057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480200" y="1752120"/>
            <a:ext cx="3904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80520" y="402084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8574E4-C9BA-431A-80B9-B87224330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057040" y="304560"/>
            <a:ext cx="67057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520" y="175212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41535F-267F-4E83-A12E-C0610CA9CB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057040" y="304560"/>
            <a:ext cx="67057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3904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480200" y="175212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480200" y="402084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AFAEB9-6AD8-4FEE-B44C-192635AB3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057040" y="304560"/>
            <a:ext cx="67057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480200" y="175212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4020840"/>
            <a:ext cx="8001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BDEDD2-9970-4C9A-A7DA-08B0D880B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057040" y="304560"/>
            <a:ext cx="67057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8001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0520" y="4020840"/>
            <a:ext cx="8001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060DC9-5158-4014-9729-70D886B7E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057040" y="304560"/>
            <a:ext cx="67057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80200" y="175212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520" y="402084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480200" y="402084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9ABE20-8B70-44CF-99F0-228E01F56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057040" y="304560"/>
            <a:ext cx="67057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257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85920" y="1752120"/>
            <a:ext cx="257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791320" y="1752120"/>
            <a:ext cx="257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80520" y="4020840"/>
            <a:ext cx="257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85920" y="4020840"/>
            <a:ext cx="257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791320" y="4020840"/>
            <a:ext cx="257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8122A7-2F8D-474A-A34A-F4CA8AD1C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057040" y="304560"/>
            <a:ext cx="67057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7D20D4-5FED-4E20-98E3-A969533831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057040" y="304560"/>
            <a:ext cx="67057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3904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480200" y="1752120"/>
            <a:ext cx="3904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A8BA71-49BA-4F69-B08D-CA542114E3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057040" y="304560"/>
            <a:ext cx="67057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764C7A-CADD-4E9B-BAC0-7FC75F61A0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057040" y="304560"/>
            <a:ext cx="6705720" cy="50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E9D544-7EDA-4496-8885-09B3756652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057040" y="304560"/>
            <a:ext cx="67057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480200" y="1752120"/>
            <a:ext cx="3904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520" y="402084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D4003D-CE42-44E0-A29B-0AA19B94C6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057040" y="304560"/>
            <a:ext cx="67057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3904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80200" y="175212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480200" y="402084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366D26-E7B7-48E6-BFB3-10147B81C8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057040" y="304560"/>
            <a:ext cx="67057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480200" y="175212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520" y="4020840"/>
            <a:ext cx="8001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844AEC-81B6-4461-B0E9-CC732787A2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8305920" y="6283440"/>
            <a:ext cx="838080" cy="574560"/>
          </a:xfrm>
          <a:prstGeom prst="rect">
            <a:avLst/>
          </a:prstGeom>
          <a:solidFill>
            <a:srgbClr val="f9c8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5400" spc="-1" strike="noStrike" u="sng">
              <a:solidFill>
                <a:srgbClr val="492417"/>
              </a:solidFill>
              <a:uFillTx/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sldNum" idx="1"/>
          </p:nvPr>
        </p:nvSpPr>
        <p:spPr>
          <a:xfrm>
            <a:off x="701028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6-</a:t>
            </a:r>
            <a:fld id="{96FBEEAB-DF4F-48FD-BC22-6331B41B99C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2057040" y="304560"/>
            <a:ext cx="67057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380520" y="175212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49241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49241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0492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cepts of Nursing-NUR 12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7040" y="304560"/>
            <a:ext cx="67057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80520" y="175212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49241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49241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 u="sng">
              <a:solidFill>
                <a:srgbClr val="492417"/>
              </a:solidFill>
              <a:uFillTx/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92417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92417"/>
                </a:solidFill>
                <a:latin typeface="Arial"/>
              </a:rPr>
              <a:t>Concepts of Nursing-NUR 12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492417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626D8-F087-4050-951D-8733D37D3698}" type="slidenum">
              <a:rPr b="0" lang="ar-SA" sz="1400" spc="-1" strike="noStrike">
                <a:solidFill>
                  <a:srgbClr val="492417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92417"/>
                </a:solidFill>
                <a:latin typeface="Arial"/>
              </a:rPr>
              <a:t>Concepts of Nursing-NUR 123</a:t>
            </a:r>
            <a:endParaRPr b="0" lang="en-US" sz="1400" spc="-1" strike="noStrike" u="sng">
              <a:solidFill>
                <a:srgbClr val="492417"/>
              </a:solidFill>
              <a:uFillTx/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914400" y="4267080"/>
            <a:ext cx="58672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 and Repor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674640" y="263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 u="sng">
              <a:solidFill>
                <a:srgbClr val="492417"/>
              </a:solidFill>
              <a:uFillTx/>
              <a:latin typeface="Arial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1015920" y="3650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 u="sng">
              <a:solidFill>
                <a:srgbClr val="492417"/>
              </a:solidFill>
              <a:uFillTx/>
              <a:latin typeface="Arial"/>
            </a:endParaRPr>
          </a:p>
        </p:txBody>
      </p:sp>
      <p:pic>
        <p:nvPicPr>
          <p:cNvPr id="93" name="Picture 9" descr="شعار الكلية"/>
          <p:cNvPicPr/>
          <p:nvPr/>
        </p:nvPicPr>
        <p:blipFill>
          <a:blip r:embed="rId1"/>
          <a:stretch/>
        </p:blipFill>
        <p:spPr>
          <a:xfrm>
            <a:off x="2971800" y="609480"/>
            <a:ext cx="1905120" cy="175284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10"/>
          <p:cNvSpPr/>
          <p:nvPr/>
        </p:nvSpPr>
        <p:spPr>
          <a:xfrm>
            <a:off x="1600200" y="2590920"/>
            <a:ext cx="4894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92417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 u="sng">
              <a:solidFill>
                <a:srgbClr val="492417"/>
              </a:solidFill>
              <a:uFillTx/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92417"/>
                </a:solidFill>
                <a:latin typeface="Times New Roman"/>
                <a:ea typeface="Times New Roman"/>
              </a:rPr>
              <a:t>NUR 212</a:t>
            </a:r>
            <a:r>
              <a:rPr b="0" lang="ar-SA" sz="3200" spc="-1" strike="noStrike">
                <a:solidFill>
                  <a:srgbClr val="492417"/>
                </a:solidFill>
                <a:latin typeface="Times New Roman"/>
                <a:ea typeface="Times New Roman"/>
              </a:rPr>
              <a:t>-</a:t>
            </a:r>
            <a:r>
              <a:rPr b="0" lang="en-US" sz="3200" spc="-1" strike="noStrike">
                <a:solidFill>
                  <a:srgbClr val="492417"/>
                </a:solidFill>
                <a:latin typeface="Times New Roman"/>
                <a:ea typeface="Times New Roman"/>
              </a:rPr>
              <a:t>NUR211</a:t>
            </a:r>
            <a:endParaRPr b="0" lang="en-US" sz="3200" spc="-1" strike="noStrike" u="sng">
              <a:solidFill>
                <a:srgbClr val="492417"/>
              </a:solidFill>
              <a:uFillTx/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92417"/>
                </a:solidFill>
                <a:latin typeface="Times New Roman"/>
                <a:ea typeface="Times New Roman"/>
              </a:rPr>
              <a:t>Legal Aspects of Nursing</a:t>
            </a:r>
            <a:endParaRPr b="0" lang="en-US" sz="3200" spc="-1" strike="noStrike" u="sng">
              <a:solidFill>
                <a:srgbClr val="492417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Footer Placeholder 4"/>
          <p:cNvSpPr/>
          <p:nvPr/>
        </p:nvSpPr>
        <p:spPr>
          <a:xfrm>
            <a:off x="30492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cepts of Nursing-NUR 123</a:t>
            </a:r>
            <a:endParaRPr b="0" lang="en-US" sz="1400" spc="-1" strike="noStrike" u="sng">
              <a:solidFill>
                <a:srgbClr val="492417"/>
              </a:solidFill>
              <a:uFillTx/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057040" y="304560"/>
            <a:ext cx="6705720" cy="109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lements of Effective Docu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breviations and Symb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ways refer to the facility’s approved list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oid abbreviations that can be misundersto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Footer Placeholder 4"/>
          <p:cNvSpPr/>
          <p:nvPr/>
        </p:nvSpPr>
        <p:spPr>
          <a:xfrm>
            <a:off x="30492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 u="sng">
              <a:solidFill>
                <a:srgbClr val="492417"/>
              </a:solidFill>
              <a:uFillTx/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057040" y="304560"/>
            <a:ext cx="6705720" cy="109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lements of Effective Docu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80520" y="175248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gan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rt every entry with the date and ti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rt in chronological ord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rt medications immediately after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gn your name after each ent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Footer Placeholder 4"/>
          <p:cNvSpPr/>
          <p:nvPr/>
        </p:nvSpPr>
        <p:spPr>
          <a:xfrm>
            <a:off x="30492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 u="sng">
              <a:solidFill>
                <a:srgbClr val="492417"/>
              </a:solidFill>
              <a:uFillTx/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057040" y="304560"/>
            <a:ext cx="6705720" cy="109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lements of Effective Docu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descriptive terms to chart exactly what was observed or do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correct spelling and gramm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 complete sentenc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Footer Placeholder 4"/>
          <p:cNvSpPr/>
          <p:nvPr/>
        </p:nvSpPr>
        <p:spPr>
          <a:xfrm>
            <a:off x="30492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 u="sng">
              <a:solidFill>
                <a:srgbClr val="492417"/>
              </a:solidFill>
              <a:uFillTx/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057040" y="304560"/>
            <a:ext cx="6705720" cy="109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lements of Effective Docu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80520" y="175248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cumenting a Medication 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cument in the nurses’ progress not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me and dosage of the med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me of the practitioner who was notified of the err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me of the not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ursing interventions or medical trea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ent’s response to trea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ooter Placeholder 4"/>
          <p:cNvSpPr/>
          <p:nvPr/>
        </p:nvSpPr>
        <p:spPr>
          <a:xfrm>
            <a:off x="30492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 u="sng">
              <a:solidFill>
                <a:srgbClr val="492417"/>
              </a:solidFill>
              <a:uFillTx/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057040" y="304560"/>
            <a:ext cx="6705720" cy="109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lements of Effective Docu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fidenti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nurse is responsible for protecting the privacy and confidentiality of client interactions, assessments, and ca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Footer Placeholder 4"/>
          <p:cNvSpPr/>
          <p:nvPr/>
        </p:nvSpPr>
        <p:spPr>
          <a:xfrm>
            <a:off x="30492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 u="sng">
              <a:solidFill>
                <a:srgbClr val="492417"/>
              </a:solidFill>
              <a:uFillTx/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057040" y="304560"/>
            <a:ext cx="6705720" cy="109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Methods of Docu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ative Char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urce-Oriented Char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blem-Oriented Char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IE Char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cus Char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rting by Exception (CB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erized Docu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se Management with Critical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Footer Placeholder 4"/>
          <p:cNvSpPr/>
          <p:nvPr/>
        </p:nvSpPr>
        <p:spPr>
          <a:xfrm>
            <a:off x="30492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 u="sng">
              <a:solidFill>
                <a:srgbClr val="492417"/>
              </a:solidFill>
              <a:uFillTx/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057040" y="304560"/>
            <a:ext cx="6705720" cy="109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ethods of Docu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Narrative Char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s the client’s status, interventions and treatments; response to treatments is in story forma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ative charting is now being replaced by other forma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Footer Placeholder 4"/>
          <p:cNvSpPr/>
          <p:nvPr/>
        </p:nvSpPr>
        <p:spPr>
          <a:xfrm>
            <a:off x="30492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 u="sng">
              <a:solidFill>
                <a:srgbClr val="492417"/>
              </a:solidFill>
              <a:uFillTx/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057040" y="304560"/>
            <a:ext cx="6705720" cy="109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ethods of Docu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ource-Oriented Char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arrative recording by each member (source) of the health care team on separate records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r example the admission department has an admission sheet, nurses use the nurses’ notes, physicians have a physician notes, etc…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Footer Placeholder 4"/>
          <p:cNvSpPr/>
          <p:nvPr/>
        </p:nvSpPr>
        <p:spPr>
          <a:xfrm>
            <a:off x="30492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cepts of Nursing-NUR 123</a:t>
            </a:r>
            <a:endParaRPr b="0" lang="en-US" sz="1400" spc="-1" strike="noStrike" u="sng">
              <a:solidFill>
                <a:srgbClr val="492417"/>
              </a:solidFill>
              <a:uFillTx/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057040" y="304560"/>
            <a:ext cx="6705720" cy="109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ethods of Docu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28240" y="19051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roblem-Oriented Char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s a structured, logical format called S.O.A.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: subjective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: objective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: assessment (conclusion stated in a form of nursing diagnoses or client problem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: pla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s flow sheets to record routine c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AP entries are usually made at least every 24 hours on any unresolved probl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Footer Placeholder 4"/>
          <p:cNvSpPr/>
          <p:nvPr/>
        </p:nvSpPr>
        <p:spPr>
          <a:xfrm>
            <a:off x="30492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cepts of Nursing-NUR 123</a:t>
            </a:r>
            <a:endParaRPr b="0" lang="en-US" sz="1400" spc="-1" strike="noStrike" u="sng">
              <a:solidFill>
                <a:srgbClr val="492417"/>
              </a:solidFill>
              <a:uFillTx/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057040" y="304560"/>
            <a:ext cx="6705720" cy="109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ethods of Docu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80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IE Char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: Problem state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:  Interven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: Eval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xamp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: Patient reports pain at surgical incision  as 7/10 on 0 to 10 sca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 : Given morphine 1mg IV at 2335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 : Patient reports pain as 1/10 at 2355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Footer Placeholder 4"/>
          <p:cNvSpPr/>
          <p:nvPr/>
        </p:nvSpPr>
        <p:spPr>
          <a:xfrm>
            <a:off x="30492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cepts of Nursing-NUR 123</a:t>
            </a:r>
            <a:endParaRPr b="0" lang="en-US" sz="1400" spc="-1" strike="noStrike" u="sng">
              <a:solidFill>
                <a:srgbClr val="492417"/>
              </a:solidFill>
              <a:uFillTx/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057040" y="304560"/>
            <a:ext cx="6705720" cy="109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ocumentation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orting and recording are the major communication techniques used by health care provid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Footer Placeholder 4"/>
          <p:cNvSpPr/>
          <p:nvPr/>
        </p:nvSpPr>
        <p:spPr>
          <a:xfrm>
            <a:off x="30492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cepts of Nursing-NUR 123</a:t>
            </a:r>
            <a:endParaRPr b="0" lang="en-US" sz="1400" spc="-1" strike="noStrike" u="sng">
              <a:solidFill>
                <a:srgbClr val="492417"/>
              </a:solidFill>
              <a:uFillTx/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057040" y="304560"/>
            <a:ext cx="6705720" cy="109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ethods of Docu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Focus Char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method of identifying and organizing the narrative documentation of all client concern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s a columnar format within the progress notes to distinguish the entry from other recordings in the narrative notes (Date &amp; Time, Focus, Progress not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ogress notes are organized into: Data (D), Action (A), Response (R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057040" y="304560"/>
            <a:ext cx="6705720" cy="109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xample of focus char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152280" y="1752120"/>
            <a:ext cx="87631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e &amp; Time        Focus:                                                  Progress not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5.Jan.2011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cute pain related to surgical incision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: Patient reports pain as 7/10 on 0 to 10 scale.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A: Given morphine 1mg IV at 2335.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R: Patient reports pain as 1/10 at 2355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Footer Placeholder 3"/>
          <p:cNvSpPr/>
          <p:nvPr/>
        </p:nvSpPr>
        <p:spPr>
          <a:xfrm>
            <a:off x="30492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cepts of Nursing-NUR 123</a:t>
            </a:r>
            <a:endParaRPr b="0" lang="en-US" sz="1400" spc="-1" strike="noStrike" u="sng">
              <a:solidFill>
                <a:srgbClr val="492417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Footer Placeholder 4"/>
          <p:cNvSpPr/>
          <p:nvPr/>
        </p:nvSpPr>
        <p:spPr>
          <a:xfrm>
            <a:off x="30492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cepts of Nursing-NUR 123</a:t>
            </a:r>
            <a:endParaRPr b="0" lang="en-US" sz="1400" spc="-1" strike="noStrike" u="sng">
              <a:solidFill>
                <a:srgbClr val="492417"/>
              </a:solidFill>
              <a:uFillTx/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304560"/>
            <a:ext cx="6705720" cy="109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ethods of Docu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harting by Exception (CB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nurse documents only deviations from pre-established norms (document only abnormal or significant finding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oids lengthy, repetitive no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Footer Placeholder 4"/>
          <p:cNvSpPr/>
          <p:nvPr/>
        </p:nvSpPr>
        <p:spPr>
          <a:xfrm>
            <a:off x="30492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cepts of Nursing-NUR 123</a:t>
            </a:r>
            <a:endParaRPr b="0" lang="en-US" sz="1400" spc="-1" strike="noStrike" u="sng">
              <a:solidFill>
                <a:srgbClr val="492417"/>
              </a:solidFill>
              <a:uFillTx/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057040" y="304560"/>
            <a:ext cx="6705720" cy="109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ethods of Docu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520" y="1752480"/>
            <a:ext cx="80010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Computerized Docu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es the quality of documentation and save ti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es legibility and accurac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cilitates statistical analysis of da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Footer Placeholder 4"/>
          <p:cNvSpPr/>
          <p:nvPr/>
        </p:nvSpPr>
        <p:spPr>
          <a:xfrm>
            <a:off x="30492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cepts of Nursing-NUR 123</a:t>
            </a:r>
            <a:endParaRPr b="0" lang="en-US" sz="1400" spc="-1" strike="noStrike" u="sng">
              <a:solidFill>
                <a:srgbClr val="492417"/>
              </a:solidFill>
              <a:uFillTx/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057040" y="304560"/>
            <a:ext cx="6705720" cy="109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ethods of Docu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ase Management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methodology for organizing client care through an illness, using a critical pathw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critical pathway is a multidisciplinary plan or tool that specifies assessments, interventions, treatments and outcomes of health related problems a cross a time li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Footer Placeholder 4"/>
          <p:cNvSpPr/>
          <p:nvPr/>
        </p:nvSpPr>
        <p:spPr>
          <a:xfrm>
            <a:off x="30492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cepts of Nursing-NUR 123</a:t>
            </a:r>
            <a:endParaRPr b="0" lang="en-US" sz="1400" spc="-1" strike="noStrike" u="sng">
              <a:solidFill>
                <a:srgbClr val="492417"/>
              </a:solidFill>
              <a:uFillTx/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057040" y="304560"/>
            <a:ext cx="6705720" cy="109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rms for Recording 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ar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ow She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rses’ Progress No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harge Summ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Footer Placeholder 4"/>
          <p:cNvSpPr/>
          <p:nvPr/>
        </p:nvSpPr>
        <p:spPr>
          <a:xfrm>
            <a:off x="30492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cepts of Nursing-NUR 123</a:t>
            </a:r>
            <a:endParaRPr b="0" lang="en-US" sz="1400" spc="-1" strike="noStrike" u="sng">
              <a:solidFill>
                <a:srgbClr val="492417"/>
              </a:solidFill>
              <a:uFillTx/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057040" y="304560"/>
            <a:ext cx="6705720" cy="109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rms for Recording 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80520" y="175248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Kardex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used as a reference throughout the shift and during change-of-shift repor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ent data (e.g name, age, admission date, allerg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dical diagnoses and nursing diagno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dical orders, list of med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ities, diagnostic tests, or specific data on the 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Footer Placeholder 4"/>
          <p:cNvSpPr/>
          <p:nvPr/>
        </p:nvSpPr>
        <p:spPr>
          <a:xfrm>
            <a:off x="30492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cepts of Nursing-NUR 123</a:t>
            </a:r>
            <a:endParaRPr b="0" lang="en-US" sz="1400" spc="-1" strike="noStrike" u="sng">
              <a:solidFill>
                <a:srgbClr val="492417"/>
              </a:solidFill>
              <a:uFillTx/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057040" y="304560"/>
            <a:ext cx="6705720" cy="109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rms for Recording 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80520" y="175248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Flow She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e information on flow sheets can be formatted to meet the specific needs of the client. 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(e.g.: graphic sheets for vital signs, intake &amp; output record, MAR, skin assessment record)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Nurses’ Progress No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Used to document the client’s condition, problems and complaints, interventions, responses, achievement of outcomes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Footer Placeholder 4"/>
          <p:cNvSpPr/>
          <p:nvPr/>
        </p:nvSpPr>
        <p:spPr>
          <a:xfrm>
            <a:off x="30492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cepts of Nursing-NUR 123</a:t>
            </a:r>
            <a:endParaRPr b="0" lang="en-US" sz="1400" spc="-1" strike="noStrike" u="sng">
              <a:solidFill>
                <a:srgbClr val="492417"/>
              </a:solidFill>
              <a:uFillTx/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057040" y="304560"/>
            <a:ext cx="6705720" cy="109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rms for Recording 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80520" y="1752480"/>
            <a:ext cx="80010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ischarge Summ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ent’s status at admission and dischar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ief summary of client’s ca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ventions and education outcom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olved problems and continuing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ferra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ent  instruc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Footer Placeholder 4"/>
          <p:cNvSpPr/>
          <p:nvPr/>
        </p:nvSpPr>
        <p:spPr>
          <a:xfrm>
            <a:off x="30492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cepts of Nursing-NUR 123</a:t>
            </a:r>
            <a:endParaRPr b="0" lang="en-US" sz="1400" spc="-1" strike="noStrike" u="sng">
              <a:solidFill>
                <a:srgbClr val="492417"/>
              </a:solidFill>
              <a:uFillTx/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057040" y="304560"/>
            <a:ext cx="6705720" cy="109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por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80520" y="175248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bal communication of data regarding the client’s health status, needs, treatments, outcomes, and respon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orting is based on the nursing proce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Footer Placeholder 4"/>
          <p:cNvSpPr/>
          <p:nvPr/>
        </p:nvSpPr>
        <p:spPr>
          <a:xfrm>
            <a:off x="30492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cepts of Nursing-NUR 123</a:t>
            </a:r>
            <a:endParaRPr b="0" lang="en-US" sz="1400" spc="-1" strike="noStrike" u="sng">
              <a:solidFill>
                <a:srgbClr val="492417"/>
              </a:solidFill>
              <a:uFillTx/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057040" y="304560"/>
            <a:ext cx="6705720" cy="109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ocumentation as Commun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520" y="175248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 is defined as written evidence of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interactions between and among health professionals, clients, their families, and health care organiza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dministration of tests, procedures, treatments, and client educ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sults or client’s response to these diagnostic tests and interven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Footer Placeholder 4"/>
          <p:cNvSpPr/>
          <p:nvPr/>
        </p:nvSpPr>
        <p:spPr>
          <a:xfrm>
            <a:off x="30492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cepts of Nursing-NUR 123</a:t>
            </a:r>
            <a:endParaRPr b="0" lang="en-US" sz="1400" spc="-1" strike="noStrike" u="sng">
              <a:solidFill>
                <a:srgbClr val="492417"/>
              </a:solidFill>
              <a:uFillTx/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057040" y="304560"/>
            <a:ext cx="6705720" cy="109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por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mmary Rep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king R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ident Rep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lephone Reports and Or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Footer Placeholder 4"/>
          <p:cNvSpPr/>
          <p:nvPr/>
        </p:nvSpPr>
        <p:spPr>
          <a:xfrm>
            <a:off x="30492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 u="sng">
              <a:solidFill>
                <a:srgbClr val="492417"/>
              </a:solidFill>
              <a:uFillTx/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057040" y="304560"/>
            <a:ext cx="6705720" cy="109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por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ummary Repo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only occur at change of shift (or when client is transferre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Walking Rou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cur in the client’s ro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 Nursing, physician, interdisciplinary tea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Incident Repo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to document any unusual occurrence or accident in the delivery of client c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Footer Placeholder 4"/>
          <p:cNvSpPr/>
          <p:nvPr/>
        </p:nvSpPr>
        <p:spPr>
          <a:xfrm>
            <a:off x="30492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cepts of Nursing-NUR 123</a:t>
            </a:r>
            <a:endParaRPr b="0" lang="en-US" sz="1400" spc="-1" strike="noStrike" u="sng">
              <a:solidFill>
                <a:srgbClr val="492417"/>
              </a:solidFill>
              <a:uFillTx/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057040" y="304560"/>
            <a:ext cx="6705720" cy="109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por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elephone Reports and Or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 transfers, communicate referrals, obtain client data, solve problems, inform a physician and/or client’s family members regarding a change in the client’s condi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lephone orders are documented in the nurses’ progress notes and the physician order shee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Slide Number Placeholder 3"/>
          <p:cNvSpPr/>
          <p:nvPr/>
        </p:nvSpPr>
        <p:spPr>
          <a:xfrm>
            <a:off x="701028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6-</a:t>
            </a:r>
            <a:fld id="{2C2EA268-E20A-4982-ACDD-5D27AA674E33}" type="slidenum">
              <a:rPr b="0" lang="ar-SA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 u="sng">
              <a:solidFill>
                <a:srgbClr val="492417"/>
              </a:solidFill>
              <a:uFillTx/>
              <a:latin typeface="Arial"/>
            </a:endParaRPr>
          </a:p>
        </p:txBody>
      </p:sp>
      <p:sp>
        <p:nvSpPr>
          <p:cNvPr id="190" name="Footer Placeholder 4"/>
          <p:cNvSpPr/>
          <p:nvPr/>
        </p:nvSpPr>
        <p:spPr>
          <a:xfrm>
            <a:off x="30492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pyright 2004 by Delmar Learning, a division of Thomson Learning, Inc.</a:t>
            </a:r>
            <a:endParaRPr b="0" lang="en-US" sz="1400" spc="-1" strike="noStrike" u="sng">
              <a:solidFill>
                <a:srgbClr val="492417"/>
              </a:solidFill>
              <a:uFillTx/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057400" y="304560"/>
            <a:ext cx="6858000" cy="109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ocumenting a Telephone Or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7" descr="16-10"/>
          <p:cNvPicPr/>
          <p:nvPr/>
        </p:nvPicPr>
        <p:blipFill>
          <a:blip r:embed="rId1"/>
          <a:stretch/>
        </p:blipFill>
        <p:spPr>
          <a:xfrm>
            <a:off x="1206360" y="1981080"/>
            <a:ext cx="635004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Footer Placeholder 4"/>
          <p:cNvSpPr/>
          <p:nvPr/>
        </p:nvSpPr>
        <p:spPr>
          <a:xfrm>
            <a:off x="30492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cepts of Nursing-NUR 123</a:t>
            </a:r>
            <a:endParaRPr b="0" lang="en-US" sz="1400" spc="-1" strike="noStrike" u="sng">
              <a:solidFill>
                <a:srgbClr val="492417"/>
              </a:solidFill>
              <a:uFillTx/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057040" y="304560"/>
            <a:ext cx="6705720" cy="109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urposes of Health Care Docu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essional Responsibility and Accoun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u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gal and Practice Standa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Footer Placeholder 4"/>
          <p:cNvSpPr/>
          <p:nvPr/>
        </p:nvSpPr>
        <p:spPr>
          <a:xfrm>
            <a:off x="30492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cepts of Nursing-NUR 123</a:t>
            </a:r>
            <a:endParaRPr b="0" lang="en-US" sz="1400" spc="-1" strike="noStrike" u="sng">
              <a:solidFill>
                <a:srgbClr val="492417"/>
              </a:solidFill>
              <a:uFillTx/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057040" y="304560"/>
            <a:ext cx="6705720" cy="109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gal and Practice Standar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formed cons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means that the client understands the reasons and risks of the proposed interven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nessing confirms that the person who signs the consent is compet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Footer Placeholder 4"/>
          <p:cNvSpPr/>
          <p:nvPr/>
        </p:nvSpPr>
        <p:spPr>
          <a:xfrm>
            <a:off x="30492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cepts of Nursing-NUR 123</a:t>
            </a:r>
            <a:endParaRPr b="0" lang="en-US" sz="1400" spc="-1" strike="noStrike" u="sng">
              <a:solidFill>
                <a:srgbClr val="492417"/>
              </a:solidFill>
              <a:uFillTx/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057040" y="304560"/>
            <a:ext cx="6705720" cy="109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lements of Effective Docu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8001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f Common Vocabul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g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breviations and Symb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ga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cumenting a Medication E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fidenti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Footer Placeholder 4"/>
          <p:cNvSpPr/>
          <p:nvPr/>
        </p:nvSpPr>
        <p:spPr>
          <a:xfrm>
            <a:off x="30492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cepts of Nursing-NUR 123</a:t>
            </a:r>
            <a:endParaRPr b="0" lang="en-US" sz="1400" spc="-1" strike="noStrike" u="sng">
              <a:solidFill>
                <a:srgbClr val="492417"/>
              </a:solidFill>
              <a:uFillTx/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057040" y="304560"/>
            <a:ext cx="6705720" cy="109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lements of Effective Docu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of Common Vocabul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roves communication and lessens the chance of misunderstanding between members of the health tea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Footer Placeholder 4"/>
          <p:cNvSpPr/>
          <p:nvPr/>
        </p:nvSpPr>
        <p:spPr>
          <a:xfrm>
            <a:off x="30492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 u="sng">
              <a:solidFill>
                <a:srgbClr val="492417"/>
              </a:solidFill>
              <a:uFillTx/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057040" y="304560"/>
            <a:ext cx="6705720" cy="109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lements of Effective Docu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gi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nt if necessa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not erase or obliterate writ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the reason for the err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gn and date the corre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Footer Placeholder 4"/>
          <p:cNvSpPr/>
          <p:nvPr/>
        </p:nvSpPr>
        <p:spPr>
          <a:xfrm>
            <a:off x="30492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cepts of Nursing-NUR 123</a:t>
            </a:r>
            <a:endParaRPr b="0" lang="en-US" sz="1400" spc="-1" strike="noStrike" u="sng">
              <a:solidFill>
                <a:srgbClr val="492417"/>
              </a:solidFill>
              <a:uFillTx/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057040" y="304560"/>
            <a:ext cx="6705720" cy="109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lements of Effective Docu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1028" descr="16-2"/>
          <p:cNvPicPr/>
          <p:nvPr/>
        </p:nvPicPr>
        <p:blipFill>
          <a:blip r:embed="rId1"/>
          <a:stretch/>
        </p:blipFill>
        <p:spPr>
          <a:xfrm>
            <a:off x="914400" y="1600200"/>
            <a:ext cx="7238880" cy="525780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1030"/>
          <p:cNvSpPr/>
          <p:nvPr/>
        </p:nvSpPr>
        <p:spPr>
          <a:xfrm>
            <a:off x="1295280" y="6400800"/>
            <a:ext cx="586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recting a documentation error</a:t>
            </a:r>
            <a:endParaRPr b="0" lang="en-US" sz="2400" spc="-1" strike="noStrike" u="sng">
              <a:solidFill>
                <a:srgbClr val="492417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07T18:25:34Z</dcterms:created>
  <dc:creator>Karen Levine/Alan Gelb</dc:creator>
  <dc:description/>
  <dc:language>en-US</dc:language>
  <cp:lastModifiedBy>ACER</cp:lastModifiedBy>
  <cp:lastPrinted>2001-01-26T20:09:44Z</cp:lastPrinted>
  <dcterms:modified xsi:type="dcterms:W3CDTF">2012-03-07T06:09:10Z</dcterms:modified>
  <cp:revision>126</cp:revision>
  <dc:subject/>
  <dc:title>Chapter 3</dc:title>
</cp:coreProperties>
</file>