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00B5-6D18-4355-8F9B-FBF440209F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011-2E21-4688-B2F9-98150AF7A06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719F-52F4-40FD-91FE-60EC9CFDC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912D-4D75-42DB-B534-8975C3DF2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C172-AB61-4369-96A2-19DEDCEB9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6515-FDB0-44D2-90BE-20E2BEAA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A7FE-6282-45E7-BCD6-BE8B7BB2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96B8D-9B35-443C-AD94-D8817A38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0E79-93B8-4F0F-89F9-54F8A96F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3B025-9661-473E-96CE-234C128B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5FFF-8CA6-469B-A3A3-24B9AF2E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D2DF0-C414-46A8-8A4A-57A99161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EB70-5B33-4474-B891-B8B0F55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D84F-8D79-4030-A994-570888057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A2D73-1450-4040-8694-10D51776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9515E-FD04-4E44-B259-396CAFF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632FF-57E7-4A3A-8E58-E23F99C0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D66CF-9618-457E-AD7E-9FB00F8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44C44-5533-423A-BD85-2E88D988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66AC-0FC9-4509-AE8C-809CA4AD7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2341-B370-4F0C-B1B9-891F6FBD8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7A49-205E-4988-9469-29B6FC34B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D234-16D3-479A-BD4A-7F2E9E0D7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BE99-B574-4C9E-AE8D-21D53D5E4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6F52-BECA-46AF-B801-8B68D290D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E1F0-D954-4C04-9705-A2BFBAD67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9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0AD098B8-484B-4511-831C-FF4E0B3CDA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5416-0CB0-462C-8CCF-B91AE62BE07C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3" name="Picture 9" descr="شعار الكلية"/>
          <p:cNvPicPr/>
          <p:nvPr/>
        </p:nvPicPr>
        <p:blipFill>
          <a:blip r:embed="rId1"/>
          <a:stretch/>
        </p:blipFill>
        <p:spPr>
          <a:xfrm>
            <a:off x="2971800" y="609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600200" y="259092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212</a:t>
            </a:r>
            <a:r>
              <a:rPr b="0" lang="ar-SA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211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Legal Aspects of Nursing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fer to the facility’s approved li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bbreviations that can be mis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every entry with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in chrono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medications immediately after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your name after each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scriptive terms to chart exactly what was observed or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rrect spelling and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mple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in the nurses’ progress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d dosag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practitioner who was notified of th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th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ing interventions or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response to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is responsible for protecting the privacy and confidentiality of client interactions, assessments, and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ing by Exception (C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ment with Critic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rrativ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client’s status, interventions and treatments; response to treatments is in story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 is now being replaced by other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rrative recording by each member (source) of the health care team on separate rec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the admission department has an admission sheet, nurses use the nurses’ notes, physicians have a physician notes, etc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tructured, logical format called S.O.A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: su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: o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ssessment (conclusion stated in a form of nursing diagnoses or client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low sheets to record routine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entries are usually made at least every 24 hours on any unresolv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oblem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atient reports pain at surgical incision  as 7/10 on 0 to 10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Given morphine 1mg IV at 23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 Patient reports pain as 1/10 at 235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nd recording are the major communication techniques used by health care provi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of identifying and organizing the narrative documentation of all client 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lumnar format within the progress notes to distinguish the entry from other recordings in the narrative notes (Date &amp; Time, Focus, Progress n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ess notes are organized into: Data (D), Action (A), Response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focus ch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&amp; Time        Focus:                                                  Progress no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.Jan.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ute pain related to surgical incision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: Patient reports pain as 7/10 on 0 to 10 scal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A: Given morphine 1mg IV at 2335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R: Patient reports pain as 1/10 at 2355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ting by Exception (C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documents only deviations from pre-established norms (document only abnormal or significant findin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lengthy, repetitive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uterized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quality of documentation and sav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legibility and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tatistical analysis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Mana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ology for organizing client care through an illness, using a critical path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itical pathway is a multidisciplinary plan or tool that specifies assessments, interventions, treatments and outcomes of health related problems a cross a ti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’ Progre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rde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as a reference throughout the shift and during change-of-shift re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data (e.g name, age, admission date, all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agnoses and nursing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ders, list of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, diagnostic tests, or specific data on the 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formation on flow sheets can be formatted to meet the specific needs of the client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e.g.: graphic sheets for vital signs, intake &amp; output record, MAR, skin assessment record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rses’ Progre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document the client’s condition, problems and complaints, interventions, responses, achievement of outco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status at admission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 summary of client’s 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and education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d problems and continuing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munication of data regarding the client’s health status, needs, treatments, outcomes,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s based on the nur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is defined as written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between and among health professionals, clients, their families, and health car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ministration of tests, procedures, treatments, and client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r client’s response to these diagnostic test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Reports and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occur at change of shift (or when client is transfer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ing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 in the client’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ursing, physician, interdisciplinary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y unusual occurrence or accident in the delivery of clien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phone Reports and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ransfers, communicate referrals, obtain client data, solve problems, inform a physician and/or client’s family members regarding a change in the client’s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orders are documented in the nurses’ progress notes and the physician order 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CAB12228-6E82-47F3-8453-8D01458B3FE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ing a Telepho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16-10"/>
          <p:cNvPicPr/>
          <p:nvPr/>
        </p:nvPicPr>
        <p:blipFill>
          <a:blip r:embed="rId1"/>
          <a:stretch/>
        </p:blipFill>
        <p:spPr>
          <a:xfrm>
            <a:off x="1206360" y="1981080"/>
            <a:ext cx="6350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s of Health Car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ans that the client understands the reasons and risks of the propos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ing confirms that the person who signs the consent is compe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communication and lessens the chance of misunderstanding between members of the health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rase or obliterat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reason for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and date the cor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8" descr="16-2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1295280" y="6400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a documentation error</a:t>
            </a:r>
            <a:endParaRPr b="0" lang="en-US" sz="2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ACER</cp:lastModifiedBy>
  <cp:lastPrinted>2001-01-26T20:09:44Z</cp:lastPrinted>
  <dcterms:modified xsi:type="dcterms:W3CDTF">2012-03-07T06:09:10Z</dcterms:modified>
  <cp:revision>126</cp:revision>
  <dc:subject/>
  <dc:title>Chapter 3</dc:title>
</cp:coreProperties>
</file>