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473B-0603-4409-9693-9A3C299E7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8084-23E9-4718-9A26-B4E999494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3718-9080-4C03-A574-625A1871B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02C7-0AD3-4AFA-AB4F-CAF6E3503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4283-0468-4D37-B6F0-C1EABCC62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2084-C0BA-443E-9CB2-C14E61AE0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3F1B-D6CA-4933-967D-E28321851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305E-A5FD-4214-9D6B-6C72BE04C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4943-A815-4406-ABB0-C786D9DEE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637E-51D1-45F0-B06F-44D463CDB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4252-FFD1-41DE-9AF4-A0A40AC98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ABB7-70F4-4434-87F1-9AE11CDB3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5B74-D62A-4421-A55F-A7FDAFAFF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FB32-D4C9-4701-84DC-F42ED0F58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C277-E49E-4C7A-861B-8A280CD3A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3F7E-2AB1-461C-B079-69FEF5682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D5FD-4B3A-4D99-ABC7-309D0AB4B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82C6-3884-4BCE-B49B-6F50CAFA2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CE75-834F-417E-8C41-50C7FFA25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E3A0-118A-448E-A3BB-EA4995252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83F1-0D3A-49CF-BE44-0308B0C6D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54D9-8F35-48E7-9108-80FBA0520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1A3D-BEDB-464C-B2C4-1BF28F59C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9635-8DAC-44FB-88B4-038B68EFD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AFF6-ABEE-4820-A72D-07BC3399F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0A28-095C-49BA-9CF9-A2E8B77B4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F6716-9EB3-4364-8068-F647F2B12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E905-67E2-4DB2-A2A7-4EE3A190C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4E0A-19B3-49E4-9C33-F38D0B0E6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DE7B-3D1B-4D15-A2A1-42F09447BCE8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4847-D8DD-4484-A5C3-948E7AB6A9E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7118-15A0-46ED-8CC3-725A60D36D7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D2BE-2DDC-42AB-BF07-94216D0A9BB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8F89-C06B-4834-AAA1-5E284502922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F978-8110-4140-A3F1-5EFB3BB1EF2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5E94-3F8C-4647-8317-D26F558A3B8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8991-7BCF-4CFD-941C-D7231B89138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escribing Data: Frequency Distributions an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raphic Present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2E9B-3810-457D-B4E8-A07868FD1C4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r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F382-37BD-47F7-B98A-3D1D2927C33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8F88-A723-4334-936F-D89CF986F59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236A-74DF-4498-8F06-B0340CC25EA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9CAB-7577-4C77-9196-880D86922F4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D650-0BA9-42F1-AD26-9645B954E13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9BD4-23DE-448B-B777-2DDF94C40A5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osab Alqurashi</cp:lastModifiedBy>
  <dcterms:modified xsi:type="dcterms:W3CDTF">2015-01-20T07:42:00Z</dcterms:modified>
  <cp:revision>106</cp:revision>
  <dc:subject>What is Statistics</dc:subject>
  <dc:title>Chapter 1</dc:title>
</cp:coreProperties>
</file>