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70A0-B16F-4D56-8505-761D0CBC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7F0-5CDB-4DA9-8A4D-69CD4F5EF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5D2B-E3D1-4630-BE7C-5F83113426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EC3A-D888-48CE-94B4-FB6F91440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7390-4F08-4270-9EEF-1F97DA4B4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DA17-7D1A-4D59-B0AE-54C2F53F8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C0AA-4AC5-42F4-B8D5-AEC1CCBAE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3F28-668F-4A8A-9B23-9AA7C1317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EC9-F253-4676-ACC4-A04F3B378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A49C-F8A8-408D-92D0-4483A69B0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C810-563F-4C05-AFD5-F3C428AE7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1D26-F76F-417D-8065-57E6C725E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EFD7-BC64-4E0B-B701-38C3B9224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6B0A-262A-4079-934D-F580E046B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5E23-6DD3-4B55-A504-D48F68A0C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8661-3D38-40C5-8C33-270C3F0AD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5BD4-7276-4EC8-A43B-B6EE8BE49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7A72-0BA5-4C3A-B224-7A91A0F42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452B-2A00-426C-A871-8801DF3AD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F5360-099E-47A6-9258-7CDFB3745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87C3-C249-4EF8-AD69-278BBBC6F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B750B-045D-4116-A7FF-F48DD4A44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1541-D394-4FE4-A4AB-61BF849C8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5816-9D2F-4ACD-80AD-DF077FE8EF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33B6-C8EC-46AE-9D3E-0F897E143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A7AE-F80F-4434-A3F2-D92240B50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5CBE-0BA7-4C8E-BF1F-6A6478053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58549-8A41-437D-AD94-58B337E1D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49B82-D089-48A8-A271-7058054EF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F012-D6EF-4282-BDC8-FF0417CEE06E}" type="slidenum"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  <p:sp>
        <p:nvSpPr>
          <p:cNvPr id="51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Black%20Flash%20KSA/Stat%20Final%20Oct%2018,%2008/Statistics%20Techniques%20in%20Bus%20&amp;%20Econ%20KSU%20En%2008%20OK/Chapter01.doc" TargetMode="External"/><Relationship Id="rId2" Type="http://schemas.openxmlformats.org/officeDocument/2006/relationships/hyperlink" Target="file:///C:/Black%20Flash%20KSA/Stat%20Final%20Oct%2018,%2008/Statistics%20Techniques%20in%20Bus%20&amp;amp%3B%20Econ%20KSU%20En%2008%20OK/Chapter03.doc" TargetMode="External"/><Relationship Id="rId3" Type="http://schemas.openxmlformats.org/officeDocument/2006/relationships/hyperlink" Target="file:///C:/Black%20Flash%20KSA/Stat%20Final%20Oct%2018,%2008/Statistics%20Techniques%20in%20Bus%20&amp;amp%3B%20Econ%20KSU%20En%2008%20OK/Chapter04.doc" TargetMode="External"/><Relationship Id="rId4" Type="http://schemas.openxmlformats.org/officeDocument/2006/relationships/hyperlink" Target="file:///C:/Black%20Flash%20KSA/Stat%20Final%20Oct%2018,%2008/Statistics%20Techniques%20in%20Bus%20&amp;amp%3B%20Econ%20KSU%20En%2008%20OK/Chapter05.doc" TargetMode="External"/><Relationship Id="rId5" Type="http://schemas.openxmlformats.org/officeDocument/2006/relationships/hyperlink" Target="file:///C:/Black%20Flash%20KSA/Stat%20Final%20Oct%2018,%2008/Statistics%20Techniques%20in%20Bus%20&amp;amp%3B%20Econ%20KSU%20En%2008%20OK/Chapter06.doc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673520" y="3535200"/>
            <a:ext cx="40132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ouglas Li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lliam Marchal &amp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amuel Wat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25280" y="1269360"/>
            <a:ext cx="761112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istical Techniques in Business &amp; Economics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3661-2A3A-478B-A0D1-A4969FEEC17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grpSp>
        <p:nvGrpSpPr>
          <p:cNvPr id="132" name="Group 8"/>
          <p:cNvGrpSpPr/>
          <p:nvPr/>
        </p:nvGrpSpPr>
        <p:grpSpPr>
          <a:xfrm>
            <a:off x="752400" y="1781280"/>
            <a:ext cx="7743960" cy="4900680"/>
            <a:chOff x="752400" y="1781280"/>
            <a:chExt cx="7743960" cy="4900680"/>
          </a:xfrm>
        </p:grpSpPr>
        <p:pic>
          <p:nvPicPr>
            <p:cNvPr id="133" name="Picture 4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Rectangle 7"/>
            <p:cNvSpPr/>
            <p:nvPr/>
          </p:nvSpPr>
          <p:spPr>
            <a:xfrm>
              <a:off x="752400" y="1781280"/>
              <a:ext cx="774396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8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8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8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800" spc="-1" strike="noStrike">
                <a:solidFill>
                  <a:srgbClr val="33cccc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BF1-AA7D-42A4-B70C-53D16AA52EA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2920" y="1904760"/>
            <a:ext cx="84423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iscrete variables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Continuous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8AA4-C861-4237-A910-E37C1CD3451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777960" y="2193840"/>
            <a:ext cx="7146720" cy="41007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E671-65F4-4CD5-9E17-6AE45FA2E40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72680" y="1768320"/>
            <a:ext cx="420516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87480" y="1752480"/>
            <a:ext cx="43275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9570-B694-4A1A-9CCF-17CAC8932E3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198440" y="2390760"/>
            <a:ext cx="6972480" cy="32101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C739-E566-454F-9CDE-3A4D375618F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59C8-B980-4D36-BCF1-50A7C869345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07 QUA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12400" y="1962000"/>
            <a:ext cx="8931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What is Statis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escribing Data: Frequency Distributions and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raphic Presentatio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Describing Data:  Numerical Measure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Describing Data: Displaying and Exploring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5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A Survey of Probability Concep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Discrete Probability Distributions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10F-D3DD-49CC-84EE-202A40DDD99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1560" y="357120"/>
            <a:ext cx="7787880" cy="94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AT 107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URSE CONT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34800" y="1962000"/>
            <a:ext cx="88092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Chapter 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bc0000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bc0000"/>
                </a:solidFill>
                <a:uFillTx/>
                <a:latin typeface="Arial"/>
              </a:rPr>
              <a:t>Title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7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Continuous Probability Distrib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ampling Methods and the Centr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             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mit Therm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near Regression and Corre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Index Numb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16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Time Series and Forecas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4E6A-7DA8-46E1-9B71-C90E367539F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99920" y="1962000"/>
            <a:ext cx="769284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FE99-B29D-49FA-AEF2-F8D3577006B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DA2C-8808-42B3-9339-0FE04292507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D18-2411-4CEC-8186-6D6DA35D5B9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09640" y="2072880"/>
            <a:ext cx="792792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cc"/>
                </a:solidFill>
                <a:latin typeface="Arial"/>
              </a:rPr>
              <a:t>1.Descriptive Statistics -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2811-6364-4B0E-8909-815A356FB2F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2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09640" y="1869840"/>
            <a:ext cx="79279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28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2.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2D72-67AC-489B-AD23-13FD412C98D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cc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osab Alqurashi</cp:lastModifiedBy>
  <dcterms:modified xsi:type="dcterms:W3CDTF">2015-01-20T07:42:00Z</dcterms:modified>
  <cp:revision>106</cp:revision>
  <dc:subject>What is Statistics</dc:subject>
  <dc:title>Chapter 1</dc:title>
</cp:coreProperties>
</file>