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33C8-B206-4B96-9DCF-7042AE55F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0D74-56D2-4B97-871B-57D7D8C9021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5673-3137-4CD0-ADC3-0B6230F78EF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AFD0-FB12-444A-94B1-AE9CA1166B9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8069-55AB-4E3A-844C-354D594D489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442F-E34C-46FC-86FD-2353362FA62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17BD-2444-43F2-AF1C-15E891AC5AF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2BC4-E33A-40F6-91A9-6190410A500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8F00-9016-408C-8199-B8E1B343CB3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722E-89B8-40FB-8F5A-F35848327E9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597A-D37D-45E1-A936-E6B6EE8A175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B21F-DA89-452D-92A1-B9D1E3D03B9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85FC-42ED-4301-8614-41A4839655E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320D-D70F-424A-8F56-327DFC8E7F7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BA01-04AC-4744-8511-9B21745C14C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27F6-D668-42EF-8D02-CC6D7CACB40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EF25-EB38-46B5-92D8-76D308B2DB7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93DD-694D-41E0-8729-B664CDFE9CA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C52E-0E08-4801-96C2-F9FEC5D96E4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DC00-4565-41C8-B3F2-904DC0DB4A8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1AD4-C6EC-4F66-AD84-C23B2A28DE9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6E12-C7BC-4F5C-AD5D-A32A00AD467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1613-3798-4AAF-8F6F-04BBAD84E35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542E-8A37-45C3-98F5-A84EFFDF834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45D5-F033-44F5-A0C7-0170E709684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3CC2D869-0C67-41BA-80AE-3E32D168EA6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3FA258A4-A958-4D77-828C-98795989729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80E003AE-D742-45E6-BC6D-69CB84B87AE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5DA3C9E7-8FD6-448F-9DFA-EB7C12A0E786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9F7CEE1A-2676-474F-82B8-5061AEA147E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015B9180-B754-43D8-8C86-9DFE7B07ACDC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C4981449-8F56-42B7-AC9E-BB1872DCA02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61FF5D2C-5BFB-4130-8C73-78F95BED466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9F4269F8-AF4A-4AB1-AB78-CC2F35274CA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54A0CA32-6297-475E-A713-4A252E6784F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192CB9D9-66A2-4C56-9B2A-FE8C1A9E429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2DBC59B5-03F9-488F-AAEE-27B5DD245BB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Management Science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1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1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304920" y="14479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Used to determine the number of units of a product to sell or produce that  will equate total revenue with total cos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volume at which total revenue equals total cost is called the break-even poin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fit at break-even point is zero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0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Model Componen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Fixed Cost (c</a:t>
            </a:r>
            <a:r>
              <a:rPr b="1" lang="en-US" sz="2800" spc="-1" strike="noStrike" baseline="-25000">
                <a:solidFill>
                  <a:srgbClr val="000514"/>
                </a:solidFill>
                <a:latin typeface="Garamond"/>
              </a:rPr>
              <a:t>f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costs that remain constant regardless of number of units produced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Variable Cost (c</a:t>
            </a:r>
            <a:r>
              <a:rPr b="1" lang="en-US" sz="28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unit production cost of produc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Volume (v)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– the number of units produced or sold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Total variable cost (vc</a:t>
            </a:r>
            <a:r>
              <a:rPr b="1" lang="en-US" sz="28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function of volume (v) and unit variable cost.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br>
              <a:rPr sz="3600"/>
            </a:b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2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228600" y="1523880"/>
            <a:ext cx="8602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051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269640" y="1345680"/>
            <a:ext cx="8645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Model Componen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Total Cost (TC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total fixed cost plus total variable cos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Profit (Z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difference between total revenue vp (p = unit price) and total cost, i.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br>
              <a:rPr sz="3600"/>
            </a:b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3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271440" y="1346040"/>
            <a:ext cx="8602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051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2"/>
              <p:cNvSpPr txBox="1"/>
              <p:nvPr/>
            </p:nvSpPr>
            <p:spPr>
              <a:xfrm>
                <a:off x="3184560" y="2514600"/>
                <a:ext cx="2305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3200400" y="4419720"/>
                <a:ext cx="2759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vp - c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v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7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br>
              <a:rPr sz="3600"/>
            </a:b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4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0" name="Rectangle 8"/>
          <p:cNvSpPr/>
          <p:nvPr/>
        </p:nvSpPr>
        <p:spPr>
          <a:xfrm>
            <a:off x="270000" y="1523880"/>
            <a:ext cx="860256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Computing the Break-Even Point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break-even point is that volume at which total revenue equals total cost and profit is zero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Object 9"/>
              <p:cNvSpPr txBox="1"/>
              <p:nvPr/>
            </p:nvSpPr>
            <p:spPr>
              <a:xfrm>
                <a:off x="4572000" y="3200400"/>
                <a:ext cx="2598840" cy="30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2" name="TextBox 7"/>
          <p:cNvSpPr/>
          <p:nvPr/>
        </p:nvSpPr>
        <p:spPr>
          <a:xfrm>
            <a:off x="380880" y="52578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break-even point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0" y="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5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898560" y="1752480"/>
            <a:ext cx="672156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Example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Western Clothing Company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xed Costs:      c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f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$100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ariable Costs:  c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$8 per pair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ice :                p = $23 per pair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Break-Even Point i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  =  (10,000)/(23 -8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 666.7 pair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119160" y="291960"/>
            <a:ext cx="89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reak-Even Analysis: Computer solution Excel 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898560" y="1752480"/>
            <a:ext cx="74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Western Clothing Company Exampl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0" y="0"/>
            <a:ext cx="8877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 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6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2235240" y="354348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70866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gure 1.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7" name="Picture 9" descr="F:\POM\Chapter 1\AAFQRBL0.jpg"/>
          <p:cNvPicPr/>
          <p:nvPr/>
        </p:nvPicPr>
        <p:blipFill>
          <a:blip r:embed="rId1"/>
          <a:stretch/>
        </p:blipFill>
        <p:spPr>
          <a:xfrm>
            <a:off x="457200" y="1533600"/>
            <a:ext cx="8229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: An increase in price (7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1727280" y="388620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1" name="TextBox 11"/>
          <p:cNvSpPr/>
          <p:nvPr/>
        </p:nvSpPr>
        <p:spPr>
          <a:xfrm>
            <a:off x="70866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gure 1.3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3" name="Picture 9" descr="F:\POM\Chapter 1\AAFQRBM0.jpg"/>
          <p:cNvPicPr/>
          <p:nvPr/>
        </p:nvPicPr>
        <p:blipFill>
          <a:blip r:embed="rId1"/>
          <a:stretch/>
        </p:blipFill>
        <p:spPr>
          <a:xfrm>
            <a:off x="457200" y="1533600"/>
            <a:ext cx="8229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1117440" y="1771560"/>
            <a:ext cx="7112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1625760" y="308628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7" name="Rectangle 10"/>
          <p:cNvSpPr/>
          <p:nvPr/>
        </p:nvSpPr>
        <p:spPr>
          <a:xfrm>
            <a:off x="0" y="0"/>
            <a:ext cx="861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: An increase in variable cost (8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TextBox 11"/>
          <p:cNvSpPr/>
          <p:nvPr/>
        </p:nvSpPr>
        <p:spPr>
          <a:xfrm>
            <a:off x="70866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gure 1.4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0" name="Picture 10" descr="F:\POM\Chapter 1\AAFQRBN0.jpg"/>
          <p:cNvPicPr/>
          <p:nvPr/>
        </p:nvPicPr>
        <p:blipFill>
          <a:blip r:embed="rId1"/>
          <a:stretch/>
        </p:blipFill>
        <p:spPr>
          <a:xfrm>
            <a:off x="457200" y="1533600"/>
            <a:ext cx="8229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Rectangle 11"/>
          <p:cNvSpPr/>
          <p:nvPr/>
        </p:nvSpPr>
        <p:spPr>
          <a:xfrm>
            <a:off x="304920" y="1397160"/>
            <a:ext cx="85341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2336760" y="33148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4" name="Rectangle 8"/>
          <p:cNvSpPr/>
          <p:nvPr/>
        </p:nvSpPr>
        <p:spPr>
          <a:xfrm>
            <a:off x="26676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: an increase in fixed cost (9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5" name="TextBox 10"/>
          <p:cNvSpPr/>
          <p:nvPr/>
        </p:nvSpPr>
        <p:spPr>
          <a:xfrm>
            <a:off x="70866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gure 1.5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7" name="Picture 10" descr="F:\POM\Chapter 1\AAFQRBO0.jpg"/>
          <p:cNvPicPr/>
          <p:nvPr/>
        </p:nvPicPr>
        <p:blipFill>
          <a:blip r:embed="rId1"/>
          <a:stretch/>
        </p:blipFill>
        <p:spPr>
          <a:xfrm>
            <a:off x="457200" y="1533600"/>
            <a:ext cx="8229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90680" y="160020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Management Science Approach to Problem Solv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odel Building:  Break-Even Analysi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omputer Solu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Modeling Techniqu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Business Usage of Management Science Techniqu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Models in Decision Support System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1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1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249120" y="1066680"/>
            <a:ext cx="8742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Willow Furniture Company produces tables. The fixed monthly cost of production is $8,000, and the variable cost per table is $65. The tables sell for $180 apiec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buClr>
                <a:srgbClr val="000514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a monthly volume of 300 tables, determine the total cost, total revenue, and profi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1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249120" y="1066680"/>
            <a:ext cx="8742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Willow Furniture Company produces tables. The fixed monthly cost of production is $8,000, and the variable cost per table is $65. The tables sell for $180 apiec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buClr>
                <a:srgbClr val="000514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a monthly volume of 300 tables, determine the total cost, total revenue, and profi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ixed cost (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f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) = $8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tal variable cost (v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) = (300)*(65) = $19,5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tal cost = $8,000 + $19,500 = $27,5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tal revenue (vp) = (300)*(180) = $54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fit = $54,000 - $27,500 = $26,5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4"/>
          <p:cNvSpPr/>
          <p:nvPr/>
        </p:nvSpPr>
        <p:spPr>
          <a:xfrm>
            <a:off x="270000" y="1295280"/>
            <a:ext cx="86025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b.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the monthly break-even volume for the Willow Furniture Company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1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4"/>
          <p:cNvSpPr/>
          <p:nvPr/>
        </p:nvSpPr>
        <p:spPr>
          <a:xfrm>
            <a:off x="270000" y="1295280"/>
            <a:ext cx="86025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b.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the monthly break-even volume for the Willow Furniture Company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break even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company needs to produce almost 70 tables per month to break eve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2"/>
              <p:cNvSpPr txBox="1"/>
              <p:nvPr/>
            </p:nvSpPr>
            <p:spPr>
              <a:xfrm>
                <a:off x="3124080" y="2666880"/>
                <a:ext cx="2013120" cy="266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1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2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249120" y="1066680"/>
            <a:ext cx="8742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vergreen Fertilizer Company produces fertilizer. The company's fixed monthly cost is $25,000, and its variable cost per pound of fertilizer is $0.15. Evergreen sells the fertilizer for $0.40 per pound. Determine the monthly break-even volume for the company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2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249120" y="1066680"/>
            <a:ext cx="8742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vergreen Fertilizer Company produces fertilizer. The company's fixed monthly cost is $25,000, and its variable cost per pound of fertilizer is $0.15. Evergreen sells the fertilizer for $0.40 per pound. Determine the monthly break-even volume for the company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vergreen must produce 100,000 lb per month to break even</a:t>
            </a:r>
            <a:br>
              <a:rPr sz="2800"/>
            </a:b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2"/>
              <p:cNvSpPr txBox="1"/>
              <p:nvPr/>
            </p:nvSpPr>
            <p:spPr>
              <a:xfrm>
                <a:off x="4114800" y="2971800"/>
                <a:ext cx="24354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3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249120" y="1066680"/>
            <a:ext cx="8742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Graphically illustrate the break-even volume for the Evergreen Fertilizer Company determined in Exercise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3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5" name="Rectangle 4"/>
          <p:cNvSpPr/>
          <p:nvPr/>
        </p:nvSpPr>
        <p:spPr>
          <a:xfrm>
            <a:off x="249120" y="1066680"/>
            <a:ext cx="8742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Graphically illustrate the break-even volume for the Evergreen Fertilizer Company determined in Exercise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6" name="Picture 2" descr=""/>
          <p:cNvPicPr/>
          <p:nvPr/>
        </p:nvPicPr>
        <p:blipFill>
          <a:blip r:embed="rId1"/>
          <a:stretch/>
        </p:blipFill>
        <p:spPr>
          <a:xfrm>
            <a:off x="1101600" y="2262240"/>
            <a:ext cx="5985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4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8" name="Rectangle 4"/>
          <p:cNvSpPr/>
          <p:nvPr/>
        </p:nvSpPr>
        <p:spPr>
          <a:xfrm>
            <a:off x="249120" y="1066680"/>
            <a:ext cx="8742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tudents are organizing a contest.  They know that at least 100 students will attend.  The rental fee for the hall is $150 and the winning student will receive $500.  In order to guarantee that they break even, how much should they charge for each ticket?   </a:t>
            </a:r>
            <a:br>
              <a:rPr sz="2800"/>
            </a:b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4"/>
          <p:cNvSpPr/>
          <p:nvPr/>
        </p:nvSpPr>
        <p:spPr>
          <a:xfrm>
            <a:off x="270000" y="1295280"/>
            <a:ext cx="86025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xed cost (c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f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) = $150 + $500 = $65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tal variable cost (vc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) = non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olume (p) = 100 studen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tal revenue (vp) = 100p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break even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p = c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f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vc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00p = 65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= $6.5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refore they should charge $6.50 for each ticket</a:t>
            </a:r>
            <a:br>
              <a:rPr sz="2800"/>
            </a:b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Exercise4 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he Management Science Approach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uses a scientific approach to solving management problem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t is used in a variety of organizations to solve many different types of problem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t encompasses a logical mathematical approach to problem solving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, also known as operations research, quantitative methods, etc., involves a philosophy of problem solving in a logical manner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5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2641680" y="3828960"/>
            <a:ext cx="47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2133720" y="609588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6    Modeling Techniques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assification of Management Science Techniqu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5" name="Rectangle 15"/>
          <p:cNvSpPr/>
          <p:nvPr/>
        </p:nvSpPr>
        <p:spPr>
          <a:xfrm>
            <a:off x="318960" y="4343400"/>
            <a:ext cx="76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6" name="Picture 1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96080" cy="4681440"/>
          </a:xfrm>
          <a:prstGeom prst="rect">
            <a:avLst/>
          </a:prstGeom>
          <a:ln w="0">
            <a:noFill/>
          </a:ln>
        </p:spPr>
      </p:pic>
      <p:sp>
        <p:nvSpPr>
          <p:cNvPr id="717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9" name="Rectangle 4"/>
          <p:cNvSpPr/>
          <p:nvPr/>
        </p:nvSpPr>
        <p:spPr>
          <a:xfrm>
            <a:off x="270000" y="12193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Linear Mathematical Programm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lear objective; restrictions on resources and requirements; parameters known with certainty. (Chap 2-6, 9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Probabilistic Technique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sults contain uncertainty. (Chap 11-13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Network Technique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model often formulated as diagram; deterministic or probabilistic. (Chap 7-8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Other Technique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variety of deterministic and probabilistic methods for specific types of problems including forecasting, inventory, simulation, multicriteria, etc. (Chap 10, 14-16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racteristics of Modeling Technique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ome application area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Project Plann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Capital Budget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Inventory Analysis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Production Plann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Schedul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514"/>
                </a:solidFill>
                <a:latin typeface="Garamond"/>
              </a:rPr>
              <a:t>Interfaces</a:t>
            </a:r>
            <a:r>
              <a:rPr b="0" i="1" lang="en-US" sz="2800" spc="-1" strike="noStrike">
                <a:solidFill>
                  <a:srgbClr val="000514"/>
                </a:solidFill>
                <a:latin typeface="Garamond"/>
              </a:rPr>
              <a:t> -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pplications journal published by Institute for Operations Research and Management Sciences  (INFORMS)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usiness Use of Management Science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270000" y="1523520"/>
            <a:ext cx="8602560" cy="47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decision support system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s a computer-based system that helps decision makers address complex problems that cut across different parts of an organization and operation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514"/>
                </a:solidFill>
                <a:uFillTx/>
                <a:latin typeface="Garamond"/>
              </a:rPr>
              <a:t>Features of Decision Support System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teractiv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Use databases &amp; management science mode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ddress “what if” ques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erform sensitivity analysi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xamples includ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RP – Enterprise Resource Plann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LAP – Online Analytical Process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0" y="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Decision Support Systems (DSS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9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13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63200" cy="4800600"/>
          </a:xfrm>
          <a:prstGeom prst="rect">
            <a:avLst/>
          </a:prstGeom>
          <a:ln w="0">
            <a:noFill/>
          </a:ln>
        </p:spPr>
      </p:pic>
      <p:sp>
        <p:nvSpPr>
          <p:cNvPr id="73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Text Box 3"/>
          <p:cNvSpPr/>
          <p:nvPr/>
        </p:nvSpPr>
        <p:spPr>
          <a:xfrm>
            <a:off x="2641680" y="3828960"/>
            <a:ext cx="47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6095880" y="51055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7  A Decision Support System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4" name="Rectangle 10"/>
          <p:cNvSpPr/>
          <p:nvPr/>
        </p:nvSpPr>
        <p:spPr>
          <a:xfrm>
            <a:off x="318960" y="4343400"/>
            <a:ext cx="76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Rectangle 11"/>
          <p:cNvSpPr/>
          <p:nvPr/>
        </p:nvSpPr>
        <p:spPr>
          <a:xfrm>
            <a:off x="0" y="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anagement Science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Decision Support Systems (2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1"/>
          <p:cNvSpPr/>
          <p:nvPr/>
        </p:nvSpPr>
        <p:spPr>
          <a:xfrm>
            <a:off x="1752480" y="30481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514"/>
                </a:solidFill>
                <a:latin typeface="Garamond"/>
              </a:rPr>
              <a:t>Management science is an art</a:t>
            </a: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Rectangle 10"/>
          <p:cNvSpPr/>
          <p:nvPr/>
        </p:nvSpPr>
        <p:spPr>
          <a:xfrm>
            <a:off x="2438280" y="1295280"/>
            <a:ext cx="426744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6477120" y="5638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1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he Management Science Process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10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611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teps in the Management Science Proces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228600" y="121932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serva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Identification of a problem that exists (or may occur soon) in a system or organiz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finition of the Problem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problem must be clearly and consistently defined, showing its boundaries and interactions with the objectives of the organiz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Construc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Development of the functional mathematical relationships that describe the decision variables, objective function and constraints of the proble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Solu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Models solved using management science techniqu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Implementa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Actual use of the model or its sol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5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Information and Data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Business firm makes and sells a  steel product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costs $5 to produc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sells for $2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requires 4 pounds of steel to mak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rm has 100 pounds of steel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Business Problem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the number of units to produce to make the most profit, given the limited amount of steel availabl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1 of 4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270000" y="1314360"/>
            <a:ext cx="795960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A variable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is a symbol used to represent an item that can take on any valu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Parameter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are known, constant values that are often coefficients of variables in equation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Data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re pieces of information from the problem environmen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A model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s a 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functional relationship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at includes variables, parameters, and equation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2 of 4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3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270000" y="1314360"/>
            <a:ext cx="860256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Variables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X = # units to produce (decision variable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Z = total profit (in $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Model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Z = $20X - $5X (objective function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4X = 100 lb of steel (resource constraint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Parameters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$20, $5, 4 lbs, 100 lbs (known values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Formal Specification of Model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maximize Z = $20X - $5X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subject to 4X = 1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3 of 4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-538920" y="0"/>
            <a:ext cx="919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4 of 4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1752480" y="1523880"/>
            <a:ext cx="69343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olve the constraint equa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 = 1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(4x)/4 = (100)/4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 = 25 uni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stitute this value into the profit func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 =   $20x - $5x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  (20)(25) – (5)(25)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   $375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(Produce 25 units, to yield a profit of $375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228600" y="1219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Model Solu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User</cp:lastModifiedBy>
  <cp:lastPrinted>2001-04-05T18:48:46Z</cp:lastPrinted>
  <dcterms:modified xsi:type="dcterms:W3CDTF">2017-02-19T22:26:33Z</dcterms:modified>
  <cp:revision>171</cp:revision>
  <dc:subject/>
  <dc:title>No Slide Title</dc:title>
</cp:coreProperties>
</file>