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5814-9F3A-4ABD-BE5C-3C561393A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0729-280B-4029-A899-8846BAF9E88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C06C-9EAA-4E39-B121-20182CB041C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E2C6-7327-43E0-86BF-5A9FB314AAC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D3BB-BE4D-4931-8E3A-BEF275E803F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744E-8CF7-450E-8FA7-588ACDD5A24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770D-4919-43FF-BD5E-0012192B9E0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F484-65C1-4F2A-890C-FAA4F7D5183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973C-2EFE-48DD-B8FF-60AAF05E38E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8A4B-AF41-40CD-8F38-19E73F0F0D2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3015-9432-4837-B063-8A38DD361D0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3B81-C0EB-4037-BD08-E644F64322F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2C8A-ECCA-4B1E-ACB6-A23A4E0D282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5FC2-A242-49B1-A177-8C7DB4C16D5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BE9F-F820-4CA2-8E2B-C02B2C01491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60DB-7F18-441A-A181-5D04E45BE98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5EE8-719B-4E74-88C4-72CC466B31B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F56F-E1FE-4624-AE04-91A4FC5BD0C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AA6C-6644-4484-BD0D-7476C6EF7B2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BDCB-50E9-4F2C-8BAC-7243CA490EC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35A8-6E26-4AB9-B411-F7912A80C40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06E2-F5EC-42AD-A42D-33044D33725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D276-C08F-4FB7-AD88-3034B5DAD2A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D3DD-9685-4622-8B96-2FB7C7CF37C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1BB8-D3C4-4EB0-B690-38A757D4BB4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1AF444B9-A698-4CF6-ABE0-960C35BDF0AF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0595F3F5-7291-4559-B891-69E6E477231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EE91CD5D-F849-4F7F-8543-577DA5A19C5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3241B159-1EFD-4233-88D5-20FA822A9C0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69A9172F-CCE2-41F0-BF68-9CF69FA3B7A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11411D2F-6533-4077-8863-42E9266B0D1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CB9BBBF2-F9C3-4ED3-812A-533959269B7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70CBDD9F-2979-4CAC-83F6-B45349AE1B9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7112CA84-FC52-470E-81BC-9B0E358C5F3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A85C650D-94AF-40FB-AA12-E192E2F7FF8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65875486-C406-448F-A433-F773BA8DB38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AB200E00-895E-4146-9572-1D08C3FDBBB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Management Science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1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1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304920" y="1447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sed to determine the number of units of a product to sell or produce that  will equate total revenue with total cos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volume at which total revenue equals total cost is called the break-even poin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fit at break-even point is zero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0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Fixed Cost (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costs that remain constant regardless of number of units produced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Variable Cost (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unit production cost of produc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Volume (v)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– the number of units produced or sold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otal variable cost (v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function of volume (v) and unit variable cost.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2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228600" y="1523880"/>
            <a:ext cx="8602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51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269640" y="1345680"/>
            <a:ext cx="8645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otal Cost (TC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total fixed cost plus total variable cos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Profit (Z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difference between total revenue vp (p = unit price) and total cost, i.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3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271440" y="1346040"/>
            <a:ext cx="8602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51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2"/>
              <p:cNvSpPr txBox="1"/>
              <p:nvPr/>
            </p:nvSpPr>
            <p:spPr>
              <a:xfrm>
                <a:off x="3184560" y="2514600"/>
                <a:ext cx="2305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3200400" y="4419720"/>
                <a:ext cx="2759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vp - c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v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7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4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Rectangle 8"/>
          <p:cNvSpPr/>
          <p:nvPr/>
        </p:nvSpPr>
        <p:spPr>
          <a:xfrm>
            <a:off x="270000" y="1523880"/>
            <a:ext cx="860256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Computing the Break-Even Poin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 is that volume at which total revenue equals total cost and profit is zero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Object 9"/>
              <p:cNvSpPr txBox="1"/>
              <p:nvPr/>
            </p:nvSpPr>
            <p:spPr>
              <a:xfrm>
                <a:off x="4572000" y="3200400"/>
                <a:ext cx="2598840" cy="30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2" name="TextBox 7"/>
          <p:cNvSpPr/>
          <p:nvPr/>
        </p:nvSpPr>
        <p:spPr>
          <a:xfrm>
            <a:off x="380880" y="5257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5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98560" y="1752480"/>
            <a:ext cx="672156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Western Clothing Company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xed Costs:      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$100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ariable Costs:  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$8 per pair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ice :                p = $23 per pair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 i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  =  (10,000)/(23 -8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666.7 pair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119160" y="291960"/>
            <a:ext cx="89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reak-Even Analysis: Computer solution Excel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898560" y="175248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Western Clothing Company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0" y="0"/>
            <a:ext cx="887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6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2235240" y="354348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7" name="Picture 9" descr="F:\POM\Chapter 1\AAFQRBL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: An increase in price (7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1727280" y="388620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TextBox 11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3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3" name="Picture 9" descr="F:\POM\Chapter 1\AAFQRBM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117440" y="1771560"/>
            <a:ext cx="7112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1625760" y="308628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7" name="Rectangle 10"/>
          <p:cNvSpPr/>
          <p:nvPr/>
        </p:nvSpPr>
        <p:spPr>
          <a:xfrm>
            <a:off x="0" y="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: An increase in variable cost (8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TextBox 11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0" name="Picture 10" descr="F:\POM\Chapter 1\AAFQRBN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304920" y="1397160"/>
            <a:ext cx="85341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2336760" y="33148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Rectangle 8"/>
          <p:cNvSpPr/>
          <p:nvPr/>
        </p:nvSpPr>
        <p:spPr>
          <a:xfrm>
            <a:off x="26676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: an increase in fixed cost (9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TextBox 10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7" name="Picture 10" descr="F:\POM\Chapter 1\AAFQRBO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90680" y="160020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Management Science Approach to Problem Solv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Building:  Break-Even Analysi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omputer Solu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ing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Usage of Management Science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s in Decision Support Syst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1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Willow Furniture Company produces tables. The fixed monthly cost of production is $8,000, and the variable cost per table is $65. The tables sell for $180 apie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buClr>
                <a:srgbClr val="000514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a monthly volume of 300 tables, determine the total cost, total revenue, and profi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1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Willow Furniture Company produces tables. The fixed monthly cost of production is $8,000, and the variable cost per table is $65. The tables sell for $180 apie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buClr>
                <a:srgbClr val="000514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a monthly volume of 300 tables, determine the total cost, total revenue, and profi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ixed cost (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) = $8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tal variable cost (v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) = (300)*(65) = $19,5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tal cost = $8,000 + $19,500 = $27,5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tal revenue (vp) = (300)*(180) = $54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fit = $54,000 - $27,500 = $26,5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4"/>
          <p:cNvSpPr/>
          <p:nvPr/>
        </p:nvSpPr>
        <p:spPr>
          <a:xfrm>
            <a:off x="270000" y="1295280"/>
            <a:ext cx="8602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.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monthly break-even volume for the Willow Furniture Compan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1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4"/>
          <p:cNvSpPr/>
          <p:nvPr/>
        </p:nvSpPr>
        <p:spPr>
          <a:xfrm>
            <a:off x="270000" y="1295280"/>
            <a:ext cx="8602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.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monthly break-even volume for the Willow Furniture Compan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break even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company needs to produce almost 70 tables per month to break eve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3124080" y="2666880"/>
                <a:ext cx="2013120" cy="26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1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2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vergreen Fertilizer Company produces fertilizer. The company's fixed monthly cost is $25,000, and its variable cost per pound of fertilizer is $0.15. Evergreen sells the fertilizer for $0.40 per pound. Determine the monthly break-even volume for the compan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2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vergreen Fertilizer Company produces fertilizer. The company's fixed monthly cost is $25,000, and its variable cost per pound of fertilizer is $0.15. Evergreen sells the fertilizer for $0.40 per pound. Determine the monthly break-even volume for the compan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vergreen must produce 100,000 lb per month to break even</a:t>
            </a:r>
            <a:br>
              <a:rPr sz="2800"/>
            </a:b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4114800" y="2971800"/>
                <a:ext cx="24354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3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Graphically illustrate the break-even volume for the Evergreen Fertilizer Company determined in Exercise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3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Graphically illustrate the break-even volume for the Evergreen Fertilizer Company determined in Exercise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1101600" y="2262240"/>
            <a:ext cx="5985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4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8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udents are organizing a contest.  They know that at least 100 students will attend.  The rental fee for the hall is $150 and the winning student will receive $500.  In order to guarantee that they break even, how much should they charge for each ticket?   </a:t>
            </a:r>
            <a:br>
              <a:rPr sz="2800"/>
            </a:b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4"/>
          <p:cNvSpPr/>
          <p:nvPr/>
        </p:nvSpPr>
        <p:spPr>
          <a:xfrm>
            <a:off x="270000" y="1295280"/>
            <a:ext cx="8602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xed cost (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) = $150 + $500 = $65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tal variable cost (v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) = non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olume (p) = 100 stude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tal revenue (vp) = 100p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break even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p = 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v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00p = 65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= $6.5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refore they should charge $6.50 for each ticket</a:t>
            </a:r>
            <a:br>
              <a:rPr sz="2800"/>
            </a:b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4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Approach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uses a scientific approach to solving management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is used in a variety of organizations to solve many different types of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encompasses a logical mathematical approach to problem solv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, also known as operations research, quantitative methods, etc., involves a philosophy of problem solving in a logical manner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2133720" y="609588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6    Modeling Techniques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ssification of Management Science Techniq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Rectangle 15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6" name="Picture 1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681440"/>
          </a:xfrm>
          <a:prstGeom prst="rect">
            <a:avLst/>
          </a:prstGeom>
          <a:ln w="0">
            <a:noFill/>
          </a:ln>
        </p:spPr>
      </p:pic>
      <p:sp>
        <p:nvSpPr>
          <p:cNvPr id="717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270000" y="12193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Linear Mathematical Programm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ear objective; restrictions on resources and requirements; parameters known with certainty. (Chap 2-6, 9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Probabilistic Technique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sults contain uncertainty. (Chap 11-13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Network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model often formulated as diagram; deterministic or probabilistic. (Chap 7-8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Other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variety of deterministic and probabilistic methods for specific types of problems including forecasting, inventory, simulation, multicriteria, etc. (Chap 10, 14-16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racteristics of Modeling Techniqu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ome application area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ject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Capital Budget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Inventory Analysi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duction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Schedul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514"/>
                </a:solidFill>
                <a:latin typeface="Garamond"/>
              </a:rPr>
              <a:t>Interfaces</a:t>
            </a:r>
            <a:r>
              <a:rPr b="0" i="1" lang="en-US" sz="2800" spc="-1" strike="noStrike">
                <a:solidFill>
                  <a:srgbClr val="000514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pplications journal published by Institute for Operations Research and Management Sciences  (INFORMS)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usiness Use of Management Science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270000" y="1523520"/>
            <a:ext cx="860256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decision support system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a computer-based system that helps decision makers address complex problems that cut across different parts of an organization and oper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Features of Decision Support System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tera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se databases &amp; management science mode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ddress “what if” ques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erform sensitivity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amples includ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RP – Enterprise Resource Plann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LAP – Online Analytical Process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DSS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13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63200" cy="4800600"/>
          </a:xfrm>
          <a:prstGeom prst="rect">
            <a:avLst/>
          </a:prstGeom>
          <a:ln w="0">
            <a:noFill/>
          </a:ln>
        </p:spPr>
      </p:pic>
      <p:sp>
        <p:nvSpPr>
          <p:cNvPr id="73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6095880" y="51055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7  A Decision Support System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4" name="Rectangle 10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Rectangle 11"/>
          <p:cNvSpPr/>
          <p:nvPr/>
        </p:nvSpPr>
        <p:spPr>
          <a:xfrm>
            <a:off x="0" y="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anagement Science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1"/>
          <p:cNvSpPr/>
          <p:nvPr/>
        </p:nvSpPr>
        <p:spPr>
          <a:xfrm>
            <a:off x="1752480" y="30481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514"/>
                </a:solidFill>
                <a:latin typeface="Garamond"/>
              </a:rPr>
              <a:t>Management science is an art</a:t>
            </a: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2438280" y="1295280"/>
            <a:ext cx="426744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6477120" y="56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1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Proces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10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61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eps in the Management Science Proces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2860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serv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Identification of a problem that exists (or may occur soon) in a system or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finition of the Problem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problem must be clearly and consistently defined, showing its boundaries and interactions with the objectives of the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u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Development of the functional mathematical relationships that describe the decision variables, objective function and constraints of the probl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Solu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Models solved using management science techniqu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Implement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Actual use of the model or its sol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nformation and Data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firm makes and sells a  steel produc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costs $5 to produc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sells for $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requires 4 pounds of steel to mak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rm has 100 pounds of steel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usiness Problem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number of units to produce to make the most profit, given the limited amount of steel availabl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1 of 4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270000" y="1314360"/>
            <a:ext cx="79596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A variabl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is a symbol used to represent an item that can take on any valu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Parameter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are known, constant values that are often coefficients of variables in equation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Data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re pieces of information from the problem environmen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 model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s a 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functional relationship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at includes variables, parameters, and equation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2 of 4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270000" y="1314360"/>
            <a:ext cx="860256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Variables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X = # units to produce (decision variabl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total profit (in $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odel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$20X - $5X (objective functio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4X = 100 lb of steel (resource constraint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Parameters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$20, $5, 4 lbs, 100 lbs (known values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Formal Specification of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aximize Z =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subject to 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3 of 4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-538920" y="0"/>
            <a:ext cx="919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4 of 4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752480" y="1523880"/>
            <a:ext cx="69343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constraint equ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4x)/4 = (100)/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 = 25 uni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stitute this value into the profit func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(20)(25) – (5)(25)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 $37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(Produce 25 units, to yield a profit of $375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228600" y="1219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Solu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User</cp:lastModifiedBy>
  <cp:lastPrinted>2001-04-05T18:48:46Z</cp:lastPrinted>
  <dcterms:modified xsi:type="dcterms:W3CDTF">2017-02-19T22:26:33Z</dcterms:modified>
  <cp:revision>171</cp:revision>
  <dc:subject/>
  <dc:title>No Slide Title</dc:title>
</cp:coreProperties>
</file>