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5CC9-17A8-4889-BECC-2FAF013D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A15-126F-4FD3-97FE-5347579D38A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C8D-48EF-4093-A7A9-D0F3B268208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4A9-FC9A-4AE2-95AC-D7DAA70D587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685C-1853-429C-9843-4E971B167DE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B1C-2A85-4C2F-BEC4-FB44156173B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A7F-A40C-4300-8044-4622E71ADA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D8C-8168-4DBA-8007-7C888CB6CFA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BF4-75FF-42BC-BC04-4168D2D7C57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0B6D-550D-4A55-AF48-492984716C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22B-721C-44C6-810E-0A5F2EAC77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729-AEF1-473A-BEF1-A34A51D8F99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28B-6435-48AA-A72F-7CA8424A67B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E04E-E559-4863-A3B2-BAF60ACBBC9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75D-5951-4A72-A3CC-82EFF2FB33B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539-9B93-40B6-B860-E9AF2DD044F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0D68-CD35-4112-A90D-786157436C3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FB7-D975-4CCD-A223-BBA5EB13F52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2EA0-DB79-4924-A7FE-C1F997E1CF6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CFC6-32A0-4740-B295-BF5622D8D50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BFF2-4FF8-49B3-897C-0256A1E63D5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CC29-7433-4A89-AA24-D8BD50300A0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D7BD-B2F1-4E78-99C5-69272C13DAD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4F8D-0B6E-4129-8AA9-92FEAC18125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82CF-2C18-4DD6-B18D-B8906978ABB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332C-84AE-46A8-8521-1CB2B5CCCB3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B41A47C0-B57F-4F0D-BE27-244F391C7A0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9FCA60D1-0145-4F75-B95D-F4883E51337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E626BB1-AD24-4FC0-A1A7-093C0B5A8DE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3DAB27A9-EB55-48CB-88B3-4843A050160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4A275048-38A9-4515-B31D-ADBE20787B7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B6924065-6B20-4A7B-8AFF-AFFAE4A0ED3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7903AF5B-E44B-4B5B-8369-120635B47FC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2481E32-11C3-4072-BE25-66DD087BE44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710069D4-0119-4C73-9CDA-309397DC90A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F9F7705-C92D-407E-997E-D41C8395E88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7770DEC-DEBD-4D3B-84E6-DA1255AF37A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31479A1-337B-4E71-A777-DC41CC0BF93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7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9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2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3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4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5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6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7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0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6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3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0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7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1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5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2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2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0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المستخدم</cp:lastModifiedBy>
  <dcterms:modified xsi:type="dcterms:W3CDTF">2015-02-22T12:03:06Z</dcterms:modified>
  <cp:revision>62</cp:revision>
  <dc:subject/>
  <dc:title>Slide 1</dc:title>
</cp:coreProperties>
</file>