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7490-A67C-43AF-A2CA-B65652B0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9FD4-994A-4ABA-B8E8-563B1A7F126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8F36-0176-40C7-9507-778C043EDF4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6F21-454B-4B09-BE8C-8CD394520A9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0696-24D4-44D5-9572-E14B4E0D02B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DB3D-0DE7-427F-BF43-B85233D474E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3A21-1D54-471C-81D8-BAE91EBCF7C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5248-C6AB-4777-AC6C-7A56338480A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21FE-5F97-43D7-9B75-6FB8F61B80A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D212-9FE3-4C25-BC13-A151AE2DB37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6C9-54C3-4305-811A-17680D75B78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DB69-AEEE-4043-9F74-331B0950F53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ADEC-2063-4483-8BBF-595476ED90E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4D08-66DF-4254-9DB7-D09AB19A626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FD62-672C-4A42-BAC0-C2FC5799D49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2553-FEB7-443C-9782-07D2D3358DE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5326-0AC9-4665-BC0A-8B0C3D2A7A5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3F58-094E-4A10-8C1B-7F549AFC61A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3656-757B-4E6B-AC5E-C79E9C38951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5D61-8078-4956-9153-C86DF0739CB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F124-8FAD-4569-8252-D7007EB67D5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3EAF-713E-4A54-B5A4-640E81EB8C7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F2FD-4BC2-4F3D-8F75-FEB92B1D3F8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BD15-B005-4593-B688-F5EE7E41B84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3317-86BC-436B-8112-15F89549CA0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E6EA-49EB-4762-8D1A-6A3CF239599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13838CA1-2C6E-4632-9708-608DAFD60DC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A33AED25-DD00-4731-B793-0DE27DD60D4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D28ECC59-EFC3-4DA3-9B5A-24277692D67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46024262-D5FB-4810-956C-0479B463973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2-</a:t>
            </a:r>
            <a:fld id="{6CC96275-9ACA-4AFE-8EF9-C72E93FE9E9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D247C9AE-EFB3-4EB0-BA0A-6B9A31C6A5D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3BA07BD3-ECDB-4D82-A338-DCB63BDA455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6B7D3A46-632E-4DB4-B43B-5F19B296D51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1E92B3D1-8DAA-4685-80CD-324647A6593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8208EADA-735F-4BA8-B51A-62C53D177A3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D15137FE-DD70-4642-970E-DE6C9F2CCAE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0128F82F-22E6-4852-92E8-5C47ED7E5C5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6988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 Formulation and Graphical Solution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Rectangle 1030"/>
          <p:cNvSpPr/>
          <p:nvPr/>
        </p:nvSpPr>
        <p:spPr>
          <a:xfrm>
            <a:off x="270000" y="1676520"/>
            <a:ext cx="8602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oes not violat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ny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5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1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7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5) + 2(10) = 25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ay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(5) + 3(10) = 7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120 pound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Rectangle 1028"/>
          <p:cNvSpPr/>
          <p:nvPr/>
        </p:nvSpPr>
        <p:spPr>
          <a:xfrm>
            <a:off x="0" y="0"/>
            <a:ext cx="7734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263520" y="1676520"/>
            <a:ext cx="869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in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iolat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t least on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0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14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10) + 2(20) = 5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solution is limited to linear programming models containing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nly two 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can be used with three variables but only with great difficulty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methods provid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isualization of how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solution for a linear programming problem is obtai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0"/>
            <a:ext cx="8458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Graphical Solution of LP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ordinate Ax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1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21938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9" name="Picture 5" descr="02-01"/>
          <p:cNvPicPr/>
          <p:nvPr/>
        </p:nvPicPr>
        <p:blipFill>
          <a:blip r:embed="rId1"/>
          <a:stretch/>
        </p:blipFill>
        <p:spPr>
          <a:xfrm>
            <a:off x="3695760" y="1298520"/>
            <a:ext cx="4856040" cy="471348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3"/>
          <p:cNvSpPr/>
          <p:nvPr/>
        </p:nvSpPr>
        <p:spPr>
          <a:xfrm>
            <a:off x="3124080" y="60958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ordinates for Graphical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652" name="Group 18"/>
          <p:cNvGrpSpPr/>
          <p:nvPr/>
        </p:nvGrpSpPr>
        <p:grpSpPr>
          <a:xfrm>
            <a:off x="1504800" y="5838840"/>
            <a:ext cx="1609920" cy="606240"/>
            <a:chOff x="1504800" y="5838840"/>
            <a:chExt cx="1609920" cy="606240"/>
          </a:xfrm>
        </p:grpSpPr>
        <p:sp>
          <p:nvSpPr>
            <p:cNvPr id="653" name="Line Callout 1 10"/>
            <p:cNvSpPr/>
            <p:nvPr/>
          </p:nvSpPr>
          <p:spPr>
            <a:xfrm flipH="1">
              <a:off x="1504800" y="5838840"/>
              <a:ext cx="1609920" cy="606240"/>
            </a:xfrm>
            <a:prstGeom prst="borderCallout1">
              <a:avLst>
                <a:gd name="adj1" fmla="val 18750"/>
                <a:gd name="adj2" fmla="val -8333"/>
                <a:gd name="adj3" fmla="val -57342"/>
                <a:gd name="adj4" fmla="val -98564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4" name="TextBox 11"/>
            <p:cNvSpPr/>
            <p:nvPr/>
          </p:nvSpPr>
          <p:spPr>
            <a:xfrm>
              <a:off x="1504800" y="5969880"/>
              <a:ext cx="16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bowl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grpSp>
        <p:nvGrpSpPr>
          <p:cNvPr id="655" name="Group 17"/>
          <p:cNvGrpSpPr/>
          <p:nvPr/>
        </p:nvGrpSpPr>
        <p:grpSpPr>
          <a:xfrm>
            <a:off x="336240" y="2004840"/>
            <a:ext cx="1609920" cy="606600"/>
            <a:chOff x="336240" y="2004840"/>
            <a:chExt cx="1609920" cy="606600"/>
          </a:xfrm>
        </p:grpSpPr>
        <p:sp>
          <p:nvSpPr>
            <p:cNvPr id="656" name="Line Callout 1 15"/>
            <p:cNvSpPr/>
            <p:nvPr/>
          </p:nvSpPr>
          <p:spPr>
            <a:xfrm flipH="1">
              <a:off x="335880" y="2004840"/>
              <a:ext cx="1609560" cy="606600"/>
            </a:xfrm>
            <a:prstGeom prst="borderCallout1">
              <a:avLst>
                <a:gd name="adj1" fmla="val 18750"/>
                <a:gd name="adj2" fmla="val -8333"/>
                <a:gd name="adj3" fmla="val -49314"/>
                <a:gd name="adj4" fmla="val -134828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7" name="TextBox 16"/>
            <p:cNvSpPr/>
            <p:nvPr/>
          </p:nvSpPr>
          <p:spPr>
            <a:xfrm>
              <a:off x="336600" y="2114280"/>
              <a:ext cx="16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mug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65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1" name="Picture 4" descr="02-02"/>
          <p:cNvPicPr/>
          <p:nvPr/>
        </p:nvPicPr>
        <p:blipFill>
          <a:blip r:embed="rId1"/>
          <a:stretch/>
        </p:blipFill>
        <p:spPr>
          <a:xfrm>
            <a:off x="3841920" y="1201680"/>
            <a:ext cx="5022720" cy="461016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8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2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3586320" y="598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3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Labor Constra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3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4267080" y="6095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4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Labor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0" name="Picture 4" descr="02-03"/>
          <p:cNvPicPr/>
          <p:nvPr/>
        </p:nvPicPr>
        <p:blipFill>
          <a:blip r:embed="rId1"/>
          <a:stretch/>
        </p:blipFill>
        <p:spPr>
          <a:xfrm>
            <a:off x="3768840" y="1274760"/>
            <a:ext cx="5178240" cy="48862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y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4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6" name="Picture 4" descr="02-04"/>
          <p:cNvPicPr/>
          <p:nvPr/>
        </p:nvPicPr>
        <p:blipFill>
          <a:blip r:embed="rId1"/>
          <a:stretch/>
        </p:blipFill>
        <p:spPr>
          <a:xfrm>
            <a:off x="3805200" y="1238400"/>
            <a:ext cx="5216400" cy="492264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4572000" y="6095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lay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oth Constrai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5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3" name="Picture 4" descr="02-05"/>
          <p:cNvPicPr/>
          <p:nvPr/>
        </p:nvPicPr>
        <p:blipFill>
          <a:blip r:embed="rId1"/>
          <a:stretch/>
        </p:blipFill>
        <p:spPr>
          <a:xfrm>
            <a:off x="3768840" y="1274760"/>
            <a:ext cx="5184720" cy="489276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10"/>
          <p:cNvSpPr/>
          <p:nvPr/>
        </p:nvSpPr>
        <p:spPr>
          <a:xfrm>
            <a:off x="3330720" y="6095880"/>
            <a:ext cx="56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6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easible Solution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6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0" name="Picture 4" descr="02-06"/>
          <p:cNvPicPr/>
          <p:nvPr/>
        </p:nvPicPr>
        <p:blipFill>
          <a:blip r:embed="rId1"/>
          <a:stretch/>
        </p:blipFill>
        <p:spPr>
          <a:xfrm>
            <a:off x="3805200" y="1274760"/>
            <a:ext cx="5172120" cy="481320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0"/>
          <p:cNvSpPr/>
          <p:nvPr/>
        </p:nvSpPr>
        <p:spPr>
          <a:xfrm>
            <a:off x="4097160" y="6130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7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Solution = $800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7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7" name="Picture 4" descr="02-07"/>
          <p:cNvPicPr/>
          <p:nvPr/>
        </p:nvPicPr>
        <p:blipFill>
          <a:blip r:embed="rId1"/>
          <a:stretch/>
        </p:blipFill>
        <p:spPr>
          <a:xfrm>
            <a:off x="3914640" y="1292400"/>
            <a:ext cx="5081760" cy="479556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10"/>
          <p:cNvSpPr/>
          <p:nvPr/>
        </p:nvSpPr>
        <p:spPr>
          <a:xfrm>
            <a:off x="2819520" y="60944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8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bjection Function Line for Z = $8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66400" y="228240"/>
            <a:ext cx="7581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541440" y="16002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Formul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ax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 Solution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in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rregular Type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lternative Objective Function Solution Lin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Graphical Solution of Maximization Model (8 of 12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4" name="Picture 4" descr="02-08"/>
          <p:cNvPicPr/>
          <p:nvPr/>
        </p:nvPicPr>
        <p:blipFill>
          <a:blip r:embed="rId1"/>
          <a:stretch/>
        </p:blipFill>
        <p:spPr>
          <a:xfrm>
            <a:off x="3878280" y="1295280"/>
            <a:ext cx="5118120" cy="482940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10"/>
          <p:cNvSpPr/>
          <p:nvPr/>
        </p:nvSpPr>
        <p:spPr>
          <a:xfrm>
            <a:off x="29718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Alternative Objective Function Lin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9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1" name="Picture 4" descr="02-09"/>
          <p:cNvPicPr/>
          <p:nvPr/>
        </p:nvPicPr>
        <p:blipFill>
          <a:blip r:embed="rId1"/>
          <a:stretch/>
        </p:blipFill>
        <p:spPr>
          <a:xfrm>
            <a:off x="3878280" y="1347840"/>
            <a:ext cx="5046480" cy="48337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0"/>
          <p:cNvSpPr/>
          <p:nvPr/>
        </p:nvSpPr>
        <p:spPr>
          <a:xfrm>
            <a:off x="2271600" y="6094440"/>
            <a:ext cx="587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0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dentification of Optimal Solution Poin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Coordinate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0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8" name="Picture 4" descr="02-10"/>
          <p:cNvPicPr/>
          <p:nvPr/>
        </p:nvPicPr>
        <p:blipFill>
          <a:blip r:embed="rId1"/>
          <a:stretch/>
        </p:blipFill>
        <p:spPr>
          <a:xfrm>
            <a:off x="3848040" y="1384200"/>
            <a:ext cx="5099040" cy="474516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0"/>
          <p:cNvSpPr/>
          <p:nvPr/>
        </p:nvSpPr>
        <p:spPr>
          <a:xfrm>
            <a:off x="3505320" y="6130800"/>
            <a:ext cx="54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Coordina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Rectangle 1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1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Extreme (Corner) Point Solution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1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5" name="Picture 4" descr="02-11"/>
          <p:cNvPicPr/>
          <p:nvPr/>
        </p:nvPicPr>
        <p:blipFill>
          <a:blip r:embed="rId1"/>
          <a:stretch/>
        </p:blipFill>
        <p:spPr>
          <a:xfrm>
            <a:off x="3768840" y="1347840"/>
            <a:ext cx="5038560" cy="475452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20"/>
          <p:cNvSpPr/>
          <p:nvPr/>
        </p:nvSpPr>
        <p:spPr>
          <a:xfrm>
            <a:off x="3581280" y="6095880"/>
            <a:ext cx="54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s at All Corner Po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for New Objective Function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2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2" name="Picture 4" descr="02-12"/>
          <p:cNvPicPr/>
          <p:nvPr/>
        </p:nvPicPr>
        <p:blipFill>
          <a:blip r:embed="rId1"/>
          <a:stretch/>
        </p:blipFill>
        <p:spPr>
          <a:xfrm>
            <a:off x="3841920" y="1494000"/>
            <a:ext cx="4641840" cy="47098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8"/>
          <p:cNvSpPr/>
          <p:nvPr/>
        </p:nvSpPr>
        <p:spPr>
          <a:xfrm>
            <a:off x="0" y="2819520"/>
            <a:ext cx="39513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4" name="Text Box 10"/>
          <p:cNvSpPr/>
          <p:nvPr/>
        </p:nvSpPr>
        <p:spPr>
          <a:xfrm>
            <a:off x="2563920" y="6203880"/>
            <a:ext cx="64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with Z = 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+ 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270000" y="1600200"/>
            <a:ext cx="86025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andard form requires that all constraints be in the form of equations (equalities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dded to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weak  inequality) 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typically represents 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unused resourc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objective function valu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lack Variabl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2" name="Picture 4" descr="02-13"/>
          <p:cNvPicPr/>
          <p:nvPr/>
        </p:nvPicPr>
        <p:blipFill>
          <a:blip r:embed="rId1"/>
          <a:stretch/>
        </p:blipFill>
        <p:spPr>
          <a:xfrm>
            <a:off x="3951360" y="1201680"/>
            <a:ext cx="4778280" cy="498312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12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 Model: Standard For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Text Box 15"/>
          <p:cNvSpPr/>
          <p:nvPr/>
        </p:nvSpPr>
        <p:spPr>
          <a:xfrm>
            <a:off x="0" y="1828800"/>
            <a:ext cx="4381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 Z = 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re slack variabl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Text Box 16"/>
          <p:cNvSpPr/>
          <p:nvPr/>
        </p:nvSpPr>
        <p:spPr>
          <a:xfrm>
            <a:off x="2452680" y="61722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 Points A, B, and C with Sla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8437680" y="370368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270000" y="1327320"/>
            <a:ext cx="860256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bjectives of business decisions frequently involv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aximizing profi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inimizing cos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inear programming us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linear algebraic relationship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represent a firm’s decisions, given a busines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objectiv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and resourc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eps in applic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problem as solvable by linear programm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a mathematical model of the unstructured problem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mod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:  An Overview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mathematical symbols representing levels of activity of a fir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 function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a linear mathematical relationship describing an objective of the firm, in terms of decision variables - this function is to be maximized or minimi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– requirements or restrictions placed on the firm by the operating environment, stated in linear relationships of the decision variabl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arameter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numerical coefficients and constants used in the objective function and constrai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0" y="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ummary of Model Formulation Step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1066680" y="2057400"/>
            <a:ext cx="7162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learly define the decision variabl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onstruct the objective func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3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Formulate the constrai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263520" y="1420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263520" y="1566360"/>
            <a:ext cx="8602560" cy="18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mix problem - Beaver Creek Pottery Compan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ow many bowls and mugs should be produced to maximize profits given labor and materials constraint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resource requirements and unit profi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650960" y="3502080"/>
          <a:ext cx="5148360" cy="2336760"/>
        </p:xfrm>
        <a:graphic>
          <a:graphicData uri="http://schemas.openxmlformats.org/drawingml/2006/table">
            <a:tbl>
              <a:tblPr/>
              <a:tblGrid>
                <a:gridCol w="1039680"/>
                <a:gridCol w="1284480"/>
                <a:gridCol w="1284120"/>
                <a:gridCol w="1540080"/>
              </a:tblGrid>
              <a:tr h="46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Resource Requirements</a:t>
                      </a: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5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Labor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Hr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Clay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Lb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$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Bowl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Mug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920880" y="1165320"/>
            <a:ext cx="7638840" cy="52196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263520" y="1494000"/>
            <a:ext cx="86025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0 hrs of labor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vailability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20 lb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 to produce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 to produce per day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unction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 Z = profit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hours of labo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 pound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on-Negativity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;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0" name="Rectangle 102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1028"/>
          <p:cNvSpPr/>
          <p:nvPr/>
        </p:nvSpPr>
        <p:spPr>
          <a:xfrm>
            <a:off x="91440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lete Linear Programming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ximiz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4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1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3:17:01Z</dcterms:created>
  <dc:creator>GWillis</dc:creator>
  <dc:description/>
  <dc:language>en-US</dc:language>
  <cp:lastModifiedBy>المستخدم</cp:lastModifiedBy>
  <dcterms:modified xsi:type="dcterms:W3CDTF">2015-02-22T12:03:06Z</dcterms:modified>
  <cp:revision>62</cp:revision>
  <dc:subject/>
  <dc:title>Slide 1</dc:title>
</cp:coreProperties>
</file>