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9E5-74B1-498F-BAEB-2882ADE1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FD60-74B6-49B8-8970-44251E6426B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6BD-EA63-4C93-8525-1F59450990E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4F3-EFE0-4362-AFCC-2BDABE39730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97B-6D28-4A70-A337-D7CCE7E31FF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8858-9089-4650-AFF9-4AAECC69A91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83E-340E-49DF-9EE6-1AEA6F571F8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7D1-8794-4A4F-8A11-2A740716CC2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E13-0C46-416E-8C7F-0CACB99F604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077-96A0-4312-944B-D5D1AF30FD6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B09-1579-42E0-97F6-91C9C3B3F4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EDD-FD81-4E9D-8F1D-B5082B3B76F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B53-337C-4BFA-8BED-3B66AFAF973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D98D-F642-48D6-BEB1-36072067864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143-E516-41F3-8AED-B53F2AC4174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6801-180A-44EB-9357-C38A913CBFB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8AB-4288-4A38-8F3F-1A45621D116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213A-7634-4662-90B2-4E4EEC7D2AE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E4B-7F4E-4491-ACAA-BA30569D5F8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E3A-BF18-4A94-8E1F-09320FB877B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483-28E0-4155-8B69-43194393F6B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98E4-A668-4C39-A80B-F6D14CD4D6C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3056-CA96-4834-B397-6A9350B1ECF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4A77-E853-47FE-AAC5-B47F46991EA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6E3-B711-4AA6-9F9F-2565D133CAF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135-2C8A-4E78-BA37-538CCD19980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523-F666-4CA3-929B-558A73CE07E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CFC-899D-485B-9BB2-3AE40EE43EC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4539ED4-AD73-4189-8DCB-26ECEBC50CF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51AFABA6-9A60-4AE8-84D3-2353623E9F0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B453175B-65DB-4980-A8D3-2A39AFEB579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889191A-7801-4EAD-ACFC-DE5E20151E3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19E9189A-5791-4518-AF49-00DAE8037FA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FD0BAAFA-C76C-4AF8-ADB3-84CC1EF1846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CD6C9F9-8F0F-4B2C-9BE6-14841268ED3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DF74FDD-F1A3-43CC-AA46-D6C77E355A1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FE8DA43-EA7B-44AE-95B7-685DDE27E7B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50C935B-9815-4887-8C72-8D2932AADB6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F11945BA-9592-45A5-9C27-2227BDA625A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5EB4FF5-118E-490A-AC33-D4FAAB8F7FC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0" y="1752480"/>
            <a:ext cx="434340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8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6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0" y="1895400"/>
            <a:ext cx="426708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3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9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0" y="2286000"/>
            <a:ext cx="43434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6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2" name="Picture 6" descr=""/>
          <p:cNvPicPr/>
          <p:nvPr/>
        </p:nvPicPr>
        <p:blipFill>
          <a:blip r:embed="rId1"/>
          <a:stretch/>
        </p:blipFill>
        <p:spPr>
          <a:xfrm>
            <a:off x="446040" y="1384200"/>
            <a:ext cx="85154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0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2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4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8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4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5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4 of 4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2271600" y="289080"/>
            <a:ext cx="4600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HW1- Cas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4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745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0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1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المستخدم</cp:lastModifiedBy>
  <dcterms:modified xsi:type="dcterms:W3CDTF">2015-02-22T12:03:42Z</dcterms:modified>
  <cp:revision>62</cp:revision>
  <dc:subject/>
  <dc:title>Slide 1</dc:title>
</cp:coreProperties>
</file>