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CEE-E2EC-492C-871C-4901C383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29C-47C5-4897-98D7-99304C6369B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FD8-040D-4A3A-ABCD-B54EA732BE1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D913-D3DE-4BE4-BD75-093E8B0870A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764B-2A89-4D64-8230-1F33CD5ECF0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52F-6C04-40F2-8734-1D7FFF2773B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A7B-39E1-4FF2-A0DA-D7AD70591B0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F436-E617-427D-AB90-1A3D48CA363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311A-670E-4EE9-8801-6B2E9C3A349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B6A-A62C-4F84-81E0-D3AF6748701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E7A-0837-4791-B2CD-65B027647A5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690-D851-45D0-82BC-A3CA0E29CEE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BA12-6425-48DF-BCCF-E95A310566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467-9783-42EF-BCB6-FDD572E36DB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2B21-49AE-41B4-855F-CFB7EA9A044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205-DD28-411A-95B1-1BBFC8142B8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E54-20B2-40CB-8045-03EACF52504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4000-BF79-41A8-882B-ED60AE75B38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F64-5A1A-4970-A5CE-A30610B11B4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5C54-6941-4769-A3AD-297D51CBB7B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A148-8C0F-4036-932E-6550F4817B9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96C9-3BF8-483D-9BC6-A76DFC51892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268-096A-4689-AC3A-486719A679A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5DE-4BD0-418A-AAEE-D33807B82C4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82ED-2AC0-43C0-A604-07F279F2F97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FAB-26AD-436B-94B0-04C765EA888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940-B84B-4E32-B4EF-E20436ED70F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3D2-EB5A-4A39-9E6A-785D5707B42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3C843CDA-8CB5-489B-8742-82E3849BB29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F4DFAB1B-D6F4-4D0C-B371-EFF37CF3B9A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C3558235-01B5-4F9A-BFCA-9272515DBAF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E86FC33-AA74-44A1-9BDF-7A4F94A64BD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6BC68138-AC62-472D-BAFB-1FA49F33E27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668080C-2CB7-43C2-B6F6-78E2DB3F0F9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34223FDD-1BEA-47CA-B185-2D11109A2B3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744AF07-425B-48B2-A056-839089D1DAE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CBCEE8C-FC67-4C49-A4FF-84021A46C57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08229F0-8649-4D9C-A7FC-80FE5FD871F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6A54F7A-51FA-4B7B-959B-A56763611C6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C5A3B64F-749C-484E-A250-FFABA62CAEE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0" y="1752480"/>
            <a:ext cx="434340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8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6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0" y="1895400"/>
            <a:ext cx="426708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3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9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0" y="2286000"/>
            <a:ext cx="43434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6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2" name="Picture 6" descr=""/>
          <p:cNvPicPr/>
          <p:nvPr/>
        </p:nvPicPr>
        <p:blipFill>
          <a:blip r:embed="rId1"/>
          <a:stretch/>
        </p:blipFill>
        <p:spPr>
          <a:xfrm>
            <a:off x="446040" y="1384200"/>
            <a:ext cx="85154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0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2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4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8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5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4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2271600" y="289080"/>
            <a:ext cx="4600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HW1- Cas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4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745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0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1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المستخدم</cp:lastModifiedBy>
  <dcterms:modified xsi:type="dcterms:W3CDTF">2015-02-22T12:03:42Z</dcterms:modified>
  <cp:revision>62</cp:revision>
  <dc:subject/>
  <dc:title>Slide 1</dc:title>
</cp:coreProperties>
</file>