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9F6A4A-66C3-4C3B-9D16-13212787E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753B68-F7C6-4FE0-B4FA-9CD97F04E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C2D1A7-D858-49DF-BCD8-A3412DC1F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4DFF44-7DFE-47C6-8FCE-16D0AEAEA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1688D7-69CE-46E6-9FFB-5FB3409EB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38CCDA-2F09-4BF7-954A-8CC044CBF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854E58-ED70-4017-8F49-CEDBDB6E8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8053EC-8FED-4A82-9E70-2CE8CE546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98D699-98C8-4D71-9FCA-59E26F2A3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4685AC-3DD4-4299-BEC6-06EF75404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2C0ABF-15DA-4743-A574-24FA4B1CE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7153C0-1B03-46B9-82E8-E2F89B2C7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76FEA0-8B5D-4195-BF40-BA7276F33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0580B4-7BA6-4535-B7DA-EC172F586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EBADC4DB-27BC-4384-8728-01CE4D2F0319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2:  The Linux System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1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Linux Distribution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1026800" cy="6535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, precompiled sets of packages, or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distrib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clude the basic Linux system, system installation and management utilities, and ready-to-install packages of common UNIX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Linux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Red Hat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Deb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pular distributions, the first comes from a commercial Linux support company and the second from the free-software Linux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PM Package file format permits compatibility among the various Linux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Linux Licens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0834560" cy="5976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kernel is distributed under the GNU General Public License (GPL), the terms of which are set out by the Free Software Found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rights in Linux code are still held by the code’s various auth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, however, in the sense that people can copy it, modify it, use it in any manner they want, and give away their own copies, without any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Design Principles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Design Principle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1026800" cy="66909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a multiuser, multitasking system with a full set of UNIX-compatibl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file system adheres to traditional UNIX semantics, and it fully implements the standard UNIX network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design goals are speed, efficiency, and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designed to be compliant with the relevant POSIX documents; at least two Linux distributions have achieved official POSIX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programming interface adheres to the SVR4 UNIX semantics, rather than to BS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36520" y="369360"/>
            <a:ext cx="1189368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omponents of a Linux System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rcRect l="679" t="26909" r="679" b="26909"/>
          <a:stretch/>
        </p:blipFill>
        <p:spPr>
          <a:xfrm>
            <a:off x="1913040" y="2716200"/>
            <a:ext cx="10715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5720" y="12240"/>
            <a:ext cx="11658600" cy="1125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omponents of a Linux System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1493360" cy="5976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system is composed of three main bodies of code, in line with most traditional UNIX implem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Ker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kernel is responsible for maintaining all the important abstractions of the operating system, including such things as virtual memory and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code execut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rnel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full access to all the physical resources of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kernel code and data structures are kept in the same single address space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876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ngle address space contains not only the core scheduling and virtual memory code but all kernel code, including all device drivers, file systems, and networking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2600" y="25560"/>
            <a:ext cx="1165860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omponents of a Linux System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10766520" cy="5976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2. System libra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system libraries define a standard set of functions through which applications can interact with the ker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3. System ut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system utilities are programs that perform individual, specialized management tasks. Some system utilities may be invoked just once to initialize and configure some aspect of the system; others—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em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NIX terminology—may run permanently, handling such tasks as responding to incoming network connections, accepting logon requests from terminals, and updating log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2:  The Linux System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His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nd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152864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plore the history of the UNIX operating system from which Linux is derived and the principles which Linux is designed 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amine the Linux process model and illustrate how Linux schedules processes and provides interproce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memory management i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plore how Linux implements file systems and manages I/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0120" y="1271160"/>
            <a:ext cx="11263320" cy="6986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6000"/>
          </a:bodyPr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a modern, free operating system based on UNIX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veloped as a small but self-contained kernel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1 by Linus Torva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the major design goal of UNIX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history has been one of collaboration by many users from all around the world, corresponding almost exclusively ove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been designed to run efficiently and reliably on common PC hardware, but also runs on a variety of other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e Linux operating system kernel is entirely original, but it can run much existing free UNIX software, resulting in an entire UNIX-compatible operating system free from proprietar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09240" y="1644120"/>
            <a:ext cx="115570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entirely original piece of software developed from scratch by the Linux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 we know it today, includes a multitude of components, some written from scratch, others borrowed from other development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 distribu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all the standard components of the Linux system, plus a set of administrative tools to simplify the initial installation and subsequent upgrading of Linux and to manage installation and removal of other packages on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, varying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Linux Distributions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the kernel, applications, and management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e Linux Kernel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0920" y="1649160"/>
            <a:ext cx="11541240" cy="62989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9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0.01 (May 1991) had no networking, ran only on 80386-compatible Intel processors and on PC hardware, had extremely limited device-drive support, and supported only the Minix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1.0 (March 1994) included these new 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UNIX’s standard TCP/IP network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D-compatible socket interface for networking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-driver support for running IP over an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hardwar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1.2 (March 1995) was the final PC-only Linux ker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Linux 2.0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9720" y="1714320"/>
            <a:ext cx="11550600" cy="6508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d in June 1996,  2.0 added two major new cap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architectures, including a fully 64-bit native Alph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rocessor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ew features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memory-managem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TCP/IP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configurati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otorola 68000-series processors, Sun Sparc systems, and for PC and PowerMa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e Linux System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1714320"/>
            <a:ext cx="11026800" cy="6586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uses many tools developed as part of Berkeley’s BSD operating system, ex: Free Software Foundation's GN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n system libraries were started by the GNU project, with improvements provided by the Linux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networking-administration tools were derived from 4.3BSD code; recent BSD derivatives such as Free BSD have borrowed code from Linux in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system is maintained by a loose network of developers collaborating over the Internet, with a small number of public sites acting as de facto standard reposi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1-27T12:52:42Z</dcterms:modified>
  <cp:revision>175</cp:revision>
  <dc:subject/>
  <dc:title>No Slide Title</dc:title>
</cp:coreProperties>
</file>