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13716000" cy="9144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1"/>
          </p:nvPr>
        </p:nvSpPr>
        <p:spPr>
          <a:xfrm>
            <a:off x="396720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sldImg"/>
          </p:nvPr>
        </p:nvSpPr>
        <p:spPr>
          <a:xfrm>
            <a:off x="888840" y="696960"/>
            <a:ext cx="5220000" cy="348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6699"/>
                </a:solidFill>
                <a:latin typeface="Arial"/>
              </a:rPr>
              <a:t>Click to move the slide</a:t>
            </a:r>
            <a:endParaRPr b="1" lang="en-US" sz="4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ctr">
            <a:noAutofit/>
          </a:bodyPr>
          <a:p>
            <a:pPr indent="0"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ftr" idx="2"/>
          </p:nvPr>
        </p:nvSpPr>
        <p:spPr>
          <a:xfrm>
            <a:off x="0" y="882000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 type="sldNum" idx="3"/>
          </p:nvPr>
        </p:nvSpPr>
        <p:spPr>
          <a:xfrm>
            <a:off x="3967200" y="882000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8FA4E641-7AF3-4A61-8E2C-68726A39F6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967200" y="8820000"/>
            <a:ext cx="30304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953A230D-5286-4FE7-9801-13018ED047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888840" y="696960"/>
            <a:ext cx="5220000" cy="34812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967200" y="8820000"/>
            <a:ext cx="30304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E3EB9C65-35F0-4060-B365-F03A463009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888840" y="696960"/>
            <a:ext cx="5220000" cy="34812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967200" y="8820000"/>
            <a:ext cx="30304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6E3657FC-61AF-4339-9F64-DC2FC39A5A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888840" y="696960"/>
            <a:ext cx="5220000" cy="34812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967200" y="8820000"/>
            <a:ext cx="30304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0CC1FE06-444D-445F-A356-2A1E40D1AF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888840" y="696960"/>
            <a:ext cx="5220000" cy="34812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967200" y="8820000"/>
            <a:ext cx="30304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2594E050-7F01-4217-8A80-6E962B3467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888840" y="696960"/>
            <a:ext cx="5220000" cy="34812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967200" y="8820000"/>
            <a:ext cx="30304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4E49DD7D-9D6E-43FF-A12D-37A2D31AAF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888840" y="696960"/>
            <a:ext cx="5220000" cy="34812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967200" y="8820000"/>
            <a:ext cx="30304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57D63750-9D9B-4720-AE01-A44F3061AD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888840" y="696960"/>
            <a:ext cx="5220000" cy="34812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967200" y="8820000"/>
            <a:ext cx="30304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ECBCB1FE-D5FE-4B7A-8412-0082456577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888840" y="696960"/>
            <a:ext cx="5220000" cy="34812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967200" y="8820000"/>
            <a:ext cx="30304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89A89A98-7C26-4682-8B8E-CEB0D8682F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888840" y="696960"/>
            <a:ext cx="5220000" cy="34812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967200" y="8820000"/>
            <a:ext cx="30304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3D030D7A-9752-4B2F-A872-8BF3A5DAEB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888840" y="696960"/>
            <a:ext cx="5220000" cy="34812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967200" y="8820000"/>
            <a:ext cx="30304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50CECB3C-6DB5-4D86-99DE-A8B346417E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888840" y="696960"/>
            <a:ext cx="5220000" cy="34812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967200" y="8820000"/>
            <a:ext cx="30304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1BDACA03-3BE1-45ED-B2AD-13D92503CA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888840" y="696960"/>
            <a:ext cx="5220000" cy="34812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967200" y="8820000"/>
            <a:ext cx="30304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B4B42C92-6337-4506-B9C5-04A2879EF4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888840" y="696960"/>
            <a:ext cx="5220000" cy="34812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3396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06360"/>
            <a:ext cx="12344400" cy="831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09600" y="1644120"/>
            <a:ext cx="12344400" cy="28810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209600" y="4799160"/>
            <a:ext cx="12344400" cy="28810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06360"/>
            <a:ext cx="12344400" cy="831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09600" y="1644120"/>
            <a:ext cx="6023880" cy="28810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7535160" y="1644120"/>
            <a:ext cx="6023880" cy="28810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209600" y="4799160"/>
            <a:ext cx="6023880" cy="28810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535160" y="4799160"/>
            <a:ext cx="6023880" cy="28810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306360"/>
            <a:ext cx="12344400" cy="831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209600" y="1644120"/>
            <a:ext cx="3974760" cy="28810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383440" y="1644120"/>
            <a:ext cx="3974760" cy="28810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9557280" y="1644120"/>
            <a:ext cx="3974760" cy="28810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209600" y="4799160"/>
            <a:ext cx="3974760" cy="28810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5383440" y="4799160"/>
            <a:ext cx="3974760" cy="28810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9557280" y="4799160"/>
            <a:ext cx="3974760" cy="28810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6360"/>
            <a:ext cx="12344400" cy="831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209600" y="1644120"/>
            <a:ext cx="12344400" cy="60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06360"/>
            <a:ext cx="12344400" cy="831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09600" y="1644120"/>
            <a:ext cx="12344400" cy="604044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06360"/>
            <a:ext cx="12344400" cy="831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09600" y="1644120"/>
            <a:ext cx="6023880" cy="604044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7535160" y="1644120"/>
            <a:ext cx="6023880" cy="604044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06360"/>
            <a:ext cx="12344400" cy="831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685800" y="369360"/>
            <a:ext cx="1234440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06360"/>
            <a:ext cx="12344400" cy="831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09600" y="1644120"/>
            <a:ext cx="6023880" cy="28810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7535160" y="1644120"/>
            <a:ext cx="6023880" cy="604044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209600" y="4799160"/>
            <a:ext cx="6023880" cy="28810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306360"/>
            <a:ext cx="12344400" cy="831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209600" y="1644120"/>
            <a:ext cx="12344400" cy="60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06360"/>
            <a:ext cx="12344400" cy="831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09600" y="1644120"/>
            <a:ext cx="6023880" cy="604044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7535160" y="1644120"/>
            <a:ext cx="6023880" cy="28810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535160" y="4799160"/>
            <a:ext cx="6023880" cy="28810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306360"/>
            <a:ext cx="12344400" cy="831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09600" y="1644120"/>
            <a:ext cx="6023880" cy="28810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7535160" y="1644120"/>
            <a:ext cx="6023880" cy="28810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209600" y="4799160"/>
            <a:ext cx="12344400" cy="28810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306360"/>
            <a:ext cx="12344400" cy="831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09600" y="1644120"/>
            <a:ext cx="12344400" cy="28810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1209600" y="4799160"/>
            <a:ext cx="12344400" cy="28810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6360"/>
            <a:ext cx="12344400" cy="831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09600" y="1644120"/>
            <a:ext cx="6023880" cy="28810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7535160" y="1644120"/>
            <a:ext cx="6023880" cy="28810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209600" y="4799160"/>
            <a:ext cx="6023880" cy="28810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535160" y="4799160"/>
            <a:ext cx="6023880" cy="28810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306360"/>
            <a:ext cx="12344400" cy="831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09600" y="1644120"/>
            <a:ext cx="3974760" cy="28810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383440" y="1644120"/>
            <a:ext cx="3974760" cy="28810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9557280" y="1644120"/>
            <a:ext cx="3974760" cy="28810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1209600" y="4799160"/>
            <a:ext cx="3974760" cy="28810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5383440" y="4799160"/>
            <a:ext cx="3974760" cy="28810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9557280" y="4799160"/>
            <a:ext cx="3974760" cy="28810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306360"/>
            <a:ext cx="12344400" cy="831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09600" y="1644120"/>
            <a:ext cx="12344400" cy="604044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06360"/>
            <a:ext cx="12344400" cy="831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09600" y="1644120"/>
            <a:ext cx="6023880" cy="604044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7535160" y="1644120"/>
            <a:ext cx="6023880" cy="604044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6360"/>
            <a:ext cx="12344400" cy="831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369360"/>
            <a:ext cx="1234440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306360"/>
            <a:ext cx="12344400" cy="831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209600" y="1644120"/>
            <a:ext cx="6023880" cy="28810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7535160" y="1644120"/>
            <a:ext cx="6023880" cy="604044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209600" y="4799160"/>
            <a:ext cx="6023880" cy="28810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306360"/>
            <a:ext cx="12344400" cy="831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09600" y="1644120"/>
            <a:ext cx="6023880" cy="604044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7535160" y="1644120"/>
            <a:ext cx="6023880" cy="28810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35160" y="4799160"/>
            <a:ext cx="6023880" cy="28810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306360"/>
            <a:ext cx="12344400" cy="831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09600" y="1644120"/>
            <a:ext cx="6023880" cy="28810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35160" y="1644120"/>
            <a:ext cx="6023880" cy="28810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209600" y="4799160"/>
            <a:ext cx="12344400" cy="28810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dino_3"/>
          <p:cNvPicPr/>
          <p:nvPr/>
        </p:nvPicPr>
        <p:blipFill>
          <a:blip r:embed="rId2"/>
          <a:stretch/>
        </p:blipFill>
        <p:spPr>
          <a:xfrm>
            <a:off x="428760" y="0"/>
            <a:ext cx="1793880" cy="12114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369360"/>
            <a:ext cx="12344400" cy="768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6699"/>
                </a:solidFill>
                <a:latin typeface="Arial"/>
              </a:rPr>
              <a:t>Click to edit the title text format</a:t>
            </a:r>
            <a:endParaRPr b="1" lang="en-US" sz="4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09600" y="1644120"/>
            <a:ext cx="12344400" cy="604044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marL="488880" indent="-4888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60560" indent="-4082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550880" indent="-32544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2039760" indent="-325080">
              <a:spcBef>
                <a:spcPts val="788"/>
              </a:spcBef>
              <a:buClr>
                <a:srgbClr val="ffcc00"/>
              </a:buClr>
              <a:buSzPct val="75000"/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530440" indent="-325440">
              <a:spcBef>
                <a:spcPts val="788"/>
              </a:spcBef>
              <a:buClr>
                <a:srgbClr val="ff0066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530440" indent="-325440">
              <a:spcBef>
                <a:spcPts val="788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530440" indent="-325440">
              <a:spcBef>
                <a:spcPts val="788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0" y="0"/>
            <a:ext cx="343080" cy="30481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30680" rIns="130680" tIns="65160" bIns="65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Line 6"/>
          <p:cNvSpPr/>
          <p:nvPr/>
        </p:nvSpPr>
        <p:spPr>
          <a:xfrm>
            <a:off x="685800" y="1147680"/>
            <a:ext cx="12115800" cy="0"/>
          </a:xfrm>
          <a:prstGeom prst="line">
            <a:avLst/>
          </a:prstGeom>
          <a:ln w="1908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0320" rIns="130320" tIns="-65160" bIns="-65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3048120"/>
            <a:ext cx="343080" cy="30477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30680" rIns="130680" tIns="65160" bIns="65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0" y="6095880"/>
            <a:ext cx="343080" cy="30481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30680" rIns="130680" tIns="65160" bIns="65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Text Box 9"/>
          <p:cNvSpPr/>
          <p:nvPr/>
        </p:nvSpPr>
        <p:spPr>
          <a:xfrm>
            <a:off x="6035040" y="8818560"/>
            <a:ext cx="1370160" cy="34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30680" rIns="130680" tIns="65160" bIns="6516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99"/>
                </a:solidFill>
                <a:latin typeface="Arial"/>
              </a:rPr>
              <a:t>15.</a:t>
            </a:r>
            <a:fld id="{DCD4C513-18B7-4F7B-9E9D-AAA9D751B8F8}" type="slidenum">
              <a:rPr b="1" lang="en-US" sz="14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Text Box 10"/>
          <p:cNvSpPr/>
          <p:nvPr/>
        </p:nvSpPr>
        <p:spPr>
          <a:xfrm>
            <a:off x="9734400" y="8783640"/>
            <a:ext cx="4070520" cy="34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30680" rIns="130680" tIns="65160" bIns="6516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99"/>
                </a:solidFill>
                <a:latin typeface="Arial"/>
              </a:rPr>
              <a:t>Silberschatz, Galvin and Gagne ©2011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Text Box 11"/>
          <p:cNvSpPr/>
          <p:nvPr/>
        </p:nvSpPr>
        <p:spPr>
          <a:xfrm>
            <a:off x="301680" y="8827920"/>
            <a:ext cx="4581000" cy="34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30680" rIns="130680" tIns="65160" bIns="6516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99"/>
                </a:solidFill>
                <a:latin typeface="Arial"/>
              </a:rPr>
              <a:t>Operating System Concepts Essentials– 8</a:t>
            </a:r>
            <a:r>
              <a:rPr b="1" lang="en-US" sz="1400" spc="-1" strike="noStrike" baseline="30000">
                <a:solidFill>
                  <a:srgbClr val="006699"/>
                </a:solidFill>
                <a:latin typeface="Arial"/>
              </a:rPr>
              <a:t>th</a:t>
            </a:r>
            <a:r>
              <a:rPr b="1" lang="en-US" sz="1400" spc="-1" strike="noStrike">
                <a:solidFill>
                  <a:srgbClr val="006699"/>
                </a:solidFill>
                <a:latin typeface="Arial"/>
              </a:rPr>
              <a:t> Edi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" name="Picture 12" descr="dino_6"/>
          <p:cNvPicPr/>
          <p:nvPr/>
        </p:nvPicPr>
        <p:blipFill>
          <a:blip r:embed="rId3"/>
          <a:stretch/>
        </p:blipFill>
        <p:spPr>
          <a:xfrm>
            <a:off x="11661840" y="7799400"/>
            <a:ext cx="1925640" cy="1057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3"/>
          <p:cNvGrpSpPr/>
          <p:nvPr/>
        </p:nvGrpSpPr>
        <p:grpSpPr>
          <a:xfrm>
            <a:off x="298440" y="3948120"/>
            <a:ext cx="12915720" cy="267840"/>
            <a:chOff x="298440" y="3948120"/>
            <a:chExt cx="12915720" cy="267840"/>
          </a:xfrm>
        </p:grpSpPr>
        <p:sp>
          <p:nvSpPr>
            <p:cNvPr id="48" name="Rectangle 4"/>
            <p:cNvSpPr/>
            <p:nvPr/>
          </p:nvSpPr>
          <p:spPr>
            <a:xfrm>
              <a:off x="298440" y="3948120"/>
              <a:ext cx="4305240" cy="267840"/>
            </a:xfrm>
            <a:prstGeom prst="rect">
              <a:avLst/>
            </a:prstGeom>
            <a:solidFill>
              <a:srgbClr val="33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9" name="Rectangle 5"/>
            <p:cNvSpPr/>
            <p:nvPr/>
          </p:nvSpPr>
          <p:spPr>
            <a:xfrm>
              <a:off x="4603680" y="3948120"/>
              <a:ext cx="4305240" cy="26784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" name="Rectangle 6"/>
            <p:cNvSpPr/>
            <p:nvPr/>
          </p:nvSpPr>
          <p:spPr>
            <a:xfrm>
              <a:off x="8908920" y="3948120"/>
              <a:ext cx="4305240" cy="267840"/>
            </a:xfrm>
            <a:prstGeom prst="rect">
              <a:avLst/>
            </a:prstGeom>
            <a:solidFill>
              <a:srgbClr val="33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1" name="Text Box 7"/>
          <p:cNvSpPr/>
          <p:nvPr/>
        </p:nvSpPr>
        <p:spPr>
          <a:xfrm>
            <a:off x="9734400" y="8783640"/>
            <a:ext cx="4070520" cy="34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30680" rIns="130680" tIns="65160" bIns="6516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99"/>
                </a:solidFill>
                <a:latin typeface="Arial"/>
              </a:rPr>
              <a:t>Silberschatz, Galvin and Gagne ©2011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Text Box 8"/>
          <p:cNvSpPr/>
          <p:nvPr/>
        </p:nvSpPr>
        <p:spPr>
          <a:xfrm>
            <a:off x="64080" y="8818560"/>
            <a:ext cx="4631400" cy="34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30680" rIns="130680" tIns="65160" bIns="6516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99"/>
                </a:solidFill>
                <a:latin typeface="Arial"/>
              </a:rPr>
              <a:t>Operating System Concepts Essentials – 8</a:t>
            </a:r>
            <a:r>
              <a:rPr b="1" lang="en-US" sz="1400" spc="-1" strike="noStrike" baseline="30000">
                <a:solidFill>
                  <a:srgbClr val="336699"/>
                </a:solidFill>
                <a:latin typeface="Arial"/>
              </a:rPr>
              <a:t>th</a:t>
            </a:r>
            <a:r>
              <a:rPr b="1" lang="en-US" sz="1400" spc="-1" strike="noStrike">
                <a:solidFill>
                  <a:srgbClr val="336699"/>
                </a:solidFill>
                <a:latin typeface="Arial"/>
              </a:rPr>
              <a:t> Edi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3" name="Picture 9" descr="dino_4"/>
          <p:cNvPicPr/>
          <p:nvPr/>
        </p:nvPicPr>
        <p:blipFill>
          <a:blip r:embed="rId2"/>
          <a:stretch/>
        </p:blipFill>
        <p:spPr>
          <a:xfrm>
            <a:off x="5041800" y="5543640"/>
            <a:ext cx="3092400" cy="2125440"/>
          </a:xfrm>
          <a:prstGeom prst="rect">
            <a:avLst/>
          </a:prstGeom>
          <a:ln w="76320">
            <a:solidFill>
              <a:srgbClr val="336699"/>
            </a:solidFill>
            <a:miter/>
          </a:ln>
        </p:spPr>
      </p:pic>
      <p:sp>
        <p:nvSpPr>
          <p:cNvPr id="54" name="Rectangle 10"/>
          <p:cNvSpPr/>
          <p:nvPr/>
        </p:nvSpPr>
        <p:spPr>
          <a:xfrm>
            <a:off x="4836960" y="5367240"/>
            <a:ext cx="3505320" cy="2481480"/>
          </a:xfrm>
          <a:prstGeom prst="rect">
            <a:avLst/>
          </a:prstGeom>
          <a:noFill/>
          <a:ln w="5724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30680" rIns="130680" tIns="65160" bIns="65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69360"/>
            <a:ext cx="12344400" cy="768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6699"/>
                </a:solidFill>
                <a:latin typeface="Arial"/>
              </a:rPr>
              <a:t>Click to edit the title text format</a:t>
            </a:r>
            <a:endParaRPr b="1" lang="en-US" sz="4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1209600" y="1644120"/>
            <a:ext cx="12344400" cy="604044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marL="488880" indent="-4888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60560" indent="-4082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550880" indent="-32544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2039760" indent="-325080">
              <a:spcBef>
                <a:spcPts val="788"/>
              </a:spcBef>
              <a:buClr>
                <a:srgbClr val="ffcc00"/>
              </a:buClr>
              <a:buSzPct val="75000"/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530440" indent="-325440">
              <a:spcBef>
                <a:spcPts val="788"/>
              </a:spcBef>
              <a:buClr>
                <a:srgbClr val="ff0066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530440" indent="-325440">
              <a:spcBef>
                <a:spcPts val="788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530440" indent="-325440">
              <a:spcBef>
                <a:spcPts val="788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28520" y="914400"/>
            <a:ext cx="11658600" cy="28368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100" spc="-1" strike="noStrike">
                <a:solidFill>
                  <a:srgbClr val="006699"/>
                </a:solidFill>
                <a:latin typeface="Arial"/>
              </a:rPr>
              <a:t>Chapter 2:  The Linux System</a:t>
            </a:r>
            <a:br>
              <a:rPr sz="6100"/>
            </a:br>
            <a:r>
              <a:rPr b="1" lang="en-US" sz="4000" spc="-1" strike="noStrike">
                <a:solidFill>
                  <a:srgbClr val="c00000"/>
                </a:solidFill>
                <a:latin typeface="Arial"/>
              </a:rPr>
              <a:t>Part 1</a:t>
            </a:r>
            <a:endParaRPr b="1" lang="en-US" sz="40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369360"/>
            <a:ext cx="12344400" cy="768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6699"/>
                </a:solidFill>
                <a:latin typeface="Arial"/>
              </a:rPr>
              <a:t>Linux Distributions</a:t>
            </a:r>
            <a:endParaRPr b="1" lang="en-US" sz="4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70080" y="1714680"/>
            <a:ext cx="11026800" cy="653544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marL="488880" indent="-488880">
              <a:spcBef>
                <a:spcPts val="876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ndard, precompiled sets of packages, or </a:t>
            </a:r>
            <a:r>
              <a:rPr b="1" lang="en-US" sz="2000" spc="-1" strike="noStrike">
                <a:solidFill>
                  <a:srgbClr val="3366ff"/>
                </a:solidFill>
                <a:latin typeface="Arial"/>
              </a:rPr>
              <a:t>distribution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include the basic Linux system, system installation and management utilities, and ready-to-install packages of common UNIX t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88880"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88880"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88880" indent="-488880">
              <a:spcBef>
                <a:spcPts val="876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rly Linux distribu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60560" indent="-408240">
              <a:spcBef>
                <a:spcPts val="876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ff"/>
                </a:solidFill>
                <a:latin typeface="Arial"/>
              </a:rPr>
              <a:t>Red Hat</a:t>
            </a:r>
            <a:r>
              <a:rPr b="0" lang="en-US" sz="20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66ff"/>
                </a:solidFill>
                <a:latin typeface="Arial"/>
              </a:rPr>
              <a:t>Debia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re popular distributions, the first comes from a commercial Linux support company and the second from the free-software Linux commun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60560" indent="0">
              <a:spcBef>
                <a:spcPts val="8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88880" indent="-488880">
              <a:spcBef>
                <a:spcPts val="876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PM Package file format permits compatibility among the various Linux distribu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369360"/>
            <a:ext cx="12344400" cy="768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6699"/>
                </a:solidFill>
                <a:latin typeface="Arial"/>
              </a:rPr>
              <a:t>Linux Licensing</a:t>
            </a:r>
            <a:endParaRPr b="1" lang="en-US" sz="4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270080" y="1714680"/>
            <a:ext cx="10834560" cy="597672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marL="488880" indent="-488880">
              <a:lnSpc>
                <a:spcPct val="150000"/>
              </a:lnSpc>
              <a:spcBef>
                <a:spcPts val="876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Linux kernel is distributed under the GNU General Public License (GPL), the terms of which are set out by the Free Software Foundatio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88880" indent="-488880">
              <a:lnSpc>
                <a:spcPct val="150000"/>
              </a:lnSpc>
              <a:spcBef>
                <a:spcPts val="876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pyright rights in Linux code are still held by the code’s various author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88880" indent="0">
              <a:lnSpc>
                <a:spcPct val="15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88880" indent="-488880">
              <a:lnSpc>
                <a:spcPct val="150000"/>
              </a:lnSpc>
              <a:spcBef>
                <a:spcPts val="876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ux i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re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, however, in the sense that people can copy it, modify it, use it in any manner they want, and give away their own copies, without any restric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88880" indent="0">
              <a:lnSpc>
                <a:spcPct val="15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28520" y="914400"/>
            <a:ext cx="11658600" cy="28368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100" spc="-1" strike="noStrike">
                <a:solidFill>
                  <a:srgbClr val="006699"/>
                </a:solidFill>
                <a:latin typeface="Arial"/>
              </a:rPr>
              <a:t>Design Principles</a:t>
            </a:r>
            <a:endParaRPr b="1" lang="en-US" sz="61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69360"/>
            <a:ext cx="12344400" cy="768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6699"/>
                </a:solidFill>
                <a:latin typeface="Arial"/>
              </a:rPr>
              <a:t>Design Principles</a:t>
            </a:r>
            <a:endParaRPr b="1" lang="en-US" sz="4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70080" y="1714680"/>
            <a:ext cx="11026800" cy="66909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marL="488880" indent="-488880">
              <a:lnSpc>
                <a:spcPct val="150000"/>
              </a:lnSpc>
              <a:spcBef>
                <a:spcPts val="876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ux is a multiuser, multitasking system with a full set of UNIX-compatible t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88880" indent="0">
              <a:lnSpc>
                <a:spcPct val="150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88880" indent="-488880">
              <a:lnSpc>
                <a:spcPct val="150000"/>
              </a:lnSpc>
              <a:spcBef>
                <a:spcPts val="876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s file system adheres to traditional UNIX semantics, and it fully implements the standard UNIX networking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88880" indent="0">
              <a:lnSpc>
                <a:spcPct val="150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88880" indent="-488880">
              <a:lnSpc>
                <a:spcPct val="150000"/>
              </a:lnSpc>
              <a:spcBef>
                <a:spcPts val="876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 design goals are speed, efficiency, and standard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88880" indent="0">
              <a:lnSpc>
                <a:spcPct val="150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88880" indent="-488880">
              <a:lnSpc>
                <a:spcPct val="150000"/>
              </a:lnSpc>
              <a:spcBef>
                <a:spcPts val="876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ux is designed to be compliant with the relevant POSIX documents; at least two Linux distributions have achieved official POSIX cert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88880" indent="0">
              <a:lnSpc>
                <a:spcPct val="150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88880" indent="-488880">
              <a:lnSpc>
                <a:spcPct val="150000"/>
              </a:lnSpc>
              <a:spcBef>
                <a:spcPts val="876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Linux programming interface adheres to the SVR4 UNIX semantics, rather than to BSD behavi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36520" y="369360"/>
            <a:ext cx="11893680" cy="768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6699"/>
                </a:solidFill>
                <a:latin typeface="Arial"/>
              </a:rPr>
              <a:t>Components of a Linux System</a:t>
            </a:r>
            <a:endParaRPr b="1" lang="en-US" sz="46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24" name="Picture 6" descr=""/>
          <p:cNvPicPr/>
          <p:nvPr/>
        </p:nvPicPr>
        <p:blipFill>
          <a:blip r:embed="rId1"/>
          <a:srcRect l="679" t="26909" r="679" b="26909"/>
          <a:stretch/>
        </p:blipFill>
        <p:spPr>
          <a:xfrm>
            <a:off x="1913040" y="2716200"/>
            <a:ext cx="10715400" cy="33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485720" y="12240"/>
            <a:ext cx="11658600" cy="112572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6699"/>
                </a:solidFill>
                <a:latin typeface="Arial"/>
              </a:rPr>
              <a:t>Components of a Linux System (Cont.)</a:t>
            </a:r>
            <a:endParaRPr b="1" lang="en-US" sz="4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70080" y="1714680"/>
            <a:ext cx="11493360" cy="597672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marL="488880" indent="-488880">
              <a:lnSpc>
                <a:spcPct val="150000"/>
              </a:lnSpc>
              <a:spcBef>
                <a:spcPts val="876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Linux system is composed of three main bodies of code, in line with most traditional UNIX implementati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88880" indent="-488880">
              <a:lnSpc>
                <a:spcPct val="150000"/>
              </a:lnSpc>
              <a:spcBef>
                <a:spcPts val="876"/>
              </a:spcBef>
              <a:buClr>
                <a:srgbClr val="993300"/>
              </a:buClr>
              <a:buSzPct val="90000"/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Arial"/>
              </a:rPr>
              <a:t>Kerne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The kernel is responsible for maintaining all the important abstractions of the operating system, including such things as virtual memory and process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60560" indent="-408240">
              <a:lnSpc>
                <a:spcPct val="150000"/>
              </a:lnSpc>
              <a:spcBef>
                <a:spcPts val="876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ernel code execute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kernel mod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ith full access to all the physical resources of the compu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60560" indent="-408240">
              <a:lnSpc>
                <a:spcPct val="150000"/>
              </a:lnSpc>
              <a:spcBef>
                <a:spcPts val="876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kernel code and data structures are kept in the same single address space.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Wh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550880" indent="-325440">
              <a:lnSpc>
                <a:spcPct val="150000"/>
              </a:lnSpc>
              <a:spcBef>
                <a:spcPts val="876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single address space contains not only the core scheduling and virtual memory code but all kernel code, including all device drivers, file systems, and networking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42600" y="25560"/>
            <a:ext cx="11658600" cy="112536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6699"/>
                </a:solidFill>
                <a:latin typeface="Arial"/>
              </a:rPr>
              <a:t>Components of a Linux System (Cont.)</a:t>
            </a:r>
            <a:endParaRPr b="1" lang="en-US" sz="4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69720" y="1714680"/>
            <a:ext cx="10766520" cy="597672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lnSpc>
                <a:spcPct val="15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Arial"/>
              </a:rPr>
              <a:t>2. System librari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The system libraries define a standard set of functions through which applications can interact with the kernel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5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5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Arial"/>
              </a:rPr>
              <a:t>3. System utiliti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The system utilities are programs that perform individual, specialized management tasks. Some system utilities may be invoked just once to initialize and configure some aspect of the system; others—known a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aemon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UNIX terminology—may run permanently, handling such tasks as responding to incoming network connections, accepting logon requests from terminals, and updating log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150640" y="369360"/>
            <a:ext cx="10231560" cy="768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99"/>
                </a:solidFill>
                <a:latin typeface="Arial"/>
              </a:rPr>
              <a:t>Chapter 2:  The Linux System</a:t>
            </a:r>
            <a:endParaRPr b="1" lang="en-US" sz="4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69720" y="1714680"/>
            <a:ext cx="9877320" cy="64576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marL="488880" indent="-488880">
              <a:spcBef>
                <a:spcPts val="876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ux Histor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88880" indent="-488880">
              <a:spcBef>
                <a:spcPts val="876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Princip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88880" indent="-488880">
              <a:spcBef>
                <a:spcPts val="876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ernel Modu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88880" indent="-488880">
              <a:spcBef>
                <a:spcPts val="876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cess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88880" indent="-488880">
              <a:spcBef>
                <a:spcPts val="876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hedul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88880" indent="-488880">
              <a:spcBef>
                <a:spcPts val="876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mory Managem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88880" indent="-488880">
              <a:spcBef>
                <a:spcPts val="876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88880" indent="-488880">
              <a:spcBef>
                <a:spcPts val="876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put and Outpu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88880" indent="-488880">
              <a:spcBef>
                <a:spcPts val="876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process Commun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88880" indent="-488880">
              <a:spcBef>
                <a:spcPts val="876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twork Stru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88880" indent="-488880">
              <a:spcBef>
                <a:spcPts val="876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69360"/>
            <a:ext cx="12344400" cy="768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6699"/>
                </a:solidFill>
                <a:latin typeface="Arial"/>
              </a:rPr>
              <a:t>Objectives</a:t>
            </a:r>
            <a:endParaRPr b="1" lang="en-US" sz="4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09600" y="1644120"/>
            <a:ext cx="11528640" cy="604044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marL="488880" indent="-488880">
              <a:lnSpc>
                <a:spcPct val="150000"/>
              </a:lnSpc>
              <a:spcBef>
                <a:spcPts val="876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explore the history of the UNIX operating system from which Linux is derived and the principles which Linux is designed up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88880" indent="0">
              <a:lnSpc>
                <a:spcPct val="150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88880" indent="-488880">
              <a:lnSpc>
                <a:spcPct val="150000"/>
              </a:lnSpc>
              <a:spcBef>
                <a:spcPts val="876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examine the Linux process model and illustrate how Linux schedules processes and provides interprocess commun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88880" indent="0">
              <a:lnSpc>
                <a:spcPct val="150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88880" indent="-488880">
              <a:lnSpc>
                <a:spcPct val="150000"/>
              </a:lnSpc>
              <a:spcBef>
                <a:spcPts val="876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look at memory management in Linu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88880" indent="0">
              <a:lnSpc>
                <a:spcPct val="150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88880" indent="-488880">
              <a:lnSpc>
                <a:spcPct val="150000"/>
              </a:lnSpc>
              <a:spcBef>
                <a:spcPts val="876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explore how Linux implements file systems and manages I/O de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88880"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28520" y="914400"/>
            <a:ext cx="11658600" cy="28368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100" spc="-1" strike="noStrike">
                <a:solidFill>
                  <a:srgbClr val="006699"/>
                </a:solidFill>
                <a:latin typeface="Arial"/>
              </a:rPr>
              <a:t>History</a:t>
            </a:r>
            <a:endParaRPr b="1" lang="en-US" sz="61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369360"/>
            <a:ext cx="12344400" cy="768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6699"/>
                </a:solidFill>
                <a:latin typeface="Arial"/>
              </a:rPr>
              <a:t>History</a:t>
            </a:r>
            <a:endParaRPr b="1" lang="en-US" sz="4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30120" y="1271160"/>
            <a:ext cx="11263320" cy="698652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 fontScale="96000"/>
          </a:bodyPr>
          <a:p>
            <a:pPr marL="469080" indent="-469080">
              <a:lnSpc>
                <a:spcPct val="150000"/>
              </a:lnSpc>
              <a:spcBef>
                <a:spcPts val="876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ux is a modern, free operating system based on UNIX standa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080" indent="0">
              <a:lnSpc>
                <a:spcPct val="150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080" indent="-469080">
              <a:lnSpc>
                <a:spcPct val="150000"/>
              </a:lnSpc>
              <a:spcBef>
                <a:spcPts val="876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rst developed as a small but self-contained kernel i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91 by Linus Torvald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with the major design goal of UNIX compati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080" indent="0">
              <a:lnSpc>
                <a:spcPct val="15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080" indent="-469080">
              <a:lnSpc>
                <a:spcPct val="150000"/>
              </a:lnSpc>
              <a:spcBef>
                <a:spcPts val="876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s history has been one of collaboration by many users from all around the world, corresponding almost exclusively over the Int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080" indent="0">
              <a:lnSpc>
                <a:spcPct val="150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080" indent="-469080">
              <a:lnSpc>
                <a:spcPct val="150000"/>
              </a:lnSpc>
              <a:spcBef>
                <a:spcPts val="876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has been designed to run efficiently and reliably on common PC hardware, but also runs on a variety of other plat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080" indent="0">
              <a:lnSpc>
                <a:spcPct val="150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080" indent="-469080">
              <a:lnSpc>
                <a:spcPct val="150000"/>
              </a:lnSpc>
              <a:spcBef>
                <a:spcPts val="876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ore Linux operating system kernel is entirely original, but it can run much existing free UNIX software, resulting in an entire UNIX-compatible operating system free from proprietary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080"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209240" y="1644120"/>
            <a:ext cx="11557080" cy="604044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marL="488880" indent="-488880">
              <a:lnSpc>
                <a:spcPct val="150000"/>
              </a:lnSpc>
              <a:spcBef>
                <a:spcPts val="876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nux kernel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an entirely original piece of software developed from scratch by the Linux communit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88880" indent="-488880">
              <a:lnSpc>
                <a:spcPct val="1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88880" indent="-488880">
              <a:lnSpc>
                <a:spcPct val="150000"/>
              </a:lnSpc>
              <a:spcBef>
                <a:spcPts val="876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nux syste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as we know it today, includes a multitude of components, some written from scratch, others borrowed from other development projec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88880" indent="-488880">
              <a:lnSpc>
                <a:spcPct val="1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88880" indent="-488880">
              <a:lnSpc>
                <a:spcPct val="150000"/>
              </a:lnSpc>
              <a:spcBef>
                <a:spcPts val="876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nux distributio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des all the standard components of the Linux system, plus a set of administrative tools to simplify the initial installation and subsequent upgrading of Linux and to manage installation and removal of other packages on the syst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88880" indent="-488880">
              <a:lnSpc>
                <a:spcPct val="1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88880" indent="-488880">
              <a:lnSpc>
                <a:spcPct val="150000"/>
              </a:lnSpc>
              <a:spcBef>
                <a:spcPts val="876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y, varying </a:t>
            </a:r>
            <a:r>
              <a:rPr b="1" lang="en-US" sz="2000" spc="-1" strike="noStrike">
                <a:solidFill>
                  <a:srgbClr val="3366ff"/>
                </a:solidFill>
                <a:latin typeface="Arial"/>
              </a:rPr>
              <a:t>Linux Distributions</a:t>
            </a:r>
            <a:r>
              <a:rPr b="0" lang="en-US" sz="20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ding the kernel, applications, and management too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88880" indent="-488880">
              <a:lnSpc>
                <a:spcPct val="1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369360"/>
            <a:ext cx="12344400" cy="768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6699"/>
                </a:solidFill>
                <a:latin typeface="Arial"/>
              </a:rPr>
              <a:t>History</a:t>
            </a:r>
            <a:endParaRPr b="1" lang="en-US" sz="46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69360"/>
            <a:ext cx="12344400" cy="768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6699"/>
                </a:solidFill>
                <a:latin typeface="Arial"/>
              </a:rPr>
              <a:t>The Linux Kernel</a:t>
            </a:r>
            <a:endParaRPr b="1" lang="en-US" sz="4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40920" y="1649160"/>
            <a:ext cx="11541240" cy="629892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marL="488880" indent="-488880">
              <a:lnSpc>
                <a:spcPct val="90000"/>
              </a:lnSpc>
              <a:spcBef>
                <a:spcPts val="876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sion 0.01 (May 1991) had no networking, ran only on 80386-compatible Intel processors and on PC hardware, had extremely limited device-drive support, and supported only the Minix file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8888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876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ux 1.0 (March 1994) included these new featur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60560" indent="-408240">
              <a:lnSpc>
                <a:spcPct val="90000"/>
              </a:lnSpc>
              <a:spcBef>
                <a:spcPts val="876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 for UNIX’s standard TCP/IP networking protoc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60560" indent="-408240">
              <a:lnSpc>
                <a:spcPct val="90000"/>
              </a:lnSpc>
              <a:spcBef>
                <a:spcPts val="876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SD-compatible socket interface for networking program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60560" indent="-408240">
              <a:lnSpc>
                <a:spcPct val="90000"/>
              </a:lnSpc>
              <a:spcBef>
                <a:spcPts val="876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ice-driver support for running IP over an Eth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60560" indent="-408240">
              <a:lnSpc>
                <a:spcPct val="90000"/>
              </a:lnSpc>
              <a:spcBef>
                <a:spcPts val="876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hanced file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60560" indent="-408240">
              <a:lnSpc>
                <a:spcPct val="90000"/>
              </a:lnSpc>
              <a:spcBef>
                <a:spcPts val="876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tra hardware sup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6056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876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sion 1.2 (March 1995) was the final PC-only Linux kern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369360"/>
            <a:ext cx="12344400" cy="768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6699"/>
                </a:solidFill>
                <a:latin typeface="Arial"/>
              </a:rPr>
              <a:t>Linux 2.0</a:t>
            </a:r>
            <a:endParaRPr b="1" lang="en-US" sz="4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69720" y="1714320"/>
            <a:ext cx="11550600" cy="650844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marL="488880" indent="-488880">
              <a:lnSpc>
                <a:spcPct val="150000"/>
              </a:lnSpc>
              <a:spcBef>
                <a:spcPts val="876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eased in June 1996,  2.0 added two major new capabiliti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60560" indent="-408240">
              <a:lnSpc>
                <a:spcPct val="150000"/>
              </a:lnSpc>
              <a:spcBef>
                <a:spcPts val="876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 for multiple architectures, including a fully 64-bit native Alpha 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60560" indent="-408240">
              <a:lnSpc>
                <a:spcPct val="150000"/>
              </a:lnSpc>
              <a:spcBef>
                <a:spcPts val="876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 for multiprocessor architect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88880" indent="-488880">
              <a:lnSpc>
                <a:spcPct val="150000"/>
              </a:lnSpc>
              <a:spcBef>
                <a:spcPts val="876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 new features include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60560" indent="-408240">
              <a:lnSpc>
                <a:spcPct val="150000"/>
              </a:lnSpc>
              <a:spcBef>
                <a:spcPts val="876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roved memory-management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60560" indent="-408240">
              <a:lnSpc>
                <a:spcPct val="150000"/>
              </a:lnSpc>
              <a:spcBef>
                <a:spcPts val="876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roved TCP/IP perform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60560" indent="-408240">
              <a:lnSpc>
                <a:spcPct val="150000"/>
              </a:lnSpc>
              <a:spcBef>
                <a:spcPts val="876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ndardized configuration interf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88880" indent="-488880">
              <a:lnSpc>
                <a:spcPct val="150000"/>
              </a:lnSpc>
              <a:spcBef>
                <a:spcPts val="876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vailable for Motorola 68000-series processors, Sun Sparc systems, and for PC and PowerMac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69360"/>
            <a:ext cx="12344400" cy="768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6699"/>
                </a:solidFill>
                <a:latin typeface="Arial"/>
              </a:rPr>
              <a:t>The Linux System</a:t>
            </a:r>
            <a:endParaRPr b="1" lang="en-US" sz="4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70080" y="1714320"/>
            <a:ext cx="11026800" cy="65862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marL="488880" indent="-488880">
              <a:lnSpc>
                <a:spcPct val="150000"/>
              </a:lnSpc>
              <a:spcBef>
                <a:spcPts val="876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ux uses many tools developed as part of Berkeley’s BSD operating system, ex: Free Software Foundation's GNU pro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88880" indent="0">
              <a:lnSpc>
                <a:spcPct val="150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88880" indent="-488880">
              <a:lnSpc>
                <a:spcPct val="150000"/>
              </a:lnSpc>
              <a:spcBef>
                <a:spcPts val="876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min system libraries were started by the GNU project, with improvements provided by the Linux commun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88880" indent="0">
              <a:lnSpc>
                <a:spcPct val="150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88880" indent="-488880">
              <a:lnSpc>
                <a:spcPct val="150000"/>
              </a:lnSpc>
              <a:spcBef>
                <a:spcPts val="876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ux networking-administration tools were derived from 4.3BSD code; recent BSD derivatives such as Free BSD have borrowed code from Linux in retur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88880" indent="0">
              <a:lnSpc>
                <a:spcPct val="150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88880" indent="-488880">
              <a:lnSpc>
                <a:spcPct val="150000"/>
              </a:lnSpc>
              <a:spcBef>
                <a:spcPts val="876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Linux system is maintained by a loose network of developers collaborating over the Internet, with a small number of public sites acting as de facto standard repositor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24T19:54:22Z</dcterms:created>
  <dc:creator>Marilyn Turnamian</dc:creator>
  <dc:description/>
  <dc:language>en-US</dc:language>
  <cp:lastModifiedBy>Sara</cp:lastModifiedBy>
  <cp:lastPrinted>2011-05-01T21:19:35Z</cp:lastPrinted>
  <dcterms:modified xsi:type="dcterms:W3CDTF">2016-01-27T12:52:42Z</dcterms:modified>
  <cp:revision>175</cp:revision>
  <dc:subject/>
  <dc:title>No Slide Title</dc:title>
</cp:coreProperties>
</file>