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6FF-2947-481D-BBCA-3BF8CACC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6FE8-2BEF-460A-8315-B8F78B524CD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57A0-47ED-4E18-B753-BD6621271BA8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5F21-2C1D-44BE-9415-4B6B56BA420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B68E-93A8-45CD-9508-6FA23CABE957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6CB9-707A-4642-9D3D-261D1A7F89A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C4EC-4616-4EE9-8B52-0F4144C59FC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0672-FF5D-4DB0-91A2-D6C39540F95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02A5-D9F4-46CE-A701-0EF680FCB98F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AADF-44DA-4461-842C-9E0A57EE9FAA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68EA-2108-4382-BE91-CFB79973A17B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C34-29AD-4C02-9350-9991F450BB7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2512-2D57-4FC1-9039-F7AF1697D6D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E4DDF9A0-D7E4-43CD-A93D-9FB57674DC7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707457B1-4691-4754-910A-4C2169114FB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27C2B551-5A47-4708-992E-89541ACBF5E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D2A19EDE-54C4-4C9E-AB64-24333381081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38BCAC6F-C212-47CA-AE34-5B7C7F07F5F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EBDCF115-8BC9-4855-B9FD-812EB7EF1A8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A6CAC3AB-33B2-48CE-BC2E-467811CFA58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0FED3B43-CF11-4EF4-9045-ACB96D8BAB0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A88E93D3-9516-4D63-A4FC-2AE40A152EA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35AD3A9C-02E1-4641-A775-2DCCEAF6200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46B47384-EB44-4A93-9E1F-192DDB64821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B534D4FA-E588-4405-8A80-ED3FF58ADCF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DF412DF2-E140-4CD2-B572-70398655BD0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635040"/>
            <a:ext cx="91440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Computer Solution and Sensitivity Analysi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3-Part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0" name="Picture 4" descr="03-01"/>
          <p:cNvPicPr/>
          <p:nvPr/>
        </p:nvPicPr>
        <p:blipFill>
          <a:blip r:embed="rId1"/>
          <a:stretch/>
        </p:blipFill>
        <p:spPr>
          <a:xfrm>
            <a:off x="3505320" y="1193760"/>
            <a:ext cx="5311800" cy="513396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7"/>
          <p:cNvSpPr/>
          <p:nvPr/>
        </p:nvSpPr>
        <p:spPr>
          <a:xfrm>
            <a:off x="0" y="2819520"/>
            <a:ext cx="44578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     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-241200" y="5540400"/>
            <a:ext cx="36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Rectangle 11"/>
          <p:cNvSpPr/>
          <p:nvPr/>
        </p:nvSpPr>
        <p:spPr>
          <a:xfrm>
            <a:off x="0" y="0"/>
            <a:ext cx="8610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Analysis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7" name="Picture 4" descr="03-02"/>
          <p:cNvPicPr/>
          <p:nvPr/>
        </p:nvPicPr>
        <p:blipFill>
          <a:blip r:embed="rId1"/>
          <a:stretch/>
        </p:blipFill>
        <p:spPr>
          <a:xfrm>
            <a:off x="3809880" y="1268280"/>
            <a:ext cx="5004000" cy="474660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7"/>
          <p:cNvSpPr/>
          <p:nvPr/>
        </p:nvSpPr>
        <p:spPr>
          <a:xfrm>
            <a:off x="0" y="2819520"/>
            <a:ext cx="44578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</a:t>
            </a: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$100x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$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    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228600" y="6035760"/>
            <a:ext cx="826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2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hanging the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Objective Function Coefficie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Rectangle 9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 x</a:t>
            </a:r>
            <a:r>
              <a:rPr b="1" lang="en-US" sz="3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Objective Function Coefficient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4" name="Picture 4" descr="03-03"/>
          <p:cNvPicPr/>
          <p:nvPr/>
        </p:nvPicPr>
        <p:blipFill>
          <a:blip r:embed="rId1"/>
          <a:stretch/>
        </p:blipFill>
        <p:spPr>
          <a:xfrm>
            <a:off x="3733920" y="1353960"/>
            <a:ext cx="5029200" cy="4643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7"/>
          <p:cNvSpPr/>
          <p:nvPr/>
        </p:nvSpPr>
        <p:spPr>
          <a:xfrm>
            <a:off x="0" y="2819520"/>
            <a:ext cx="44578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</a:t>
            </a: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$100x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    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0" y="6070680"/>
            <a:ext cx="8991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3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hanging the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Objective Function Coefficie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Rectangle 9"/>
          <p:cNvSpPr/>
          <p:nvPr/>
        </p:nvSpPr>
        <p:spPr>
          <a:xfrm>
            <a:off x="0" y="0"/>
            <a:ext cx="8915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 x</a:t>
            </a:r>
            <a:r>
              <a:rPr b="1" lang="en-US" sz="3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Objective Function Coefficient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0"/>
            <a:ext cx="8610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cel Spreadsheet – Data Screen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013360" y="61466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1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0" name="Picture 7" descr="F:\POM\Chapter 3\AAIOQJB0.jpg"/>
          <p:cNvPicPr/>
          <p:nvPr/>
        </p:nvPicPr>
        <p:blipFill>
          <a:blip r:embed="rId1"/>
          <a:stretch/>
        </p:blipFill>
        <p:spPr>
          <a:xfrm>
            <a:off x="457200" y="1278000"/>
            <a:ext cx="82296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6"/>
          <p:cNvSpPr/>
          <p:nvPr/>
        </p:nvSpPr>
        <p:spPr>
          <a:xfrm>
            <a:off x="0" y="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ver” Parameter Screen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(2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2209680" y="30481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174600" y="5521320"/>
            <a:ext cx="24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6" name="Picture 8" descr="F:\POM\Chapter 3\AAFQRCW0.jpg"/>
          <p:cNvPicPr/>
          <p:nvPr/>
        </p:nvPicPr>
        <p:blipFill>
          <a:blip r:embed="rId1"/>
          <a:stretch/>
        </p:blipFill>
        <p:spPr>
          <a:xfrm>
            <a:off x="457200" y="1297080"/>
            <a:ext cx="82296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2438280" y="2514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3966120" y="59562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0"/>
            <a:ext cx="86104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dding Model Constraints (3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2" name="Picture 8" descr="F:\POM\Chapter 3\AAFQRCX0.jpg"/>
          <p:cNvPicPr/>
          <p:nvPr/>
        </p:nvPicPr>
        <p:blipFill>
          <a:blip r:embed="rId1"/>
          <a:stretch/>
        </p:blipFill>
        <p:spPr>
          <a:xfrm>
            <a:off x="457200" y="2585880"/>
            <a:ext cx="822960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5"/>
          <p:cNvSpPr/>
          <p:nvPr/>
        </p:nvSpPr>
        <p:spPr>
          <a:xfrm>
            <a:off x="0" y="0"/>
            <a:ext cx="80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ver” Settings (4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352440" y="130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3759840" y="591660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xhibit 3.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8" name="Picture 7" descr="F:\POM\Chapter 3\AAFQRCY0.jpg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1981080" y="25909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194720" y="614664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0" y="0"/>
            <a:ext cx="8610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Screen (5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4" name="Picture 8" descr="F:\POM\Chapter 3\AAIOQJC0.jpg"/>
          <p:cNvPicPr/>
          <p:nvPr/>
        </p:nvPicPr>
        <p:blipFill>
          <a:blip r:embed="rId1"/>
          <a:srcRect l="0" t="0" r="22222" b="0"/>
          <a:stretch/>
        </p:blipFill>
        <p:spPr>
          <a:xfrm>
            <a:off x="457200" y="1973160"/>
            <a:ext cx="7991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1676520" y="22096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0"/>
            <a:ext cx="86104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nswer Report (6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4175280" y="610884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6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0" name="Picture 8" descr="F:\POM\Chapter 3\AAIOQJD0.jpg"/>
          <p:cNvPicPr/>
          <p:nvPr/>
        </p:nvPicPr>
        <p:blipFill>
          <a:blip r:embed="rId1"/>
          <a:srcRect l="0" t="0" r="60477" b="0"/>
          <a:stretch/>
        </p:blipFill>
        <p:spPr>
          <a:xfrm>
            <a:off x="1422360" y="1612800"/>
            <a:ext cx="6058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inear Programming Problem: Standard For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270000" y="12193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tandard form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quires all variables in the constraint equations  to appear on the left of the inequality (or equality) and all numeric values to be on the right-hand sid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ampl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must be converted to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/(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)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  becomes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 (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)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d then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270000" y="1790280"/>
            <a:ext cx="8602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ensitivity analysi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s the effect on the optimal solution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hanges in parameter valu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f the objective function and constraint equ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hanges may be reactions to anticipated uncertainties in the parameters or to new or changed  information concerning the mod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Pottery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Analysis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Footer Placeholder 6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User</cp:lastModifiedBy>
  <cp:lastPrinted>2001-04-05T18:48:46Z</cp:lastPrinted>
  <dcterms:modified xsi:type="dcterms:W3CDTF">2015-03-01T20:47:03Z</dcterms:modified>
  <cp:revision>192</cp:revision>
  <dc:subject/>
  <dc:title>No Slide Title</dc:title>
</cp:coreProperties>
</file>