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97CB3-4B1B-49A9-B45C-CAE48CF45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40BB-9DD6-44AC-9E9E-48B9DD9377DC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CA4E7-A118-49BA-B605-6EC07440D585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79067-3E54-4ECB-AFE8-F9305BCA2491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356D3-F647-4A4E-9DFF-D47D82C58894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C8A0B-228A-484C-B340-83DE03326662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19329-5FDE-497E-B133-7D60D150EA95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7487-FD58-4394-A63D-D0A50F342B9D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4C46D-59CE-4834-8638-5BBDD0C97592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B14EB-4456-491B-8C71-CB4B773B9B60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9B8F3-CAA5-4A18-9C5B-54543A603BFD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B2599-A7F7-43C2-9DB3-5206E5690B6D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88161-D4C5-429A-BE74-B3FC342951DB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7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8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1"/>
          </p:nvPr>
        </p:nvSpPr>
        <p:spPr>
          <a:xfrm>
            <a:off x="-360" y="638136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3-</a:t>
            </a:r>
            <a:fld id="{4DB0E789-DAB4-499A-A274-50EC3012B919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2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43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5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6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7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448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449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450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3-</a:t>
            </a:r>
            <a:fld id="{A3B81C07-1320-440E-BFC4-6BACD47A01F7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ftr" idx="10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9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9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497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498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499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3-</a:t>
            </a:r>
            <a:fld id="{369F1126-CA5C-4579-B08B-F07680710380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ftr" idx="11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40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41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2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3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4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5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546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547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548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3-</a:t>
            </a:r>
            <a:fld id="{A78E7BD9-ADA1-4E7F-B2FB-5B7DB980D991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ftr" idx="12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89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90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91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92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93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94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595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596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597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3-</a:t>
            </a:r>
            <a:fld id="{7550C523-20C2-4CFD-AEE0-11AA742ADDE2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98" name="Footer Placeholder 5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0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1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2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3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5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56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57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58" name="TextBox 24"/>
          <p:cNvSpPr/>
          <p:nvPr/>
        </p:nvSpPr>
        <p:spPr>
          <a:xfrm>
            <a:off x="8458200" y="6581880"/>
            <a:ext cx="6858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1-</a:t>
            </a:r>
            <a:fld id="{180F2D20-8E02-4A50-A246-9DBA05D91B5F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2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9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00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1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2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3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4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105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106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107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3-</a:t>
            </a:r>
            <a:fld id="{BBBAAA4F-3353-4A12-A91C-41E90303A155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ftr" idx="3"/>
          </p:nvPr>
        </p:nvSpPr>
        <p:spPr>
          <a:xfrm>
            <a:off x="-360" y="6381360"/>
            <a:ext cx="4419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48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49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0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1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2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3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154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155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156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3-</a:t>
            </a:r>
            <a:fld id="{BD124CFE-B147-4A66-9DF2-C038BDDB0220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ftr" idx="4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97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98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99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00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01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02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203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04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205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3-</a:t>
            </a:r>
            <a:fld id="{E7F47EFD-8C22-4232-9BEF-BD23A4773BEC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ftr" idx="5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46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47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48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49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50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51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252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53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254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3-</a:t>
            </a:r>
            <a:fld id="{2E1D2083-FB2B-4640-B9AF-448EEFCFA613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ftr" idx="6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95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96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97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98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99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00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301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02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303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3-</a:t>
            </a:r>
            <a:fld id="{8179C7B9-2469-417C-9960-A17BCD221E7A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ftr" idx="7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44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45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6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7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8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9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350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51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352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3-</a:t>
            </a:r>
            <a:fld id="{CB54B32B-3F71-42F4-8E1E-9DF84893B95C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ftr" idx="8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9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9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39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40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401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3-</a:t>
            </a:r>
            <a:fld id="{D4F3D369-1203-4236-A399-8E87ADD49CA8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ftr" idx="9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Title 1"/>
          <p:cNvSpPr/>
          <p:nvPr/>
        </p:nvSpPr>
        <p:spPr>
          <a:xfrm>
            <a:off x="0" y="635040"/>
            <a:ext cx="9144000" cy="27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99"/>
                </a:solidFill>
                <a:latin typeface="Garamond"/>
              </a:rPr>
              <a:t>Linear Programming: Computer Solution and Sensitivity Analysis</a:t>
            </a:r>
            <a:endParaRPr b="0" lang="en-US" sz="6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5" name="Subtitle 2"/>
          <p:cNvSpPr/>
          <p:nvPr/>
        </p:nvSpPr>
        <p:spPr>
          <a:xfrm>
            <a:off x="0" y="4292640"/>
            <a:ext cx="91440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hapter 3-Part1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6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90" name="Picture 4" descr="03-01"/>
          <p:cNvPicPr/>
          <p:nvPr/>
        </p:nvPicPr>
        <p:blipFill>
          <a:blip r:embed="rId1"/>
          <a:stretch/>
        </p:blipFill>
        <p:spPr>
          <a:xfrm>
            <a:off x="3505320" y="1193760"/>
            <a:ext cx="5311800" cy="5133960"/>
          </a:xfrm>
          <a:prstGeom prst="rect">
            <a:avLst/>
          </a:prstGeom>
          <a:ln w="0">
            <a:noFill/>
          </a:ln>
        </p:spPr>
      </p:pic>
      <p:sp>
        <p:nvSpPr>
          <p:cNvPr id="691" name="Text Box 7"/>
          <p:cNvSpPr/>
          <p:nvPr/>
        </p:nvSpPr>
        <p:spPr>
          <a:xfrm>
            <a:off x="0" y="2819520"/>
            <a:ext cx="4457880" cy="16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Maximize Z = $40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$50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subject to:      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1" lang="en-US" sz="22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40 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                     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1" lang="en-US" sz="22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120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1" lang="en-US" sz="22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2" name="Text Box 8"/>
          <p:cNvSpPr/>
          <p:nvPr/>
        </p:nvSpPr>
        <p:spPr>
          <a:xfrm>
            <a:off x="-241200" y="5540400"/>
            <a:ext cx="361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3.1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Optimal Solution Point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3" name="Rectangle 11"/>
          <p:cNvSpPr/>
          <p:nvPr/>
        </p:nvSpPr>
        <p:spPr>
          <a:xfrm>
            <a:off x="0" y="0"/>
            <a:ext cx="86104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Beaver Creek Pottery Exampl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ensitivity Analysis</a:t>
            </a: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(2 of 4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4" name="Footer Placeholder 9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5" name="Line 7"/>
          <p:cNvSpPr/>
          <p:nvPr/>
        </p:nvSpPr>
        <p:spPr>
          <a:xfrm>
            <a:off x="0" y="10796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6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97" name="Picture 4" descr="03-02"/>
          <p:cNvPicPr/>
          <p:nvPr/>
        </p:nvPicPr>
        <p:blipFill>
          <a:blip r:embed="rId1"/>
          <a:stretch/>
        </p:blipFill>
        <p:spPr>
          <a:xfrm>
            <a:off x="3809880" y="1268280"/>
            <a:ext cx="5004000" cy="4746600"/>
          </a:xfrm>
          <a:prstGeom prst="rect">
            <a:avLst/>
          </a:prstGeom>
          <a:ln w="0">
            <a:noFill/>
          </a:ln>
        </p:spPr>
      </p:pic>
      <p:sp>
        <p:nvSpPr>
          <p:cNvPr id="698" name="Text Box 7"/>
          <p:cNvSpPr/>
          <p:nvPr/>
        </p:nvSpPr>
        <p:spPr>
          <a:xfrm>
            <a:off x="0" y="2819520"/>
            <a:ext cx="4457880" cy="16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Maximize Z = </a:t>
            </a:r>
            <a:r>
              <a:rPr b="1" lang="en-US" sz="2200" spc="-1" strike="noStrike">
                <a:solidFill>
                  <a:srgbClr val="ff0000"/>
                </a:solidFill>
                <a:latin typeface="Garamond"/>
              </a:rPr>
              <a:t>$100x</a:t>
            </a:r>
            <a:r>
              <a:rPr b="1" lang="en-US" sz="2200" spc="-1" strike="noStrike" baseline="-25000">
                <a:solidFill>
                  <a:srgbClr val="ff0000"/>
                </a:solidFill>
                <a:latin typeface="Garamond"/>
              </a:rPr>
              <a:t>1</a:t>
            </a:r>
            <a:r>
              <a:rPr b="1" lang="en-US" sz="22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+ $50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subject to:     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1" lang="en-US" sz="22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40 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                    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1" lang="en-US" sz="22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120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            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1" lang="en-US" sz="22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9" name="Text Box 8"/>
          <p:cNvSpPr/>
          <p:nvPr/>
        </p:nvSpPr>
        <p:spPr>
          <a:xfrm>
            <a:off x="228600" y="6035760"/>
            <a:ext cx="8267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3.2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Changing the 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 Objective Function Coefficient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0" name="Rectangle 9"/>
          <p:cNvSpPr/>
          <p:nvPr/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Beaver Creek Pottery Exampl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hange x</a:t>
            </a:r>
            <a:r>
              <a:rPr b="1" lang="en-US" sz="3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 Objective Function Coefficient (3 of 4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1" name="Footer Placeholder 9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2" name="Line 7"/>
          <p:cNvSpPr/>
          <p:nvPr/>
        </p:nvSpPr>
        <p:spPr>
          <a:xfrm>
            <a:off x="0" y="10796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6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04" name="Picture 4" descr="03-03"/>
          <p:cNvPicPr/>
          <p:nvPr/>
        </p:nvPicPr>
        <p:blipFill>
          <a:blip r:embed="rId1"/>
          <a:stretch/>
        </p:blipFill>
        <p:spPr>
          <a:xfrm>
            <a:off x="3733920" y="1353960"/>
            <a:ext cx="5029200" cy="4643640"/>
          </a:xfrm>
          <a:prstGeom prst="rect">
            <a:avLst/>
          </a:prstGeom>
          <a:ln w="0">
            <a:noFill/>
          </a:ln>
        </p:spPr>
      </p:pic>
      <p:sp>
        <p:nvSpPr>
          <p:cNvPr id="705" name="Text Box 7"/>
          <p:cNvSpPr/>
          <p:nvPr/>
        </p:nvSpPr>
        <p:spPr>
          <a:xfrm>
            <a:off x="0" y="2819520"/>
            <a:ext cx="4457880" cy="16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Maximize Z = $40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</a:t>
            </a:r>
            <a:r>
              <a:rPr b="1" lang="en-US" sz="2200" spc="-1" strike="noStrike">
                <a:solidFill>
                  <a:srgbClr val="ff0000"/>
                </a:solidFill>
                <a:latin typeface="Garamond"/>
              </a:rPr>
              <a:t>$100x</a:t>
            </a:r>
            <a:r>
              <a:rPr b="1" lang="en-US" sz="2200" spc="-1" strike="noStrike" baseline="-25000">
                <a:solidFill>
                  <a:srgbClr val="ff0000"/>
                </a:solidFill>
                <a:latin typeface="Garamond"/>
              </a:rPr>
              <a:t>2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subject to:     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1" lang="en-US" sz="22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40 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                    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1" lang="en-US" sz="22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120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            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1" lang="en-US" sz="22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6" name="Text Box 8"/>
          <p:cNvSpPr/>
          <p:nvPr/>
        </p:nvSpPr>
        <p:spPr>
          <a:xfrm>
            <a:off x="0" y="6070680"/>
            <a:ext cx="8991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3.3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Changing the 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 Objective Function Coefficient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7" name="Rectangle 9"/>
          <p:cNvSpPr/>
          <p:nvPr/>
        </p:nvSpPr>
        <p:spPr>
          <a:xfrm>
            <a:off x="0" y="0"/>
            <a:ext cx="89154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Beaver Creek Pottery Exampl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hange x</a:t>
            </a:r>
            <a:r>
              <a:rPr b="1" lang="en-US" sz="32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 Objective Function Coefficient (4 of 4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8" name="Footer Placeholder 9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9" name="Line 7"/>
          <p:cNvSpPr/>
          <p:nvPr/>
        </p:nvSpPr>
        <p:spPr>
          <a:xfrm>
            <a:off x="0" y="10796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6"/>
          <p:cNvSpPr/>
          <p:nvPr/>
        </p:nvSpPr>
        <p:spPr>
          <a:xfrm>
            <a:off x="0" y="0"/>
            <a:ext cx="86104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Beaver Creek Pottery Exampl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cel Spreadsheet – Data Screen (1 of 6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7" name="Text Box 5"/>
          <p:cNvSpPr/>
          <p:nvPr/>
        </p:nvSpPr>
        <p:spPr>
          <a:xfrm>
            <a:off x="5013360" y="6146640"/>
            <a:ext cx="22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  <a:ea typeface="Times New Roman"/>
              </a:rPr>
              <a:t>Exhibit 3.1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8" name="Line 7"/>
          <p:cNvSpPr/>
          <p:nvPr/>
        </p:nvSpPr>
        <p:spPr>
          <a:xfrm>
            <a:off x="0" y="10796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9" name="Footer Placeholder 8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50" name="Picture 7" descr="F:\POM\Chapter 3\AAIOQJB0.jpg"/>
          <p:cNvPicPr/>
          <p:nvPr/>
        </p:nvPicPr>
        <p:blipFill>
          <a:blip r:embed="rId1"/>
          <a:stretch/>
        </p:blipFill>
        <p:spPr>
          <a:xfrm>
            <a:off x="457200" y="1278000"/>
            <a:ext cx="822960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6"/>
          <p:cNvSpPr/>
          <p:nvPr/>
        </p:nvSpPr>
        <p:spPr>
          <a:xfrm>
            <a:off x="0" y="0"/>
            <a:ext cx="861048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Beaver Creek Pottery Exampl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“</a:t>
            </a: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olver” Parameter Screen</a:t>
            </a: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(2 of 6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2" name="Text Box 3"/>
          <p:cNvSpPr/>
          <p:nvPr/>
        </p:nvSpPr>
        <p:spPr>
          <a:xfrm>
            <a:off x="2209680" y="30481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3" name="Footer Placeholder 9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4" name="Text Box 10"/>
          <p:cNvSpPr/>
          <p:nvPr/>
        </p:nvSpPr>
        <p:spPr>
          <a:xfrm>
            <a:off x="174600" y="5521320"/>
            <a:ext cx="249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  <a:ea typeface="Times New Roman"/>
              </a:rPr>
              <a:t>Exhibit 3.2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5" name="Line 7"/>
          <p:cNvSpPr/>
          <p:nvPr/>
        </p:nvSpPr>
        <p:spPr>
          <a:xfrm>
            <a:off x="0" y="10796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56" name="Picture 8" descr="F:\POM\Chapter 3\AAFQRCW0.jpg"/>
          <p:cNvPicPr/>
          <p:nvPr/>
        </p:nvPicPr>
        <p:blipFill>
          <a:blip r:embed="rId1"/>
          <a:stretch/>
        </p:blipFill>
        <p:spPr>
          <a:xfrm>
            <a:off x="457200" y="1297080"/>
            <a:ext cx="8229600" cy="42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 Box 3"/>
          <p:cNvSpPr/>
          <p:nvPr/>
        </p:nvSpPr>
        <p:spPr>
          <a:xfrm>
            <a:off x="2438280" y="251460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8" name="Text Box 5"/>
          <p:cNvSpPr/>
          <p:nvPr/>
        </p:nvSpPr>
        <p:spPr>
          <a:xfrm>
            <a:off x="3966120" y="5956200"/>
            <a:ext cx="209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  <a:ea typeface="Times New Roman"/>
              </a:rPr>
              <a:t>Exhibit 3.3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9" name="Rectangle 7"/>
          <p:cNvSpPr/>
          <p:nvPr/>
        </p:nvSpPr>
        <p:spPr>
          <a:xfrm>
            <a:off x="0" y="0"/>
            <a:ext cx="861048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Beaver Creek Pottery Exampl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Adding Model Constraints (3 of 6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0" name="Footer Placeholder 9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1" name="Line 7"/>
          <p:cNvSpPr/>
          <p:nvPr/>
        </p:nvSpPr>
        <p:spPr>
          <a:xfrm>
            <a:off x="0" y="10796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62" name="Picture 8" descr="F:\POM\Chapter 3\AAFQRCX0.jpg"/>
          <p:cNvPicPr/>
          <p:nvPr/>
        </p:nvPicPr>
        <p:blipFill>
          <a:blip r:embed="rId1"/>
          <a:stretch/>
        </p:blipFill>
        <p:spPr>
          <a:xfrm>
            <a:off x="457200" y="2585880"/>
            <a:ext cx="8229600" cy="16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Text Box 5"/>
          <p:cNvSpPr/>
          <p:nvPr/>
        </p:nvSpPr>
        <p:spPr>
          <a:xfrm>
            <a:off x="0" y="0"/>
            <a:ext cx="8039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Beaver Creek Pottery Exampl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“</a:t>
            </a: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olver” Settings (4 of 6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4" name="Text Box 6"/>
          <p:cNvSpPr/>
          <p:nvPr/>
        </p:nvSpPr>
        <p:spPr>
          <a:xfrm>
            <a:off x="352440" y="1306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5" name="Text Box 8"/>
          <p:cNvSpPr/>
          <p:nvPr/>
        </p:nvSpPr>
        <p:spPr>
          <a:xfrm>
            <a:off x="3759840" y="5916600"/>
            <a:ext cx="209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Exhibit 3.4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6" name="Footer Placeholder 8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7" name="Line 7"/>
          <p:cNvSpPr/>
          <p:nvPr/>
        </p:nvSpPr>
        <p:spPr>
          <a:xfrm>
            <a:off x="0" y="10796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68" name="Picture 7" descr="F:\POM\Chapter 3\AAFQRCY0.jpg"/>
          <p:cNvPicPr/>
          <p:nvPr/>
        </p:nvPicPr>
        <p:blipFill>
          <a:blip r:embed="rId1"/>
          <a:stretch/>
        </p:blipFill>
        <p:spPr>
          <a:xfrm>
            <a:off x="457200" y="1566720"/>
            <a:ext cx="822960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Text Box 3"/>
          <p:cNvSpPr/>
          <p:nvPr/>
        </p:nvSpPr>
        <p:spPr>
          <a:xfrm>
            <a:off x="1981080" y="259092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0" name="Text Box 5"/>
          <p:cNvSpPr/>
          <p:nvPr/>
        </p:nvSpPr>
        <p:spPr>
          <a:xfrm>
            <a:off x="4194720" y="6146640"/>
            <a:ext cx="209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  <a:ea typeface="Times New Roman"/>
              </a:rPr>
              <a:t>Exhibit 3.5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1" name="Rectangle 7"/>
          <p:cNvSpPr/>
          <p:nvPr/>
        </p:nvSpPr>
        <p:spPr>
          <a:xfrm>
            <a:off x="0" y="0"/>
            <a:ext cx="861048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Beaver Creek Pottery Exampl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olution Screen (5 of 6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2" name="Footer Placeholder 9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3" name="Line 7"/>
          <p:cNvSpPr/>
          <p:nvPr/>
        </p:nvSpPr>
        <p:spPr>
          <a:xfrm>
            <a:off x="0" y="10796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74" name="Picture 8" descr="F:\POM\Chapter 3\AAIOQJC0.jpg"/>
          <p:cNvPicPr/>
          <p:nvPr/>
        </p:nvPicPr>
        <p:blipFill>
          <a:blip r:embed="rId1"/>
          <a:srcRect l="0" t="0" r="22222" b="0"/>
          <a:stretch/>
        </p:blipFill>
        <p:spPr>
          <a:xfrm>
            <a:off x="457200" y="1973160"/>
            <a:ext cx="79916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Text Box 3"/>
          <p:cNvSpPr/>
          <p:nvPr/>
        </p:nvSpPr>
        <p:spPr>
          <a:xfrm>
            <a:off x="1676520" y="220968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6" name="Rectangle 7"/>
          <p:cNvSpPr/>
          <p:nvPr/>
        </p:nvSpPr>
        <p:spPr>
          <a:xfrm>
            <a:off x="0" y="0"/>
            <a:ext cx="861048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Beaver Creek Pottery Exampl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Answer Report (6 of 6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7" name="Text Box 9"/>
          <p:cNvSpPr/>
          <p:nvPr/>
        </p:nvSpPr>
        <p:spPr>
          <a:xfrm>
            <a:off x="4175280" y="6108840"/>
            <a:ext cx="21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  <a:ea typeface="Times New Roman"/>
              </a:rPr>
              <a:t>Exhibit 3.6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8" name="Footer Placeholder 9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9" name="Line 7"/>
          <p:cNvSpPr/>
          <p:nvPr/>
        </p:nvSpPr>
        <p:spPr>
          <a:xfrm>
            <a:off x="0" y="10796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80" name="Picture 8" descr="F:\POM\Chapter 3\AAIOQJD0.jpg"/>
          <p:cNvPicPr/>
          <p:nvPr/>
        </p:nvPicPr>
        <p:blipFill>
          <a:blip r:embed="rId1"/>
          <a:srcRect l="0" t="0" r="60477" b="0"/>
          <a:stretch/>
        </p:blipFill>
        <p:spPr>
          <a:xfrm>
            <a:off x="1422360" y="1612800"/>
            <a:ext cx="605808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4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Linear Programming Problem: Standard Form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2" name="Rectangle 7"/>
          <p:cNvSpPr/>
          <p:nvPr/>
        </p:nvSpPr>
        <p:spPr>
          <a:xfrm>
            <a:off x="270000" y="1219320"/>
            <a:ext cx="86025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Standard form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requires all variables in the constraint equations  to appear on the left of the inequality (or equality) and all numeric values to be on the right-hand side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500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Examples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3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must be converted to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3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-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-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/(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3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)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2  becomes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2 (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3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)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and then  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-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-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3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3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4" name="Line 7"/>
          <p:cNvSpPr/>
          <p:nvPr/>
        </p:nvSpPr>
        <p:spPr>
          <a:xfrm>
            <a:off x="0" y="10796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 txBox="1"/>
          <p:nvPr/>
        </p:nvSpPr>
        <p:spPr>
          <a:xfrm>
            <a:off x="270000" y="1790280"/>
            <a:ext cx="86025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Sensitivity analysis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determines the effect on the optimal solution of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changes in parameter values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of the objective function and constraint equation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Changes may be reactions to anticipated uncertainties in the parameters or to new or changed  information concerning the model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6" name="Rectangle 7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Beaver Creek Pottery Exampl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ensitivity Analysis</a:t>
            </a: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(1 of 4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7" name="Footer Placeholder 6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8" name="Line 7"/>
          <p:cNvSpPr/>
          <p:nvPr/>
        </p:nvSpPr>
        <p:spPr>
          <a:xfrm>
            <a:off x="0" y="10796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9T17:58:54Z</dcterms:created>
  <dc:creator>Preferred Customer</dc:creator>
  <dc:description/>
  <dc:language>en-US</dc:language>
  <cp:lastModifiedBy>User</cp:lastModifiedBy>
  <cp:lastPrinted>2001-04-05T18:48:46Z</cp:lastPrinted>
  <dcterms:modified xsi:type="dcterms:W3CDTF">2015-03-01T20:47:03Z</dcterms:modified>
  <cp:revision>192</cp:revision>
  <dc:subject/>
  <dc:title>No Slide Title</dc:title>
</cp:coreProperties>
</file>