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2152-0DB4-4160-B91B-085E8458D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3607-3617-4306-819C-98BC70FEFDA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8003-C022-4BED-A7A9-72D318FEFFC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95AA-69D4-4D6A-AD51-9E6B5875C46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3B64-1EDC-437A-9EB0-B928A13F29E3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F3DB-8234-4A02-A557-4136DBBB0AE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EA98-092C-4DD1-A134-FD03DC3AC6A3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6079-7DD4-406A-A2EE-4077E5F9CF7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5A82-3718-4CA7-9A02-8E02F289D60A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1FBE-138F-47C4-948D-E5E93A0872E3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76F6-E76C-44AC-B9DD-2F571DD7AC47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C91F-30A5-411F-ACA5-EEFBD6C59343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6F7D-8A65-4CAB-B373-18BBAD9A606C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244F-C510-4D2A-A556-63BE05BA69F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7D91EC67-6965-4A94-968F-61F06EAC663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8557CA21-9356-4F15-9FF4-EF7AB0AEE67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5F3A2EA9-4BEF-4D63-B12B-BA9F3E08F45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7C74921D-E536-4FB1-A1D1-DE35E432632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723ADDD6-B0B4-4B67-960E-0A07CF6670E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21F5CCA5-F645-4BAC-825D-CC57DD65EFA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E0CD54FD-E5B5-42CF-A095-FA233FECF5C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19E090AC-AAF8-48E9-8090-90FA7C1CAEC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19C7442A-87DB-441D-8808-DFE9368FA89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40131EB2-17CD-4035-B631-549A9DE88F4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0676E403-5F47-4B0E-9178-A9446225088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A5380776-2FED-4F84-B09D-F7C2ED2BB03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4C13D9FD-177E-40C9-838F-EC18382D2A7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635040"/>
            <a:ext cx="91440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Computer Solution and Sensitivity Analysi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3- Part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1027"/>
          <p:cNvSpPr/>
          <p:nvPr/>
        </p:nvSpPr>
        <p:spPr>
          <a:xfrm>
            <a:off x="2133720" y="3886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Text Box 1028"/>
          <p:cNvSpPr/>
          <p:nvPr/>
        </p:nvSpPr>
        <p:spPr>
          <a:xfrm>
            <a:off x="419040" y="1015920"/>
            <a:ext cx="5435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ximize   Z = $4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subject to: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40 hr of labo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20 lb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Text Box 1031"/>
          <p:cNvSpPr/>
          <p:nvPr/>
        </p:nvSpPr>
        <p:spPr>
          <a:xfrm>
            <a:off x="5850720" y="62341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1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Rectangle 1032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cel Sensitivity Report for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hadow Prices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Footer Placeholder 10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5" name="Picture 10" descr="F:\POM\Chapter 3\AAFQRDV0.jpg"/>
          <p:cNvPicPr/>
          <p:nvPr/>
        </p:nvPicPr>
        <p:blipFill>
          <a:blip r:embed="rId1"/>
          <a:stretch/>
        </p:blipFill>
        <p:spPr>
          <a:xfrm>
            <a:off x="469800" y="2779560"/>
            <a:ext cx="82296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70000" y="1397160"/>
            <a:ext cx="860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airplane parts: no.1 and no. 2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ree manufacturing stages: stamping, drilling, finishin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cision variables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number of part no. 1 to produce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number of part no. 2 to produce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odel: Maximize Z = $6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1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7.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5 (stamping,hr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.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.9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90 (drilling, hr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9.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.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10 (finishing, hr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Rectangle 1028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443232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0" y="1676520"/>
            <a:ext cx="4673520" cy="36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6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$91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7.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05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6.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.9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9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9.1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.1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1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1 = 0, s2 = 0, s3 = 11.35 hr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85.33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c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,151.43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89.10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q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37.76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2" name="Picture 4" descr="sl_36"/>
          <p:cNvPicPr/>
          <p:nvPr/>
        </p:nvPicPr>
        <p:blipFill>
          <a:blip r:embed="rId1"/>
          <a:stretch/>
        </p:blipFill>
        <p:spPr>
          <a:xfrm>
            <a:off x="3695760" y="1397160"/>
            <a:ext cx="5003640" cy="478764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8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5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6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cel Solution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9" name="Picture 8" descr="F:\POM\Chapter 3\AAIOQJJ0.jpg"/>
          <p:cNvPicPr/>
          <p:nvPr/>
        </p:nvPicPr>
        <p:blipFill>
          <a:blip r:embed="rId1"/>
          <a:srcRect l="0" t="0" r="41824" b="0"/>
          <a:stretch/>
        </p:blipFill>
        <p:spPr>
          <a:xfrm>
            <a:off x="457200" y="1163520"/>
            <a:ext cx="5867280" cy="3932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9" descr="F:\POM\Chapter 3\AAIOQLE0.jpg"/>
          <p:cNvPicPr/>
          <p:nvPr/>
        </p:nvPicPr>
        <p:blipFill>
          <a:blip r:embed="rId2"/>
          <a:stretch/>
        </p:blipFill>
        <p:spPr>
          <a:xfrm>
            <a:off x="3317760" y="3860640"/>
            <a:ext cx="47977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541440" y="2222640"/>
            <a:ext cx="860256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ensitivity range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an objective function coefficient is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ange of valu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ver which the current optimal solution point will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main optimal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sensitivity range for the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coefficient is designated as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i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Coeffici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ang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" descr="03-04"/>
          <p:cNvPicPr/>
          <p:nvPr/>
        </p:nvPicPr>
        <p:blipFill>
          <a:blip r:embed="rId1"/>
          <a:stretch/>
        </p:blipFill>
        <p:spPr>
          <a:xfrm>
            <a:off x="304920" y="1282680"/>
            <a:ext cx="8483400" cy="49039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4"/>
          <p:cNvSpPr/>
          <p:nvPr/>
        </p:nvSpPr>
        <p:spPr>
          <a:xfrm>
            <a:off x="1143000" y="1409760"/>
            <a:ext cx="40384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objective function  Z = $40x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                       sensitivity range for: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:  25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c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66.67                                           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:  30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c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80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246320" y="6311880"/>
            <a:ext cx="67039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4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Determining the Sensitivity Range for c</a:t>
            </a:r>
            <a:r>
              <a:rPr b="1" lang="en-US" sz="2000" spc="-1" strike="noStrike" baseline="-30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Coeffici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ange for c</a:t>
            </a:r>
            <a:r>
              <a:rPr b="1" lang="en-US" sz="3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and c</a:t>
            </a:r>
            <a:r>
              <a:rPr b="1" lang="en-US" sz="3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3"/>
          <p:cNvSpPr/>
          <p:nvPr/>
        </p:nvSpPr>
        <p:spPr>
          <a:xfrm>
            <a:off x="1371600" y="33526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5071680" y="605808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1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Coefficient Ran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Example Sensitivity Report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1" name="Picture 9" descr="F:\POM\Chapter 3\AAFQRDR0.jpg"/>
          <p:cNvPicPr/>
          <p:nvPr/>
        </p:nvPicPr>
        <p:blipFill>
          <a:blip r:embed="rId1"/>
          <a:srcRect l="0" t="0" r="18521" b="0"/>
          <a:stretch/>
        </p:blipFill>
        <p:spPr>
          <a:xfrm>
            <a:off x="266760" y="1778040"/>
            <a:ext cx="8524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s in Constraint Quantity Val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ange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38088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244440" y="1905120"/>
            <a:ext cx="8602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ensitivity range for a right-hand-sid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alue is the range of values over which the quantity’s value can chang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without changing the solution variable mix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including the slack variabl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0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8" name="Picture 4" descr="03-06"/>
          <p:cNvPicPr/>
          <p:nvPr/>
        </p:nvPicPr>
        <p:blipFill>
          <a:blip r:embed="rId1"/>
          <a:stretch/>
        </p:blipFill>
        <p:spPr>
          <a:xfrm>
            <a:off x="4064040" y="1447920"/>
            <a:ext cx="4726080" cy="472752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s in Constraint Quantity Val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creasing the Labor Constraint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266760" y="2819520"/>
            <a:ext cx="419112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    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= 4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= 12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11360" y="6175440"/>
            <a:ext cx="73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6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Increasing the Labor Constraint Quantit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03-07"/>
          <p:cNvPicPr/>
          <p:nvPr/>
        </p:nvPicPr>
        <p:blipFill>
          <a:blip r:embed="rId1"/>
          <a:stretch/>
        </p:blipFill>
        <p:spPr>
          <a:xfrm>
            <a:off x="444600" y="1251000"/>
            <a:ext cx="8153280" cy="47610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6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s in Constraint Quantity Val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ange for Labor Constraint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Text Box 11"/>
          <p:cNvSpPr/>
          <p:nvPr/>
        </p:nvSpPr>
        <p:spPr>
          <a:xfrm>
            <a:off x="-723600" y="6172200"/>
            <a:ext cx="102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7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Determining the Sensitivity Range for Labor Quantit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3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5130720" y="6172200"/>
            <a:ext cx="26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1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nstraint Quantity Value Ranges by Computer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cel Sensitivity Range for Constraints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4" name="Picture 9" descr="F:\POM\Chapter 3\AAFQRDR0.jpg"/>
          <p:cNvPicPr/>
          <p:nvPr/>
        </p:nvPicPr>
        <p:blipFill>
          <a:blip r:embed="rId1"/>
          <a:srcRect l="0" t="0" r="18675" b="0"/>
          <a:stretch/>
        </p:blipFill>
        <p:spPr>
          <a:xfrm>
            <a:off x="190440" y="1722600"/>
            <a:ext cx="860436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57168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fined as th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arginal valu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f one additional unit of resourc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ensitivity rang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 a constraint quantity value is also the range over which th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hadow price is valid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hadow Prices (Dual Variable Values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Footer Placeholder 6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User</cp:lastModifiedBy>
  <cp:lastPrinted>2001-04-05T18:48:46Z</cp:lastPrinted>
  <dcterms:modified xsi:type="dcterms:W3CDTF">2015-03-01T21:05:19Z</dcterms:modified>
  <cp:revision>192</cp:revision>
  <dc:subject/>
  <dc:title>No Slide Title</dc:title>
</cp:coreProperties>
</file>