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683B-6576-40C8-8098-41D06156E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6C53-162C-497D-ADF4-9471905CCCB3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ABFA-3781-43BD-8A6F-1BE0D0C96269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EB0F-51D3-4BF7-A63B-2AB2A0EBB00E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8F0B-4ED0-4920-828B-50974E2AA0DD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A58F-8945-48C9-A7CD-AE446C3CA646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6019-B0D4-4D3E-AE53-915BAB70B1CB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FD5D-40C1-4F34-84C8-A64228B497D4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6666-4A86-4C0E-A13D-172B54FC0E7C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7425-113B-49E2-B413-AC898B9A30CE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D1A7-8118-4C89-8D89-BC469F902368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FAFC-2521-4B1F-A5CB-087CD145F4A5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FAB7-4FAB-4B0F-A253-117D49143A97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6049-E60A-4E24-999A-103E315EF1DA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7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8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-360" y="638136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3-</a:t>
            </a:r>
            <a:fld id="{B023F9D0-7784-4C5B-8026-DCE8266695B3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2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43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5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6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7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48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49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50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3-</a:t>
            </a:r>
            <a:fld id="{7C920C72-060B-4ACE-825C-5030A0AC08F4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ftr" idx="10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9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9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97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98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99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3-</a:t>
            </a:r>
            <a:fld id="{5CF5B3BB-181F-485F-9E6F-7BB3CB462D56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ftr" idx="11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40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1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2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3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4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5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46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47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48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3-</a:t>
            </a:r>
            <a:fld id="{C0E186E7-66F3-478D-A877-0717490F7218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1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8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9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95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96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97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3-</a:t>
            </a:r>
            <a:fld id="{4BCF3FBF-42CA-4535-86A3-FD3935F8F92C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8" name="Footer Placeholder 5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6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8" name="TextBox 24"/>
          <p:cNvSpPr/>
          <p:nvPr/>
        </p:nvSpPr>
        <p:spPr>
          <a:xfrm>
            <a:off x="8458200" y="6581880"/>
            <a:ext cx="685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1-</a:t>
            </a:r>
            <a:fld id="{010A5B15-105A-4418-A7A3-AA0A44011372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05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06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07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3-</a:t>
            </a:r>
            <a:fld id="{CBFABA75-4B77-4CD9-AF31-B75406E335F2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ftr" idx="3"/>
          </p:nvPr>
        </p:nvSpPr>
        <p:spPr>
          <a:xfrm>
            <a:off x="-360" y="6381360"/>
            <a:ext cx="4419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54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55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56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3-</a:t>
            </a:r>
            <a:fld id="{A18492FF-C22D-4105-9A57-D5870645B8E3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4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97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98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99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0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1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2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03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05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3-</a:t>
            </a:r>
            <a:fld id="{5499596C-6140-4D72-BA67-E416493EF2C4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5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4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4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52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54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3-</a:t>
            </a:r>
            <a:fld id="{2FFED266-9947-42F3-9096-8D6F7B4373E4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6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9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0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01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02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03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3-</a:t>
            </a:r>
            <a:fld id="{2EA8B14D-962C-4ECC-AE10-2D65D9510943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7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50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51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5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3-</a:t>
            </a:r>
            <a:fld id="{81C219C4-0C93-41EB-A5FD-FFB60BD998F6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8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9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9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9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01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3-</a:t>
            </a:r>
            <a:fld id="{65F753A0-293C-4D6D-B889-FAF154298D26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9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itle 1"/>
          <p:cNvSpPr/>
          <p:nvPr/>
        </p:nvSpPr>
        <p:spPr>
          <a:xfrm>
            <a:off x="0" y="635040"/>
            <a:ext cx="914400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Garamond"/>
              </a:rPr>
              <a:t>Linear Programming: Computer Solution and Sensitivity Analysis</a:t>
            </a:r>
            <a:endParaRPr b="0" lang="en-US" sz="6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5" name="Subtitle 2"/>
          <p:cNvSpPr/>
          <p:nvPr/>
        </p:nvSpPr>
        <p:spPr>
          <a:xfrm>
            <a:off x="0" y="4292640"/>
            <a:ext cx="91440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hapter 3- Part2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1027"/>
          <p:cNvSpPr/>
          <p:nvPr/>
        </p:nvSpPr>
        <p:spPr>
          <a:xfrm>
            <a:off x="2133720" y="3886200"/>
            <a:ext cx="5715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0" name="Text Box 1028"/>
          <p:cNvSpPr/>
          <p:nvPr/>
        </p:nvSpPr>
        <p:spPr>
          <a:xfrm>
            <a:off x="419040" y="1015920"/>
            <a:ext cx="543564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aximize   Z = $40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subject to: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40 hr of labor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120 lb of cla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1" name="Text Box 1031"/>
          <p:cNvSpPr/>
          <p:nvPr/>
        </p:nvSpPr>
        <p:spPr>
          <a:xfrm>
            <a:off x="5850720" y="623412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Exhibit 3.18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2" name="Rectangle 1032"/>
          <p:cNvSpPr/>
          <p:nvPr/>
        </p:nvSpPr>
        <p:spPr>
          <a:xfrm>
            <a:off x="0" y="0"/>
            <a:ext cx="86104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cel Sensitivity Report for Beaver Creek Pottery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hadow Prices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3" name="Footer Placeholder 10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4" name="Line 7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95" name="Picture 10" descr="F:\POM\Chapter 3\AAFQRDV0.jpg"/>
          <p:cNvPicPr/>
          <p:nvPr/>
        </p:nvPicPr>
        <p:blipFill>
          <a:blip r:embed="rId1"/>
          <a:stretch/>
        </p:blipFill>
        <p:spPr>
          <a:xfrm>
            <a:off x="469800" y="2779560"/>
            <a:ext cx="82296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270000" y="1397160"/>
            <a:ext cx="8602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wo airplane parts: no.1 and no. 2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ree manufacturing stages: stamping, drilling, finishing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Decision variables: 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(number of part no. 1 to produce)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(number of part no. 2 to produce)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odel: Maximize Z = $6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91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7.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05 (stamping,hr)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6.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4.9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90 (drilling, hr)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9.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4.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10 (finishing, hr)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7" name="Rectangle 1028"/>
          <p:cNvSpPr/>
          <p:nvPr/>
        </p:nvSpPr>
        <p:spPr>
          <a:xfrm>
            <a:off x="0" y="0"/>
            <a:ext cx="86104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Problem Statement (1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8" name="Footer Placeholder 6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9" name="Line 7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5"/>
          <p:cNvSpPr/>
          <p:nvPr/>
        </p:nvSpPr>
        <p:spPr>
          <a:xfrm>
            <a:off x="443232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1" name="Text Box 3"/>
          <p:cNvSpPr/>
          <p:nvPr/>
        </p:nvSpPr>
        <p:spPr>
          <a:xfrm>
            <a:off x="0" y="1676520"/>
            <a:ext cx="4673520" cy="36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Maximize Z = $65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$91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subject to: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 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7.5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105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6.2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4.9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90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9.1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4.1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110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           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964"/>
              </a:spcBef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s1 = 0, s2 = 0, s3 = 11.35 hr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964"/>
              </a:spcBef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485.33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c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1,151.43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89.10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q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137.76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02" name="Picture 4" descr="sl_36"/>
          <p:cNvPicPr/>
          <p:nvPr/>
        </p:nvPicPr>
        <p:blipFill>
          <a:blip r:embed="rId1"/>
          <a:stretch/>
        </p:blipFill>
        <p:spPr>
          <a:xfrm>
            <a:off x="3695760" y="1397160"/>
            <a:ext cx="5003640" cy="4787640"/>
          </a:xfrm>
          <a:prstGeom prst="rect">
            <a:avLst/>
          </a:prstGeom>
          <a:ln w="0">
            <a:noFill/>
          </a:ln>
        </p:spPr>
      </p:pic>
      <p:sp>
        <p:nvSpPr>
          <p:cNvPr id="703" name="Rectangle 8"/>
          <p:cNvSpPr/>
          <p:nvPr/>
        </p:nvSpPr>
        <p:spPr>
          <a:xfrm>
            <a:off x="0" y="0"/>
            <a:ext cx="86104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(2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4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5" name="Line 7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6"/>
          <p:cNvSpPr/>
          <p:nvPr/>
        </p:nvSpPr>
        <p:spPr>
          <a:xfrm>
            <a:off x="0" y="0"/>
            <a:ext cx="86104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Probl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cel Solution (3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7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8" name="Line 7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09" name="Picture 8" descr="F:\POM\Chapter 3\AAIOQJJ0.jpg"/>
          <p:cNvPicPr/>
          <p:nvPr/>
        </p:nvPicPr>
        <p:blipFill>
          <a:blip r:embed="rId1"/>
          <a:srcRect l="0" t="0" r="41824" b="0"/>
          <a:stretch/>
        </p:blipFill>
        <p:spPr>
          <a:xfrm>
            <a:off x="457200" y="1163520"/>
            <a:ext cx="5867280" cy="3932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9" descr="F:\POM\Chapter 3\AAIOQLE0.jpg"/>
          <p:cNvPicPr/>
          <p:nvPr/>
        </p:nvPicPr>
        <p:blipFill>
          <a:blip r:embed="rId2"/>
          <a:stretch/>
        </p:blipFill>
        <p:spPr>
          <a:xfrm>
            <a:off x="3317760" y="3860640"/>
            <a:ext cx="479772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541440" y="2222640"/>
            <a:ext cx="8602560" cy="28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sensitivity range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for an objective function coefficient is 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range of values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over which the current optimal solution point will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remain optimal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sensitivity range for the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i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coefficient is designated as c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i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7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Objective Function Coefficient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ensitivity Range (1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8" name="Footer Placeholder 6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9" name="Line 7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3" descr="03-04"/>
          <p:cNvPicPr/>
          <p:nvPr/>
        </p:nvPicPr>
        <p:blipFill>
          <a:blip r:embed="rId1"/>
          <a:stretch/>
        </p:blipFill>
        <p:spPr>
          <a:xfrm>
            <a:off x="304920" y="1282680"/>
            <a:ext cx="8483400" cy="4903920"/>
          </a:xfrm>
          <a:prstGeom prst="rect">
            <a:avLst/>
          </a:prstGeom>
          <a:ln w="0">
            <a:noFill/>
          </a:ln>
        </p:spPr>
      </p:pic>
      <p:sp>
        <p:nvSpPr>
          <p:cNvPr id="651" name="Text Box 4"/>
          <p:cNvSpPr/>
          <p:nvPr/>
        </p:nvSpPr>
        <p:spPr>
          <a:xfrm>
            <a:off x="1143000" y="1409760"/>
            <a:ext cx="403848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objective function  Z = $40x</a:t>
            </a:r>
            <a:r>
              <a:rPr b="0" lang="en-US" sz="1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1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                        sensitivity range for:</a:t>
            </a: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1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:  25 </a:t>
            </a:r>
            <a:r>
              <a:rPr b="0" lang="en-US" sz="18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 c</a:t>
            </a:r>
            <a:r>
              <a:rPr b="0" lang="en-US" sz="1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 66.67                                            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1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:  30 </a:t>
            </a:r>
            <a:r>
              <a:rPr b="0" lang="en-US" sz="18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 c</a:t>
            </a:r>
            <a:r>
              <a:rPr b="0" lang="en-US" sz="1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 80</a:t>
            </a: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2" name="Text Box 6"/>
          <p:cNvSpPr/>
          <p:nvPr/>
        </p:nvSpPr>
        <p:spPr>
          <a:xfrm>
            <a:off x="1246320" y="6311880"/>
            <a:ext cx="67039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3.4 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Determining the Sensitivity Range for c</a:t>
            </a:r>
            <a:r>
              <a:rPr b="1" lang="en-US" sz="2000" spc="-1" strike="noStrike" baseline="-30000">
                <a:solidFill>
                  <a:srgbClr val="000514"/>
                </a:solidFill>
                <a:latin typeface="Garamond"/>
                <a:ea typeface="Times New Roman"/>
              </a:rPr>
              <a:t>1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3" name="Rectangle 7"/>
          <p:cNvSpPr/>
          <p:nvPr/>
        </p:nvSpPr>
        <p:spPr>
          <a:xfrm>
            <a:off x="0" y="0"/>
            <a:ext cx="86104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Objective Function Coefficient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ensitivity Range for c</a:t>
            </a:r>
            <a:r>
              <a:rPr b="1" lang="en-US" sz="3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 and c</a:t>
            </a:r>
            <a:r>
              <a:rPr b="1" lang="en-US" sz="3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 (2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4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5" name="Line 7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3"/>
          <p:cNvSpPr/>
          <p:nvPr/>
        </p:nvSpPr>
        <p:spPr>
          <a:xfrm>
            <a:off x="1371600" y="335268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7" name="Text Box 5"/>
          <p:cNvSpPr/>
          <p:nvPr/>
        </p:nvSpPr>
        <p:spPr>
          <a:xfrm>
            <a:off x="5071680" y="6058080"/>
            <a:ext cx="229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Times New Roman"/>
              </a:rPr>
              <a:t>Exhibit 3.13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Objective Function Coefficient Rang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eaver Creek Example Sensitivity Report (2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9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0" name="Line 7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61" name="Picture 9" descr="F:\POM\Chapter 3\AAFQRDR0.jpg"/>
          <p:cNvPicPr/>
          <p:nvPr/>
        </p:nvPicPr>
        <p:blipFill>
          <a:blip r:embed="rId1"/>
          <a:srcRect l="0" t="0" r="18521" b="0"/>
          <a:stretch/>
        </p:blipFill>
        <p:spPr>
          <a:xfrm>
            <a:off x="266760" y="1778040"/>
            <a:ext cx="852480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hanges in Constraint Quantity Valu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ensitivity Range (1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3" name="Text Box 3"/>
          <p:cNvSpPr/>
          <p:nvPr/>
        </p:nvSpPr>
        <p:spPr>
          <a:xfrm>
            <a:off x="380880" y="129528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4" name="Rectangle 8"/>
          <p:cNvSpPr/>
          <p:nvPr/>
        </p:nvSpPr>
        <p:spPr>
          <a:xfrm>
            <a:off x="244440" y="1905120"/>
            <a:ext cx="86025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he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sensitivity range for a right-hand-side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value is the range of values over which the quantity’s value can change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without changing the solution variable mix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, including the slack variables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5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6" name="Line 7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10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68" name="Picture 4" descr="03-06"/>
          <p:cNvPicPr/>
          <p:nvPr/>
        </p:nvPicPr>
        <p:blipFill>
          <a:blip r:embed="rId1"/>
          <a:stretch/>
        </p:blipFill>
        <p:spPr>
          <a:xfrm>
            <a:off x="4064040" y="1447920"/>
            <a:ext cx="4726080" cy="4727520"/>
          </a:xfrm>
          <a:prstGeom prst="rect">
            <a:avLst/>
          </a:prstGeom>
          <a:ln w="0">
            <a:noFill/>
          </a:ln>
        </p:spPr>
      </p:pic>
      <p:sp>
        <p:nvSpPr>
          <p:cNvPr id="669" name="Rectangle 7"/>
          <p:cNvSpPr/>
          <p:nvPr/>
        </p:nvSpPr>
        <p:spPr>
          <a:xfrm>
            <a:off x="0" y="0"/>
            <a:ext cx="86104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hanges in Constraint Quantity Valu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Increasing the Labor Constraint (2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0" name="Text Box 11"/>
          <p:cNvSpPr/>
          <p:nvPr/>
        </p:nvSpPr>
        <p:spPr>
          <a:xfrm>
            <a:off x="266760" y="2819520"/>
            <a:ext cx="419112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subject to:     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+ s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= 40 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+ s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= 120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1" name="Text Box 12"/>
          <p:cNvSpPr/>
          <p:nvPr/>
        </p:nvSpPr>
        <p:spPr>
          <a:xfrm>
            <a:off x="711360" y="6175440"/>
            <a:ext cx="737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3.6 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Increasing the Labor Constraint Quantit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2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3" name="Line 7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4" descr="03-07"/>
          <p:cNvPicPr/>
          <p:nvPr/>
        </p:nvPicPr>
        <p:blipFill>
          <a:blip r:embed="rId1"/>
          <a:stretch/>
        </p:blipFill>
        <p:spPr>
          <a:xfrm>
            <a:off x="444600" y="1251000"/>
            <a:ext cx="8153280" cy="476100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6"/>
          <p:cNvSpPr/>
          <p:nvPr/>
        </p:nvSpPr>
        <p:spPr>
          <a:xfrm>
            <a:off x="0" y="0"/>
            <a:ext cx="86104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hanges in Constraint Quantity Valu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ensitivity Range for Labor Constraint (3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6" name="Text Box 11"/>
          <p:cNvSpPr/>
          <p:nvPr/>
        </p:nvSpPr>
        <p:spPr>
          <a:xfrm>
            <a:off x="-723600" y="6172200"/>
            <a:ext cx="102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3.7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Determining the Sensitivity Range for Labor Quantit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7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8" name="Line 7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3"/>
          <p:cNvSpPr/>
          <p:nvPr/>
        </p:nvSpPr>
        <p:spPr>
          <a:xfrm>
            <a:off x="914400" y="350532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0" name="Text Box 5"/>
          <p:cNvSpPr/>
          <p:nvPr/>
        </p:nvSpPr>
        <p:spPr>
          <a:xfrm>
            <a:off x="5130720" y="6172200"/>
            <a:ext cx="26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Times New Roman"/>
              </a:rPr>
              <a:t>Exhibit 3.15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1" name="Rectangle 6"/>
          <p:cNvSpPr/>
          <p:nvPr/>
        </p:nvSpPr>
        <p:spPr>
          <a:xfrm>
            <a:off x="0" y="0"/>
            <a:ext cx="86104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nstraint Quantity Value Ranges by Computer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cel Sensitivity Range for Constraints (1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2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3" name="Line 7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84" name="Picture 9" descr="F:\POM\Chapter 3\AAFQRDR0.jpg"/>
          <p:cNvPicPr/>
          <p:nvPr/>
        </p:nvPicPr>
        <p:blipFill>
          <a:blip r:embed="rId1"/>
          <a:srcRect l="0" t="0" r="18675" b="0"/>
          <a:stretch/>
        </p:blipFill>
        <p:spPr>
          <a:xfrm>
            <a:off x="190440" y="1722600"/>
            <a:ext cx="8604360" cy="38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 txBox="1"/>
          <p:nvPr/>
        </p:nvSpPr>
        <p:spPr>
          <a:xfrm>
            <a:off x="571680" y="170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Defined as the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marginal value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of one additional unit of resource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he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sensitivity range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for a constraint quantity value is also the range over which the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shadow price is valid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6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Shadow Prices (Dual Variable Values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7" name="Footer Placeholder 6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8" name="Line 7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9T17:58:54Z</dcterms:created>
  <dc:creator>Preferred Customer</dc:creator>
  <dc:description/>
  <dc:language>en-US</dc:language>
  <cp:lastModifiedBy>User</cp:lastModifiedBy>
  <cp:lastPrinted>2001-04-05T18:48:46Z</cp:lastPrinted>
  <dcterms:modified xsi:type="dcterms:W3CDTF">2015-03-01T21:05:19Z</dcterms:modified>
  <cp:revision>192</cp:revision>
  <dc:subject/>
  <dc:title>No Slide Title</dc:title>
</cp:coreProperties>
</file>