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wmf" ContentType="image/x-wmf"/>
  <Override PartName="/ppt/media/image16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C33B-0F7B-4279-9AC1-96ACFF921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249B-6DC8-43AB-84B7-673B66E17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925E-AF9D-46E2-B784-0A19013EC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D20A-1F62-45B5-8CF4-827B71EDF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8139-5943-4DC0-8306-D806AE5B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A281-06FB-4D13-94B5-7ACA5777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A293-601F-43CA-8982-6F2E4FE9C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BE6-F060-451A-8A5E-EC10CEF8D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02B0-9542-4DFC-BB4E-4D5A0968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B2C3-297E-465F-BD23-EC30988CE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B75-7A73-42B0-A858-0C53B0C60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D128-4B07-4003-B52C-84543149E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9ECC-51A0-460D-AB51-3ED7F0BD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7A66-9955-4843-9D2D-D9A9477BA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08C4-C0DC-4361-B591-D58470EBD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2242-A5D1-40FF-B2E2-70BFAE83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84E0-7C3A-4342-A1DE-F00B84A95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6C19-A422-4429-B728-1DD7B808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F6A2-D61A-4615-B245-394BE9FB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2146-D3E0-48DF-AEDE-856890272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67F-8F08-4322-88AA-1929F817D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EC8A-5EA5-46B1-A5FD-5E360F75F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2EC3-6F68-4D04-B0DF-5F75D064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1700-0F56-45F5-8974-09C39B1B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E2DE-1EA2-487D-AE4B-4567B7A0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18BE-1CA0-4ABB-9591-87C8129D9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E318-7D48-4FA5-A960-F6078982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38B1-D1BC-4963-BDE2-5FA6BC35F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C438-E9C6-4619-965A-2F405462E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DD2F-77D0-47BF-BD26-60088604E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46F9-3567-4D6C-9C34-AF29D4B9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5CFA-01A5-40BA-8168-64CD51E12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9384-BEDC-4AC8-AA8B-35DDC8BA0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2AF9-D508-4A09-901F-D26164D0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81CD-F2C3-4E31-85A8-C9CDCDA7B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0464-D7C2-4608-B67C-0F71A74A3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B79-C077-4737-818A-DAABA4E44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1B23-52B3-43E1-9BF8-066EBAFA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258D-D417-4A7A-9E6E-280A40009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3181-1612-4DA1-9903-20A9D9DC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AF9-5902-4664-B584-824C5358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2EF-E89E-4436-8264-23AC650E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4F9-FEF8-4F1C-A8B4-16A3BD3E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B81-B9CE-43A4-AEA8-209F6B5C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A4D-BA6A-4138-8509-1E466CEE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20B-3DE3-4749-BE8A-D564918D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F93-D3EA-470A-B705-0FB720FE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CBD-BC9D-48E3-B607-4B8113CA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CD3-D3AE-4B07-AA52-6D5F7D02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9B2-A486-4517-AF09-2043823A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161-25C7-4AD6-AB26-65F3AAE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002-2B4C-4AA1-8BD3-0001AC5B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B6F0-5B99-41F9-8FAE-BE669FB07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CA10-630E-496D-A5FA-F98FB114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685800"/>
            <a:ext cx="7772400" cy="838080"/>
          </a:xfrm>
          <a:prstGeom prst="rect">
            <a:avLst/>
          </a:prstGeom>
          <a:solidFill>
            <a:srgbClr val="b0dbf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52480" y="213336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3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ving Problems Analytically and Crea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44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ing Management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8810-A82E-4AE9-9BD5-CB1DE3A86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 on the Analytical Problem-Solving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33720" y="16761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and 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is not always forth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 about what part of solution t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and organizational processes must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take a long time to implement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A5B7-695E-4D3B-B33D-C27EBCDCC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ediments to Creative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assume creativity is one 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one has created blocks that inhibit our 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8B01-FF12-4DBD-A749-C97D26F10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Types of Crea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WTN03f01"/>
          <p:cNvPicPr/>
          <p:nvPr/>
        </p:nvPicPr>
        <p:blipFill>
          <a:blip r:embed="rId1"/>
          <a:stretch/>
        </p:blipFill>
        <p:spPr>
          <a:xfrm>
            <a:off x="2819520" y="1447920"/>
            <a:ext cx="5181480" cy="4446360"/>
          </a:xfrm>
          <a:prstGeom prst="rect">
            <a:avLst/>
          </a:prstGeom>
          <a:ln w="0">
            <a:noFill/>
          </a:ln>
        </p:spPr>
      </p:pic>
      <p:sp>
        <p:nvSpPr>
          <p:cNvPr id="165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34FA-0177-40DA-B55D-E86B9A297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Dimensions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our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3" descr="WTN03f02"/>
          <p:cNvPicPr/>
          <p:nvPr/>
        </p:nvPicPr>
        <p:blipFill>
          <a:blip r:embed="rId1"/>
          <a:stretch/>
        </p:blipFill>
        <p:spPr>
          <a:xfrm>
            <a:off x="2514600" y="1600200"/>
            <a:ext cx="5105520" cy="4584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AA8A-B33C-4E89-AEED-4D88E9CFE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for Four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5" descr="WTN03f03"/>
          <p:cNvPicPr/>
          <p:nvPr/>
        </p:nvPicPr>
        <p:blipFill>
          <a:blip r:embed="rId1"/>
          <a:stretch/>
        </p:blipFill>
        <p:spPr>
          <a:xfrm>
            <a:off x="2209680" y="1452600"/>
            <a:ext cx="5943600" cy="4376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6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C783-7DE0-449F-AAFA-E8B629C86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obstacles that constrain the way problems ar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97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2AAE-98C8-4BE0-AC37-F8D5B36F5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y Spencer’s Magnetron  lead to the invention of the micro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ce Silver’s Glue lead to the every popular Post-I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0D21-81AA-45D3-98F7-4C83C55E4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3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7400" y="1143000"/>
            <a:ext cx="6626160" cy="49258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26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90476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a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34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35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6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37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38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 refers to being wedded to one point of view and being unable to change perspecti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tical th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gnoring alternative problem definitions and thus pursuing a narrow solution pa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thinking langua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ople use only words and verbal language to think about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1C88-394B-4BBC-AD64-1F1F8542C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e la dat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4C20-5B6D-4697-897D-A30436E82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Bono’s Ways of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s for what i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idea came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a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s for what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o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idea is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s 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3A3F-98FE-49CD-96B2-9AAE3421A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720" y="16765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ficiency in analytic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personal conceptual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 creativity by overcoming conceptual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innovation among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077320" y="624852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536-9C31-4627-BB07-7E000811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ple Thinking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(i.e. sm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s and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CDC-E170-4CE0-B207-43F45FAF6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ple Thinking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324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languages available to problem solvers, the more creative the solution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3581640" cy="2652840"/>
          </a:xfrm>
          <a:prstGeom prst="rect">
            <a:avLst/>
          </a:prstGeom>
          <a:ln w="0">
            <a:noFill/>
          </a:ln>
        </p:spPr>
      </p:pic>
      <p:sp>
        <p:nvSpPr>
          <p:cNvPr id="254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4B3E-5DBE-4D8B-A27B-FBD7D39B6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Matchstick Configu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3" descr="WTN03f04"/>
          <p:cNvPicPr/>
          <p:nvPr/>
        </p:nvPicPr>
        <p:blipFill>
          <a:blip r:embed="rId1"/>
          <a:stretch/>
        </p:blipFill>
        <p:spPr>
          <a:xfrm>
            <a:off x="2209680" y="2362320"/>
            <a:ext cx="5904000" cy="16444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itmen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: unwillingness to change perspectives once someone has taken a stance on a particular point of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typing based on past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gnoring commo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06F3-7C83-4452-810E-A4D7C99C2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78E4-4240-4BB1-9A73-AA2DBDD4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Perceptual Stereoty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dividuals define present problems in terms of problems that they have faced in th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1262-A785-48CF-9187-FCF6CF6BF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kespeare Rid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3" descr="WTN03f05"/>
          <p:cNvPicPr/>
          <p:nvPr/>
        </p:nvPicPr>
        <p:blipFill>
          <a:blip r:embed="rId1"/>
          <a:stretch/>
        </p:blipFill>
        <p:spPr>
          <a:xfrm>
            <a:off x="2438280" y="1674720"/>
            <a:ext cx="5295960" cy="35751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38FC-4D16-4836-8B79-12A49CAA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Ignoring Commo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720" y="14475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is blocked when individuals fail to find the common thread that exist between dissimila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3657600" cy="2703600"/>
          </a:xfrm>
          <a:prstGeom prst="rect">
            <a:avLst/>
          </a:prstGeom>
          <a:ln w="0">
            <a:noFill/>
          </a:ln>
        </p:spPr>
      </p:pic>
      <p:sp>
        <p:nvSpPr>
          <p:cNvPr id="300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ompression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04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ressio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: looking too narrowly at a problem, defining it in a constricted way, or screening out relevan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ficial constraint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ing unnecessary boundaries around a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separating figure from ground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eans not constraining a problem sufficiently so that it can be sol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71EF-ED5D-427E-9472-542D7E676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27"/>
          <p:cNvSpPr/>
          <p:nvPr/>
        </p:nvSpPr>
        <p:spPr>
          <a:xfrm>
            <a:off x="1828800" y="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5444-BA5A-4536-8E02-0954188E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That Shi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3" descr="WTN03f06"/>
          <p:cNvPicPr/>
          <p:nvPr/>
        </p:nvPicPr>
        <p:blipFill>
          <a:blip r:embed="rId1"/>
          <a:stretch/>
        </p:blipFill>
        <p:spPr>
          <a:xfrm>
            <a:off x="3429000" y="1295280"/>
            <a:ext cx="3408480" cy="44467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E3A6-3355-45CC-86DA-4D74FC06F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Com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133360" y="1599840"/>
            <a:ext cx="37335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5638680" y="4191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ng Figure From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334120" y="1981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figure 3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WTN03f07"/>
          <p:cNvPicPr/>
          <p:nvPr/>
        </p:nvPicPr>
        <p:blipFill>
          <a:blip r:embed="rId1"/>
          <a:stretch/>
        </p:blipFill>
        <p:spPr>
          <a:xfrm>
            <a:off x="5562720" y="1371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29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7" descr="WTN03f08"/>
          <p:cNvPicPr/>
          <p:nvPr/>
        </p:nvPicPr>
        <p:blipFill>
          <a:blip r:embed="rId2"/>
          <a:stretch/>
        </p:blipFill>
        <p:spPr>
          <a:xfrm>
            <a:off x="2590920" y="2895480"/>
            <a:ext cx="2212920" cy="31989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8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832-6A21-43AF-9549-4D765BAD1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19320"/>
            <a:ext cx="6782040" cy="4876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del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Defin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fact from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underlying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 everyone involved 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problem explici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what standard is vio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ose problem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stating the problem as a disguise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lacency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acen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occurs as a result of fear, ignorance, insecurity, or mental lazin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inquisitiven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illingness to ask questions, gather information, or search for relevant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as against thinking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ference for taking action over engaging in thought and refl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6755-C8DD-469E-B267-96E271CD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27"/>
          <p:cNvSpPr/>
          <p:nvPr/>
        </p:nvSpPr>
        <p:spPr>
          <a:xfrm>
            <a:off x="1828800" y="-763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0108-0C9A-4751-8347-47EDDB5EF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Complac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inquisitiven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illingness to 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as against think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livity to avoid doing menta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1104-BEFB-4E72-A95E-22563E96B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able 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3" descr="TABLE 3"/>
          <p:cNvPicPr/>
          <p:nvPr/>
        </p:nvPicPr>
        <p:blipFill>
          <a:blip r:embed="rId1"/>
          <a:stretch/>
        </p:blipFill>
        <p:spPr>
          <a:xfrm>
            <a:off x="2666880" y="762120"/>
            <a:ext cx="5029200" cy="49114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9CAD-140A-4E2C-BCFE-AE7E19528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7400" y="1447920"/>
            <a:ext cx="5881680" cy="44114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s in Creative Tho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b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0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A2F1-A815-4FB2-B096-44979448B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s to Improve Problem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strange familiar and the familiar strange – Synec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te th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th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B5E8-4F69-444D-910C-11A70D26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Types of Ana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943240" y="1904760"/>
            <a:ext cx="297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3124080" cy="37638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C566-0918-4609-BDD9-E903A65EE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s to Generate More 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04760" y="190476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 judgment –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current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unrela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6F3F-FE59-4B49-A8E9-6FD92C8EB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26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s of Brainst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valuation of ideas is per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 ideas are encour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befor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on ideas of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38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39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40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41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8E89-346C-48DD-8749-D2DAC106F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phological 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is written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s of the problem are li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each attribute are li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alternatives from the attributes are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F433-2C76-405B-B2C8-48679F8BF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al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connecting words that force a relationship between two elements in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428" name="Line 14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5CD1-9602-4A1B-9B85-800B0E8BA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19320"/>
            <a:ext cx="6782040" cy="4876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del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Generate Alternativ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pone evaluating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all involved individuals gener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alternatives that are consistent with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both short- and long-ter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others’ id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alternatives that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508C-7397-4BCC-AE86-C7C9028E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nts to Facilitate Creative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self relax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 place where you can 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other people abou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other people for their suggestions about you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self from idea-ki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5E0E-DB01-4B28-A8BD-8844DD268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del of Analytic and Creative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3" descr="WTN03f10"/>
          <p:cNvPicPr/>
          <p:nvPr/>
        </p:nvPicPr>
        <p:blipFill>
          <a:blip r:embed="rId1"/>
          <a:stretch/>
        </p:blipFill>
        <p:spPr>
          <a:xfrm>
            <a:off x="2209680" y="1295280"/>
            <a:ext cx="5724720" cy="4908600"/>
          </a:xfrm>
          <a:prstGeom prst="rect">
            <a:avLst/>
          </a:prstGeom>
          <a:ln w="0">
            <a:noFill/>
          </a:ln>
        </p:spPr>
      </p:pic>
      <p:sp>
        <p:nvSpPr>
          <p:cNvPr id="449" name="Line 18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0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1493-2407-4D5E-8623-7E91809CB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7400" y="1523880"/>
            <a:ext cx="6477120" cy="44960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Principles for Fostering Crea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people apart; put people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eparate areas for people to develop new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ting them back together into teams and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nd pr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the resources needed for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people accountable for producing creative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 multiple r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 champ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/men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chestrator/facilita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brea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CF0C-F291-4B0A-B9D0-4AA8D40E6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abling Creativity in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3" descr="WTN03f11"/>
          <p:cNvPicPr/>
          <p:nvPr/>
        </p:nvPicPr>
        <p:blipFill>
          <a:blip r:embed="rId1"/>
          <a:stretch/>
        </p:blipFill>
        <p:spPr>
          <a:xfrm>
            <a:off x="3581280" y="1447920"/>
            <a:ext cx="3657600" cy="47196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AB0A-5CC3-47EA-A693-222BE282D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19320"/>
            <a:ext cx="6782040" cy="4876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del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Evaluate and Select an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lative to an optimal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syste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lative to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main effects and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selected alternative explici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6974-EFDB-4FF0-B2AB-3F5F2681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19320"/>
            <a:ext cx="6782040" cy="4952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del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 Implement and Follow Up on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t proper time and in the right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portunities for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d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ongoing monitor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ased on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7B1E-0126-48CE-BC8A-E5D4D0E9B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 on the Analytical Problem-Solving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nsensus on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nce of 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are often confused with the re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9B0F-9C39-4A4C-8974-2252AE827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 on the Analytical Problem-Solving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324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s are evaluated as they are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possible alternatives are usually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acceptable solution is usually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s are based on what was successful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C3F2-2CAD-489C-B032-320DB4730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 on the Analytical Problem-Solving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and Select an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alternatives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information occurs close to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of information is constrained by other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information is cos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ces for the best alternatives are not alway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39:52Z</dcterms:created>
  <dc:creator>SAMIHA MJAHED</dc:creator>
  <dc:description/>
  <dc:language>en-US</dc:language>
  <cp:lastModifiedBy>Asus</cp:lastModifiedBy>
  <dcterms:modified xsi:type="dcterms:W3CDTF">2017-03-23T05:06:18Z</dcterms:modified>
  <cp:revision>49</cp:revision>
  <dc:subject/>
  <dc:title>Slide 1</dc:title>
</cp:coreProperties>
</file>