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6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371-2A6B-481F-89E8-86B0158C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E84A-5967-486A-9AE8-F5FFFE0E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3A4-06A5-421F-86EF-F9E9FC8E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9615-4AFE-4027-8402-89AE14AD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1BA-EADA-49A9-AB5E-73D0F222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0DD-AD2F-4F08-9B36-868ACFAC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ABD-F7B2-42FD-98D6-E08168D9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801-121F-4BCF-9718-2DBDEA20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D84-DA18-42BD-BF0F-C72F75C7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BA88-B116-43B3-9E2D-1447C3E4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F7D-A5DA-487D-AB4E-DFFA36E8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F5AA-41FA-4A5B-9B58-9B7B94DC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7CF-036F-480F-BA74-24451CB74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2D6-DB0C-4541-8960-E657FA5D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245-3057-4801-8C42-20E69BEE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80E-805F-4B77-8897-21918296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4BD-D063-401F-8A98-4DE9CD34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79D-5087-4FB2-8302-B10FAAF9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95A-30FF-46A5-BE01-4BF337E0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8B9-F071-4A3D-AC6A-1C7109C8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09B8-6752-45F1-8297-124CB11B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0E2-F657-467E-8D86-EA9E2F29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BE7-C0E9-4430-BF63-E33C60A83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10B-673A-44D8-9B1D-503E70C2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28C-99CE-4E00-A8C4-5E7FC912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27C-C7CF-42A4-B1CE-B7F3B598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6D5-D6D5-4F54-878A-868189B9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8F0-C274-4D64-9A72-7C15BB8E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C910-6C34-4874-897F-C88BBCC0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2665-44B1-4429-B943-FDFEC2EB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C1AD-58A7-4E6E-A8DA-46F89633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1A2-0B7F-427A-9E34-05925BF3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CFE-B7C2-4996-BD8B-23F67E25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C80-FB5F-4609-89EE-5A42E729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8285-2E0C-4858-8028-298E55DC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835C-4515-4F0C-A443-6039B97B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A1D7-002C-472F-8BA2-4F1EF3AB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08C1-0752-4E91-9B86-E0F88EE8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360C-3716-4305-893C-5DF71C2D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F73-2D4E-4014-8A74-27016CB3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4C7-9CF4-4C1D-8E27-910208A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308-99E8-4F53-AF49-5A0E8EC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040-5C81-470A-9276-2CC7392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3D1-9C53-4B82-A2BF-275DEB6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417-D575-4E08-8A63-5CD6D4A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1BB-FBC7-494F-B588-7AA76860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FFC-AB7C-46CF-B37F-3376FAB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691-BAF2-46CD-B230-2CBF101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C68-8B63-4159-A4F7-7DC5720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323-7034-4142-B034-9775251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10D-A8D7-4E59-AC0D-6D7791B6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2E5-270C-45F0-8035-24D47D9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2EC-8814-484E-81B6-65E25DED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EEA-3B40-458A-A42A-9ED6B91C6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685800"/>
            <a:ext cx="7772400" cy="838080"/>
          </a:xfrm>
          <a:prstGeom prst="rect">
            <a:avLst/>
          </a:prstGeom>
          <a:solidFill>
            <a:srgbClr val="b0dbf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52480" y="21333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ving Problems Analytically and Crea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7315200" cy="94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ing Management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C78C-D5DB-48F2-9462-85225EA4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and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 is not always forth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about what part of solution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and organizational processes must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take a long time to implement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117-F874-40F1-AC0E-C421BD8B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ediments to Creative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assume creativity is one 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one has created blocks that inhibit our 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9829-6EE3-4C7C-AF6F-30864A72A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Types of Cre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WTN03f01"/>
          <p:cNvPicPr/>
          <p:nvPr/>
        </p:nvPicPr>
        <p:blipFill>
          <a:blip r:embed="rId1"/>
          <a:stretch/>
        </p:blipFill>
        <p:spPr>
          <a:xfrm>
            <a:off x="2819520" y="1447920"/>
            <a:ext cx="5181480" cy="4446360"/>
          </a:xfrm>
          <a:prstGeom prst="rect">
            <a:avLst/>
          </a:prstGeom>
          <a:ln w="0">
            <a:noFill/>
          </a:ln>
        </p:spPr>
      </p:pic>
      <p:sp>
        <p:nvSpPr>
          <p:cNvPr id="16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90C-205A-4AC8-8C0F-5840BAFC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Dimensions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u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WTN03f02"/>
          <p:cNvPicPr/>
          <p:nvPr/>
        </p:nvPicPr>
        <p:blipFill>
          <a:blip r:embed="rId1"/>
          <a:stretch/>
        </p:blipFill>
        <p:spPr>
          <a:xfrm>
            <a:off x="2514600" y="1600200"/>
            <a:ext cx="5105520" cy="4584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CB4-612B-4CFF-885A-A1D347EA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for Four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5" descr="WTN03f03"/>
          <p:cNvPicPr/>
          <p:nvPr/>
        </p:nvPicPr>
        <p:blipFill>
          <a:blip r:embed="rId1"/>
          <a:stretch/>
        </p:blipFill>
        <p:spPr>
          <a:xfrm>
            <a:off x="2209680" y="1452600"/>
            <a:ext cx="5943600" cy="437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6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E00-5849-4587-A157-C378ED6E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obstacles that constrain the way problems ar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97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B8F-3C40-4CD5-B524-21E66102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y Spencer’s Magnetron  lead to the invention of the micro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ce Silver’s Glue lead to the every popular Post-I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3314-9461-4EB0-A016-ECA5ABB2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3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143000"/>
            <a:ext cx="6626160" cy="4925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2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90476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ac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3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3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3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refers to being wedded to one point of view and being unable to change perspecti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al 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gnoring alternative problem definitions and thus pursuing a narrow solution pa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thinking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ople use only words and verbal language to think abou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A68-CEA2-4C68-9AFA-FE0927D3E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9BF-1AD5-410D-8D1C-455359BA9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Bono’s Ways of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s for what i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idea cam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0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a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es for wha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idea 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s 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58D6-8EA1-4051-BA80-0004236C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720" y="16765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ficiency in analytic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personal conceptual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creativity by overcoming conceptual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innovation amo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077320" y="624852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0002-543D-445C-8DBA-E6315722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Think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(i.e. sm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and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008-6513-4C9D-9AD3-71223740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ple Think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324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languages available to problem solvers, the more creative the solution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3581640" cy="2652840"/>
          </a:xfrm>
          <a:prstGeom prst="rect">
            <a:avLst/>
          </a:prstGeom>
          <a:ln w="0">
            <a:noFill/>
          </a:ln>
        </p:spPr>
      </p:pic>
      <p:sp>
        <p:nvSpPr>
          <p:cNvPr id="25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876-E8A3-453F-AB3F-FDF8E18D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atchstick Configu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WTN03f04"/>
          <p:cNvPicPr/>
          <p:nvPr/>
        </p:nvPicPr>
        <p:blipFill>
          <a:blip r:embed="rId1"/>
          <a:stretch/>
        </p:blipFill>
        <p:spPr>
          <a:xfrm>
            <a:off x="2209680" y="2362320"/>
            <a:ext cx="5904000" cy="16444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: unwillingness to change perspectives once someone has taken a stance on a particular point of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typing based on past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ing commo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EDF-F0C4-416F-9270-436313C8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8793-89E0-46A6-BCFB-0479CEFF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Perceptual Stereoty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dividuals define present problems in terms of problems that they have faced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43F3-6B8A-4101-B87F-D0650A51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kespeare Rid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3" descr="WTN03f05"/>
          <p:cNvPicPr/>
          <p:nvPr/>
        </p:nvPicPr>
        <p:blipFill>
          <a:blip r:embed="rId1"/>
          <a:stretch/>
        </p:blipFill>
        <p:spPr>
          <a:xfrm>
            <a:off x="2438280" y="1674720"/>
            <a:ext cx="5295960" cy="3575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16B-381C-4C50-9A4F-2D110382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Ignoring Commo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ity is blocked when individuals fail to find the common thread that exist between dissimila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3657600" cy="2703600"/>
          </a:xfrm>
          <a:prstGeom prst="rect">
            <a:avLst/>
          </a:prstGeom>
          <a:ln w="0">
            <a:noFill/>
          </a:ln>
        </p:spPr>
      </p:pic>
      <p:sp>
        <p:nvSpPr>
          <p:cNvPr id="300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pressio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: looking too narrowly at a problem, defining it in a constricted way, or screening out relevan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icial constrai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ing unnecessary boundaries around a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separating figure from groun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ans not constraining a problem sufficiently so that it can be sol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118-2223-48E9-9544-53A3C33B9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27"/>
          <p:cNvSpPr/>
          <p:nvPr/>
        </p:nvSpPr>
        <p:spPr>
          <a:xfrm>
            <a:off x="1828800" y="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BB86-C643-4CAE-86DE-CED6CBC42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That Shi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WTN03f06"/>
          <p:cNvPicPr/>
          <p:nvPr/>
        </p:nvPicPr>
        <p:blipFill>
          <a:blip r:embed="rId1"/>
          <a:stretch/>
        </p:blipFill>
        <p:spPr>
          <a:xfrm>
            <a:off x="3429000" y="1295280"/>
            <a:ext cx="3408480" cy="4446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D772-0762-4C8A-8ADA-C00AB797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133360" y="1599840"/>
            <a:ext cx="3733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5638680" y="4191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ng Figure From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33412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figure 3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WTN03f07"/>
          <p:cNvPicPr/>
          <p:nvPr/>
        </p:nvPicPr>
        <p:blipFill>
          <a:blip r:embed="rId1"/>
          <a:stretch/>
        </p:blipFill>
        <p:spPr>
          <a:xfrm>
            <a:off x="5562720" y="1371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WTN03f08"/>
          <p:cNvPicPr/>
          <p:nvPr/>
        </p:nvPicPr>
        <p:blipFill>
          <a:blip r:embed="rId2"/>
          <a:stretch/>
        </p:blipFill>
        <p:spPr>
          <a:xfrm>
            <a:off x="2590920" y="2895480"/>
            <a:ext cx="2212920" cy="31989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F08-0570-4E2A-8ED0-37320B4AF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fact from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underlying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 everyone involved 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problem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at standard is vi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ose problem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tating the problem as a disguise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lacency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acen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occurs as a result of fear, ignorance, insecurity, or mental lazi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inquisitive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illingness to ask questions, gather information, or search for relevant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as against think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erence for taking action over engaging in thought and ref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B10-C5AD-4423-827D-DE9F88FAC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27"/>
          <p:cNvSpPr/>
          <p:nvPr/>
        </p:nvSpPr>
        <p:spPr>
          <a:xfrm>
            <a:off x="1828800" y="-763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5437-3CE5-4831-88F0-2725AC336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Complac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inquisitive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illingness to 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s against think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livity to avoid doing menta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17E0-942D-4120-A7C2-43503F96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le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3" descr="TABLE 3"/>
          <p:cNvPicPr/>
          <p:nvPr/>
        </p:nvPicPr>
        <p:blipFill>
          <a:blip r:embed="rId1"/>
          <a:stretch/>
        </p:blipFill>
        <p:spPr>
          <a:xfrm>
            <a:off x="2666880" y="762120"/>
            <a:ext cx="5029200" cy="4911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0B2A-8E74-4BFE-A4EA-6B82206F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447920"/>
            <a:ext cx="5881680" cy="44114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s in Creative Tho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b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0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D4DE-D2D8-46DF-9480-75F5C4D8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Improve Problem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strange familiar and the familiar strange – Syne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e th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th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FAF9-4AB7-4ABF-A242-DD4AF819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Types of Ana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943240" y="1904760"/>
            <a:ext cx="297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3124080" cy="37638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E987-625D-4789-AEC7-E65D5FCE6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Generate More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 judgment –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current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unrela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F30-5A66-4851-8753-D2489050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6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s of Brainst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valuation of ideas is per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ideas are encour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befo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idea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38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39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40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41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B1D-569A-4796-A421-250580817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phologica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is written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of the problem are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each attribute are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alternatives from the attributes ar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055-03A9-487D-B066-33C7EE258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al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connecting words that force a relationship between two elements in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428" name="Line 14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60DB-36B0-4F10-BC8C-3F7AF464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enerate Alternativ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pone evaluating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all involved individuals gener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alternatives that are consistent with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both short- and long-ter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others’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9960" indent="-52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alternatives that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DC03-B993-4599-9199-125D0106B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nts to Facilitate Creative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relax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place where you can 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other people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other people for their suggestions about you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self from idea-ki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777-2300-4E3B-AC87-B0648CED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del of Analytic and Creative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figure 3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3" descr="WTN03f10"/>
          <p:cNvPicPr/>
          <p:nvPr/>
        </p:nvPicPr>
        <p:blipFill>
          <a:blip r:embed="rId1"/>
          <a:stretch/>
        </p:blipFill>
        <p:spPr>
          <a:xfrm>
            <a:off x="2209680" y="1295280"/>
            <a:ext cx="5724720" cy="4908600"/>
          </a:xfrm>
          <a:prstGeom prst="rect">
            <a:avLst/>
          </a:prstGeom>
          <a:ln w="0">
            <a:noFill/>
          </a:ln>
        </p:spPr>
      </p:pic>
      <p:sp>
        <p:nvSpPr>
          <p:cNvPr id="449" name="Line 18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0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7277-E022-4AD3-9683-269CB820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7400" y="1523880"/>
            <a:ext cx="6477120" cy="44960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Principles for Fostering Crea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people apart; put people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parate areas for people to develop new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ting them back together into teams and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pr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he resources needed for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people accountable for producing creativ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 multiple r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 champ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/men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chestrator/facilita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spcBef>
                <a:spcPts val="499"/>
              </a:spcBef>
              <a:buClr>
                <a:srgbClr val="000000"/>
              </a:buClr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bre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F0B-51E6-4854-8EA5-F0DE8BAB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abling Creativity in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3" descr="WTN03f11"/>
          <p:cNvPicPr/>
          <p:nvPr/>
        </p:nvPicPr>
        <p:blipFill>
          <a:blip r:embed="rId1"/>
          <a:stretch/>
        </p:blipFill>
        <p:spPr>
          <a:xfrm>
            <a:off x="3581280" y="1447920"/>
            <a:ext cx="3657600" cy="47196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5"/>
          <p:cNvSpPr/>
          <p:nvPr/>
        </p:nvSpPr>
        <p:spPr>
          <a:xfrm>
            <a:off x="807732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249-5FF8-47B5-B4FB-A03338F8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876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 Evaluate and Select 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lative to an optimal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lative 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main effects and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selected alternative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BCB4-BB5E-4795-A626-4804FFAB4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19320"/>
            <a:ext cx="6782040" cy="4952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Model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 Implement and Follow Up on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t proper time and in the right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for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d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ongoing monito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ased on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73C-A897-4146-A5F3-810C03A0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1904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nsensus on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of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are often confused with the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1A5-D970-4EE0-9B19-7B04F8F0D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752120"/>
            <a:ext cx="6324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 are evaluated as they ar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ossible alternatives are usually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cceptable solution is usually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s are based on what was successful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e la date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7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48A-C28A-4D64-8E6E-162DFF012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93840" y="345960"/>
            <a:ext cx="1358640" cy="59025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 on the Analytical Problem-Solving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 and Select an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alternatives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information occurs close to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information is constrained by o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 is cos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 for the best alternatives are not alway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286000" y="6248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4674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7924680" y="6324480"/>
            <a:ext cx="152640" cy="1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53280" y="6248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39:52Z</dcterms:created>
  <dc:creator>SAMIHA MJAHED</dc:creator>
  <dc:description/>
  <dc:language>en-US</dc:language>
  <cp:lastModifiedBy>Asus</cp:lastModifiedBy>
  <dcterms:modified xsi:type="dcterms:W3CDTF">2017-03-23T05:06:18Z</dcterms:modified>
  <cp:revision>49</cp:revision>
  <dc:subject/>
  <dc:title>Slide 1</dc:title>
</cp:coreProperties>
</file>