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13716000" cy="9144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96720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5161372-CC14-4967-B340-D0017B4F6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B7B3A69-3218-4A92-995D-CCE40FBF6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D1E8CB0-46D1-41DA-A208-649CE7832C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AF2A025-614C-4857-BE80-5AB0E87B64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02F5205-8CAD-4056-8019-EA1CB211DE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7D17790-F638-4452-9AD2-69039F1C4F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75B69CB-2A59-4ED2-AD71-437F2D2BDA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9549D47-C547-4063-A80C-A36F0BC67C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1F6CC55-C2DF-4685-8746-5734B01BFE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FECF4A2-9384-44B6-9D42-8579F77E29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B7B01A6-D76C-4AA8-9D67-D0999765E1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56E5A80-4EA5-4D98-A839-749D6D2A8C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35E2960-CD4F-44EB-B2FD-5187F44E8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2812645-3D9D-412F-B573-0ED32C22BE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84798B3-A2DE-43D5-8C56-72B8443359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125BF42-0415-456F-8088-23078602F6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1677957-E7B5-4319-962F-A435FA42FA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732EF0B-093C-42A6-A7C2-BFDAE70126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BE2F593-0F7C-451D-B3F2-36DB3B0249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BBB41EE-6D2D-4C55-9B75-5826F0ECAD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00AF549-6BF7-477F-8617-E209912C2D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7F4373B-9CAD-4913-B83C-F9ADB475A5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09600" y="479916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3516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8344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55728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0960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538344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955728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369360"/>
            <a:ext cx="1234440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3516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209600" y="479916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53516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8344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55728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20960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538344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955728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9360"/>
            <a:ext cx="1234440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3516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428760" y="0"/>
            <a:ext cx="1793880" cy="1211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32508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530440" indent="-32544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30440" indent="-32544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530440" indent="-32544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343080" cy="30481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685800" y="1147680"/>
            <a:ext cx="1211580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320" rIns="130320" tIns="-65160" bIns="-65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3048120"/>
            <a:ext cx="343080" cy="3047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095880"/>
            <a:ext cx="343080" cy="30481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035040" y="8818560"/>
            <a:ext cx="13701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15.</a:t>
            </a:r>
            <a:fld id="{0033E506-499A-455B-B80E-FE25740198C8}" type="slidenum">
              <a:rPr b="1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9734400" y="8783640"/>
            <a:ext cx="407052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Silberschatz, Galvin and Gagne ©201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301680" y="8827920"/>
            <a:ext cx="458100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Operating System Concepts Essentials– 8</a:t>
            </a:r>
            <a:r>
              <a:rPr b="1" lang="en-US" sz="1400" spc="-1" strike="noStrike" baseline="30000">
                <a:solidFill>
                  <a:srgbClr val="00669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11661840" y="7799400"/>
            <a:ext cx="192564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298440" y="3948120"/>
            <a:ext cx="12915720" cy="267840"/>
            <a:chOff x="298440" y="3948120"/>
            <a:chExt cx="12915720" cy="267840"/>
          </a:xfrm>
        </p:grpSpPr>
        <p:sp>
          <p:nvSpPr>
            <p:cNvPr id="48" name="Rectangle 4"/>
            <p:cNvSpPr/>
            <p:nvPr/>
          </p:nvSpPr>
          <p:spPr>
            <a:xfrm>
              <a:off x="298440" y="3948120"/>
              <a:ext cx="4305240" cy="26784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4603680" y="3948120"/>
              <a:ext cx="4305240" cy="2678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8908920" y="3948120"/>
              <a:ext cx="4305240" cy="26784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9734400" y="8783640"/>
            <a:ext cx="407052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Silberschatz, Galvin and Gagne ©201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4080" y="8818560"/>
            <a:ext cx="463140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Operating System Concepts Essentials – 8</a:t>
            </a:r>
            <a:r>
              <a:rPr b="1" lang="en-US" sz="1400" spc="-1" strike="noStrike" baseline="30000">
                <a:solidFill>
                  <a:srgbClr val="33669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5041800" y="5543640"/>
            <a:ext cx="3092400" cy="212544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4836960" y="5367240"/>
            <a:ext cx="3505320" cy="2481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0320" rIns="130320" tIns="65160" bIns="65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32508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530440" indent="-32544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30440" indent="-32544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530440" indent="-32544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28520" y="914400"/>
            <a:ext cx="11658600" cy="28368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6699"/>
                </a:solidFill>
                <a:latin typeface="Arial"/>
              </a:rPr>
              <a:t>Chapter 3:  Windows7</a:t>
            </a:r>
            <a:br>
              <a:rPr sz="6100"/>
            </a:b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Part 2</a:t>
            </a:r>
            <a:endParaRPr b="1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68480" y="369360"/>
            <a:ext cx="1037592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Kernel — Scheduling (Cont.) 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36360" y="1644120"/>
            <a:ext cx="10094760" cy="59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can occur when a thread enters the ready or wait state, when a thread terminates, or when an application changes a thread’s priority or processor affi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threads are given preferential access to the CPU; but Windows 7 does not guarantee that a real-time thread will start to execute within any particular time lim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spatcher uses a queue for each scheduling priority and traverses the set of queues from highest to lowest until it finds a thread that is ready to r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thread has a particular processor affinity but that processor is not available, the dispatcher skips past it and continues looking for a ready thread that is willing to run on the available process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ready thread is found, the dispatcher executes a special thread calle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le thre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y class 0 is reserved for the idle th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12840" y="0"/>
            <a:ext cx="10523520" cy="11253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Exceptions and Interrupts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1405080" y="1562040"/>
            <a:ext cx="10755000" cy="64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kernel dispatcher also provides trap handling for exceptions and interrupts generated by hardware or softwar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ndows defines several architecture independent exceptions, includ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-access vio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er overflo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oating-point overflow or underflow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er divide by z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oating-point divide by z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legal instruction Data misalign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vileged instru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ge-read err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ess vio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12840" y="0"/>
            <a:ext cx="10523520" cy="11253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Exceptions and Interrupts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1405080" y="1562040"/>
            <a:ext cx="9909000" cy="33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portability, the interrupt dispatcher maps the hardware interrupts into a standard se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interrupts are prioritized and are serviced in priority ord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re are 32 interrupt request levels (IRQLs) in Window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ght are reserved for use by the kernel; the remaining 24 represent hardware interrupts via the HAL 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Windows interrupts are defined in next Figu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12840" y="0"/>
            <a:ext cx="10523520" cy="11253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Windows 7 Interrupt Request Levels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3" name="Picture 1029" descr=""/>
          <p:cNvPicPr/>
          <p:nvPr/>
        </p:nvPicPr>
        <p:blipFill>
          <a:blip r:embed="rId1"/>
          <a:stretch/>
        </p:blipFill>
        <p:spPr>
          <a:xfrm>
            <a:off x="1917720" y="1700280"/>
            <a:ext cx="10345680" cy="53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39600" y="369360"/>
            <a:ext cx="1050444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Kernel — Trap Handling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55480" y="1590480"/>
            <a:ext cx="102582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provides trap handling when exceptions and interrupts are generated by hardware of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ions that cannot be handled by the trap handler are handled by the kernel'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xception dispatc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rrupt dispatcher in the kernel handles interrupts by calling either an interrupt service routine (such as in a device driver) or an internal kernel rout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14400" y="369360"/>
            <a:ext cx="105300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Executive — Object Manager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36360" y="1644120"/>
            <a:ext cx="102726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Executiv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vides a set of services that all environmental subsystems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Objec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 entity that are manipulated by user mode programs for managing kernel mode entities. Ex: process threads, event files, semaph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7 uses objects for all its services and entities; the object manager supervises the use of all th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s an obj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nd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ed by applications to refer to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s track of which processes are using each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 are manipulated by a standard set of methods, namel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reate, open, close, delete, query-name, pa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cu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44480" y="369360"/>
            <a:ext cx="1069992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Executive — Naming Objects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54000" y="1696680"/>
            <a:ext cx="10171080" cy="65912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indows executive allows any object to be given a name, which may be either permanent or tempor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 names are structured like file path names in UN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implement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mbolic link o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similar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mbolic lin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UNIX that allow multiple nicknames or aliases to refer to the same o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object is protected by an access control 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Executive — Process Manager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54360" y="1696680"/>
            <a:ext cx="9802800" cy="59785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ervices for creating, deleting, and using threads and proces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such as parent/child relationships or process hierarchies are left to the particular environmental subsystem that owns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39600" y="369360"/>
            <a:ext cx="1050444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Executive — I/O Manager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836720" y="1644480"/>
            <a:ext cx="10183680" cy="67233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/O manager is responsibl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2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2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2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and network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2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39600" y="369360"/>
            <a:ext cx="1050444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Executive — I/O Manager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28720" y="1317240"/>
            <a:ext cx="10182240" cy="67215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I/O manager receives a file’s user-level read request, the I/O manager sends an IRP to the I/O stack for the volume on which the file res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files that are marked as cacheable, the file system calls the cache manager to lookup the requested data in its cached file view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che manager calculates which entry of that file’s VACB index array corresponds to the byte offset of the reque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try either points to the view in the cache or is inval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is invalid, the cache manager allocates a cache block (and the corresponding entry in the VACB array) and maps the view into the cache bloc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che manager then attempts to copy data from the mapped file to the caller’s buff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50640" y="369360"/>
            <a:ext cx="1023156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Arial"/>
              </a:rPr>
              <a:t>Chapter 3:  Windows7</a:t>
            </a:r>
            <a:endParaRPr b="1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1714680"/>
            <a:ext cx="9877320" cy="6457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System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Sub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39600" y="369360"/>
            <a:ext cx="1050444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Executive — I/O Manager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28720" y="1317240"/>
            <a:ext cx="10182240" cy="67215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copy succeeds, the operation is comp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copy fails, it does so because of a page fault, which causes the VM manager to send a non cached read request to the I/O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/O manager sends another request down the driver stack, this time requesting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g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, which bypasses the cache manager and reads the data from the file directly into the page allocated for the cache manag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on completion, the VACB is set to point at the page. The data, now in the cache, are copied to the caller’s buffer, and the original I/O request is comple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Figure shows an overview of these op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File I/O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9" name="Picture 1030" descr=""/>
          <p:cNvPicPr/>
          <p:nvPr/>
        </p:nvPicPr>
        <p:blipFill>
          <a:blip r:embed="rId1"/>
          <a:stretch/>
        </p:blipFill>
        <p:spPr>
          <a:xfrm>
            <a:off x="2690640" y="1392120"/>
            <a:ext cx="7905960" cy="59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77760" y="0"/>
            <a:ext cx="10466280" cy="11541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Executive – PnP and Power Managers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836360" y="1644120"/>
            <a:ext cx="1024092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P (Plug-and-Play) manager is used to recognize and adapt to changes in the hardware configu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new devices are added (for example, PCI or USB), the PnP manager loads the appropriate dr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P also keeps track of the resources used by each de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wer manager controls energy use of by the CPU and de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s for devices not being used are told to shut off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s are run at lower clock rate and/or lower energy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n be put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b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de with only memory on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berna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writing the contents of memory to disk and turning the system completely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28520" y="914400"/>
            <a:ext cx="11658600" cy="28368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6699"/>
                </a:solidFill>
                <a:latin typeface="Arial"/>
              </a:rPr>
              <a:t>System Components</a:t>
            </a:r>
            <a:endParaRPr b="1" lang="en-US" sz="61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Windows Architecture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36360" y="1644120"/>
            <a:ext cx="10207800" cy="6342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ed system of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Protected mode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three components: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hardware abstraction lay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H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kernel, execu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lnSpc>
                <a:spcPct val="15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ve includes file systems, network stack, and device dri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User mode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 of subsystems, services, DLLs, and the 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lnSpc>
                <a:spcPct val="15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 subsystems emulate different operating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lnSpc>
                <a:spcPct val="15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subsystems provide security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lnSpc>
                <a:spcPct val="15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services provide facilities for networking, device interfaces, background execution, and extension of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lnSpc>
                <a:spcPct val="15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 shared libraries with thousands of APIs are implemented using DLLs to allow code sharing and simplify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lnSpc>
                <a:spcPct val="15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raphical user interface is built into Win32 and used by most programs that interact directly with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33280" y="0"/>
            <a:ext cx="10310760" cy="11383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Windows 7 Architecture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7" name="Picture 12" descr=""/>
          <p:cNvPicPr/>
          <p:nvPr/>
        </p:nvPicPr>
        <p:blipFill>
          <a:blip r:embed="rId1"/>
          <a:stretch/>
        </p:blipFill>
        <p:spPr>
          <a:xfrm>
            <a:off x="2408400" y="1341360"/>
            <a:ext cx="909936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836360" y="1631520"/>
            <a:ext cx="10226520" cy="66531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ation for the executive and the sub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paged out of memory; execution is never preem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main responsibiliti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 schedu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rupt and exception hand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-level processor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 after a power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is object-oriented, uses two sets of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atcher objects control dispatching and synchronization (events, mutants, mutexes, semaphores, threads and timer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 objects (asynchronous procedure calls, interrupts, power notify, process and profile obje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2084400" y="369360"/>
            <a:ext cx="102600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System Components — Kernel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55520" y="369360"/>
            <a:ext cx="1038852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Kernel — Process and Threads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36360" y="1644120"/>
            <a:ext cx="1028556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 has a virtual memory address space, information (such as a base priority), and an affinity for one or more process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 are the unit of execution scheduled by the kernel’s dispatc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hread has its own state, including a priority, processor affinity, and accounting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55520" y="369360"/>
            <a:ext cx="1038852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Kernel — Process and Threads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36360" y="1644120"/>
            <a:ext cx="1028556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hread can be one of six states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ad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standby, running, waiting, trans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rmin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ad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s that the thread is waiting to r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ghest-priority ready thread is moved 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b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, which means it is the next thread to run. In a multiprocessor system, each processor keeps one thread in a standby st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hread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un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t is executing on a processor. It runs until it is preempted by a higher-priority thread, until it terminates, until its allotted execution time (quantum) ends, or until it waits on a dispatcher object, such as an event signaling I/O comple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hread is i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ait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when it is waiting for a dispatcher object to be signal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hread is i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ansi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while it waits for resources necessary for execution; for example, it may be waiting for its kernel stack to be swapped in from dis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hread enters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erminat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when it finishes exec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Kernel — Scheduling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54360" y="1696680"/>
            <a:ext cx="9550080" cy="63500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spatcher uses a 32-level priority scheme to determine the order of thread execu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ies are divided into two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al-time class contains threads with priorities ranging from 16 to 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riable class contains threads having priorities from 0 to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0"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9:54:22Z</dcterms:created>
  <dc:creator>Marilyn Turnamian</dc:creator>
  <dc:description/>
  <dc:language>en-US</dc:language>
  <cp:lastModifiedBy>Sara</cp:lastModifiedBy>
  <cp:lastPrinted>2011-05-01T21:19:35Z</cp:lastPrinted>
  <dcterms:modified xsi:type="dcterms:W3CDTF">2016-03-22T11:07:32Z</dcterms:modified>
  <cp:revision>198</cp:revision>
  <dc:subject/>
  <dc:title>No Slide Title</dc:title>
</cp:coreProperties>
</file>