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3716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720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8A1AFD-8534-4D60-B710-B9118D072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B677DB-BDD9-4DBE-959A-62B9D2EFE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C90B09-F928-4F10-AD47-628292B64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068FAF-8328-48DD-8F1F-0C4CE7300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88C288-2411-4296-935D-7AF53C847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0E7833-7630-476B-96CC-8470C2937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770CDF-A841-479E-B43D-A87587C47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5ADF57-4DE2-4E40-9DB1-754C329DD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EFC74C-FAB1-4499-AB96-DD2642D0A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02CE51-57F9-4491-A736-F61BF2F18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A9A054-38AA-46A0-8C5C-963763E7D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179D55-1B15-4531-865C-551B3EED1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1E2342-0F30-4CE6-AC0D-EF95DD518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1A8B1B-FE75-403C-94B8-3B1B73C43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1446B4-3F2A-4BF1-8FF2-F59A70BB7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F66FD0-8326-4A92-86CB-1BE1CBB6D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8FCCDA-FD9C-4F78-8978-6EE16FB50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4D0E71-0A30-417A-8315-B24D35270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D86F32-3166-4A58-9C52-1D8D5E0D6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9C63C2-845D-49FE-A4D8-A5ADBAD1C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987084-1372-4AD3-BFA2-00AE734DA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FC95E3-6C10-49C1-8181-375560215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428760" y="0"/>
            <a:ext cx="1793880" cy="1211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85800" y="1147680"/>
            <a:ext cx="1211580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320" rIns="130320" tIns="-65160" bIns="-65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048120"/>
            <a:ext cx="343080" cy="3047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09588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035040" y="8818560"/>
            <a:ext cx="13701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15.</a:t>
            </a:r>
            <a:fld id="{AAF622C9-6380-4100-8EA0-16D851279724}" type="slidenum">
              <a:rPr b="1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301680" y="8827920"/>
            <a:ext cx="4581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Operating System Concepts Essentials– 8</a:t>
            </a:r>
            <a:r>
              <a:rPr b="1" lang="en-US" sz="1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11661840" y="7799400"/>
            <a:ext cx="192564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298440" y="3948120"/>
            <a:ext cx="12915720" cy="267840"/>
            <a:chOff x="298440" y="3948120"/>
            <a:chExt cx="12915720" cy="267840"/>
          </a:xfrm>
        </p:grpSpPr>
        <p:sp>
          <p:nvSpPr>
            <p:cNvPr id="48" name="Rectangle 4"/>
            <p:cNvSpPr/>
            <p:nvPr/>
          </p:nvSpPr>
          <p:spPr>
            <a:xfrm>
              <a:off x="29844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4603680" y="3948120"/>
              <a:ext cx="4305240" cy="267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890892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080" y="8818560"/>
            <a:ext cx="46314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perating System Concepts Essentials – 8</a:t>
            </a:r>
            <a:r>
              <a:rPr b="1" lang="en-US" sz="14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5041800" y="5543640"/>
            <a:ext cx="3092400" cy="21254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4836960" y="5367240"/>
            <a:ext cx="3505320" cy="2481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br>
              <a:rPr sz="61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rt 2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68480" y="369360"/>
            <a:ext cx="103759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Scheduling (Cont.) 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094760" cy="59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can occur when a thread enters the ready or wait state, when a thread terminates, or when an application changes a thread’s priority or processor affi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threads are given preferential access to the CPU; but Windows 7 does not guarantee that a real-time thread will start to execute within any particular time li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patcher uses a queue for each scheduling priority and traverses the set of queues from highest to lowest until it finds a thread that is ready to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thread has a particular processor affinity but that processor is not available, the dispatcher skips past it and continues looking for a ready thread that is willing to run on the available process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ready thread is found, the dispatcher executes a special thread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le thre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class 0 is reserved for the idle th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2840" y="0"/>
            <a:ext cx="10523520" cy="1125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ceptions and Interrupt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1405080" y="1562040"/>
            <a:ext cx="10755000" cy="64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kernel dispatcher also provides trap handling for exceptions and interrupts generated by hardware or softwar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dows defines several architecture independent exceptions, includ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-access 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er overf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ating-point overflow or underf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er divide by z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ating-point divide by z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legal instruction Data misalig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vileged i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ge-read 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 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2840" y="0"/>
            <a:ext cx="10523520" cy="1125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ceptions and Interrupt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405080" y="1562040"/>
            <a:ext cx="9909000" cy="33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portability, the interrupt dispatcher maps the hardware interrupts into a standard s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terrupts are prioritized and are serviced in priority or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32 interrupt request levels (IRQLs) in Window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ht are reserved for use by the kernel; the remaining 24 represent hardware interrupts via the HAL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indows interrupts are defined in next Fig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2840" y="0"/>
            <a:ext cx="10523520" cy="1125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Windows 7 Interrupt Request Level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3" name="Picture 1029" descr=""/>
          <p:cNvPicPr/>
          <p:nvPr/>
        </p:nvPicPr>
        <p:blipFill>
          <a:blip r:embed="rId1"/>
          <a:stretch/>
        </p:blipFill>
        <p:spPr>
          <a:xfrm>
            <a:off x="1917720" y="1700280"/>
            <a:ext cx="103456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9600" y="369360"/>
            <a:ext cx="105044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Trap Handl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55480" y="1590480"/>
            <a:ext cx="102582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provides trap handling when exceptions and interrupts are generated by hardware of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s that cannot be handled by the trap handler are handled by the kernel'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eption dispatc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rupt dispatcher in the kernel handles interrupts by calling either an interrupt service routine (such as in a device driver) or an internal kernel rou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14400" y="369360"/>
            <a:ext cx="105300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Object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726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ecu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s a set of services that all environmental subsystems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Objec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entity that are manipulated by user mode programs for managing kernel mode entities. Ex: process threads, event files, semaph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7 uses objects for all its services and entities; the object manager supervises the use of all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an obj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d by applications to refer to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which processes are using each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are manipulated by a standard set of methods, namel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, open, close, delete, query-name, pa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44480" y="369360"/>
            <a:ext cx="106999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Naming Object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171080" cy="6591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ndows executive allows any object to be given a name, which may be either permanent or tempo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names are structured like file path names in UN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mplement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mbolic link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similar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mbolic lin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 that allow multiple nicknames or aliases to refer to the same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is protected by an access control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Process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360" y="1696680"/>
            <a:ext cx="9802800" cy="59785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ervices for creating, deleting, and using threads and proce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such as parent/child relationships or process hierarchies are left to the particular environmental subsystem that owns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9600" y="369360"/>
            <a:ext cx="105044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I/O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36720" y="1644480"/>
            <a:ext cx="10183680" cy="6723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manager is responsibl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and network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2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9600" y="369360"/>
            <a:ext cx="105044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I/O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28720" y="1317240"/>
            <a:ext cx="10182240" cy="67215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I/O manager receives a file’s user-level read request, the I/O manager sends an IRP to the I/O stack for the volume on which the file re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les that are marked as cacheable, the file system calls the cache manager to lookup the requested data in its cached file vie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che manager calculates which entry of that file’s VACB index array corresponds to the byte offset of the requ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try either points to the view in the cache or is inval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invalid, the cache manager allocates a cache block (and the corresponding entry in the VACB array) and maps the view into the cache bl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che manager then attempts to copy data from the mapped file to the caller’s buf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0640" y="369360"/>
            <a:ext cx="1023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endParaRPr b="1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9877320" cy="6457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yste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Sub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9600" y="369360"/>
            <a:ext cx="105044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I/O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28720" y="1317240"/>
            <a:ext cx="10182240" cy="67215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py succeeds, the operation is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py fails, it does so because of a page fault, which causes the VM manager to send a non cached read request to the I/O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manager sends another request down the driver stack, this time requesting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, which bypasses the cache manager and reads the data from the file directly into the page allocated for the cache manag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completion, the VACB is set to point at the page. The data, now in the cache, are copied to the caller’s buffer, and the original I/O request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Figure shows an overview of these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File I/O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2690640" y="1392120"/>
            <a:ext cx="7905960" cy="59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77760" y="0"/>
            <a:ext cx="10466280" cy="11541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– PnP and Power Manager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4092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P (Plug-and-Play) manager is used to recognize and adapt to changes in the hardware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ew devices are added (for example, PCI or USB), the PnP manager loads the appropriate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P also keeps track of the resources used by each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wer manager controls energy use of by the CPU and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 for devices not being used are told to shut off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s are run at lower clock rate and/or lower energy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n be pu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 with only memory on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bern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riting the contents of memory to disk and turning the system completely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System Components</a:t>
            </a: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Windows Architectur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07800" cy="6342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ed system of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rotected mod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three components: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rdware abstraction lay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ernel, execu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ve includes file systems, network stack, and device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User mod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subsystems, services, DLLs, and the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subsystems emulate different operating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subsystems provide security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ervices provide facilities for networking, device interfaces, background execution, and extension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 shared libraries with thousands of APIs are implemented using DLLs to allow code sharing and simplify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aphical user interface is built into Win32 and used by most programs that interact directly with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33280" y="0"/>
            <a:ext cx="10310760" cy="1138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Windows 7 Architectur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2408400" y="1341360"/>
            <a:ext cx="90993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36360" y="1631520"/>
            <a:ext cx="10226520" cy="66531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ation for the executive and the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paged out of memory; execution is never pree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main responsibilit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and exception hand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level processor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fter a power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is object-oriented, uses two sets of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atcher objects control dispatching and synchronization (events, mutants, mutexes, semaphores, threads and tim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objects (asynchronous procedure calls, interrupts, power notify, process and profile ob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084400" y="369360"/>
            <a:ext cx="102600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System Components — Kernel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55520" y="369360"/>
            <a:ext cx="103885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Process and Thread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8556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has a virtual memory address space, information (such as a base priority), and an affinity for one or more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are the unit of execution scheduled by the kernel’s dispat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hread has its own state, including a priority, processor affinity, and accounting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5520" y="369360"/>
            <a:ext cx="103885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Process and Thread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8556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can be one of six states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standby, running, waiting, tran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r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that the thread is waiting to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ghest-priority ready thread is mov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, which means it is the next thread to run. In a multiprocessor system, each processor keeps one thread in a standby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un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is executing on a processor. It runs until it is preempted by a higher-priority thread, until it terminates, until its allotted execution time (quantum) ends, or until it waits on a dispatcher object, such as an event signaling I/O comple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when it is waiting for a dispatcher object to be signa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i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while it waits for resources necessary for execution; for example, it may be waiting for its kernel stack to be swapped in from di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enter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rmin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when it finishes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Schedul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54360" y="1696680"/>
            <a:ext cx="9550080" cy="6350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patcher uses a 32-level priority scheme to determine the order of thread execu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es are divided into two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l-time class contains threads with priorities ranging from 16 to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ble class contains threads having priorities from 0 to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>Marilyn Turnamian</dc:creator>
  <dc:description/>
  <dc:language>en-US</dc:language>
  <cp:lastModifiedBy>Sara</cp:lastModifiedBy>
  <cp:lastPrinted>2011-05-01T21:19:35Z</cp:lastPrinted>
  <dcterms:modified xsi:type="dcterms:W3CDTF">2016-03-22T11:07:32Z</dcterms:modified>
  <cp:revision>198</cp:revision>
  <dc:subject/>
  <dc:title>No Slide Title</dc:title>
</cp:coreProperties>
</file>