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3716000" cy="9144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6720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BBA95D-91C3-4CD1-B9B4-3123C79A8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341728E-59B1-4477-BDCB-98A751CA1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04B6E62-17A2-41C7-8DEA-1AA55C9783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7BC1B6-8B7F-4F91-9A4A-D81EC580F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EF3F26B-770E-47FC-AFDE-0CE4899602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D866124-8031-4E05-97C5-9B3C430F2B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58D411-9449-44CF-9860-AB96C6BE3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C45BB1-EA26-4133-B177-7F228DF6E6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90F849-7705-4B5D-A7CE-F8376871ED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BD05B87-1BDC-4C8F-92BD-EE0B35194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A563B4-DC38-4111-900A-94181EE0E4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141D60B-6C35-4977-A008-D27F290EAB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C280F5-9BF8-488C-9328-6407A77F91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8F02A18-DCE4-4E5F-9D3B-820CACA393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0F88405-6FB8-4B50-B978-BBCCEDEAF1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DA4455-7BA8-4EAD-B8B5-8E873B9E25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8344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55728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0960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538344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955728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369360"/>
            <a:ext cx="123444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8344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55728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0960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538344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955728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9360"/>
            <a:ext cx="123444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428760" y="0"/>
            <a:ext cx="1793880" cy="1211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32508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530440" indent="-32544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343080" cy="3048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685800" y="1147680"/>
            <a:ext cx="1211580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320" rIns="130320" tIns="-65160" bIns="-65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048120"/>
            <a:ext cx="343080" cy="3047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095880"/>
            <a:ext cx="343080" cy="3048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035040" y="8818560"/>
            <a:ext cx="13701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15.</a:t>
            </a:r>
            <a:fld id="{DDCD5ACA-7A3E-4DE2-B00F-715E4047FC0A}" type="slidenum">
              <a:rPr b="1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9734400" y="8783640"/>
            <a:ext cx="407052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Silberschatz, Galvin and Gagne ©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301680" y="8827920"/>
            <a:ext cx="45810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Operating System Concepts Essentials– 8</a:t>
            </a:r>
            <a:r>
              <a:rPr b="1" lang="en-US" sz="14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11661840" y="7799400"/>
            <a:ext cx="192564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298440" y="3948120"/>
            <a:ext cx="12915720" cy="267840"/>
            <a:chOff x="298440" y="3948120"/>
            <a:chExt cx="12915720" cy="267840"/>
          </a:xfrm>
        </p:grpSpPr>
        <p:sp>
          <p:nvSpPr>
            <p:cNvPr id="48" name="Rectangle 4"/>
            <p:cNvSpPr/>
            <p:nvPr/>
          </p:nvSpPr>
          <p:spPr>
            <a:xfrm>
              <a:off x="298440" y="3948120"/>
              <a:ext cx="4305240" cy="267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4603680" y="3948120"/>
              <a:ext cx="4305240" cy="2678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8908920" y="3948120"/>
              <a:ext cx="4305240" cy="267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9734400" y="8783640"/>
            <a:ext cx="407052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Silberschatz, Galvin and Gagne ©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080" y="8818560"/>
            <a:ext cx="46314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Operating System Concepts Essentials – 8</a:t>
            </a:r>
            <a:r>
              <a:rPr b="1" lang="en-US" sz="14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5041800" y="5543640"/>
            <a:ext cx="3092400" cy="212544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4836960" y="5367240"/>
            <a:ext cx="3505320" cy="2481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0320" rIns="130320" tIns="65160" bIns="65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32508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530440" indent="-32544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11658600" cy="2836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99"/>
                </a:solidFill>
                <a:latin typeface="Arial"/>
              </a:rPr>
              <a:t>Chapter 3:  Windows7</a:t>
            </a:r>
            <a:br>
              <a:rPr sz="6100"/>
            </a:b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art 4</a:t>
            </a:r>
            <a:endParaRPr b="1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93960" y="556920"/>
            <a:ext cx="10585440" cy="609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Networking — </a:t>
            </a:r>
            <a:br>
              <a:rPr sz="3700"/>
            </a:b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Distributed Processing Mechanisms</a:t>
            </a:r>
            <a:endParaRPr b="1" lang="en-US" sz="3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54000" y="1697040"/>
            <a:ext cx="10179000" cy="69278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Named pi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nnection-oriented messaging mech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can use named pipes to communicate with other processes on the same mach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named pipes are accessed through the file-system interface, the security mechanisms used for file objects also apply to named pi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spcBef>
                <a:spcPts val="437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Remote Procedure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mote procedure call (RPC) is a client–server mechanism that enables an application on one machine to make a procedure call to code on another mach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71280" y="254160"/>
            <a:ext cx="10363320" cy="9633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Networking — Redirectors and Servers</a:t>
            </a:r>
            <a:endParaRPr b="1" lang="en-US" sz="3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54360" y="1696680"/>
            <a:ext cx="9612000" cy="59785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indows, an application can use the Windows I/O API to access files from a remote computer as though they were local, provided that the remote computer is running a CIFS server such as is provided by Window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irec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lient-side object that forwards I/O requests to a remote system, where they are satisfied by a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erformance and security, the redirectors and servers run in kernel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12800" y="446040"/>
            <a:ext cx="10972800" cy="7682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Access to a Remote File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06200" y="1213920"/>
            <a:ext cx="11053800" cy="72932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re detail, access to a remote file occurs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lication calls the I/O manager to request that a file be opened with a file name in the standard UNC form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/O manager builds an I/O request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/O manager recognizes that the access is for a remote file and calls a driver called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universal-naming-convention provider (MUP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P sends the I/O request packet asynchronously to all registered redire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director that can satisfy the request responds to the MUP. To avoid asking all the redirectors the same question in the future, the MUP uses a cache to remember which redirector can handle thi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68480" y="369360"/>
            <a:ext cx="1037592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Access to a Remote File (Cont.)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36360" y="1644120"/>
            <a:ext cx="10147320" cy="6024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director sends the network request to the remot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mote-system network drivers receive the request and pass it to the server d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rver driver hands the request to the proper local file-system d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er device driver is called to access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s are returned to the server driver, which sends the data back to the requesting redirector. The redirector then returns the data to the calling application via the I/O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46240" y="369360"/>
            <a:ext cx="1029816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Networking — Domain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36720" y="1644120"/>
            <a:ext cx="10113840" cy="59756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ndows domain is a group of Windows workstations and servers that share a common security policy and user data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0400" y="393480"/>
            <a:ext cx="10769760" cy="8125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Name Resolution in </a:t>
            </a:r>
            <a:r>
              <a:rPr b="0" lang="en-US" sz="4600" spc="-1" strike="noStrike">
                <a:solidFill>
                  <a:srgbClr val="006699"/>
                </a:solidFill>
                <a:latin typeface="Arial"/>
              </a:rPr>
              <a:t>TCP/IP</a:t>
            </a: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 Network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54360" y="1697040"/>
            <a:ext cx="10269360" cy="54864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n IP network, name resolution is the process of converting a computer name to an IP addres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ww.bell-labs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olve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35.104.1.14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7 provides several methods of name re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Internet Name Service (W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name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name system (D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ost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LMHOSTS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64800" y="369360"/>
            <a:ext cx="1047924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Active Directory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54360" y="1661760"/>
            <a:ext cx="10121760" cy="5956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Directory stores the topology information about the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the domain-based user and group accounts and passwords, and provides a domain-based store for Windows features that need it, such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 group poli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tors use group policies to establish uniform standards for desktop preferences and softwa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50640" y="369360"/>
            <a:ext cx="1023156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Arial"/>
              </a:rPr>
              <a:t>Chapter 3:  Windows7</a:t>
            </a:r>
            <a:endParaRPr b="1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1714680"/>
            <a:ext cx="9877320" cy="6457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Sub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11658600" cy="2836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99"/>
                </a:solidFill>
                <a:latin typeface="Arial"/>
              </a:rPr>
              <a:t>Networking</a:t>
            </a:r>
            <a:endParaRPr b="1" lang="en-US" sz="61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Networking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54000" y="1696680"/>
            <a:ext cx="10320120" cy="65199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supports both peer-to-peer and client–server networ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lso has facilities for network manage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tworking components in Windows provide data transport, interprocess communication, file sharing across a network, and the ability to send print jobs to remote prin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networking in Windows, we refer to two of the internal networking interfa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NDIS (Network Device Interface Spec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TDI (Transport Driver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Networking — Network Interface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54360" y="1696680"/>
            <a:ext cx="10750320" cy="65199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NDIS (Network Device Interface Specificati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DIS interface was developed in 1989 by Microsoft and 3Com to separate network adapters from transport protocols so that either could be changed without affecting the o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IS resides at the interface between the data-link and network layers in the ISO mod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IS enables many protocols to operate over many different network adap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TDI (Transport Driver Interfac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DI is the interface between the transport layer (layer 4) and the session layer (layer 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terface enables any session-layer component to use any available transport mech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DI supports both connection-based and connectionless transport and has functions to send any type of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82480" y="369360"/>
            <a:ext cx="996156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Networking — Protocol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36720" y="1644120"/>
            <a:ext cx="10234800" cy="6805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implements transport protocols as d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drivers can be loaded and unloaded from the system dynamically, although in practice the system typically has to be rebooted after a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comes with several networking protoc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82480" y="369360"/>
            <a:ext cx="996156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Networking — Protocol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36720" y="1644120"/>
            <a:ext cx="10234800" cy="6805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The server message block (SMB) protoc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send I/O requests over the network.  It has four message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ession control messag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commands that start and end a redirector connection to a shared resource at the serv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File messag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director uses File messages to access files at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Printer messag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used to send data to a remote print queue and to receive status information from the queu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Message messag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used to communicate with another works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06640" y="369360"/>
            <a:ext cx="1033776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Networking — Protocols (Cont.)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54000" y="1697040"/>
            <a:ext cx="10071000" cy="65023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Transmission Control Protocol/Internet Protoc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/IP Internet protocol to connect to a wide variety of operating systems and hardware platforms, including wireless networks such as WiFi or 3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PPTP (Point-to-Point Tunneling Protocol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protocol provided by Windows to communicate between remote-access server modules running on Windows server machines and other client systems that are connected over the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lnSpc>
                <a:spcPct val="150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HTTP Protoco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ttp protocol is used to get/put information using the World-Wide We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06640" y="369360"/>
            <a:ext cx="1033776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Networking — Protocols (Cont.)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54000" y="1697040"/>
            <a:ext cx="10071000" cy="65023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Web-Distributed Authoring and Versioning Protoc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-distributed authoring and versioning (WebDAV) is an http-based protocol for collaborative authoring across a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9:54:22Z</dcterms:created>
  <dc:creator>Marilyn Turnamian</dc:creator>
  <dc:description/>
  <dc:language>en-US</dc:language>
  <cp:lastModifiedBy>Sara</cp:lastModifiedBy>
  <cp:lastPrinted>2011-05-01T21:19:35Z</cp:lastPrinted>
  <dcterms:modified xsi:type="dcterms:W3CDTF">2016-04-11T09:43:19Z</dcterms:modified>
  <cp:revision>223</cp:revision>
  <dc:subject/>
  <dc:title>No Slide Title</dc:title>
</cp:coreProperties>
</file>