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3716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720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2C62C7-D60B-4E64-AA31-295D7F39E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AB6CE7-6D6D-456A-9612-163727ACA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047317-0570-41CA-88ED-30F908FC3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3AE37A-6723-4E42-A974-6996300C6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1FF0828-D497-4C8C-A0A4-1841C32AE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E1DB80-FE1B-40F4-9F6D-7FC0300F2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F5F967-1573-4633-A8C7-F316E86B0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B871C5-9E28-4671-8D45-13BD84CF5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09746F0-A29A-405E-8386-B66A512DC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64A954-A490-487D-8C7E-A096960DB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6F5093-D6A8-4D49-8F0D-2A8B07FFFE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FE7B5D-A349-4D34-9A06-2F581163B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5B540C-CB00-452A-AD3C-F23D567E2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C0E2E5-48A2-4EE8-9A5F-4BD31E5309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F4B82C-4FEF-4628-9ECA-5DC612C7F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C4A3EC-270C-48DD-834F-AD5166A2E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428760" y="0"/>
            <a:ext cx="1793880" cy="1211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85800" y="1147680"/>
            <a:ext cx="1211580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320" rIns="130320" tIns="-65160" bIns="-65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048120"/>
            <a:ext cx="343080" cy="3047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09588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035040" y="8818560"/>
            <a:ext cx="13701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15.</a:t>
            </a:r>
            <a:fld id="{81363966-8D61-4935-A0AA-6707D491D11C}" type="slidenum">
              <a:rPr b="1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301680" y="8827920"/>
            <a:ext cx="4581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Operating System Concepts Essentials– 8</a:t>
            </a:r>
            <a:r>
              <a:rPr b="1" lang="en-US" sz="1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11661840" y="7799400"/>
            <a:ext cx="192564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298440" y="3948120"/>
            <a:ext cx="12915720" cy="267840"/>
            <a:chOff x="298440" y="3948120"/>
            <a:chExt cx="12915720" cy="267840"/>
          </a:xfrm>
        </p:grpSpPr>
        <p:sp>
          <p:nvSpPr>
            <p:cNvPr id="48" name="Rectangle 4"/>
            <p:cNvSpPr/>
            <p:nvPr/>
          </p:nvSpPr>
          <p:spPr>
            <a:xfrm>
              <a:off x="29844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4603680" y="3948120"/>
              <a:ext cx="4305240" cy="267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890892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080" y="8818560"/>
            <a:ext cx="46314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perating System Concepts Essentials – 8</a:t>
            </a:r>
            <a:r>
              <a:rPr b="1" lang="en-US" sz="14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5041800" y="5543640"/>
            <a:ext cx="3092400" cy="21254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4836960" y="5367240"/>
            <a:ext cx="3505320" cy="2481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br>
              <a:rPr sz="61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rt 4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93960" y="556920"/>
            <a:ext cx="1058544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Networking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Distributed Processing Mechanisms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10179000" cy="6927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Named pi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nnection-oriented messaging mech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can use named pipes to communicate with other processes on the same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named pipes are accessed through the file-system interface, the security mechanisms used for file objects also apply to named pi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437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Remote Procedure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mote procedure call (RPC) is a client–server mechanism that enables an application on one machine to make a procedure call to code on another mach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71280" y="254160"/>
            <a:ext cx="10363320" cy="963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Networking — Redirectors and Servers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54360" y="1696680"/>
            <a:ext cx="9612000" cy="59785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indows, an application can use the Windows I/O API to access files from a remote computer as though they were local, provided that the remote computer is running a CIFS server such as is provided by Windo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ire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lient-side object that forwards I/O requests to a remote system, where they are satisfied by a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formance and security, the redirectors and servers run in kernel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2800" y="446040"/>
            <a:ext cx="10972800" cy="768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Access to a Remote Fil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6200" y="1213920"/>
            <a:ext cx="11053800" cy="7293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re detail, access to a remote file occur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ication calls the I/O manager to request that a file be opened with a file name in the standard UNC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manager builds an I/O request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manager recognizes that the access is for a remote file and calls a driver calle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universal-naming-convention provider (MUP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P sends the I/O request packet asynchronously to all registered redir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director that can satisfy the request responds to the MUP. To avoid asking all the redirectors the same question in the future, the MUP uses a cache to remember which redirector can handle thi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68480" y="369360"/>
            <a:ext cx="103759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Access to a Remote File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147320" cy="6024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director sends the network request to the remot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ote-system network drivers receive the request and pass it to the server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driver hands the request to the proper local file-system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er device driver is called to access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s are returned to the server driver, which sends the data back to the requesting redirector. The redirector then returns the data to the calling application via the I/O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46240" y="369360"/>
            <a:ext cx="102981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Domain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36720" y="1644120"/>
            <a:ext cx="10113840" cy="59756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dows domain is a group of Windows workstations and servers that share a common security policy and user databa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60400" y="393480"/>
            <a:ext cx="10769760" cy="8125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ame Resolution in </a:t>
            </a:r>
            <a:r>
              <a:rPr b="0" lang="en-US" sz="4600" spc="-1" strike="noStrike">
                <a:solidFill>
                  <a:srgbClr val="006699"/>
                </a:solidFill>
                <a:latin typeface="Arial"/>
              </a:rPr>
              <a:t>TCP/IP</a:t>
            </a: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 Network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54360" y="1697040"/>
            <a:ext cx="10269360" cy="54864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an IP network, name resolution is the process of converting a computer name to an IP addres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ww.bell-lab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olve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35.104.1.14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7 provides several methods of name re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nternet Name Service (W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name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name system (D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ost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LMHOSTS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64800" y="369360"/>
            <a:ext cx="104792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Active Directory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54360" y="1661760"/>
            <a:ext cx="10121760" cy="5956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Directory stores the topology information about the dom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he domain-based user and group accounts and passwords, and provides a domain-based store for Windows features that need it, such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 group poli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ors use group policies to establish uniform standards for desktop preferences and softw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0640" y="369360"/>
            <a:ext cx="1023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endParaRPr b="1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9877320" cy="6457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Sub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Networking</a:t>
            </a: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320120" cy="65199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upports both peer-to-peer and client–server net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has facilities for network manag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tworking components in Windows provide data transport, interprocess communication, file sharing across a network, and the ability to send print jobs to remote prin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networking in Windows, we refer to two of the internal networking interf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NDIS (Network Device Interface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DI (Transport Driver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Network Interface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54360" y="1696680"/>
            <a:ext cx="10750320" cy="65199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NDIS (Network Device Interface Specificatio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DIS interface was developed in 1989 by Microsoft and 3Com to separate network adapters from transport protocols so that either could be changed without affecting the oth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IS resides at the interface between the data-link and network layers in the ISO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IS enables many protocols to operate over many different network adap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DI (Transport Driver Interfac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DI is the interface between the transport layer (layer 4) and the session layer (layer 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terface enables any session-layer component to use any available transport mech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DI supports both connection-based and connectionless transport and has functions to send any type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82480" y="369360"/>
            <a:ext cx="996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Protocol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36720" y="1644120"/>
            <a:ext cx="10234800" cy="6805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mplements transport protocols as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drivers can be loaded and unloaded from the system dynamically, although in practice the system typically has to be rebooted after a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comes with several networking protoc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82480" y="369360"/>
            <a:ext cx="996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Protocol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36720" y="1644120"/>
            <a:ext cx="10234800" cy="6805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he server message block (SMB)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send I/O requests over the network.  It has four messag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Session control mess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commands that start and end a redirector connection to a shared resource at the ser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File mess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director uses File messages to access files at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Printer mess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used to send data to a remote print queue and to receive status information from the queu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Message messag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used to communicate with another work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06640" y="369360"/>
            <a:ext cx="103377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Protocols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10071000" cy="6502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ransmission Control Protocol/Internet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/IP Internet protocol to connect to a wide variety of operating systems and hardware platforms, including wireless networks such as WiFi or 3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PPTP (Point-to-Point Tunneling Protocol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protocol provided by Windows to communicate between remote-access server modules running on Windows server machines and other client systems that are connected over the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HTTP Protoco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ttp protocol is used to get/put information using the World-Wide We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06640" y="369360"/>
            <a:ext cx="103377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Networking — Protocols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10071000" cy="6502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Web-Distributed Authoring and Versioning Protoc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distributed authoring and versioning (WebDAV) is an http-based protocol for collaborative authoring across a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>Marilyn Turnamian</dc:creator>
  <dc:description/>
  <dc:language>en-US</dc:language>
  <cp:lastModifiedBy>Sara</cp:lastModifiedBy>
  <cp:lastPrinted>2011-05-01T21:19:35Z</cp:lastPrinted>
  <dcterms:modified xsi:type="dcterms:W3CDTF">2016-04-11T09:43:19Z</dcterms:modified>
  <cp:revision>223</cp:revision>
  <dc:subject/>
  <dc:title>No Slide Title</dc:title>
</cp:coreProperties>
</file>