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349A81-60C2-4736-9380-DBBF1F438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43A6B8-0CF7-47F5-A036-EA6C0332C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1ED6AB-CB2F-4CBA-A93C-7F2FC26EF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0831DA-A5CF-468D-B4FC-830C39AFD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927930-931A-4DF2-B00A-148B3B5B6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56C31C-C92B-4EDD-AF18-86D669B0F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377A6FD-A82A-47EA-98EE-F9008D77E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16F4E4-DE37-41AC-A84B-E6C20D4DC4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11FA61-DE9B-45A4-91DF-2C3E0D8B7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126996-1CCF-4A6E-88B4-EEFAC3AB7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F89D2F-9550-4087-892F-E479D956D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8E5A69-88CE-420F-BB04-674D670336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1E8BD5-E24D-4D40-8B28-3078CD062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3593D9-F0BE-4EB1-8C4F-BD588CE7F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2C43B193-69D0-43D7-918A-01EACCFA860D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5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07840" y="369360"/>
            <a:ext cx="106362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read Scheduling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54360" y="1697040"/>
            <a:ext cx="10113840" cy="6626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ber is user-mode code that gets scheduled according to a user-defined scheduling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includes fibers to facilitate the porting of legacy UNIX applications that are written for a fiber execution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s are implemented purely in user mode by multiplexing the fibers onto true Windows th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612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 Scheduling was introduced into Windows 7 to provide support for the Visual Studio 2010 Concurrency RunTime (Conc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S allows the user portion of a Windows thread to block in user-mode and the CPU to be switched to another user-mode thread without having to enter protected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kernel portion of a Windows thread blocks in the OS, the CPU is returned to the user-mode scheduler for re-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ystem calls complete, the user-mode scheduler is notified so it can again schedule the blocked thread for exec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07840" y="369360"/>
            <a:ext cx="106362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User Mode Scheduling (UMS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1741320" y="4267080"/>
            <a:ext cx="105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033640" y="375912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184480" y="426708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232240" y="2743200"/>
            <a:ext cx="3353040" cy="132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384880" y="3538440"/>
            <a:ext cx="30477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ad Par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5334120" y="2844720"/>
            <a:ext cx="914400" cy="60984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451560" y="2844720"/>
            <a:ext cx="914400" cy="60984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7569360" y="2844720"/>
            <a:ext cx="914400" cy="60984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6654960" y="4470480"/>
            <a:ext cx="335268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 Completion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1226960" y="3048120"/>
            <a:ext cx="1218960" cy="812520"/>
          </a:xfrm>
          <a:prstGeom prst="rect">
            <a:avLst/>
          </a:prstGeom>
          <a:solidFill>
            <a:srgbClr val="ffff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1937960" y="386064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1937960" y="5994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9397800" y="5994360"/>
            <a:ext cx="2539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9296280" y="6908760"/>
            <a:ext cx="914400" cy="609480"/>
          </a:xfrm>
          <a:prstGeom prst="rect">
            <a:avLst/>
          </a:prstGeom>
          <a:solidFill>
            <a:srgbClr val="ff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9194760" y="6197760"/>
            <a:ext cx="60948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8991720" y="6299280"/>
            <a:ext cx="40644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7873920" y="7213680"/>
            <a:ext cx="914400" cy="609480"/>
          </a:xfrm>
          <a:prstGeom prst="rect">
            <a:avLst/>
          </a:prstGeom>
          <a:solidFill>
            <a:srgbClr val="ff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8280360" y="6502320"/>
            <a:ext cx="101520" cy="71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7"/>
          <p:cNvSpPr/>
          <p:nvPr/>
        </p:nvSpPr>
        <p:spPr>
          <a:xfrm>
            <a:off x="7975440" y="6502320"/>
            <a:ext cx="0" cy="711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28"/>
          <p:cNvSpPr/>
          <p:nvPr/>
        </p:nvSpPr>
        <p:spPr>
          <a:xfrm>
            <a:off x="4013280" y="5181480"/>
            <a:ext cx="914400" cy="609840"/>
          </a:xfrm>
          <a:prstGeom prst="rect">
            <a:avLst/>
          </a:prstGeom>
          <a:solidFill>
            <a:srgbClr val="ffff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9"/>
          <p:cNvSpPr/>
          <p:nvPr/>
        </p:nvSpPr>
        <p:spPr>
          <a:xfrm flipH="1" flipV="1">
            <a:off x="4927680" y="5486040"/>
            <a:ext cx="1727280" cy="50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30"/>
          <p:cNvSpPr/>
          <p:nvPr/>
        </p:nvSpPr>
        <p:spPr>
          <a:xfrm rot="16758000">
            <a:off x="8053560" y="5164200"/>
            <a:ext cx="480960" cy="201600"/>
          </a:xfrm>
          <a:prstGeom prst="rightArrow">
            <a:avLst>
              <a:gd name="adj1" fmla="val 50000"/>
              <a:gd name="adj2" fmla="val 5964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15"/>
          <p:cNvSpPr/>
          <p:nvPr/>
        </p:nvSpPr>
        <p:spPr>
          <a:xfrm>
            <a:off x="6654960" y="5486400"/>
            <a:ext cx="2743200" cy="1015920"/>
          </a:xfrm>
          <a:prstGeom prst="ellipse">
            <a:avLst/>
          </a:prstGeom>
          <a:solidFill>
            <a:srgbClr val="d1ff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-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31"/>
          <p:cNvSpPr/>
          <p:nvPr/>
        </p:nvSpPr>
        <p:spPr>
          <a:xfrm flipH="1" flipV="1">
            <a:off x="4114440" y="4064040"/>
            <a:ext cx="304920" cy="11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32"/>
          <p:cNvSpPr/>
          <p:nvPr/>
        </p:nvSpPr>
        <p:spPr>
          <a:xfrm>
            <a:off x="3301920" y="3454560"/>
            <a:ext cx="1727280" cy="609480"/>
          </a:xfrm>
          <a:prstGeom prst="ellipse">
            <a:avLst/>
          </a:prstGeom>
          <a:solidFill>
            <a:srgbClr val="bef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p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33"/>
          <p:cNvSpPr/>
          <p:nvPr/>
        </p:nvSpPr>
        <p:spPr>
          <a:xfrm flipV="1">
            <a:off x="5842080" y="2133360"/>
            <a:ext cx="30456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34"/>
          <p:cNvSpPr/>
          <p:nvPr/>
        </p:nvSpPr>
        <p:spPr>
          <a:xfrm>
            <a:off x="5740560" y="1625760"/>
            <a:ext cx="2743200" cy="609480"/>
          </a:xfrm>
          <a:prstGeom prst="ellipse">
            <a:avLst/>
          </a:prstGeom>
          <a:solidFill>
            <a:srgbClr val="bef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TOS execu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35"/>
          <p:cNvSpPr/>
          <p:nvPr/>
        </p:nvSpPr>
        <p:spPr>
          <a:xfrm flipV="1">
            <a:off x="4622760" y="3149280"/>
            <a:ext cx="7113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36"/>
          <p:cNvSpPr/>
          <p:nvPr/>
        </p:nvSpPr>
        <p:spPr>
          <a:xfrm>
            <a:off x="8483760" y="1930320"/>
            <a:ext cx="274320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9296280" y="2031840"/>
            <a:ext cx="1930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lock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1270080" y="6307200"/>
            <a:ext cx="6400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ly primary thread runs in user-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p code switches to parked K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T block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primary returns to user-m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T unblocks &amp; park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queue UT comple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7772400" y="2133720"/>
            <a:ext cx="203040" cy="711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8483760" y="3149640"/>
            <a:ext cx="812520" cy="1320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17840" y="610920"/>
            <a:ext cx="1085184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Interprocess Communication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179000" cy="64832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 applications can have interprocess communication by sharing kernel objects, including shared memory sections and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ternate means of interprocess communications is message passing, which is particularly popular for Windows GUI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hread sends a message to another thread or to a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can also send data with the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Win32 thread has its own input queue from which the thread receives mess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38000" y="550800"/>
            <a:ext cx="10985400" cy="6098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54000" y="1661760"/>
            <a:ext cx="10235880" cy="5646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Allo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rves or commits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rtual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ommits or releases th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unctions enable the application to determine the virtual address at which the memory i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can use memory by memory mapping a file into its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stag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processes share memory by mapping the same file into their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827360" y="369360"/>
            <a:ext cx="1051704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Memory Management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36720" y="1644120"/>
            <a:ext cx="10159920" cy="58914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eap in the Win32 environment is a region of reserved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n 32 process is created with a 1 MB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ault 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is synchronized to protect the heap’s space allocation data structures from damage by concurrent updates by multipl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functions that rely on global or static data typically fail to work properly in a multithreaded environment, the thread-local storage mechanism allocates global storage on a per-thread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chanism provides both dynamic and static methods of creating thread-lo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3:  Windows7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Sub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Programm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Programmer Interface</a:t>
            </a:r>
            <a:br>
              <a:rPr sz="6100"/>
            </a:b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2760" y="552240"/>
            <a:ext cx="1085688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Access to Kernel Object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74120" cy="68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Win32 API is the fundamental interface to the capabilities of Wind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ction describes ﬁve main aspects of the Win32 AP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kernel obje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objects 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52760" y="552240"/>
            <a:ext cx="1085688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Access to Kernel Objects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74120" cy="68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20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ndows kernel provides many services that application programs can use. Application programs obtain these services by manipulating kernel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cess gains access to a kernel object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call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 to open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the handle is unique to that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20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ndle can be closed by call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ose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; the system may delete the object if the count of processes using the object drops to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12800" y="1207800"/>
            <a:ext cx="1085688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share objects between processes</a:t>
            </a:r>
            <a:br>
              <a:rPr sz="3700"/>
            </a:b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4000" y="1696680"/>
            <a:ext cx="10374120" cy="68547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provides three ways to share objects 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ild process inherits a handle to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rocess gives the object a name when it is created and the second process opens tha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uplicateHan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handle to process and the handle’s value a second process can get a handle to the same object, and thus share 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8520" y="552240"/>
            <a:ext cx="11010960" cy="609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grammer Interface — </a:t>
            </a:r>
            <a:br>
              <a:rPr sz="3700"/>
            </a:br>
            <a:r>
              <a:rPr b="1" lang="en-US" sz="37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7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10304280" cy="6378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started via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ine which loads any dynamic link libraries that are used by the process, and creat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mary th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threads can be created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Thr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dynamic link library or executable file that is loaded into the address space of a process is identified by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stance han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41360" y="369360"/>
            <a:ext cx="1010268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read Schedul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93960" y="1445760"/>
            <a:ext cx="10215360" cy="68151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 Windows utilizes four priority 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LE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iority level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AL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8 — typical for mos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GH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SzPct val="80000"/>
              <a:buFont typeface="Courier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ALTIME_PRIORITY_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evel 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 contains the default priority classes for its threads, but each thread can vary its own priority that is used for actual schedu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performance levels needed for interactive programs, Windows has a special scheduling rule for processes in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RMAL_PRIORITY_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distinguishes betwee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eground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s currently selected on the screen,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kground proce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are not currently sel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moves to foreground, Windows increases boosts it’s thread’s priorities and increments the scheduling qua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87120" y="369360"/>
            <a:ext cx="1045692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read Scheduling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54000" y="1697040"/>
            <a:ext cx="9910440" cy="62863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dynamically adjusts the priority of a thread depending on whether it is I/O-bound or CPU-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-bound threads have their priority boosted as long as they do not run to the end of their scheduling quant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ynchronize the concurrent access to shared objects by threads, the kernel provides synchronization objects, such as semaphores and mutexes for synchronizing threads in differ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, threads can synchronize with kernel operations using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ForSingle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ForMultiple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ation between threads within a process uses Win32 APIs for critical sections, SRW (Simple Reader/Writer) Locks, Lockfree LIFO lists, and condition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4-20T12:31:00Z</dcterms:modified>
  <cp:revision>231</cp:revision>
  <dc:subject/>
  <dc:title>No Slide Title</dc:title>
</cp:coreProperties>
</file>