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4F1702-FBA5-4B57-84FB-FC1B7137B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1D2105-F128-465C-A72C-EBB19E7D9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4141F7-62A3-43C3-B4B5-62F54CE57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84BE12-104E-423B-B195-9DDC1AA4A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6C1D95-80B7-4555-B75F-02F9B0123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8D7E5E-4934-499D-B03D-C5CE3288A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D0ED6A-2B1A-43EC-B4E0-7AA276DCA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421495-6FB8-44DD-8AB9-A096E4D74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27DF77-C031-474F-9660-5E3A9AD32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9ADA59-4259-4606-A0FB-766B104B1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0352BB-CAAC-47E6-AB14-48BDBA733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A0CE95-F6EC-4FC5-89B1-E169C9244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570DD2-E03D-41C6-82FD-056ACF839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751FDB-6B5A-44B9-8BB7-12A98D742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DF35E5F6-5266-423B-8501-0ED5FD7588AE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5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07840" y="369360"/>
            <a:ext cx="106362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4360" y="1697040"/>
            <a:ext cx="10113840" cy="6626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ber is user-mode code that gets scheduled according to a user-defined scheduling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ncludes fibers to facilitate the porting of legacy UNIX applications that are written for a fiber execution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s are implemented purely in user mode by multiplexing the fibers onto true Windows th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 Scheduling was introduced into Windows 7 to provide support for the Visual Studio 2010 Concurrency RunTime (Conc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 allows the user portion of a Windows thread to block in user-mode and the CPU to be switched to another user-mode thread without having to enter protected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kernel portion of a Windows thread blocks in the OS, the CPU is returned to the user-mode scheduler for re-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ystem calls complete, the user-mode scheduler is notified so it can again schedule the blocked thread for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07840" y="369360"/>
            <a:ext cx="106362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User Mode Scheduling (UMS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741320" y="4267080"/>
            <a:ext cx="105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033640" y="375912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184480" y="42670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232240" y="2743200"/>
            <a:ext cx="335304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384880" y="3538440"/>
            <a:ext cx="30477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ad Par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3412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45156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756936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6654960" y="4470480"/>
            <a:ext cx="3352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 Completion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1226960" y="3048120"/>
            <a:ext cx="1218960" cy="81252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1937960" y="38606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1937960" y="5994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9397800" y="5994360"/>
            <a:ext cx="25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9296280" y="6908760"/>
            <a:ext cx="914400" cy="60948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9194760" y="6197760"/>
            <a:ext cx="60948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8991720" y="6299280"/>
            <a:ext cx="40644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873920" y="7213680"/>
            <a:ext cx="914400" cy="60948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8280360" y="6502320"/>
            <a:ext cx="101520" cy="71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7975440" y="6502320"/>
            <a:ext cx="0" cy="71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4013280" y="5181480"/>
            <a:ext cx="914400" cy="60984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9"/>
          <p:cNvSpPr/>
          <p:nvPr/>
        </p:nvSpPr>
        <p:spPr>
          <a:xfrm flipH="1" flipV="1">
            <a:off x="4927680" y="5486040"/>
            <a:ext cx="172728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30"/>
          <p:cNvSpPr/>
          <p:nvPr/>
        </p:nvSpPr>
        <p:spPr>
          <a:xfrm rot="16758000">
            <a:off x="8053560" y="5164200"/>
            <a:ext cx="480960" cy="201600"/>
          </a:xfrm>
          <a:prstGeom prst="rightArrow">
            <a:avLst>
              <a:gd name="adj1" fmla="val 50000"/>
              <a:gd name="adj2" fmla="val 596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6654960" y="5486400"/>
            <a:ext cx="2743200" cy="1015920"/>
          </a:xfrm>
          <a:prstGeom prst="ellipse">
            <a:avLst/>
          </a:prstGeom>
          <a:solidFill>
            <a:srgbClr val="d1f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31"/>
          <p:cNvSpPr/>
          <p:nvPr/>
        </p:nvSpPr>
        <p:spPr>
          <a:xfrm flipH="1" flipV="1">
            <a:off x="4114440" y="4064040"/>
            <a:ext cx="304920" cy="11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3301920" y="3454560"/>
            <a:ext cx="1727280" cy="609480"/>
          </a:xfrm>
          <a:prstGeom prst="ellipse">
            <a:avLst/>
          </a:prstGeom>
          <a:solidFill>
            <a:srgbClr val="bef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p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3"/>
          <p:cNvSpPr/>
          <p:nvPr/>
        </p:nvSpPr>
        <p:spPr>
          <a:xfrm flipV="1">
            <a:off x="5842080" y="2133360"/>
            <a:ext cx="30456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5740560" y="1625760"/>
            <a:ext cx="2743200" cy="609480"/>
          </a:xfrm>
          <a:prstGeom prst="ellipse">
            <a:avLst/>
          </a:prstGeom>
          <a:solidFill>
            <a:srgbClr val="bef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TOS execu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5"/>
          <p:cNvSpPr/>
          <p:nvPr/>
        </p:nvSpPr>
        <p:spPr>
          <a:xfrm flipV="1">
            <a:off x="4622760" y="3149280"/>
            <a:ext cx="7113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6"/>
          <p:cNvSpPr/>
          <p:nvPr/>
        </p:nvSpPr>
        <p:spPr>
          <a:xfrm>
            <a:off x="8483760" y="1930320"/>
            <a:ext cx="27432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9296280" y="2031840"/>
            <a:ext cx="193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lo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270080" y="630720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y primary thread runs in 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p code switches to parked K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T block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rimary returns to 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T unblocks &amp; park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queue UT comple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7772400" y="2133720"/>
            <a:ext cx="20304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8483760" y="3149640"/>
            <a:ext cx="812520" cy="132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7840" y="610920"/>
            <a:ext cx="1085184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179000" cy="6483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 applications can have interprocess communication by sharing kernel objects, including shared memory sections and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ternate means of interprocess communications is message passing, which is particularly popular for Windows GUI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hread sends a message to another thread or to a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can also send data with the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Win32 thread has its own input queue from which the thread receives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8000" y="550800"/>
            <a:ext cx="10985400" cy="609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54000" y="1661760"/>
            <a:ext cx="10235880" cy="5646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Allo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s or commits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ommits or releases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unctions enable the application to determine the virtual address at which the memory i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can use memory by memory mapping a file into its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stag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rocesses share memory by mapping the same file into their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7360" y="369360"/>
            <a:ext cx="105170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Memory Management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159920" cy="5891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eap in the Win32 environment is a region of reserved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 32 process is created with a 1 MB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ault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is synchronized to protect the heap’s space allocation data structures from damage by concurrent updates by multip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functions that rely on global or static data typically fail to work properly in a multithreaded environment, the thread-local storage mechanism allocates global storage on a per-thread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chanism provides both dynamic and static methods of creating thread-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Programmer Interface</a:t>
            </a:r>
            <a:br>
              <a:rPr sz="6100"/>
            </a:b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760" y="55224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Access to Kernel Object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Win32 API is the fundamental interface to the capabilities of Wind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tion describes ﬁve main aspects of the Win32 AP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kernel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objects 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52760" y="55224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Access to Kernel Object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ndows kernel provides many services that application programs can use. Application programs obtain these services by manipulating kerne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gains access to a kernel object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all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 to open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e handle is unique to that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ndle can be closed by call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se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; the system may delete the object if the count of processes using the object drops to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2800" y="120780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share objects between processes</a:t>
            </a:r>
            <a:br>
              <a:rPr sz="3700"/>
            </a:b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provides three ways to share objects 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ild process inherits a handle to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rocess gives the object a name when it is created and the second process opens tha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uplicateH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handle to process and the handle’s value a second process can get a handle to the same object, and thus shar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8520" y="552240"/>
            <a:ext cx="1101096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304280" cy="6378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tarted via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ine which loads any dynamic link libraries that are used by the process, and creat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y th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threads can be created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Th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dynamic link library or executable file that is loaded into the address space of a process is identified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ance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1360" y="369360"/>
            <a:ext cx="1010268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93960" y="1445760"/>
            <a:ext cx="10215360" cy="6815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 Windows utilizes four priority 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LE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iority level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AL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8 — typical for mos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TIME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contains the default priority classes for its threads, but each thread can vary its own priority that is used for actual schedu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performance levels needed for interactive programs, Windows has a special scheduling rule for processes in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AL_PRIORITY_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distinguishes betwee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egr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currently selected on the screen,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kground proce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re not currently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moves to foreground, Windows increases boosts it’s thread’s priorities and increments the scheduling qua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87120" y="369360"/>
            <a:ext cx="10456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9910440" cy="6286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dynamically adjusts the priority of a thread depending on whether it is I/O-bound or CPU-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-bound threads have their priority boosted as long as they do not run to the end of their scheduling qua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ynchronize the concurrent access to shared objects by threads, the kernel provides synchronization objects, such as semaphores and mutexes for synchronizing threads in differ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threads can synchronize with kernel operations using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ForSingle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ForMultiple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between threads within a process uses Win32 APIs for critical sections, SRW (Simple Reader/Writer) Locks, Lockfree LIFO lists, and condition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4-20T12:31:00Z</dcterms:modified>
  <cp:revision>231</cp:revision>
  <dc:subject/>
  <dc:title>No Slide Title</dc:title>
</cp:coreProperties>
</file>