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ABA-48A4-4B02-AD92-C4FE66E9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0E3-5A11-417F-9431-2340EB7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95F-D9B3-49DC-9899-8ED62C49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A58-AA0F-4EBD-8EDF-9F9C1AFD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EC8E-FCD7-4E30-8F46-A92D503F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EC87-7C64-40DD-BDF4-2A8F7F17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9A7-9879-4B7A-B50E-3B39765A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FCB2-AF4B-4A2E-8988-1237F7CA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6B57-8C25-453C-AECD-056BA4A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752E-A18A-4BB8-95E5-12187FCB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5DB-CE0E-4713-9DCD-D1D228E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813-3280-411E-A6B1-C9CC2EE6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95EA-69D8-4AD9-947C-F410FBB7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6163-AAD1-4936-903B-DA20D3C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95E-930D-4D5C-9741-837C5647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C3C-3B5F-49E3-81C5-81BFE283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68E-D59F-428F-B65E-82011843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B6-283B-4731-83B0-4477526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A63-9A31-4968-99F3-0BAB1471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D8E-D080-4F67-9E17-3EB96F0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7B4-6538-4CE4-881A-A97A069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F25-F4D3-4106-B1D7-C1774B2D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CEE-1CEE-47E1-A920-D15C8B67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83A-9AEF-4D90-98BF-7B9FEA6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7CE-5D8A-45F5-BA29-42BAC33BA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AA10-D690-41F9-B434-34D1183D5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Soil Water Processes:Chapter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how soil properties influence runoff, infiltration and plant grow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some of the common terms that are used to describe soils profiles and soil proper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the main processes that occur when a soil wets and dr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how to quantify the amount of water that is stored in the soil and how this amount changes with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br>
              <a:rPr sz="4400"/>
            </a:b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Bulk Densit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s of soil per unit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nsity of soil particles usually near 165 lb/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r 2.65 g/c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re different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ulk Density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8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ry Bulk Density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1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82296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nsion-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hesion, Cohesion, Capillary, Suction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vity-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pores vs. Large p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eld capacity &amp; Wil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09320" y="277560"/>
            <a:ext cx="533412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Water Reten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5" descr="03x04"/>
          <p:cNvPicPr/>
          <p:nvPr/>
        </p:nvPicPr>
        <p:blipFill>
          <a:blip r:embed="rId1"/>
          <a:stretch/>
        </p:blipFill>
        <p:spPr>
          <a:xfrm>
            <a:off x="609480" y="1346040"/>
            <a:ext cx="8077320" cy="5386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6630120" y="48769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76720" y="277560"/>
            <a:ext cx="3200400" cy="86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Hysteres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5" descr="03x05"/>
          <p:cNvPicPr/>
          <p:nvPr/>
        </p:nvPicPr>
        <p:blipFill>
          <a:blip r:embed="rId1"/>
          <a:stretch/>
        </p:blipFill>
        <p:spPr>
          <a:xfrm>
            <a:off x="609480" y="1217520"/>
            <a:ext cx="7925040" cy="5295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915120" y="25909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6a03"/>
                </a:solidFill>
                <a:latin typeface="Times New Roman"/>
              </a:rPr>
              <a:t>Plant Response to Soil-Water Cont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Picture 5" descr="03x10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42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972880" y="1371600"/>
            <a:ext cx="17899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77560"/>
            <a:ext cx="586764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6a03"/>
                </a:solidFill>
                <a:latin typeface="Times New Roman"/>
              </a:rPr>
              <a:t>Plant Available Water versus Tex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03x09"/>
          <p:cNvPicPr/>
          <p:nvPr/>
        </p:nvPicPr>
        <p:blipFill>
          <a:blip r:embed="rId1"/>
          <a:stretch/>
        </p:blipFill>
        <p:spPr>
          <a:xfrm>
            <a:off x="533520" y="1419120"/>
            <a:ext cx="7696080" cy="5146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296000" y="266688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858000" cy="96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6a03"/>
                </a:solidFill>
                <a:latin typeface="Times New Roman"/>
              </a:rPr>
              <a:t>Soil-Water Relationshi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5" descr="03x06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216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563080" y="2819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186000" y="1889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3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54560" y="22860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ctors Affecting Water Movement in So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03x16"/>
          <p:cNvPicPr/>
          <p:nvPr/>
        </p:nvPicPr>
        <p:blipFill>
          <a:blip r:embed="rId1"/>
          <a:stretch/>
        </p:blipFill>
        <p:spPr>
          <a:xfrm>
            <a:off x="1828800" y="762120"/>
            <a:ext cx="541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277920"/>
            <a:ext cx="3962160" cy="715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6a03"/>
                </a:solidFill>
                <a:latin typeface="Times New Roman"/>
              </a:rPr>
              <a:t>Soil Tex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03x01"/>
          <p:cNvPicPr/>
          <p:nvPr/>
        </p:nvPicPr>
        <p:blipFill>
          <a:blip r:embed="rId1"/>
          <a:srcRect l="-736" t="0" r="0" b="0"/>
          <a:stretch/>
        </p:blipFill>
        <p:spPr>
          <a:xfrm>
            <a:off x="0" y="144792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810600" y="6248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Estimating Infiltration Ra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piric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rton and Green-Ampt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ysical Based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rcy’s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 related to hydraulic gradient and soil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18160" y="2286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asonal Soil Water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78920" y="182880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Q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1720" y="3048120"/>
            <a:ext cx="8306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change in soil water storage in the soil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ecip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rr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ercolation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evapotranspi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urfac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86000" y="18892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3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289520" y="228600"/>
            <a:ext cx="65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asonal Soil Water Balance in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03x2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186000" y="1889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" descr="04x01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3" descr="04x04"/>
          <p:cNvPicPr/>
          <p:nvPr/>
        </p:nvPicPr>
        <p:blipFill>
          <a:blip r:embed="rId1"/>
          <a:stretch/>
        </p:blipFill>
        <p:spPr>
          <a:xfrm>
            <a:off x="152280" y="0"/>
            <a:ext cx="8834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04x05"/>
          <p:cNvPicPr/>
          <p:nvPr/>
        </p:nvPicPr>
        <p:blipFill>
          <a:blip r:embed="rId1"/>
          <a:stretch/>
        </p:blipFill>
        <p:spPr>
          <a:xfrm>
            <a:off x="990720" y="22320"/>
            <a:ext cx="7391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01840" y="1905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g. 4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04x06"/>
          <p:cNvPicPr/>
          <p:nvPr/>
        </p:nvPicPr>
        <p:blipFill>
          <a:blip r:embed="rId1"/>
          <a:stretch/>
        </p:blipFill>
        <p:spPr>
          <a:xfrm>
            <a:off x="2133720" y="0"/>
            <a:ext cx="51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nnual Pan Evaporation in the US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2" name="Picture 5" descr="04x14"/>
          <p:cNvPicPr/>
          <p:nvPr/>
        </p:nvPicPr>
        <p:blipFill>
          <a:blip r:embed="rId1"/>
          <a:stretch/>
        </p:blipFill>
        <p:spPr>
          <a:xfrm>
            <a:off x="533520" y="1349280"/>
            <a:ext cx="81532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x02"/>
          <p:cNvPicPr/>
          <p:nvPr/>
        </p:nvPicPr>
        <p:blipFill>
          <a:blip r:embed="rId1"/>
          <a:stretch/>
        </p:blipFill>
        <p:spPr>
          <a:xfrm>
            <a:off x="152280" y="228600"/>
            <a:ext cx="6624720" cy="641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011000" y="55627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353040" y="106668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Textural Tri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Te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s/P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3x03"/>
          <p:cNvPicPr/>
          <p:nvPr/>
        </p:nvPicPr>
        <p:blipFill>
          <a:blip r:embed="rId1"/>
          <a:stretch/>
        </p:blipFill>
        <p:spPr>
          <a:xfrm>
            <a:off x="304920" y="762120"/>
            <a:ext cx="8453160" cy="5402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886920" y="6248520"/>
            <a:ext cx="162108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6a03"/>
                </a:solidFill>
                <a:latin typeface="Arial"/>
              </a:rPr>
              <a:t>Figure 3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52280"/>
            <a:ext cx="37339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6a03"/>
                </a:solidFill>
                <a:latin typeface="Times New Roman"/>
              </a:rPr>
              <a:t>Soil Matrix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rosity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3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55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Volumetric Soil Water Content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4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648320" cy="3544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09480" y="5867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lumetric Soil Water Content=Vw/V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gree of Saturation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100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ravimetric Soil Water Content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quation 3.6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67360" cy="3736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457200" y="5715000"/>
            <a:ext cx="8077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vimetric Soil Water Content=m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w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/m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11:14Z</dcterms:created>
  <dc:creator>Andy Ward</dc:creator>
  <dc:description/>
  <dc:language>en-US</dc:language>
  <cp:lastModifiedBy>7 materx 2010</cp:lastModifiedBy>
  <dcterms:modified xsi:type="dcterms:W3CDTF">2010-10-25T11:48:57Z</dcterms:modified>
  <cp:revision>12</cp:revision>
  <dc:subject/>
  <dc:title>Soil Texture</dc:title>
</cp:coreProperties>
</file>