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423-6E12-4751-AF06-B4F2128A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FE9-4DC1-4442-B41F-C2810EF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328-19E4-4E1E-8544-7DCD938D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336-D456-48B6-99AD-2A55F30F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708-78AD-4706-9816-0C37AD49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574B-ED61-41E6-A693-9F879DE2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B2D7-D801-4B78-B96D-274A461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8ADF-C9F8-4F66-BB3A-7E6C3A8B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5FCB-7BC6-42C7-86D0-58A87AF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434C-970C-4ADC-8E7D-CBFDEC83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7580-9AEA-46AC-8A6B-74B5B42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CED-C591-475B-A7B1-45E8BA02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0C2-AE2D-4CBF-8B66-BD50038F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78EF-8DF1-41E2-99B8-22F41E6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30E-61AC-4E4F-98C3-0D1596D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23F-E8C1-468E-9CED-8BBF6D0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7CFA-F16A-4EA7-BE62-D86C3799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618-B55A-421A-A33A-C06E523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6DA-2716-494B-8C1B-34726AAF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229-3CF6-4943-806C-31E5D52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720-C519-4B6D-AD76-561A06C5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337-1CD2-407D-9031-AE2C57F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2CF-5259-4FDA-B402-5CD0C26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F60-B134-4ABE-BFBB-3B0AC96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9F00-3840-4A40-8D1B-FA5335CA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1E3-CCED-4D30-B3E6-0A1869427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Soil Water Processes:Chapter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how soil properties influence runoff, infiltration and plant grow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some of the common terms that are used to describe soils profiles and soil proper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the main processes that occur when a soil wets and dr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how to quantify the amount of water that is stored in the soil and how this amount changes with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br>
              <a:rPr sz="4400"/>
            </a:b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Bulk Densit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il per unit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nsity of soil particles usually near 165 lb/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r 2.65 g/c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re different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ulk Density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8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ry Bulk Density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1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82296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nsion-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hesion, Cohesion, Capillary, Suction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vity-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pores vs. Large p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eld capacity &amp; Wil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277560"/>
            <a:ext cx="53341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Water Reten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5" descr="03x04"/>
          <p:cNvPicPr/>
          <p:nvPr/>
        </p:nvPicPr>
        <p:blipFill>
          <a:blip r:embed="rId1"/>
          <a:stretch/>
        </p:blipFill>
        <p:spPr>
          <a:xfrm>
            <a:off x="609480" y="1346040"/>
            <a:ext cx="8077320" cy="5386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6630120" y="48769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7560"/>
            <a:ext cx="320040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Hysteres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5" descr="03x05"/>
          <p:cNvPicPr/>
          <p:nvPr/>
        </p:nvPicPr>
        <p:blipFill>
          <a:blip r:embed="rId1"/>
          <a:stretch/>
        </p:blipFill>
        <p:spPr>
          <a:xfrm>
            <a:off x="609480" y="1217520"/>
            <a:ext cx="7925040" cy="5295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915120" y="25909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6a03"/>
                </a:solidFill>
                <a:latin typeface="Times New Roman"/>
              </a:rPr>
              <a:t>Plant Response to Soil-Water Cont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Picture 5" descr="03x10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42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972880" y="1371600"/>
            <a:ext cx="17899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77560"/>
            <a:ext cx="586764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6a03"/>
                </a:solidFill>
                <a:latin typeface="Times New Roman"/>
              </a:rPr>
              <a:t>Plant Available Water versus Tex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03x09"/>
          <p:cNvPicPr/>
          <p:nvPr/>
        </p:nvPicPr>
        <p:blipFill>
          <a:blip r:embed="rId1"/>
          <a:stretch/>
        </p:blipFill>
        <p:spPr>
          <a:xfrm>
            <a:off x="533520" y="1419120"/>
            <a:ext cx="7696080" cy="5146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296000" y="266688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96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Soil-Water Relationshi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5" descr="03x06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16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563080" y="2819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186000" y="1889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3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54560" y="22860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Affecting Water Movement in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03x16"/>
          <p:cNvPicPr/>
          <p:nvPr/>
        </p:nvPicPr>
        <p:blipFill>
          <a:blip r:embed="rId1"/>
          <a:stretch/>
        </p:blipFill>
        <p:spPr>
          <a:xfrm>
            <a:off x="1828800" y="762120"/>
            <a:ext cx="541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277920"/>
            <a:ext cx="3962160" cy="715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6a03"/>
                </a:solidFill>
                <a:latin typeface="Times New Roman"/>
              </a:rPr>
              <a:t>Soil Tex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03x01"/>
          <p:cNvPicPr/>
          <p:nvPr/>
        </p:nvPicPr>
        <p:blipFill>
          <a:blip r:embed="rId1"/>
          <a:srcRect l="-736" t="0" r="0" b="0"/>
          <a:stretch/>
        </p:blipFill>
        <p:spPr>
          <a:xfrm>
            <a:off x="0" y="144792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810600" y="6248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Estimating Infiltration Ra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piric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rton and Green-Ampt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 Base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rcy’s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 related to hydraulic gradient and soil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18160" y="2286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asonal Soil Water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78920" y="182880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Q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1720" y="3048120"/>
            <a:ext cx="8306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change in soil water storage in the soil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ecip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rr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ercolation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evapotran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urfac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86000" y="1889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3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89520" y="228600"/>
            <a:ext cx="65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asonal Soil Water Balance in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03x2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186000" y="1889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" descr="04x01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3" descr="04x04"/>
          <p:cNvPicPr/>
          <p:nvPr/>
        </p:nvPicPr>
        <p:blipFill>
          <a:blip r:embed="rId1"/>
          <a:stretch/>
        </p:blipFill>
        <p:spPr>
          <a:xfrm>
            <a:off x="152280" y="0"/>
            <a:ext cx="8834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04x05"/>
          <p:cNvPicPr/>
          <p:nvPr/>
        </p:nvPicPr>
        <p:blipFill>
          <a:blip r:embed="rId1"/>
          <a:stretch/>
        </p:blipFill>
        <p:spPr>
          <a:xfrm>
            <a:off x="990720" y="22320"/>
            <a:ext cx="739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04x06"/>
          <p:cNvPicPr/>
          <p:nvPr/>
        </p:nvPicPr>
        <p:blipFill>
          <a:blip r:embed="rId1"/>
          <a:stretch/>
        </p:blipFill>
        <p:spPr>
          <a:xfrm>
            <a:off x="2133720" y="0"/>
            <a:ext cx="51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nnual Pan Evaporation in the US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2" name="Picture 5" descr="04x14"/>
          <p:cNvPicPr/>
          <p:nvPr/>
        </p:nvPicPr>
        <p:blipFill>
          <a:blip r:embed="rId1"/>
          <a:stretch/>
        </p:blipFill>
        <p:spPr>
          <a:xfrm>
            <a:off x="533520" y="1349280"/>
            <a:ext cx="81532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x02"/>
          <p:cNvPicPr/>
          <p:nvPr/>
        </p:nvPicPr>
        <p:blipFill>
          <a:blip r:embed="rId1"/>
          <a:stretch/>
        </p:blipFill>
        <p:spPr>
          <a:xfrm>
            <a:off x="152280" y="228600"/>
            <a:ext cx="6624720" cy="641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011000" y="55627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353040" y="106668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Textural Tri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s/P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3x03"/>
          <p:cNvPicPr/>
          <p:nvPr/>
        </p:nvPicPr>
        <p:blipFill>
          <a:blip r:embed="rId1"/>
          <a:stretch/>
        </p:blipFill>
        <p:spPr>
          <a:xfrm>
            <a:off x="304920" y="762120"/>
            <a:ext cx="8453160" cy="5402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886920" y="6248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52280"/>
            <a:ext cx="37339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6a03"/>
                </a:solidFill>
                <a:latin typeface="Times New Roman"/>
              </a:rPr>
              <a:t>Soil Matrix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rosity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3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55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Volumetric Soil Water Content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4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648320" cy="3544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09480" y="5867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lumetric Soil Water Content=Vw/V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gree of Saturation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100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ravimetric Soil Water Content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6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67360" cy="3736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457200" y="571500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vimetric Soil Water Content=m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w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/m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11:14Z</dcterms:created>
  <dc:creator>Andy Ward</dc:creator>
  <dc:description/>
  <dc:language>en-US</dc:language>
  <cp:lastModifiedBy>7 materx 2010</cp:lastModifiedBy>
  <dcterms:modified xsi:type="dcterms:W3CDTF">2010-10-25T11:48:57Z</dcterms:modified>
  <cp:revision>12</cp:revision>
  <dc:subject/>
  <dc:title>Soil Texture</dc:title>
</cp:coreProperties>
</file>