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5C8-99CA-48D8-96B3-B01AA4A798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2C9-4A20-426F-B42B-E52FD327EA55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EC9C-4178-4548-913D-BDB233237EE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9703-18ED-4A79-BAC3-A391A6739B73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5EC1-5C28-4C5E-B7A7-5F401B76C32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812-4612-4482-AA8A-F53CD7C5E1D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7914-53EF-42F8-9723-84BC75A5C3A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5A78-900F-4D67-9DD6-B2C26C73FDA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5A3C-A347-4E24-A00E-1505F2752357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EB0-13FB-4D02-B242-AC7699E8929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5806-3B0D-4EF4-8BB8-D083DA92CC32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A53E-0BF4-4977-9EB9-AB457036F05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37FB-00E1-4899-A6A2-73D145DECD9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67BC-A2F3-45B4-A9F8-BF2160C63FC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326D-29EB-406C-B6EA-DE581BEEB48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876E-FB46-4575-86A1-F44418B40B1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9D3F-0E95-4B93-9096-8E83F2368CF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65B1-EB41-45BA-99BD-C136BADA2BE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3C12-E15A-4583-924D-988560B716A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6B50-B62C-4596-9A02-1E7BA910A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3525-4B91-45EB-A3E0-6D95FEB15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6FC9-03D3-4B7A-B5A1-15EEFBCEB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453C-7696-4D2B-85F2-67FA1EA1E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08CE7-BE0C-4BB2-A212-757DA1C9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B6624-36C5-47B7-B902-14F9C8F3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F7E6-6268-4DCF-82EE-FC9E51CA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70C40-D43F-4DDC-861F-6056AADB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35B48-096F-4370-9A31-0EA39984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F1B7C-002D-4CD9-A792-A73DA9A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E3188-596F-4407-950A-0C1D2E2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C942-E298-4114-A216-705B5F2B6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C38F7-94A1-4727-AEA0-D3B7244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B60BE-4C89-4DD8-A6A2-F5B0F3A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7CCE0-562D-4008-BF70-23146D91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BF406-7458-4E59-9FA7-F71FB891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A719-0CE2-4D23-A0E7-11AB5532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A1D7-C22D-4426-AEDB-6F6CD67FB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942D-7CDA-4333-8C7C-014F362F9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B019-9101-463E-A25E-A0C861E04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7924-F3C2-4CF0-9CCE-3AF90DDAE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33AB-0193-4A69-945D-E449D5B0C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34BF-EEE3-408D-AA7F-E8CF1934F1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605F-02E7-46B6-9721-0DC3D753AA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6387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-</a:t>
            </a:r>
            <a:fld id="{39A3F308-9F3F-4DB5-A7D4-15D89AD664DE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40BA-E0E2-47F4-BB25-4FFEB1795870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7720" y="3733560"/>
            <a:ext cx="61722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2" name="Picture 7" descr="شعار الكلية"/>
          <p:cNvPicPr/>
          <p:nvPr/>
        </p:nvPicPr>
        <p:blipFill>
          <a:blip r:embed="rId1"/>
          <a:stretch/>
        </p:blipFill>
        <p:spPr>
          <a:xfrm>
            <a:off x="2895480" y="304920"/>
            <a:ext cx="2262240" cy="20746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600200" y="2514600"/>
            <a:ext cx="48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33720" y="556920"/>
            <a:ext cx="683424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that Contribute to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749240"/>
            <a:ext cx="85374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 &gt;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vision or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ed gait or posture, impair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ural 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sion or dis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familia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for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Suff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A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k for Disuse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tex Allerg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for Inf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a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sive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pture of amniotic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fficient knowledge to avoid exposure to patho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come Identific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actual or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tion of the risk of injury and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/caregiver education regarding safety measures and modification of an unsaf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se Safety Awareness and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d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re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adequate l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-</a:t>
            </a:r>
            <a:fld id="{8BB6CC06-DBD7-455D-B26E-7FF477881B9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physical re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ten or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b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or Extre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m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33-06"/>
          <p:cNvPicPr/>
          <p:nvPr/>
        </p:nvPicPr>
        <p:blipFill>
          <a:blip r:embed="rId1"/>
          <a:stretch/>
        </p:blipFill>
        <p:spPr>
          <a:xfrm>
            <a:off x="3048120" y="1600200"/>
            <a:ext cx="6095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Bathroom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F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causes of f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of clients during a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policies and procedures for fire containment and evac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sure safe operation of electrical equip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-pronged electrical plug that is gr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ning labels on all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al sh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exposure to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he client and the nurse are at risk for inj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injury can occur from overexposure or exposure to untargeted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rinciples of radiation exposure and protection are based on time, distance, and shie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vent poiso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son is any substance that causes an alteration in the client’s health when inhaled, injected, ingested, or absorbed by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dotes and treatments are available for some but not all types of poiso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fety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is a functional concern of nurses from the bedside to the home and comm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llent nursing care is safe for both the clients receiving the care, and the workers involved in the delivery of health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 Noise Pol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 overload can alter a client’s recovery by increasing anxiety, paranoia, hallucinations, and de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measures include maintaining a quiet environment, traffic control, and providing earpl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Client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g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etus: maternal exposure e.g. drugs and smok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fants: falling, suffocation, burns. Poisoning, and electrical sho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ddlers: falling, sharp object injury, automobile accident, poisoning, electrical shoc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chooler: injuries, suffocation, poisoning, burn, automobile accid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olescent: Vehicle accident, Suicide, sport injuries, substance ab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ults: accidents (occupational or vehicle), fire burns, suici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derly: falling, burns, automobile accid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Client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sty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and Perceptual Alteratio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in se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and health statu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ysis, patient after surg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 Sta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, or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nitive awareness: unconscious under narc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communicate: unable to r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ternational Patient safety Goal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rrect Patient Identific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the effectiveness of communic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ove the safety of medication administra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health care-associated infection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patient harm resulting from fal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duce the risk of surgical fir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vent health care-associated pressure ulc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60640" y="429840"/>
            <a:ext cx="6705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cus of Safety Assess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749240"/>
            <a:ext cx="838512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ocation and cho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arm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ccupational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and biological expo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exposures (lasers, radiation, noise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tressors (shift work, threat of workplace viol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gonomic stressors (lifting and moving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Occupational Ha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s of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by which chemical and biological substances are assimilated into the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j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Al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rritant contact dermat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ergic contact dermatit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Hyg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dermatitis should be promptly reported to Employee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creams or special soaps are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ct guidelines on nail care and nail coverings should be implemented and fo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0:43Z</dcterms:modified>
  <cp:revision>106</cp:revision>
  <dc:subject/>
  <dc:title>Chapter 3</dc:title>
</cp:coreProperties>
</file>