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6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7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8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5B68-1784-475E-BDFA-88619943046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BE96-4790-412D-AC10-5821E3CF685F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D645-4C78-414E-9705-E282701825B0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F3AE-6B09-45E9-8D10-ED5650F384F2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75E7-D99B-4009-AA86-F668EC168E83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FB14-B93B-43A3-8B5F-070CDB23B803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624F-B0CC-4846-8272-0E008FF75336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7632-79C5-4DA6-97EB-7C943E858DCE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277C-A8AD-496E-8DBF-574BF3E14160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BB80-74FE-436A-917B-EDE0C5EEB8DC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935E-7217-4D45-8F77-B0E6F968E7BF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0F0D-DBEF-41BF-9700-88C21BA599E8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0A1B-0C0B-4721-BC6D-E5D002EB86D9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8364-F3E4-445F-AD30-9C19CB181B57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7CBC-9632-40A0-8891-2D67078CAC3F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B61A-26E7-4608-9E5B-823F94887F99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DD0A-2F83-4399-9893-7EE6CAD7E62A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F1A8-3282-4CB2-AFC6-453C5B40510F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9F60-33A7-4404-B5FF-134B50439353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B83F0-89B8-4EAE-B5E6-94EE14316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E4D3-737C-4AEC-B420-D5F65A293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BE4E-9D55-4ABC-8F56-0101A182F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808B-8711-4F3D-94D1-6D1C8FA4B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27583-5759-46A7-98F2-1317883F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9904F-1D36-4272-AC28-9F84F535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433E3-EFC8-4EBA-8934-66105AA6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845A6-3972-418B-BEE7-08D73F3B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D8496-13D5-43D6-945C-55ED0828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040" y="304560"/>
            <a:ext cx="67057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48CC4-DAB5-45DB-9CEA-0951DBB4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EA7EB-EF23-4C63-97E3-59C275CA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4E65-9D7F-463D-AFB0-0F0F32658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65046-5352-464A-9B33-F44A8D98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0F967-6149-4197-98D7-420F8660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CA32D-BA60-455F-8972-CF0B2603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49860-7084-4923-94F9-DC3B48D5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8AC6B-3A86-4B89-9874-D75C2FDD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1CB38-BF0B-43E0-A2C9-FA8C517C5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E11C-AADD-463B-99C2-25557B761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8A0C-7C58-4CEB-AEC0-7854F5865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040" y="304560"/>
            <a:ext cx="67057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DE3D-F869-43EA-A87F-AEEE89151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A99D-A618-45DB-95E0-8CCC8537D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4439E-0E02-4552-A538-47F8D8384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ED8F-B800-4ADF-87C2-BEA98E526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305920" y="6283440"/>
            <a:ext cx="838080" cy="574560"/>
          </a:xfrm>
          <a:prstGeom prst="rect">
            <a:avLst/>
          </a:prstGeom>
          <a:solidFill>
            <a:srgbClr val="6387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-</a:t>
            </a:r>
            <a:fld id="{DBACCFA8-4623-49B9-B9B8-D5936FF4B23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9241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2417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9241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7FD7-E998-4978-9A53-0D64B0F6B950}" type="slidenum">
              <a:rPr b="0" lang="ar-SA" sz="1400" spc="-1" strike="noStrike">
                <a:solidFill>
                  <a:srgbClr val="49241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7720" y="3733560"/>
            <a:ext cx="61722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romoting Healthy Physiologic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fe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74640" y="26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015920" y="36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pic>
        <p:nvPicPr>
          <p:cNvPr id="92" name="Picture 7" descr="شعار الكلية"/>
          <p:cNvPicPr/>
          <p:nvPr/>
        </p:nvPicPr>
        <p:blipFill>
          <a:blip r:embed="rId1"/>
          <a:stretch/>
        </p:blipFill>
        <p:spPr>
          <a:xfrm>
            <a:off x="2895480" y="304920"/>
            <a:ext cx="2262240" cy="20746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1600200" y="2514600"/>
            <a:ext cx="48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92417"/>
                </a:solidFill>
                <a:latin typeface="Times New Roman"/>
                <a:ea typeface="Times New Roman"/>
              </a:rPr>
              <a:t>Concepts of Nursing</a:t>
            </a:r>
            <a:r>
              <a:rPr b="0" lang="en-GB" sz="3200" spc="-1" strike="noStrike">
                <a:solidFill>
                  <a:srgbClr val="492417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492417"/>
                </a:solidFill>
                <a:latin typeface="Times New Roman"/>
                <a:ea typeface="Times New Roman"/>
              </a:rPr>
              <a:t>NUR 123</a:t>
            </a:r>
            <a:endParaRPr b="0" lang="en-US" sz="3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33720" y="556920"/>
            <a:ext cx="683424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s that Contribute to F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749240"/>
            <a:ext cx="85374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 &gt;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vision or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ed gait or posture, impaired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ural hypo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usion or dis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amilia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rsing Diagn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sk for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k for Suff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k for Poi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k for Tra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k for A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k for Disuse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tex Allergy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rsing Diagn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sk for Inf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at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sive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pture of amniotic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fficient knowledge to avoid exposure to patho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come Identific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actual or potential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of the risk of injury and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/caregiver education regarding safety measures and modification of an unsaf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se Safety Awareness a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d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 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re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adequate l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bsta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-</a:t>
            </a:r>
            <a:fld id="{FF7C433E-E448-4F4E-9217-E51A5ECD72B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657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physical re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ten or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b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b or Extrem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m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33-06"/>
          <p:cNvPicPr/>
          <p:nvPr/>
        </p:nvPicPr>
        <p:blipFill>
          <a:blip r:embed="rId1"/>
          <a:stretch/>
        </p:blipFill>
        <p:spPr>
          <a:xfrm>
            <a:off x="3048120" y="1600200"/>
            <a:ext cx="6095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e Bathroom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 F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causes of f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 of clients during a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policies and procedures for fire containment and evac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sure safe operation of electrical equip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-pronged electrical plug that is gr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ning labels on all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al sh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e exposure to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the client and the nurse are at risk for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ion injury can occur from overexposure or exposure to untargeted t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principles of radiation exposure and protection are based on time, distance, and shiel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 poiso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son is any substance that causes an alteration in the client’s health when inhaled, injected, ingested, or absorbed by the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dotes and treatments are available for some but not all types of poison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fety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is a functional concern of nurses from the bedside to the home and comm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nursing care is safe for both the clients receiving the care, and the workers involved in the delivery of health c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e Noise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y overload can alter a client’s recovery by increasing anxiety, paranoia, hallucinations, and de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measures include maintaining a quiet environment, traffic control, and providing earplu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s Affecting Client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g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etus: maternal exposure e.g. drugs and smok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fants: falling, suffocation, burns. Poisoning, and electrical shoc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ddlers: falling, sharp object injury, automobile accident, poisoning, electrical shoc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chooler: injuries, suffocation, poisoning, burn, automobile accid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olescent: Vehicle accident, Suicide, sport injuries, substance ab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ults: accidents (occupational or vehicle), fire burns, suici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derly: falling, burns, automobile accid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s Affecting Client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sty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y and Perceptual Alteration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in s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and health statu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ysis, patient after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otional Sta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ss, or dep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awareness: unconscious under narco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communicate: unable to r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ernational Patient safety Go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rrect Patient Identifica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rove the effectiveness of communica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rove the safety of medication administra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duce the risk of health care-associated infection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duce the risk of patient harm resulting from fal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duce the risk of surgical fir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vent health care-associated pressure ulcer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60640" y="429840"/>
            <a:ext cx="670536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cus of Safety Assess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749240"/>
            <a:ext cx="838512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risk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ocation and cho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arm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tential Occupational Haz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and biological expo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exposures (lasers, radiation, noise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tressors (shift work, threat of workplace viol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gonomic stressors (lifting and moving cli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tential Occupational Haz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s of Exp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by which chemical and biological substances are assimilated into the b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x All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rritant contact dermati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ergic contact dermati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Hyg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dermatitis should be promptly reported to Employee Heal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creams or special soaps ar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ct guidelines on nail care and nail coverings should be implemented and fo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7T18:25:34Z</dcterms:created>
  <dc:creator>Karen Levine/Alan Gelb</dc:creator>
  <dc:description/>
  <dc:language>en-US</dc:language>
  <cp:lastModifiedBy>thamir al-wadani</cp:lastModifiedBy>
  <cp:lastPrinted>2001-01-26T20:09:44Z</cp:lastPrinted>
  <dcterms:modified xsi:type="dcterms:W3CDTF">2014-03-18T23:50:43Z</dcterms:modified>
  <cp:revision>106</cp:revision>
  <dc:subject/>
  <dc:title>Chapter 3</dc:title>
</cp:coreProperties>
</file>