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6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7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8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F769-0E7B-41DD-BD6A-BEFEF2C8447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827D-F8A0-424D-B936-6B52D31F1369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4DA0-1B56-47E9-A329-305DAFE7E5FC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5F6D-743A-43FD-B224-95C34896AA98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DBB6-D947-445E-A0BF-6D7FC41FB4EA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DC88-5798-49D0-A9A3-475731740BE1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FB7C-7E94-4FC4-B271-917F5B5C92DE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2974-1F05-4A23-8825-9A3770FE5E40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D07C-E4F1-49AF-B11C-09AF9517EEDA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E4C3-8A2F-4EDB-A2F7-B4BF807F00FF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4E45-1734-44FF-AE59-E08DAE6DC859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8956-6464-4558-AD41-40219C5015F6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4337-DE3C-4EC0-A268-58E5297B56CB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D117-AF94-49B1-9621-385E0B1E393E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2D54-4F72-4C43-80EB-541B6F921BC4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187C-17E7-4206-9600-20F70DD0446E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6354-71F9-4EDF-8313-AD694A68095D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1772-DADA-4B2F-B510-3B1F39BA7711}" type="slidenum">
              <a:rPr b="0" lang="ar-SA" sz="1200" spc="-1" strike="noStrike" u="sng">
                <a:solidFill>
                  <a:srgbClr val="492417"/>
                </a:solidFill>
                <a:uFillTx/>
                <a:latin typeface="Times New Roman"/>
                <a:ea typeface="Times New Roman"/>
              </a:rPr>
              <a:t>&lt;number&gt;</a:t>
            </a:fld>
            <a:endParaRPr b="0" lang="en-US" sz="12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7635E-4955-40E1-A478-CC135D03B9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21A2E-EBA5-4FCC-BB4A-2AD9AECBFD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8020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F4C23-2557-4B73-803F-2A74216B54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9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913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9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913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3A2F8-2F65-4D69-B591-D3E6C4A9F9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89D91-BFE2-42EC-8CA0-E72DF18A2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99291-64BF-4FE5-B034-5D9F7170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F873B3-A736-4663-8E5F-31E15A62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60F0B-67C5-40FF-B35F-F361D6F9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EB142E-4C0B-43BD-86A0-F8E99485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33720" y="228240"/>
            <a:ext cx="670536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9259A4-4383-46A1-B21E-949BD872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4D33B-9F76-4B3A-80C6-68A51EF8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3584B-0667-4CB2-8DE6-2C1189380B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8020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80612F-E482-49C7-8C1A-1C89E273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30F61-2782-4101-A7C5-E0D4BA62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52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03B40C-B9FB-4A43-B915-793B7C56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8020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92518-A8EB-4FA6-B5DA-6065318BE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9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91320" y="175212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5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9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91320" y="4020840"/>
            <a:ext cx="2576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19F9D-981B-4FA0-AE52-C44464185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7612A-97D8-48AD-96F0-889755F6E0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FC0D6-F5EF-49E4-8313-81A26CC7FB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005AB-E67E-4A24-B8FA-BEFB676C02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33720" y="228240"/>
            <a:ext cx="670536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E427B-62A4-4888-9351-34AB32266A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65455-4DDA-4839-8F6E-7468137CAE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80200" y="402084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6DD08-74C4-41A1-8989-E9F226AF9E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80200" y="1752120"/>
            <a:ext cx="3904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4020840"/>
            <a:ext cx="8001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7CD9C-32D3-465F-95F5-E212A606E3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305920" y="6283440"/>
            <a:ext cx="838080" cy="574560"/>
          </a:xfrm>
          <a:prstGeom prst="rect">
            <a:avLst/>
          </a:prstGeom>
          <a:solidFill>
            <a:srgbClr val="f2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102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8-</a:t>
            </a:r>
            <a:fld id="{6DA96E7D-33B9-4ED7-909C-1BBD215C8FEC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924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924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92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 2004 by Delmar Learning, a division of Thomson Learning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924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924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92417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92417"/>
                </a:solidFill>
                <a:latin typeface="Arial"/>
                <a:ea typeface="Arial"/>
              </a:rPr>
              <a:t>Copyright 2004 by Delmar Learning, a division of Thomson Learning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92417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E092-EC94-4EC4-8E5E-6F84B6DE9014}" type="slidenum">
              <a:rPr b="0" lang="ar-SA" sz="1400" spc="-1" strike="noStrike">
                <a:solidFill>
                  <a:srgbClr val="492417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67057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CONCEPT OF NU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Promoting Healthy Physiologic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dy Mecha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ty and Exerc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674640" y="263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015920" y="365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492417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ons and U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rsal recumb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Place patient on back, legs flexed and slightly rotated out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Used for pelvic examination, female catheterization, perinal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_+A+dorsal+recumbent"/>
          <p:cNvPicPr/>
          <p:nvPr/>
        </p:nvPicPr>
        <p:blipFill>
          <a:blip r:embed="rId1"/>
          <a:stretch/>
        </p:blipFill>
        <p:spPr>
          <a:xfrm>
            <a:off x="0" y="2971800"/>
            <a:ext cx="9144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ons and U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i-fowler’s posi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Sitting position with or without positioning pillow at head 45-60 degree. used for eating and facilitate breat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md0905_04_img_5.jpg (33938 bytes)"/>
          <p:cNvPicPr/>
          <p:nvPr/>
        </p:nvPicPr>
        <p:blipFill>
          <a:blip r:embed="rId1"/>
          <a:stretch/>
        </p:blipFill>
        <p:spPr>
          <a:xfrm>
            <a:off x="0" y="2819520"/>
            <a:ext cx="9144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ons and U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fowler’s posi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Head &amp; trunk are raised 60-90 degrees, used for some people with heart  problems or having difficulty breat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md0905_04_img_4.jpg (30908 bytes)"/>
          <p:cNvPicPr/>
          <p:nvPr/>
        </p:nvPicPr>
        <p:blipFill>
          <a:blip r:embed="rId1"/>
          <a:stretch/>
        </p:blipFill>
        <p:spPr>
          <a:xfrm>
            <a:off x="0" y="2819520"/>
            <a:ext cx="9144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ons and U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ne posi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Lying flat on the abdomen, arm flexed toward head, &amp; head turned to one side. Useful for some unconscious  pati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md0905_04_img_0.jpg (11532 bytes)"/>
          <p:cNvPicPr/>
          <p:nvPr/>
        </p:nvPicPr>
        <p:blipFill>
          <a:blip r:embed="rId1"/>
          <a:stretch/>
        </p:blipFill>
        <p:spPr>
          <a:xfrm>
            <a:off x="228600" y="2971800"/>
            <a:ext cx="8763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tors Affecting Mo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al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olesc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itudes and Belie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rsing Diagno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tivity Intoler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mpaired Physical Mo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isk of Disuse Synd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lf-Care Defic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tered Health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isks for F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nning and Outcome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ed Re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storative Nursing Care (Changing position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ealth Promotion and Fitnes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e-of-Motion (ROM) Exerc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ed several times a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joint is placed through its full functional mo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ring from bed to ch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ring from bed to stret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stive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sting with Amb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ing the client to w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ambulating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vity and Exerc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y-exercise pattern: Refers to a person’s routine of exercise, activity, leisure and recreation needs for rest and mo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rcise: A type of physical activity involving the muscles performed to maintain or improve physical fit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sisting with Amb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stive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Canes                  -Crutches                   -Walk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Invacare WalkLite Walker"/>
          <p:cNvPicPr/>
          <p:nvPr/>
        </p:nvPicPr>
        <p:blipFill>
          <a:blip r:embed="rId1"/>
          <a:stretch/>
        </p:blipFill>
        <p:spPr>
          <a:xfrm>
            <a:off x="5943600" y="2819520"/>
            <a:ext cx="3200400" cy="4038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crutches"/>
          <p:cNvPicPr/>
          <p:nvPr/>
        </p:nvPicPr>
        <p:blipFill>
          <a:blip r:embed="rId2"/>
          <a:stretch/>
        </p:blipFill>
        <p:spPr>
          <a:xfrm>
            <a:off x="2514600" y="2819520"/>
            <a:ext cx="3095640" cy="40384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Ladies Brown Lucite Walking Cane"/>
          <p:cNvPicPr/>
          <p:nvPr/>
        </p:nvPicPr>
        <p:blipFill>
          <a:blip r:embed="rId3"/>
          <a:stretch/>
        </p:blipFill>
        <p:spPr>
          <a:xfrm>
            <a:off x="0" y="2857680"/>
            <a:ext cx="21337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s of exercis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tonic (dynamic) exerci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uscle shortens to produce contraction and active movement .e.g. running, walking, swimming, cyc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Advantag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- Increase muscle tone, mass, streng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- Maintain joint flexibility and circ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metric (static or setting) exerci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muscle contraction without moving the j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useful for strengthening abdominal, gluteal musc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No change in muscle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No joint mov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Maintaining strength in immobilized mus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6934320" y="5029200"/>
            <a:ext cx="22096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s of exercis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kinetic (resistive) exerci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volves muscle contraction or tension against resistance, can be either isotonic and isometr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exercises are used in physical conditioning &amp; are often done to build up certain muscle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 of exercise on bod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culoskeletal Syst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Increase and maintain muscle tone, size,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 Increase joint mobility, flexibility, and range of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 Maintain bone density &amp; str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ovascular Syst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cardiovascular function, by increasing cardiac output and strength of heart muscle con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 of exercise on bod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ory Syst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Improves gas exchange by increasing the ventilation &amp; oxyge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 tract Syst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Improve appetite, digestion and elimin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bolic Syst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Increase metabolic rate, thus increase the production of body heat and calorie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 of exercise on bod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inary Syst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Improve excretion of body waste through the kidne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ycho-neurologic Syst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Enhance sense of well-being and help to relieve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Improves the quality of slee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Improve self concept and self esteem by decrea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igumentary Syst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Maintain skin integ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7040" y="228240"/>
            <a:ext cx="670572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oning Cli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ed by the nur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certain procedures or surge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otect the client body from inju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maintain muscle t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event com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ons and U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rsal  (supine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Place patient on back with head and shoulders are slightly elev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Used for physical assessment , to provide comfort , &amp; change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md0905_04_img_1.jpg (17496 bytes)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7T18:25:34Z</dcterms:created>
  <dc:creator>Karen Levine/Alan Gelb</dc:creator>
  <dc:description/>
  <dc:language>en-US</dc:language>
  <cp:lastModifiedBy>thamir al-wadani</cp:lastModifiedBy>
  <cp:lastPrinted>2001-01-26T20:09:44Z</cp:lastPrinted>
  <dcterms:modified xsi:type="dcterms:W3CDTF">2014-03-18T23:51:10Z</dcterms:modified>
  <cp:revision>126</cp:revision>
  <dc:subject/>
  <dc:title>Chapter 3</dc:title>
</cp:coreProperties>
</file>