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39A-A8CB-4D60-87D2-485FF696D62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D7A4-9BFF-4534-A976-62F0DB9A5C8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E32-FD1A-4A77-AC56-6F178499BFB5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C96C-4CAE-4F20-8064-7E42A50B0D5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0D55-CA11-4BA6-AABD-E4D50436DA7D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0FB-C0A5-4D22-BED8-05FEC3CBA2F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8F8-B05F-446C-B194-202F8EEDBBB7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6BD9-7165-44C2-A101-FD2E0E02BE22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9E86-8EFF-4D26-97C0-EB62F91B6C09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F3DC-787F-43F4-AE8A-A6D543F14BD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20C-4BE1-497B-A2A0-FF6AA878E39C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1F7-0306-42CD-AAF4-35AE77AA78AE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2ECD-9E6E-4262-8493-FB0F78A4DA9C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2BDF-F4D9-48A0-B053-447877C162F1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AFCD-C7A8-43B7-A556-77B142A707FB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71D-6E6B-47AF-B620-0E95C443EA30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A95-3C87-4F6C-8C02-0E23E79A8725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7B68-D39F-4C4D-A8D0-4CCA07E9076D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31D0-F37E-44EB-9F5F-07AD1B1BB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9C5A-78C7-4EF8-A6E9-00284A234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8184-C2AE-458A-8FA7-16525E82E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59A1-2863-44EE-8671-5574902C3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805DE-7533-413C-A868-19EE140B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98D69-3855-4A37-A0BE-618DA547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102D5-E9C7-46B6-A216-9F1A0E66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35C0A-089E-4B4F-8A6E-E763DEC5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E8DF2-BA55-4EBB-B7D0-BBCAC2AD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A423A-D26B-4CAF-ABC8-D6500E75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FEEFD-D830-4453-B496-AA149AD4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9048-3FD2-47A9-86C5-772405941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13665-18FF-4F29-A18C-DEE86C3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ACC8B-6460-480C-A003-7079DA71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16A85-4439-403B-8FB7-EC2DEF7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D001A-BF8C-4615-AE11-B1223CDC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37E9B-1C26-4EB9-9237-D301EE46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B213-17C5-42E0-92E8-22B938FB4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FF56-64A8-4823-B2D3-5E4B162E6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4A35-A278-422E-A89A-F3E54F6CB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49FF-04A4-4A12-88A9-35BBA552B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C72E-64E5-4652-9BF8-100B70C47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B988-E053-4588-9998-97ABAD407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24C2-A2E8-4598-B13B-A49FFE967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f2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-</a:t>
            </a:r>
            <a:fld id="{2B731F7D-EF9F-41F1-A970-922E1FAF090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4F49-1063-4CF7-A30D-F9F3933CE513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CONCEPT OF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moting Healthy Physiologic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and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sal recumb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lace patient on back, legs flexed and slightly rotated ou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Used for pelvic examination, female catheterization, perinal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_+A+dorsal+recumbent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-fowler’s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Sitting position with or without positioning pillow at head 45-60 degree. used for eating and facilitate brea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d0905_04_img_5.jpg (33938 bytes)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owler’s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Head &amp; trunk are raised 60-90 degrees, used for some people with heart  problems or having difficulty brea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d0905_04_img_4.jpg (30908 bytes)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e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Lying flat on the abdomen, arm flexed toward head, &amp; head turned to one side. Useful for some unconscious  pat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md0905_04_img_0.jpg (11532 bytes)"/>
          <p:cNvPicPr/>
          <p:nvPr/>
        </p:nvPicPr>
        <p:blipFill>
          <a:blip r:embed="rId1"/>
          <a:stretch/>
        </p:blipFill>
        <p:spPr>
          <a:xfrm>
            <a:off x="228600" y="2971800"/>
            <a:ext cx="876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a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 an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Diagn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ity Intole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aired Physical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 of Disuse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f-Care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tered Health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s for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and Outcome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d Re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orative Nursing Care (Changing posi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th Promotion and Fit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-of-Motion (ROM)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several time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joint is placed through its full functional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ing from bed to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ing from bed to stre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iv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ing with Amb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the client to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mbulating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ity and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-exercise pattern: Refers to a person’s routine of exercise, activity, leisure and recreation needs for rest and mo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: A type of physical activity involving the muscles performed to maintain or improve physical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sting with Amb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iv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nes                  -Crutches                   -Wal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Invacare WalkLite Walker"/>
          <p:cNvPicPr/>
          <p:nvPr/>
        </p:nvPicPr>
        <p:blipFill>
          <a:blip r:embed="rId1"/>
          <a:stretch/>
        </p:blipFill>
        <p:spPr>
          <a:xfrm>
            <a:off x="5943600" y="2819520"/>
            <a:ext cx="3200400" cy="403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rutches"/>
          <p:cNvPicPr/>
          <p:nvPr/>
        </p:nvPicPr>
        <p:blipFill>
          <a:blip r:embed="rId2"/>
          <a:stretch/>
        </p:blipFill>
        <p:spPr>
          <a:xfrm>
            <a:off x="2514600" y="2819520"/>
            <a:ext cx="3095640" cy="4038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Ladies Brown Lucite Walking Cane"/>
          <p:cNvPicPr/>
          <p:nvPr/>
        </p:nvPicPr>
        <p:blipFill>
          <a:blip r:embed="rId3"/>
          <a:stretch/>
        </p:blipFill>
        <p:spPr>
          <a:xfrm>
            <a:off x="0" y="2857680"/>
            <a:ext cx="2133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xerci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onic (dynamic) exerci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cle shortens to produce contraction and active movement .e.g. running, walking, swimming,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- Increase muscle tone, mass, str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 Maintain joint flexibility and circ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metric (static or setting) exerci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muscle contraction without moving the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seful for strengthening abdominal, gluteal mus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No change in muscl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No joint mov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Maintaining strength in immobilized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220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xerci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kinetic (resistive) exerci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volves muscle contraction or tension against resistance, can be either isotonic and isome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ercises are used in physical conditioning &amp; are often done to build up certain muscl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exercise on bod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oskeletal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ncrease and maintain muscle tone, size,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Increase joint mobility, flexibility, and range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Maintain bone density &amp; str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ardiovascular function, by increasing cardiac output and strength of heart muscle con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exercise on bod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mproves gas exchange by increasing the ventilation &amp; oxyge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tract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Improve appetite, digestion and eli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crease metabolic rate, thus increase the production of body heat and calorie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exercise on bod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ry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mprove excretion of body waste through the kidn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-neurolog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Enhance sense of well-being and help to relieve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mproves the quality of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mprove self concept and self esteem by decrea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gumentary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aintain skin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ing Cl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by the n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ertain procedures or surg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tect the client body from inj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intain muscle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com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sal  (supine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lace patient on back with head and shoulders are slightly elev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sed for physical assessment , to provide comfort , &amp; change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md0905_04_img_1.jpg (17496 bytes)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thamir al-wadani</cp:lastModifiedBy>
  <cp:lastPrinted>2001-01-26T20:09:44Z</cp:lastPrinted>
  <dcterms:modified xsi:type="dcterms:W3CDTF">2014-03-18T23:51:10Z</dcterms:modified>
  <cp:revision>126</cp:revision>
  <dc:subject/>
  <dc:title>Chapter 3</dc:title>
</cp:coreProperties>
</file>