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3A3-CF11-4F27-B1A1-D94BC5A723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0CB-C914-4D94-BFEE-4CF81CAA626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3A6-1CCE-48FC-957C-FCADAECA9F3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865-F5D0-431D-925E-811D17B41F54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B05-01DF-43FA-9E07-58C782051DE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E63-18F4-4B7C-981A-EFA945B4BB78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C161-EBD8-433F-9DDE-BF292180288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C66-D6EC-4D40-BCB6-65DB6B4EE36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E59-B7AD-4D3C-A542-C69477B2133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3475-F496-4947-B05C-537A6667826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99E6-03A8-4F4A-80AB-8BFFD29818A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BCB-6BF9-4DC0-AEE0-FE906A4C44B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DDB-C763-490F-88D7-3A18EA9529A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0A3-38E2-44BF-8AD9-3E538ED46FB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E64-4801-4872-9893-D6A642680C6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248A-2165-417B-8CDE-BC4525351FC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8C7-9B6F-4E06-845F-BDD69D15FCE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587-3642-4570-9A6A-B3EB17A127D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8F9-4245-411F-9503-F23011F6987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40A-E21B-42B3-B7EE-111D65FF7B1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5B58-F64F-4625-802A-752E6658909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D7EF-BA61-4E66-9AD2-F1F3A52A3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7660-C83D-4F9A-B575-A5B0E2B83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D948-60AB-403D-82CD-84CFA4561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8C82-5335-4835-9CBB-53ACAD148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D4634-7CC5-46F9-A46F-38B5405F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9A9D0-D23C-46FF-AC70-4DB1654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B59E-1B9D-45D1-A41B-6EBA8924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8011D-6897-44AA-90A1-FE6668B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197F-0B51-424C-9F9E-9810D836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3F611-6AB3-46D7-A332-35B4AAC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13E0-C8B5-45EE-857A-0374ACAA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0F60-72E3-480F-B6CE-6B8C96962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7001-CA49-451A-8DFB-662498F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721F3-CE78-4D0C-9914-02FA508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ACE3-4882-47F4-BC9C-AC67A50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9DB83-A4F7-49E4-8812-1559FD91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0D7C6-43DF-47A2-8B60-F7712A9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369F-E942-4AD0-BF4F-D464BF153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A137-46AB-4F6B-857B-58A084B83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E753-1A01-48DA-8348-64CA042D6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57A7-0C1F-4065-B788-32763D2C6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59B8-1143-425C-B41B-21ACD2A72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12DB-9246-4543-9045-FA1CB3A5E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FB06-2162-4B47-88F3-22D5EEB1B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2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-</a:t>
            </a:r>
            <a:fld id="{84BDF85E-2D18-48A9-9745-5BD86EA4CA2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6E14-314A-4D0B-8E12-5B3C16134972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ONCEPT OF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nostic and Laborato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Oxi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erial Blood Gases (AB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tum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Func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globi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t X-Ray, Computeriz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nchos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ce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card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Nursing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ffective Airway Cl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ffective Breath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aired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ed Tissue Per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Nursing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cient 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y In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turbed Sleep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balanc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ute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Promote Airway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the patient effective cough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te postural drainage and chest physiotherap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 hydr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minister medicati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 environmental and lifestyle condi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artificial airway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ction the airwa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tioning an Endotracheal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39-29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mprove Breath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lient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controlled breathing exerc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chest drainag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mprove Oxygen Uptake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impl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asal c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Ventori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Rebreathing and Non-rebreathing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blood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ncrease Cardiac Output and Tissue Per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fluid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ctivity restrictions and assistance with activities of daily l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client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irway ob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 cardiopulmonary resuscitation (CP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Address Associated Nursing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lifestyle and activity adap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dietary and nutritional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omfort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ar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Transport an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 for Oxygen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pen flames in pat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 smoking signs in conspicu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o see electrical equipment in room is in good work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air into and out of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a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of fresh air into the lu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d by respiratory control centers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ox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decrease in blood oxyge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veolar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s the movement of gases from an area of greater pressure or concentration to an area of lower pressure or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xygen uptake (external respiration) is the exchange of oxygen from the alveolar space into the pulmonary capillary blo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bon dioxide diffuses from the blood to the alveolar spa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irculation/Per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pumps oxygenated blood into the arterial system, which carries it to the cells, and collects deoxygenated blood from the tissues through venous system back 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ellular Respiration (internal respi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iffuses from the blood to th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moves from the tissues to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ood is then reoxygenated by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of Vent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s and descends, lengthening the thoracic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intercoastal mus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, lifting the ribs upward and ou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rn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ushed forward, enlarging the chest from front to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lung volume and decreased intrapulmonic pressure allows air to move from an area of greater pressure (outside lungs ) to lesser pressure (inside lu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xation of these structures results in ex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terations in breathing patterns &amp; Alterations in respirator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hypnea (hypervent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dypnea (hypovent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a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xia &amp; hypox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al: altitude, heat and cold,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style Factors: cigarette smoking, occupation, activity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Status: e.g diseases of the respiratory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 &amp; emo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tion: e.g narco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er Alwadani</cp:lastModifiedBy>
  <cp:lastPrinted>2001-01-26T20:09:44Z</cp:lastPrinted>
  <dcterms:modified xsi:type="dcterms:W3CDTF">2014-03-30T23:29:40Z</dcterms:modified>
  <cp:revision>108</cp:revision>
  <dc:subject/>
  <dc:title>Chapter 3</dc:title>
</cp:coreProperties>
</file>