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7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8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E994-592D-4345-B29D-B235C72A027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2B5C-7283-450A-891A-0603FC003987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95D0-5DAA-4D2F-B6C7-673F375D1460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CCD9-D29E-49FA-BC55-7C38736BA9C5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2B0A-3CB1-4A4A-BD04-8AFDC55D1F74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FA97-B209-43A2-A464-105F111691D7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FCC4-8CD6-4413-B3D8-886E39744642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F9D0-345D-4682-AA1A-57563EB10A7C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8AAC-AFEE-4B91-9AC1-BAF1196B9190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1FB1-E791-4BC5-A6F9-1EC12C9B4843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E1D3-00D2-4F9C-B22E-628D6E77D6DA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D2F2-6257-4838-B660-AAFA0F44E55A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4FC0-32B2-4781-BB5D-FE2E4F2DCC13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7FDF-3B46-4F4B-A1E4-0E22C47CE863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52F3-DFBA-4112-A6CF-538FDF288BB5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E827-D101-408E-A69F-26D06D5BAFFC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9D7D-5920-4180-8BAB-BC3F8D41DA2B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B33A-C71E-45EE-9721-A6789933F8DA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74B0-7A5F-4B68-936E-CAFC2DFA70A0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DF75-E9A8-4D88-88FD-699A9D233CB2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48EE-61BF-4733-81CD-9DE8C65D55A1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4A3F-4488-4492-8368-A8A525DF1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F9D00-FF8F-4494-9790-92C3FB16D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9591-8269-4BE7-BBB1-1A57E8AFB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B971-51E2-49BB-B264-C271E4713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0D447-B6DF-447B-A9E7-E0B3E90E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1A19F-CFBE-4B08-AAAB-6470E3DF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C786F-4346-4C39-A2F6-C3807939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96849-8B58-4D15-B4A7-0BC2FED3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44EA0-B3E2-4C19-8E90-3A7DB212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70536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58C31-BCC0-4951-9DAF-EB69290D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26912-386A-4672-B341-8A044DDA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FC38-F2BB-4153-9D29-C7090FC66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51DED-9D8C-410D-B17B-DBB162A0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9F7A8-11EA-4D85-9C9D-FFDEB832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BCC83-E233-44D8-B4C2-1107B8B2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34229-44CD-430D-8A43-ECD88491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FF004-F9DC-4E0B-8C8D-6C4F6876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62DF-9DB0-4E3B-BE25-B14044562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C643-9A46-42D2-A0BF-26E91FDCF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652C-1912-404E-8A58-978075202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70536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FE8B-4DB7-448E-A7E6-1014A6F61B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8B769-37F8-4539-9100-FD8FA8CD5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11E5-5C60-46BF-93A0-07D4C2B2B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725F-38E4-4807-BAF3-59CA865302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305920" y="6283440"/>
            <a:ext cx="838080" cy="574560"/>
          </a:xfrm>
          <a:prstGeom prst="rect">
            <a:avLst/>
          </a:prstGeom>
          <a:solidFill>
            <a:srgbClr val="f2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-</a:t>
            </a:r>
            <a:fld id="{09B9E17B-E16A-494D-8130-C39C2AB3A96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9241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2417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9241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089D-99DC-4732-8754-2B2959C5E514}" type="slidenum">
              <a:rPr b="0" lang="ar-SA" sz="1400" spc="-1" strike="noStrike">
                <a:solidFill>
                  <a:srgbClr val="49241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28600" y="175212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CONCEPT OF NU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Promoting Healthy Physiologic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yge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74640" y="26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15920" y="36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agnostic and Laborator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 Oxi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erial Blood Gases (AB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tum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Function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globin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st X-Ray, Computerized Tom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nchos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race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hocard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rsing Diagn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Nursing Diagn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effective Airway Clea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effective Breath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mpaired Gas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reased Cardiac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tered Tissue Per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ary Nursing Diagn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ficient Knowled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vity In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turbed Sleep Patter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balanced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ute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ventions to Promote Airway Cl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ach the patient effective coughing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iate postural drainage and chest physiotherap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nitor hydr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minister medication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nitor environmental and lifestyle condition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age artificial airway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ction the airway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ctioning an Endotracheal T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39-29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ventions to Improve Breath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client proper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 controlled breathing exerci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 chest drainage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ventions to Improve Oxygen Uptake an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er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simple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Nasal can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Ventori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Rebreathing and Non-rebreathing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er blood com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ventions to Increase Cardiac Output and Tissue Per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fluid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activity restrictions and assistance with activities of daily li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on client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er med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Inter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irway ob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e cardiopulmonary resuscitation (CP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erventions to Address Associated Nursing Diagn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lifestyle and activity adap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dietary and nutritional modif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 comfort meas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ology of Oxyg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veolar Gas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Transport and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autions for Oxygen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open flames in pati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no smoking signs in conspicuous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o see electrical equipment in room is in good working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ology of Oxyg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Venti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ment of air into and out of the lu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a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y of fresh air into the lu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alve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ed by respiratory control centers in the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oxem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decrease in blood oxygen concen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ology of Oxyg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lveolar Gas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is the movement of gases from an area of greater pressure or concentration to an area of lower pressure or concen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xygen uptake (external respiration) is the exchange of oxygen from the alveolar space into the pulmonary capillary bloo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rbon dioxide diffuses from the blood to the alveolar spac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ology of Oxyg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Circulation/Per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eart pumps oxygenated blood into the arterial system, which carries it to the cells, and collects deoxygenated blood from the tissues through venous system back to the lu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ology of Oxyg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ellular Respiration (internal respi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ygen diffuses from the blood to the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dioxide moves from the tissues to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ood is then reoxygenated by the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ss of Venti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aphrag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racts and descends, lengthening the thoracic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ternal intercoastal mus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ract, lifting the ribs upward and ou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rn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pushed forward, enlarging the chest from front to 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lung volume and decreased intrapulmonic pressure allows air to move from an area of greater pressure (outside lungs ) to lesser pressure (inside lung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xation of these structures results in ex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lterations in breathing patterns &amp; Alterations in respiratory fun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hypnea (hyperventi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dypnea (hypoventi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sp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thop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a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xia &amp; hypox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s Affecting Oxyge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vironmental: altitude, heat and cold, air pol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festyle Factors: cigarette smoking, occupation, activity patte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Status: e.g diseases of the respiratory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ess &amp; emo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tion: e.g narco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7T18:25:34Z</dcterms:created>
  <dc:creator>Karen Levine/Alan Gelb</dc:creator>
  <dc:description/>
  <dc:language>en-US</dc:language>
  <cp:lastModifiedBy>Thamer Alwadani</cp:lastModifiedBy>
  <cp:lastPrinted>2001-01-26T20:09:44Z</cp:lastPrinted>
  <dcterms:modified xsi:type="dcterms:W3CDTF">2014-03-30T23:29:40Z</dcterms:modified>
  <cp:revision>108</cp:revision>
  <dc:subject/>
  <dc:title>Chapter 3</dc:title>
</cp:coreProperties>
</file>