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1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DC96-ED46-462C-8F3E-515F5D2E4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BC3B-0089-4B66-90BA-ACB0ED93C28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B9B3-5120-483D-906F-392A425E214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2C18-4378-4C1E-97F9-F398FF4C4CB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D39B-26AA-42D6-93C6-3BF7D244AE1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D2C5-6666-4998-AB5D-7AF96E013AE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1ADD-5949-4687-B5AF-7969A4491CB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1579-C2C1-46A7-88EF-FA183429475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5BBA-2547-4F01-B6B2-00D94CE5F69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6C13-BC89-4068-8A8F-A42117356EB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BC54-4FDE-414D-9BBD-2196365F3AE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006B-DC3D-43B3-BFD4-56F5ADE00C4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80D6-B4C5-4D75-8015-815B7465233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709E-5D31-435A-9ECA-9685779D53A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6B81-C614-4144-B47C-7BDBECE0D69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8FCF-C323-4C0C-BB4F-3D43D806220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4CBA-1191-41FD-AAF5-4C7B4210783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88AD-2845-4ABD-B51F-61014217F5B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5A04-6EB8-45B8-BF18-F65EDE481CB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A3F7-D806-4CDB-AEFF-C8DD05CDC72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6EF1-6096-45F5-BA48-06EC50CF5EB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E52CDFA2-5495-4372-8B26-0E450102992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C2B7E1C2-2615-4680-B097-9622E0E4480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68CC65B2-3105-41B7-B325-F055D33EA2A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29319588-9411-4679-BDAB-1FB01273E34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E7C51592-6792-4691-AB6E-5E7BF33B55E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4-</a:t>
            </a:r>
            <a:fld id="{E6194699-CA3E-4FEA-A143-435A8A4F9D1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26C5DB78-1D6E-44C2-9A3E-5ABBC7FD75D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F2AF7C4B-17BC-4471-B118-D63A4D9A411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06C0B708-DFC0-4A73-AC73-435D7ECD6EC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C66D7978-DFCC-47A1-99E5-43C67532CC4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071BE9A4-80C2-428B-A1AB-F93DDBA1C1B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F60CCE73-3AC3-4205-9ED8-473108C434C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A42D7696-5042-4150-B5C2-697A4B1FD9D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0"/>
            <a:ext cx="9144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ing Example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4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419040" y="486576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reakfast to include at least 420 calories, 5 milligrams of iron, 400 milligrams of calcium, 20 grams of protein, 12 grams of fiber, and must have no more than 20 grams of fat and 30 milligrams of cholestero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0" y="1193760"/>
          <a:ext cx="9105840" cy="36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3760"/>
                    <a:ext cx="910584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ata and Problem Definition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4"/>
          <p:cNvSpPr/>
          <p:nvPr/>
        </p:nvSpPr>
        <p:spPr>
          <a:xfrm>
            <a:off x="380880" y="1447920"/>
            <a:ext cx="838224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bran cerea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dry cerea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oatmea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oat bra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eg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slices of bac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orang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mil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orange juic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slices of wheat toas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0"/>
            <a:ext cx="887724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Construction – Decision Variables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3"/>
          <p:cNvSpPr/>
          <p:nvPr/>
        </p:nvSpPr>
        <p:spPr>
          <a:xfrm>
            <a:off x="192240" y="1155600"/>
            <a:ext cx="8710560" cy="62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inimize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Z = 0.18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2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0.1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1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1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09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       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0.4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16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07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9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1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9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7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6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1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2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6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420 calorie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20 g fat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27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8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30 mg cholesterol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5 mg iron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2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8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8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3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5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6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400 mg of calciu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7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                                                              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9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20 g  protein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1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i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0, for all j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Summary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4"/>
          <p:cNvSpPr/>
          <p:nvPr/>
        </p:nvSpPr>
        <p:spPr>
          <a:xfrm>
            <a:off x="6662160" y="6070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9" name="Picture 7" descr="F:\POM\Chapter 4\AAIOQKB0.jpg"/>
          <p:cNvPicPr/>
          <p:nvPr/>
        </p:nvPicPr>
        <p:blipFill>
          <a:blip r:embed="rId1"/>
          <a:stretch/>
        </p:blipFill>
        <p:spPr>
          <a:xfrm>
            <a:off x="343080" y="1554120"/>
            <a:ext cx="82296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4"/>
          <p:cNvSpPr/>
          <p:nvPr/>
        </p:nvSpPr>
        <p:spPr>
          <a:xfrm>
            <a:off x="4731840" y="6249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Excel Solver Window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4" name="Picture 7" descr="F:\POM\Chapter 4\AAFQREL0.jpg"/>
          <p:cNvPicPr/>
          <p:nvPr/>
        </p:nvPicPr>
        <p:blipFill>
          <a:blip r:embed="rId1"/>
          <a:stretch/>
        </p:blipFill>
        <p:spPr>
          <a:xfrm>
            <a:off x="457200" y="1389240"/>
            <a:ext cx="82296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0" y="60148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Times New Roman"/>
              </a:rPr>
              <a:t>Formulate a linear programming model for the problem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Summary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9" name="Picture 6" descr="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3"/>
          <p:cNvSpPr/>
          <p:nvPr/>
        </p:nvSpPr>
        <p:spPr>
          <a:xfrm>
            <a:off x="219240" y="1227240"/>
            <a:ext cx="8924760" cy="54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ximize Z = $0.085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0.05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0.065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+ 0.13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$14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-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$21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-1.2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- 1.2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$70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r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amount ($) invested in municipal bond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amount ($) invested in certificates of deposit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amount ($) invested in treasury bil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amount ($) invested in growth stock fun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Summary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617040" y="558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8" name="Picture 8" descr="F:\POM\Chapter 4\AAIOQJP0.jpg"/>
          <p:cNvPicPr/>
          <p:nvPr/>
        </p:nvPicPr>
        <p:blipFill>
          <a:blip r:embed="rId1"/>
          <a:stretch/>
        </p:blipFill>
        <p:spPr>
          <a:xfrm>
            <a:off x="355680" y="1755720"/>
            <a:ext cx="8229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4910040" y="6086520"/>
            <a:ext cx="21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Excel Solver Window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3" name="Picture 7" descr="F:\POM\Chapter 4\AAFQREN0.jpg"/>
          <p:cNvPicPr/>
          <p:nvPr/>
        </p:nvPicPr>
        <p:blipFill>
          <a:blip r:embed="rId1"/>
          <a:stretch/>
        </p:blipFill>
        <p:spPr>
          <a:xfrm>
            <a:off x="457200" y="1790640"/>
            <a:ext cx="8229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5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eport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5834160" y="608184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9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8" name="Picture 6" descr="F:\POM\Chapter 4\AAFQREO0.jpg"/>
          <p:cNvPicPr/>
          <p:nvPr/>
        </p:nvPicPr>
        <p:blipFill>
          <a:blip r:embed="rId1"/>
          <a:stretch/>
        </p:blipFill>
        <p:spPr>
          <a:xfrm>
            <a:off x="457200" y="1301760"/>
            <a:ext cx="8229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Definition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1"/>
          <a:stretch/>
        </p:blipFill>
        <p:spPr>
          <a:xfrm>
            <a:off x="0" y="1552680"/>
            <a:ext cx="91440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0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Definition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270000" y="132084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ur-product T-shirt/sweatshirt manufacturing compan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ust complete production within 72 hour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ruck capacity = 1,200 standard sized box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andard size box holds12 T-shir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ne-dozen sweatshirts box is three times size of standard box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25,000 available for a production ru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500 dozen blank T-shirts and sweatshirts in sto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ow many dozens (boxes) of each type of shirt to produce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4" descr=""/>
          <p:cNvPicPr/>
          <p:nvPr/>
        </p:nvPicPr>
        <p:blipFill>
          <a:blip r:embed="rId1"/>
          <a:stretch/>
        </p:blipFill>
        <p:spPr>
          <a:xfrm>
            <a:off x="711360" y="1311120"/>
            <a:ext cx="7810200" cy="51310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-432720" y="0"/>
            <a:ext cx="75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 Product Mix Example   (2 of 6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8" name="Object 2"/>
          <p:cNvGraphicFramePr/>
          <p:nvPr/>
        </p:nvGraphicFramePr>
        <p:xfrm>
          <a:off x="851040" y="1752480"/>
          <a:ext cx="7797600" cy="38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1752480"/>
                    <a:ext cx="77976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ata (3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3"/>
          <p:cNvSpPr/>
          <p:nvPr/>
        </p:nvSpPr>
        <p:spPr>
          <a:xfrm>
            <a:off x="330120" y="1244520"/>
            <a:ext cx="88138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dozens of sweatshirts,  front print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dozens of sweatshirts, back and front print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dozens of T-shirts, front print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dozens of T-shirts, back and front print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 Function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9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12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4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6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ai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0.1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0.2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0.08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0.2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72 h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,200 box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48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2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$25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dozen sweatshir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dozen T-shirts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6676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Construction (4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26676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5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468360" y="578160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1" name="Picture 7" descr="F:\POM\Chapter 4\AAIOQKA0.jpg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5"/>
          <p:cNvSpPr/>
          <p:nvPr/>
        </p:nvSpPr>
        <p:spPr>
          <a:xfrm>
            <a:off x="3622680" y="60595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Excel Solver Window (6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6" name="Picture 7" descr="F:\POM\Chapter 4\AAFQREH0.jpg"/>
          <p:cNvPicPr/>
          <p:nvPr/>
        </p:nvPicPr>
        <p:blipFill>
          <a:blip r:embed="rId1"/>
          <a:stretch/>
        </p:blipFill>
        <p:spPr>
          <a:xfrm>
            <a:off x="457200" y="1843200"/>
            <a:ext cx="82296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ata and Problem Definition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0" name="Picture 7" descr=""/>
          <p:cNvPicPr/>
          <p:nvPr/>
        </p:nvPicPr>
        <p:blipFill>
          <a:blip r:embed="rId1"/>
          <a:stretch/>
        </p:blipFill>
        <p:spPr>
          <a:xfrm>
            <a:off x="0" y="2162160"/>
            <a:ext cx="90550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User</cp:lastModifiedBy>
  <cp:lastPrinted>2001-04-05T18:48:46Z</cp:lastPrinted>
  <dcterms:modified xsi:type="dcterms:W3CDTF">2015-03-08T22:28:53Z</dcterms:modified>
  <cp:revision>223</cp:revision>
  <dc:subject/>
  <dc:title>No Slide Title</dc:title>
</cp:coreProperties>
</file>