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png" ContentType="image/png"/>
  <Override PartName="/ppt/media/image14.jpeg" ContentType="image/jpeg"/>
  <Override PartName="/ppt/media/image1.png" ContentType="image/png"/>
  <Override PartName="/ppt/media/image3.wmf" ContentType="image/x-wmf"/>
  <Override PartName="/ppt/media/image8.jpeg" ContentType="image/jpeg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01E0-1FCB-4B6C-BCD3-B43E6EB8B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0748-FB18-4113-9194-75DB6F33194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82BA-8D6E-42DD-B2D8-4F51D1FA2F4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2265-F5B0-42F2-8B65-A8A4E26002A3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8B8F-1122-4BDE-975A-711AB4DAAF1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15E1-91A3-4AD3-B9CF-1506B792CE9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6F0C-4F38-4E2F-AD2D-94F4BDD98ED0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4D9A-1DB3-4F67-8A05-458BD68F09A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F0E5-C63E-436C-87B5-4356A0ED066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CE5D-3C90-4808-84A0-E0BC0295C7A8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A75E-726E-4A28-9CA5-E5F99DCCEA7A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823B-D9CD-4685-BAAB-F6A6F49EEC1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1055-2107-45EA-BE19-23E8453B473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8575-E09C-44EF-B664-F1BA6E2D10F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EBCB-F663-40D5-86EC-B6B4D6083C38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2C47-8593-4EF5-9DA1-88A80E7D3C5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DC69-DD7C-467B-B118-25A21CC8B413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16CB-05CB-4F55-ABAC-971BDD597EA0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9DCB-B881-43DD-AEDB-434C0747D6E9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4EB2-418C-4DA1-928B-A7E82B9CC7A2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4831-4828-4F96-B9EA-1BBEF59708FA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0FE3F063-7B92-48E4-89E2-515480597B98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B617387E-56B0-4A56-89E2-20BBA9B94F0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A8E5BBF5-6289-4677-8F3F-DB9D1C648D65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CF812917-8CDB-4C0A-8564-C80B67A22B1B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9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9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9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A22D222D-2823-43A2-9D9B-FA7AD1BAE00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4-</a:t>
            </a:r>
            <a:fld id="{DDAE6AFC-5DAD-4771-A586-6CBE43682695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DCD7CAA0-80BB-4211-B518-E4ACADDC2C9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C743C21A-1988-4CAC-9C51-E3213D7A6F13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BEDC4FE9-E0C9-42AB-B63C-A429A7E46B2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95BAE641-47A3-4B8B-8D0D-6B690095983E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F00EF2AF-3A9D-4DB8-A211-17B560ED67BD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2A08AFF4-CBF9-43E8-B0DF-60C21AB9D2A9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4-</a:t>
            </a:r>
            <a:fld id="{47C782B2-1EE1-46E6-BE71-3A00F2548FD8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itle 1"/>
          <p:cNvSpPr/>
          <p:nvPr/>
        </p:nvSpPr>
        <p:spPr>
          <a:xfrm>
            <a:off x="0" y="0"/>
            <a:ext cx="9144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Linear Programming: Modeling Examples</a:t>
            </a:r>
            <a:endParaRPr b="0" lang="en-US" sz="6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5" name="Subtitle 2"/>
          <p:cNvSpPr/>
          <p:nvPr/>
        </p:nvSpPr>
        <p:spPr>
          <a:xfrm>
            <a:off x="0" y="4292640"/>
            <a:ext cx="9144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4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3"/>
          <p:cNvSpPr/>
          <p:nvPr/>
        </p:nvSpPr>
        <p:spPr>
          <a:xfrm>
            <a:off x="419040" y="486576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Breakfast to include at least 420 calories, 5 milligrams of iron, 400 milligrams of calcium, 20 grams of protein, 12 grams of fiber, and must have no more than 20 grams of fat and 30 milligrams of cholestero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682" name="Object 4"/>
          <p:cNvGraphicFramePr/>
          <p:nvPr/>
        </p:nvGraphicFramePr>
        <p:xfrm>
          <a:off x="0" y="1193760"/>
          <a:ext cx="9105840" cy="369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3760"/>
                    <a:ext cx="910584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Rectangle 7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Diet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ata and Problem Definition (1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5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4"/>
          <p:cNvSpPr/>
          <p:nvPr/>
        </p:nvSpPr>
        <p:spPr>
          <a:xfrm>
            <a:off x="380880" y="1447920"/>
            <a:ext cx="838224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cups of bran cereal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cups of dry cereal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cups of oatmeal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cups of oat bra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egg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slices of baco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7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orang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cups of milk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9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cups of orange juic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slices of wheat toas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0"/>
            <a:ext cx="887724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Diet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Construction – Decision Variables (2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9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0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3"/>
          <p:cNvSpPr/>
          <p:nvPr/>
        </p:nvSpPr>
        <p:spPr>
          <a:xfrm>
            <a:off x="192240" y="1155600"/>
            <a:ext cx="8710560" cy="62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Minimize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Z = 0.18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0.2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0.1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0.1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0.1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0.09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6       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0.4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7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0.16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0.5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9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0.07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subject to: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9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11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10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9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75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35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65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7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           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10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12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9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65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420 calories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+ 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20 g fat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27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8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1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30 mg cholesterol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6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7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5 mg iron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2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48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1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8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3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5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7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25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3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9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26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400 mg of calcium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3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6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7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7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                                                                               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9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9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20 g  protein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5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7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1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i 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0, for all j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Diet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Summary (3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3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4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4"/>
          <p:cNvSpPr/>
          <p:nvPr/>
        </p:nvSpPr>
        <p:spPr>
          <a:xfrm>
            <a:off x="6662160" y="60706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4.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Diet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with Excel (4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7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8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9" name="Picture 7" descr="F:\POM\Chapter 4\AAIOQKB0.jpg"/>
          <p:cNvPicPr/>
          <p:nvPr/>
        </p:nvPicPr>
        <p:blipFill>
          <a:blip r:embed="rId1"/>
          <a:stretch/>
        </p:blipFill>
        <p:spPr>
          <a:xfrm>
            <a:off x="343080" y="1554120"/>
            <a:ext cx="82296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4"/>
          <p:cNvSpPr/>
          <p:nvPr/>
        </p:nvSpPr>
        <p:spPr>
          <a:xfrm>
            <a:off x="4731840" y="624996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4.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1" name="Rectangle 5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Diet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with Excel Solver Window (5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2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3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4" name="Picture 7" descr="F:\POM\Chapter 4\AAFQREL0.jpg"/>
          <p:cNvPicPr/>
          <p:nvPr/>
        </p:nvPicPr>
        <p:blipFill>
          <a:blip r:embed="rId1"/>
          <a:stretch/>
        </p:blipFill>
        <p:spPr>
          <a:xfrm>
            <a:off x="457200" y="1389240"/>
            <a:ext cx="822960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3"/>
          <p:cNvSpPr/>
          <p:nvPr/>
        </p:nvSpPr>
        <p:spPr>
          <a:xfrm>
            <a:off x="0" y="60148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Times New Roman"/>
              </a:rPr>
              <a:t>Formulate a linear programming model for the problem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n Investment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Summary (1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7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8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9" name="Picture 6" descr=""/>
          <p:cNvPicPr/>
          <p:nvPr/>
        </p:nvPicPr>
        <p:blipFill>
          <a:blip r:embed="rId1"/>
          <a:stretch/>
        </p:blipFill>
        <p:spPr>
          <a:xfrm>
            <a:off x="0" y="1155600"/>
            <a:ext cx="9144000" cy="48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3"/>
          <p:cNvSpPr/>
          <p:nvPr/>
        </p:nvSpPr>
        <p:spPr>
          <a:xfrm>
            <a:off x="219240" y="1227240"/>
            <a:ext cx="8924760" cy="54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aximize Z = $0.085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0.05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0.065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+ 0.130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$14,0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-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-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-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$21,0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-1.2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3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- 1.2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$70,0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her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amount ($) invested in municipal bond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amount ($) invested in certificates of deposit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amount ($) invested in treasury bil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amount ($) invested in growth stock fund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n Investment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Summary (2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2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3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n Investment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with Excel (3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5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6" name="Text Box 6"/>
          <p:cNvSpPr/>
          <p:nvPr/>
        </p:nvSpPr>
        <p:spPr>
          <a:xfrm>
            <a:off x="617040" y="55846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4.7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7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18" name="Picture 8" descr="F:\POM\Chapter 4\AAIOQJP0.jpg"/>
          <p:cNvPicPr/>
          <p:nvPr/>
        </p:nvPicPr>
        <p:blipFill>
          <a:blip r:embed="rId1"/>
          <a:stretch/>
        </p:blipFill>
        <p:spPr>
          <a:xfrm>
            <a:off x="355680" y="1755720"/>
            <a:ext cx="8229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4910040" y="6086520"/>
            <a:ext cx="21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4.8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0" name="Rectangle 5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n Investment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with Excel Solver Window (4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1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2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23" name="Picture 7" descr="F:\POM\Chapter 4\AAFQREN0.jpg"/>
          <p:cNvPicPr/>
          <p:nvPr/>
        </p:nvPicPr>
        <p:blipFill>
          <a:blip r:embed="rId1"/>
          <a:stretch/>
        </p:blipFill>
        <p:spPr>
          <a:xfrm>
            <a:off x="457200" y="1790640"/>
            <a:ext cx="8229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5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n Investment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ensitivity Report (5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5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5834160" y="6081840"/>
            <a:ext cx="20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4.9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7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28" name="Picture 6" descr="F:\POM\Chapter 4\AAFQREO0.jpg"/>
          <p:cNvPicPr/>
          <p:nvPr/>
        </p:nvPicPr>
        <p:blipFill>
          <a:blip r:embed="rId1"/>
          <a:stretch/>
        </p:blipFill>
        <p:spPr>
          <a:xfrm>
            <a:off x="457200" y="1301760"/>
            <a:ext cx="82296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Product Mix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Problem Definition (1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7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49" name="Picture 6" descr=""/>
          <p:cNvPicPr/>
          <p:nvPr/>
        </p:nvPicPr>
        <p:blipFill>
          <a:blip r:embed="rId1"/>
          <a:stretch/>
        </p:blipFill>
        <p:spPr>
          <a:xfrm>
            <a:off x="0" y="1552680"/>
            <a:ext cx="914400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30" name="Picture 5" descr="3287383400_217756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Product Mix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Problem Definition (1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1" name="Rectangle 8"/>
          <p:cNvSpPr/>
          <p:nvPr/>
        </p:nvSpPr>
        <p:spPr>
          <a:xfrm>
            <a:off x="270000" y="1320840"/>
            <a:ext cx="8602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ur-product T-shirt/sweatshirt manufacturing company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ust complete production within 72 hour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ruck capacity = 1,200 standard sized box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andard size box holds12 T-shir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ne-dozen sweatshirts box is three times size of standard box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$25,000 available for a production ru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500 dozen blank T-shirts and sweatshirts in stock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How many dozens (boxes) of each type of shirt to produce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2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3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4" descr=""/>
          <p:cNvPicPr/>
          <p:nvPr/>
        </p:nvPicPr>
        <p:blipFill>
          <a:blip r:embed="rId1"/>
          <a:stretch/>
        </p:blipFill>
        <p:spPr>
          <a:xfrm>
            <a:off x="711360" y="1311120"/>
            <a:ext cx="7810200" cy="513108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5"/>
          <p:cNvSpPr/>
          <p:nvPr/>
        </p:nvSpPr>
        <p:spPr>
          <a:xfrm>
            <a:off x="-432720" y="0"/>
            <a:ext cx="75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 Product Mix Example   (2 of 6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6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7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8" name="Object 2"/>
          <p:cNvGraphicFramePr/>
          <p:nvPr/>
        </p:nvGraphicFramePr>
        <p:xfrm>
          <a:off x="851040" y="1752480"/>
          <a:ext cx="7797600" cy="38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1752480"/>
                    <a:ext cx="779760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Product Mix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ata (3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1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2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3"/>
          <p:cNvSpPr/>
          <p:nvPr/>
        </p:nvSpPr>
        <p:spPr>
          <a:xfrm>
            <a:off x="330120" y="1244520"/>
            <a:ext cx="88138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cision Variable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dozens of sweatshirts,  front printing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dozens of sweatshirts, back and front printing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dozens of T-shirts, front printing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dozens of T-shirts, back and front printing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bjective Function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9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12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4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6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Constraint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0.1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0.2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0.08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0.2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72 hr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,200 box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$3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48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2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3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$25,0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500 dozen sweatshir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500 dozen T-shirts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26676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Product Mix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Construction (4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6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26676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Product Mix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with Excel (5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8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468360" y="5781600"/>
            <a:ext cx="179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4.1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0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1" name="Picture 7" descr="F:\POM\Chapter 4\AAIOQKA0.jpg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5"/>
          <p:cNvSpPr/>
          <p:nvPr/>
        </p:nvSpPr>
        <p:spPr>
          <a:xfrm>
            <a:off x="3622680" y="60595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4.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3" name="Rectangle 6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Product Mix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with Excel Solver Window (6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4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5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6" name="Picture 7" descr="F:\POM\Chapter 4\AAFQREH0.jpg"/>
          <p:cNvPicPr/>
          <p:nvPr/>
        </p:nvPicPr>
        <p:blipFill>
          <a:blip r:embed="rId1"/>
          <a:stretch/>
        </p:blipFill>
        <p:spPr>
          <a:xfrm>
            <a:off x="457200" y="1843200"/>
            <a:ext cx="82296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Diet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ata and Problem Definition (1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8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9" name="Line 5"/>
          <p:cNvSpPr/>
          <p:nvPr/>
        </p:nvSpPr>
        <p:spPr>
          <a:xfrm>
            <a:off x="0" y="10746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0" name="Picture 7" descr=""/>
          <p:cNvPicPr/>
          <p:nvPr/>
        </p:nvPicPr>
        <p:blipFill>
          <a:blip r:embed="rId1"/>
          <a:stretch/>
        </p:blipFill>
        <p:spPr>
          <a:xfrm>
            <a:off x="0" y="2162160"/>
            <a:ext cx="90550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7:58:54Z</dcterms:created>
  <dc:creator>Preferred Customer</dc:creator>
  <dc:description/>
  <dc:language>en-US</dc:language>
  <cp:lastModifiedBy>User</cp:lastModifiedBy>
  <cp:lastPrinted>2001-04-05T18:48:46Z</cp:lastPrinted>
  <dcterms:modified xsi:type="dcterms:W3CDTF">2015-03-08T22:28:53Z</dcterms:modified>
  <cp:revision>223</cp:revision>
  <dc:subject/>
  <dc:title>No Slide Title</dc:title>
</cp:coreProperties>
</file>