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27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26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3.jpeg" ContentType="image/jpeg"/>
  <Override PartName="/ppt/media/image22.jpeg" ContentType="image/jpeg"/>
  <Override PartName="/ppt/media/image21.png" ContentType="image/png"/>
  <Override PartName="/ppt/media/image3.wmf" ContentType="image/x-wmf"/>
  <Override PartName="/ppt/media/image19.wmf" ContentType="image/x-wmf"/>
  <Override PartName="/ppt/media/image14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A9E5-374F-4E19-9546-99653BAC2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4E4D-520D-4B44-A9F1-0E1F7F256BA1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CEC9-E205-4960-A9F2-C3AD85D62BBE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5C6F-72CD-4552-BB3C-4A85FDEB9596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5737-46FD-4A3B-9DA4-B7AFD65E389B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5862-9896-4A65-9242-A2234707A580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0BDC-9B5C-4925-AC60-5C7A7435CDCA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9CDA-8071-4354-9D69-D2BB9C8BD4C4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22D4-FA3B-439B-9A68-4A66973D5EDF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4E2A-DBCB-4FC5-8938-304775520852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C732-B99F-49FC-9B14-61B48882A959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E0F0-5408-4A0A-82F7-55803B2BA492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D53F-EF04-4375-BD08-7E226D6A70F2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DD67-AE9D-4A82-A79F-4D4CBA7F35AF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261D-E078-41FC-842B-C09412CAA236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42CC-8F31-4363-B159-FC1306F16F2D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07C5-A8EE-47A2-8816-B9687C0D28F0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CA1E-1407-4242-90BF-56DF49C15E9E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770E-7AD4-4188-A4ED-C229BA445E20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0525-D63B-45AF-9ABC-21AB6C7C6E29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AEED-7002-4496-B741-E19344914699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FFC5-2D40-4927-A838-836103F1FD96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E23D-299A-4F2F-9ED7-322E13542AA4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E9CB-A885-4B67-AD7F-0DEB56837C09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CFFD-25AE-449B-9467-6E77860A91C6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3C77-41C8-452C-A0D0-F11071AA335C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0AE8-4015-4B34-B4CD-DC26269AAD81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355F-5A89-4214-ABB0-46AD581C97C4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944F-FCF1-4B04-92E0-3971589BC05E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30FA-840D-499C-9BD7-614A3E468047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A28D-DFC0-4E83-8B36-0EFB265F29AC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6012-4499-47D3-81B0-BC9547D55E24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-360" y="638136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5-</a:t>
            </a:r>
            <a:fld id="{031213E7-7790-4561-BE73-627F13483409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2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43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5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6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7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48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49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50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5-</a:t>
            </a:r>
            <a:fld id="{8DA09340-EE62-4426-87E8-C24863D2BF04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ftr" idx="10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9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9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9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9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99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5-</a:t>
            </a:r>
            <a:fld id="{25CDFF93-A772-4FE3-81CB-1099ABE322F3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ftr" idx="11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40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1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2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3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4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5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46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47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48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5-</a:t>
            </a:r>
            <a:fld id="{65F88857-2C0D-4CD2-A8C0-BF3870510454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1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8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9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9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9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97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5-</a:t>
            </a:r>
            <a:fld id="{7079817A-72D6-4480-B8A1-6B368D2A2D5A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8" name="Footer Placeholder 5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6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8" name="TextBox 24"/>
          <p:cNvSpPr/>
          <p:nvPr/>
        </p:nvSpPr>
        <p:spPr>
          <a:xfrm>
            <a:off x="8458200" y="6581880"/>
            <a:ext cx="685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1-</a:t>
            </a:r>
            <a:fld id="{4B74ECC1-9C79-4BD5-99DB-DC9D12CFB4E8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0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0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07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5-</a:t>
            </a:r>
            <a:fld id="{9F3574C8-5507-4897-B30D-A7535A587555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ftr" idx="3"/>
          </p:nvPr>
        </p:nvSpPr>
        <p:spPr>
          <a:xfrm>
            <a:off x="-360" y="6381360"/>
            <a:ext cx="4419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5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5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56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5-</a:t>
            </a:r>
            <a:fld id="{7C76BF9D-90AB-4C73-868F-53FBFA38F86C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4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97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98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99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0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1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2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03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05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5-</a:t>
            </a:r>
            <a:fld id="{FCDBC69D-5CCA-4E57-AD71-E4687A2C65A3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5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4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4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52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54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5-</a:t>
            </a:r>
            <a:fld id="{EF23E1CB-A47B-4C44-B5A2-B553CC7EFD03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6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9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0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0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0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03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5-</a:t>
            </a:r>
            <a:fld id="{589B5DAD-404E-4081-BA22-98FA945F8012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7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5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5-</a:t>
            </a:r>
            <a:fld id="{27489A60-52BD-4694-AFF4-7459DCCC18B4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8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9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9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9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01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5-</a:t>
            </a:r>
            <a:fld id="{2D251B99-34A3-4859-8FB0-7C29529DF85F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9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9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0.wmf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73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itle 1"/>
          <p:cNvSpPr/>
          <p:nvPr/>
        </p:nvSpPr>
        <p:spPr>
          <a:xfrm>
            <a:off x="0" y="901800"/>
            <a:ext cx="914400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Garamond"/>
              </a:rPr>
              <a:t>Integer Programming</a:t>
            </a:r>
            <a:endParaRPr b="0" lang="en-US" sz="6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5" name="Subtitle 2"/>
          <p:cNvSpPr/>
          <p:nvPr/>
        </p:nvSpPr>
        <p:spPr>
          <a:xfrm>
            <a:off x="0" y="4292640"/>
            <a:ext cx="91440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hapter 5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6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mputer Solution of IP Problem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otal Integer Model with Excel (1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2" name="Text Box 9"/>
          <p:cNvSpPr/>
          <p:nvPr/>
        </p:nvSpPr>
        <p:spPr>
          <a:xfrm>
            <a:off x="177840" y="1447920"/>
            <a:ext cx="6451560" cy="40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nteger Programming Model of Machine Shop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aximize Z = $100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+ $150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8,000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+ 4,000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$40,00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15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+ 30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200 ft</a:t>
            </a:r>
            <a:r>
              <a:rPr b="1" lang="en-US" sz="2400" spc="-1" strike="noStrike" baseline="30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 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0 and integer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3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4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 Box 5"/>
          <p:cNvSpPr/>
          <p:nvPr/>
        </p:nvSpPr>
        <p:spPr>
          <a:xfrm>
            <a:off x="3571920" y="6361200"/>
            <a:ext cx="19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xhibit 5.8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6" name="Rectangle 6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mputer Solution of IP Problem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otal Integer Model with Excel (2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7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8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89" name="Picture 7" descr="F:\POM\Chapter 5\AAIOQJW0.jpg"/>
          <p:cNvPicPr/>
          <p:nvPr/>
        </p:nvPicPr>
        <p:blipFill>
          <a:blip r:embed="rId1"/>
          <a:srcRect l="0" t="0" r="16824" b="0"/>
          <a:stretch/>
        </p:blipFill>
        <p:spPr>
          <a:xfrm>
            <a:off x="266760" y="1450800"/>
            <a:ext cx="843264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 Box 5"/>
          <p:cNvSpPr/>
          <p:nvPr/>
        </p:nvSpPr>
        <p:spPr>
          <a:xfrm>
            <a:off x="5675400" y="6006960"/>
            <a:ext cx="173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xhibit 5.1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1" name="Rectangle 8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mputer Solution of IP Problem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otal Integer Model with Excel (3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2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3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94" name="Picture 10" descr="F:\POM\Chapter 5\AAIOQJX0.jpg"/>
          <p:cNvPicPr/>
          <p:nvPr/>
        </p:nvPicPr>
        <p:blipFill>
          <a:blip r:embed="rId1"/>
          <a:stretch/>
        </p:blipFill>
        <p:spPr>
          <a:xfrm>
            <a:off x="457200" y="1628640"/>
            <a:ext cx="82296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1030"/>
          <p:cNvSpPr/>
          <p:nvPr/>
        </p:nvSpPr>
        <p:spPr>
          <a:xfrm>
            <a:off x="5003640" y="617220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xhibit 5.9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6" name="Rectangle 1032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mputer Solution of IP Problem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otal Integer Model with Excel (4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7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8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99" name="Picture 6" descr="F:\POM\Chapter 5\AAFQRFQ0.jpg"/>
          <p:cNvPicPr/>
          <p:nvPr/>
        </p:nvPicPr>
        <p:blipFill>
          <a:blip r:embed="rId1"/>
          <a:stretch/>
        </p:blipFill>
        <p:spPr>
          <a:xfrm>
            <a:off x="457200" y="1698480"/>
            <a:ext cx="8229600" cy="34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 Box 4"/>
          <p:cNvSpPr/>
          <p:nvPr/>
        </p:nvSpPr>
        <p:spPr>
          <a:xfrm>
            <a:off x="3565440" y="65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1" name="Text Box 5"/>
          <p:cNvSpPr/>
          <p:nvPr/>
        </p:nvSpPr>
        <p:spPr>
          <a:xfrm>
            <a:off x="3774960" y="6310440"/>
            <a:ext cx="22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xhibit 5.11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2" name="Rectangle 7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mputer Solution of IP Problem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otal Integer Model with Excel (5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3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4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05" name="Picture 9" descr="F:\POM\Chapter 5\AAIOQJY0.jpg"/>
          <p:cNvPicPr/>
          <p:nvPr/>
        </p:nvPicPr>
        <p:blipFill>
          <a:blip r:embed="rId1"/>
          <a:srcRect l="0" t="0" r="45836" b="0"/>
          <a:stretch/>
        </p:blipFill>
        <p:spPr>
          <a:xfrm>
            <a:off x="546120" y="1370160"/>
            <a:ext cx="7264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5"/>
          <p:cNvSpPr/>
          <p:nvPr/>
        </p:nvSpPr>
        <p:spPr>
          <a:xfrm>
            <a:off x="0" y="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A 0 - 1 Integer Model (1 of 2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7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08" name="Picture 7" descr=""/>
          <p:cNvPicPr/>
          <p:nvPr/>
        </p:nvPicPr>
        <p:blipFill>
          <a:blip r:embed="rId1"/>
          <a:stretch/>
        </p:blipFill>
        <p:spPr>
          <a:xfrm>
            <a:off x="0" y="1235160"/>
            <a:ext cx="9144000" cy="344808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8" descr=""/>
          <p:cNvPicPr/>
          <p:nvPr/>
        </p:nvPicPr>
        <p:blipFill>
          <a:blip r:embed="rId2"/>
          <a:stretch/>
        </p:blipFill>
        <p:spPr>
          <a:xfrm>
            <a:off x="0" y="4873680"/>
            <a:ext cx="914400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1030"/>
          <p:cNvSpPr/>
          <p:nvPr/>
        </p:nvSpPr>
        <p:spPr>
          <a:xfrm>
            <a:off x="304920" y="1187280"/>
            <a:ext cx="856764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nteger Programming Model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291600" indent="-29160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construction of a swimming pool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291600" indent="-291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construction of a tennis center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291600" indent="-291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construction of an athletic field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291600" indent="-291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construction of a gymnasium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291600" indent="-29160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30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9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40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1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291600" indent="-29160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291600" indent="-29160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35,00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10,00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5,00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90,00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,00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291600" indent="-29160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7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 acre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291600" indent="-29160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 facilit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291600" indent="-29160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4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=  0 or 1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291600" indent="-29160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1" name="Rectangle 1031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A 0 - 1 Integer Model (2 of 2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2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3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9"/>
          <p:cNvSpPr/>
          <p:nvPr/>
        </p:nvSpPr>
        <p:spPr>
          <a:xfrm>
            <a:off x="270000" y="148608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Recreational Facilities Example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30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9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40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1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 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$35,00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10,00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5,00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90,00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$120,00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7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 acre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 facilit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4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= 0 or 1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5" name="Rectangle 6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mputer Solution of IP Problem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0 – 1 Model with Excel (1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6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7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Text Box 5"/>
          <p:cNvSpPr/>
          <p:nvPr/>
        </p:nvSpPr>
        <p:spPr>
          <a:xfrm>
            <a:off x="758160" y="601992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xhibit 5.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9" name="Rectangle 6"/>
          <p:cNvSpPr/>
          <p:nvPr/>
        </p:nvSpPr>
        <p:spPr>
          <a:xfrm>
            <a:off x="0" y="0"/>
            <a:ext cx="872496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mputer Solution of IP Problem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0 – 1 Model with Excel (2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0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1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22" name="Picture 7" descr="F:\POM\Chapter 5\AAIOQJN0.jpg"/>
          <p:cNvPicPr/>
          <p:nvPr/>
        </p:nvPicPr>
        <p:blipFill>
          <a:blip r:embed="rId1"/>
          <a:srcRect l="0" t="0" r="8491" b="0"/>
          <a:stretch/>
        </p:blipFill>
        <p:spPr>
          <a:xfrm>
            <a:off x="457200" y="1652760"/>
            <a:ext cx="80452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6"/>
          <p:cNvSpPr/>
          <p:nvPr/>
        </p:nvSpPr>
        <p:spPr>
          <a:xfrm>
            <a:off x="3422160" y="60706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xhibit 5.3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4" name="Rectangle 9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mputer Solution of IP Problem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0 – 1 Model with Excel (3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5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6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27" name="Picture 6" descr="F:\POM\Chapter 5\AAFQRFK0.jpg"/>
          <p:cNvPicPr/>
          <p:nvPr/>
        </p:nvPicPr>
        <p:blipFill>
          <a:blip r:embed="rId1"/>
          <a:stretch/>
        </p:blipFill>
        <p:spPr>
          <a:xfrm>
            <a:off x="457200" y="1887480"/>
            <a:ext cx="822960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68016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Chapter Topics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90320" y="1600200"/>
            <a:ext cx="81644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Integer Programming (IP) Model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Computer Solution of Integer Programming Problems With Excel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0-1 Integer Programming Modeling Example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8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9"/>
          <p:cNvSpPr/>
          <p:nvPr/>
        </p:nvSpPr>
        <p:spPr>
          <a:xfrm>
            <a:off x="380880" y="2374920"/>
            <a:ext cx="8382240" cy="179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9" name="Rectangle 6"/>
          <p:cNvSpPr/>
          <p:nvPr/>
        </p:nvSpPr>
        <p:spPr>
          <a:xfrm>
            <a:off x="5174640" y="596916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xhibit 5.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mputer Solution of IP Problem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0 – 1 Model with Excel (4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1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2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33" name="Picture 8" descr="F:\POM\Chapter 5\AAFQRFL0.jpg"/>
          <p:cNvPicPr/>
          <p:nvPr/>
        </p:nvPicPr>
        <p:blipFill>
          <a:blip r:embed="rId1"/>
          <a:stretch/>
        </p:blipFill>
        <p:spPr>
          <a:xfrm>
            <a:off x="419040" y="1420920"/>
            <a:ext cx="822960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4"/>
          <p:cNvSpPr/>
          <p:nvPr/>
        </p:nvSpPr>
        <p:spPr>
          <a:xfrm>
            <a:off x="5546880" y="6396120"/>
            <a:ext cx="19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xhibit 5.5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5" name="Rectangle 6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mputer Solution of IP Problem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0 – 1 Model with Excel (5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6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37" name="Picture 7" descr="F:\POM\Chapter 5\AAIOQJO0.jpg"/>
          <p:cNvPicPr/>
          <p:nvPr/>
        </p:nvPicPr>
        <p:blipFill>
          <a:blip r:embed="rId1"/>
          <a:srcRect l="0" t="0" r="40586" b="0"/>
          <a:stretch/>
        </p:blipFill>
        <p:spPr>
          <a:xfrm>
            <a:off x="457200" y="1359000"/>
            <a:ext cx="775008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0 – 1 Integer Programming Modeling Exampl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Fixed Charge and Facility Example (1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9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40" name="Picture 10" descr=""/>
          <p:cNvPicPr/>
          <p:nvPr/>
        </p:nvPicPr>
        <p:blipFill>
          <a:blip r:embed="rId1"/>
          <a:stretch/>
        </p:blipFill>
        <p:spPr>
          <a:xfrm>
            <a:off x="0" y="1263600"/>
            <a:ext cx="914400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0 – 1 Integer Programming Modeling Exampl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Fixed Charge and Facility Example (1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2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43" name="Picture 2" descr=""/>
          <p:cNvPicPr/>
          <p:nvPr/>
        </p:nvPicPr>
        <p:blipFill>
          <a:blip r:embed="rId1"/>
          <a:stretch/>
        </p:blipFill>
        <p:spPr>
          <a:xfrm>
            <a:off x="0" y="1266840"/>
            <a:ext cx="9144000" cy="264780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3" descr=""/>
          <p:cNvPicPr/>
          <p:nvPr/>
        </p:nvPicPr>
        <p:blipFill>
          <a:blip r:embed="rId2"/>
          <a:stretch/>
        </p:blipFill>
        <p:spPr>
          <a:xfrm>
            <a:off x="179280" y="3848040"/>
            <a:ext cx="522936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5" name="Object 2"/>
          <p:cNvGraphicFramePr/>
          <p:nvPr/>
        </p:nvGraphicFramePr>
        <p:xfrm>
          <a:off x="76320" y="4648320"/>
          <a:ext cx="3352680" cy="191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648320"/>
                    <a:ext cx="335268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7" name="Object 3"/>
          <p:cNvGraphicFramePr/>
          <p:nvPr/>
        </p:nvGraphicFramePr>
        <p:xfrm>
          <a:off x="0" y="1994040"/>
          <a:ext cx="5321160" cy="2717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4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994040"/>
                    <a:ext cx="5321160" cy="27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9" name="Object 4"/>
          <p:cNvGraphicFramePr/>
          <p:nvPr/>
        </p:nvGraphicFramePr>
        <p:xfrm>
          <a:off x="5156280" y="1905120"/>
          <a:ext cx="3822480" cy="36828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75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56280" y="1905120"/>
                    <a:ext cx="3822480" cy="36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1" name="Rectangle 7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0 – 1 Integer Programming Modeling Exampl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Fixed Charge and Facility Example (1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2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53" name="Picture 2" descr=""/>
          <p:cNvPicPr/>
          <p:nvPr/>
        </p:nvPicPr>
        <p:blipFill>
          <a:blip r:embed="rId7"/>
          <a:stretch/>
        </p:blipFill>
        <p:spPr>
          <a:xfrm>
            <a:off x="0" y="1312920"/>
            <a:ext cx="890280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Text Box 3"/>
          <p:cNvSpPr/>
          <p:nvPr/>
        </p:nvSpPr>
        <p:spPr>
          <a:xfrm>
            <a:off x="0" y="1117440"/>
            <a:ext cx="8902800" cy="59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y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i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= 0 if farm i is not selected, and 1 if farm i is selected;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i = 1,2,3,4,5,6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ij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= potatoes (1000 tons) shipped from farm I to plant j;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j = A,B,C.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Minimize Z =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18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1A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+ 15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1B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+ 12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1C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+ 13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2A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+ 10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2B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+ 17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2C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+ 16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+ 14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3B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+18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3C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+ 19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4A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+ 15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4b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+ 16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4C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+ 17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5A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+ 19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5B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+12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5C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+ 14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6A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+ 16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6B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+ 12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6C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+ 405y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+ 390y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+ 450y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+ 368y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+ 520y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5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+ 465y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6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subject to: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       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1A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1B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1C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- 11.2y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  <a:ea typeface="Arial"/>
              </a:rPr>
              <a:t>≤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0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2A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2B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2C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-10.5y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≤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       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3A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3B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3C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- 12.8y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≤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0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4A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4b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4C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- 9.3y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≤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       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5A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5B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5C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- 10.8y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5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≤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0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6A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6B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6C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- 9.6y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6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≤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       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1A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2A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3A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4A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5A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6A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 = 12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       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1B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2B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3B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4B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5B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6B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 = 10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       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1C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2C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3C 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4C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5C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6C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 = 14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       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ij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  <a:ea typeface="Arial"/>
              </a:rPr>
              <a:t>≥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0                 y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i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= 0 or 1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5" name="Rectangle 4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0 – 1 Integer Programming Modeling Exampl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Fixed Charge and Facility Example (2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6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 Box 11"/>
          <p:cNvSpPr/>
          <p:nvPr/>
        </p:nvSpPr>
        <p:spPr>
          <a:xfrm>
            <a:off x="5469840" y="619776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xhibit 5.18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8" name="Rectangle 7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0 – 1 Integer Programming Modeling Exampl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Fixed Charge and Facility Example (3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9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60" name="Picture 7" descr="F:\POM\Chapter 5\AAIOQKE0.jpg"/>
          <p:cNvPicPr/>
          <p:nvPr/>
        </p:nvPicPr>
        <p:blipFill>
          <a:blip r:embed="rId1"/>
          <a:srcRect l="0" t="0" r="25311" b="0"/>
          <a:stretch/>
        </p:blipFill>
        <p:spPr>
          <a:xfrm>
            <a:off x="457200" y="1623960"/>
            <a:ext cx="7365960" cy="43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 Box 6"/>
          <p:cNvSpPr/>
          <p:nvPr/>
        </p:nvSpPr>
        <p:spPr>
          <a:xfrm>
            <a:off x="4732920" y="598176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xhibit 5.19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2" name="Rectangle 7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0 – 1 Integer Programming Modeling Exampl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Fixed Charge and Facility Example (4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3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64" name="Picture 6" descr="F:\POM\Chapter 5\AAIOQKF0.jpg"/>
          <p:cNvPicPr/>
          <p:nvPr/>
        </p:nvPicPr>
        <p:blipFill>
          <a:blip r:embed="rId1"/>
          <a:stretch/>
        </p:blipFill>
        <p:spPr>
          <a:xfrm>
            <a:off x="457200" y="1719360"/>
            <a:ext cx="822960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4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0 – 1 Integer Programming Modeling Exampl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et Covering Example (1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6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67" name="Picture 7" descr=""/>
          <p:cNvPicPr/>
          <p:nvPr/>
        </p:nvPicPr>
        <p:blipFill>
          <a:blip r:embed="rId1"/>
          <a:stretch/>
        </p:blipFill>
        <p:spPr>
          <a:xfrm>
            <a:off x="0" y="1252440"/>
            <a:ext cx="9144000" cy="77148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8" descr=""/>
          <p:cNvPicPr/>
          <p:nvPr/>
        </p:nvPicPr>
        <p:blipFill>
          <a:blip r:embed="rId2"/>
          <a:stretch/>
        </p:blipFill>
        <p:spPr>
          <a:xfrm>
            <a:off x="0" y="2154240"/>
            <a:ext cx="700092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Text Box 3"/>
          <p:cNvSpPr/>
          <p:nvPr/>
        </p:nvSpPr>
        <p:spPr>
          <a:xfrm>
            <a:off x="0" y="1062000"/>
            <a:ext cx="9334440" cy="60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37160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i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= city i, i = 1 to 12;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i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= 0 if city is not selected as a hub and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i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= 1 if it is.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964"/>
              </a:spcBef>
              <a:tabLst>
                <a:tab algn="l" pos="0"/>
                <a:tab algn="l" pos="137160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Minimize Z =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5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6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7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8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9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0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2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964"/>
              </a:spcBef>
              <a:tabLst>
                <a:tab algn="l" pos="0"/>
                <a:tab algn="l" pos="137160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Atlanta: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8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1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37160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Boston: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0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0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1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37160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Charlotte: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1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37160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Cincinnati: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5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6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8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0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1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37160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Detroit: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5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6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7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0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1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37160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Indianapolis: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5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6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7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8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2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1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37160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Milwaukee: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5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6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7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1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37160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Nashville: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6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8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2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1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37160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New York: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9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1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37160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Pittsburgh: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5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0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1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37160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Richmond: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9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0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1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37160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St Louis: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6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8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2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1             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ij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= 0 or 1         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0" name="Rectangle 5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0 – 1 Integer Programming Modeling Exampl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et Covering Example (2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1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Integer Programming Model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ypes of Model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0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571680" y="1587600"/>
          <a:ext cx="8127720" cy="3565440"/>
        </p:xfrm>
        <a:graphic>
          <a:graphicData uri="http://schemas.openxmlformats.org/drawingml/2006/table">
            <a:tbl>
              <a:tblPr/>
              <a:tblGrid>
                <a:gridCol w="2755800"/>
                <a:gridCol w="537192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Total Integer Model:</a:t>
                      </a:r>
                      <a:endParaRPr b="0" lang="en-US" sz="24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All decision variables required to have </a:t>
                      </a: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integer solution values.</a:t>
                      </a:r>
                      <a:endParaRPr b="0" lang="en-US" sz="24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0-1 Integer Model:</a:t>
                      </a:r>
                      <a:endParaRPr b="0" lang="en-US" sz="24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All decision variables required to have </a:t>
                      </a: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integer values of zero or one.</a:t>
                      </a:r>
                      <a:endParaRPr b="0" lang="en-US" sz="24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0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Mixed Integer Model: </a:t>
                      </a:r>
                      <a:endParaRPr b="0" lang="en-US" sz="24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Some</a:t>
                      </a: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of the decision variables (but not all) </a:t>
                      </a: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required to have integer values.</a:t>
                      </a:r>
                      <a:endParaRPr b="0" lang="en-US" sz="24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2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0 – 1 Integer Programming Modeling Exampl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et Covering Example (3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3" name="Rectangle 17"/>
          <p:cNvSpPr/>
          <p:nvPr/>
        </p:nvSpPr>
        <p:spPr>
          <a:xfrm>
            <a:off x="8858160" y="5864400"/>
            <a:ext cx="285840" cy="117360"/>
          </a:xfrm>
          <a:prstGeom prst="rect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4" name="Text Box 5"/>
          <p:cNvSpPr/>
          <p:nvPr/>
        </p:nvSpPr>
        <p:spPr>
          <a:xfrm>
            <a:off x="6620040" y="6396120"/>
            <a:ext cx="191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xhibit 5.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5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76" name="Picture 13" descr="F:\POM\Chapter 5\AAIOQKG0.jpg"/>
          <p:cNvPicPr/>
          <p:nvPr/>
        </p:nvPicPr>
        <p:blipFill>
          <a:blip r:embed="rId1"/>
          <a:stretch/>
        </p:blipFill>
        <p:spPr>
          <a:xfrm>
            <a:off x="393840" y="1469880"/>
            <a:ext cx="8229600" cy="38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Text Box 6"/>
          <p:cNvSpPr/>
          <p:nvPr/>
        </p:nvSpPr>
        <p:spPr>
          <a:xfrm>
            <a:off x="4983120" y="6184800"/>
            <a:ext cx="21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xhibit 5.21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8" name="Rectangle 7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0 – 1 Integer Programming Modeling Exampl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et Covering Example (4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9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80" name="Picture 6" descr="F:\POM\Chapter 5\AAIOQKH0.jpg"/>
          <p:cNvPicPr/>
          <p:nvPr/>
        </p:nvPicPr>
        <p:blipFill>
          <a:blip r:embed="rId1"/>
          <a:stretch/>
        </p:blipFill>
        <p:spPr>
          <a:xfrm>
            <a:off x="457200" y="1658880"/>
            <a:ext cx="82296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</a:t>
            </a: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Total</a:t>
            </a: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 Integer Model (1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4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55" name="Picture 9" descr=""/>
          <p:cNvPicPr/>
          <p:nvPr/>
        </p:nvPicPr>
        <p:blipFill>
          <a:blip r:embed="rId1"/>
          <a:stretch/>
        </p:blipFill>
        <p:spPr>
          <a:xfrm>
            <a:off x="0" y="4933800"/>
            <a:ext cx="9144000" cy="72396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7" descr=""/>
          <p:cNvPicPr/>
          <p:nvPr/>
        </p:nvPicPr>
        <p:blipFill>
          <a:blip r:embed="rId2"/>
          <a:stretch/>
        </p:blipFill>
        <p:spPr>
          <a:xfrm>
            <a:off x="4680" y="1500120"/>
            <a:ext cx="913464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7" name="Object 2"/>
          <p:cNvGraphicFramePr/>
          <p:nvPr/>
        </p:nvGraphicFramePr>
        <p:xfrm>
          <a:off x="1054080" y="3086280"/>
          <a:ext cx="7175520" cy="350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4080" y="3086280"/>
                    <a:ext cx="717552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9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</a:t>
            </a: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Total</a:t>
            </a: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 Integer Model (2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0" name="Rectangle 6"/>
          <p:cNvSpPr/>
          <p:nvPr/>
        </p:nvSpPr>
        <p:spPr>
          <a:xfrm>
            <a:off x="270000" y="118728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chine shop obtaining new presses and lathe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rginal profitability: each press $100/day; each lathe $150/day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Resource constraints: $40,000 budget, 200 sq. ft. floor spac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chine purchase prices and space requirements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1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6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A Total Integer Model (3 of 3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3" name="Rectangle 7"/>
          <p:cNvSpPr/>
          <p:nvPr/>
        </p:nvSpPr>
        <p:spPr>
          <a:xfrm>
            <a:off x="270000" y="130176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nteger Programming  Model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10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1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$8,00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4,00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$40,00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00 ft</a:t>
            </a:r>
            <a:r>
              <a:rPr b="0" lang="en-US" sz="2400" spc="-1" strike="noStrike" baseline="30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 and integer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presse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lathe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4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5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17520" y="1720800"/>
            <a:ext cx="8567640" cy="45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Rounding non-integer solution values up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o the nearest integer value can result in an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infeasible solution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Garamond"/>
              </a:rPr>
              <a:t>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feasible solution is ensured by rounding down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non-integer solution values but may result in a less than optimal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(sub-optimal) solution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7" name="Rectangle 8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Integer Programming Graphical Solution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8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9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9"/>
          <p:cNvSpPr/>
          <p:nvPr/>
        </p:nvSpPr>
        <p:spPr>
          <a:xfrm>
            <a:off x="449568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71" name="Picture 5" descr="05-01"/>
          <p:cNvPicPr/>
          <p:nvPr/>
        </p:nvPicPr>
        <p:blipFill>
          <a:blip r:embed="rId1"/>
          <a:stretch/>
        </p:blipFill>
        <p:spPr>
          <a:xfrm>
            <a:off x="3822840" y="1344600"/>
            <a:ext cx="4851360" cy="4729320"/>
          </a:xfrm>
          <a:prstGeom prst="rect">
            <a:avLst/>
          </a:prstGeom>
          <a:ln w="0">
            <a:noFill/>
          </a:ln>
        </p:spPr>
      </p:pic>
      <p:sp>
        <p:nvSpPr>
          <p:cNvPr id="672" name="Rectangle 8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Integer Programming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of Machine Shop Mod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3" name="Text Box 10"/>
          <p:cNvSpPr/>
          <p:nvPr/>
        </p:nvSpPr>
        <p:spPr>
          <a:xfrm>
            <a:off x="0" y="1663560"/>
            <a:ext cx="4508640" cy="37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Maximize Z = $10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$15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8,00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4,00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$40,000 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     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15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3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200 ft</a:t>
            </a:r>
            <a:r>
              <a:rPr b="1" lang="en-US" sz="2200" spc="-1" strike="noStrike" baseline="30000">
                <a:solidFill>
                  <a:srgbClr val="000514"/>
                </a:solidFill>
                <a:latin typeface="Garamond"/>
              </a:rPr>
              <a:t>2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0 and integer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Optimal Solution: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Z = $1,055.56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= 2.22 presses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= 5.55 lathes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4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5" name="Text Box 12"/>
          <p:cNvSpPr/>
          <p:nvPr/>
        </p:nvSpPr>
        <p:spPr>
          <a:xfrm>
            <a:off x="301680" y="6060960"/>
            <a:ext cx="884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5.1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easible Solution Space with Integer Solution Point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6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Branch and Bound Method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8" name="Rectangle 5"/>
          <p:cNvSpPr/>
          <p:nvPr/>
        </p:nvSpPr>
        <p:spPr>
          <a:xfrm>
            <a:off x="270000" y="118728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49"/>
              </a:spcBef>
              <a:buClr>
                <a:srgbClr val="003399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raditional approach to solving integer programming problem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36200" indent="-315360">
              <a:spcBef>
                <a:spcPts val="104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Feasible solutions can be partitioned into smaller subset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36200" indent="-315360">
              <a:spcBef>
                <a:spcPts val="104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maller subsets evaluated until best solution is foun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36200" indent="-315360">
              <a:spcBef>
                <a:spcPts val="104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ethod is a tedious and complex mathematical proces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15360" indent="-315360">
              <a:spcBef>
                <a:spcPts val="1049"/>
              </a:spcBef>
              <a:buClr>
                <a:srgbClr val="003399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15360" indent="-315360">
              <a:spcBef>
                <a:spcPts val="1049"/>
              </a:spcBef>
              <a:buClr>
                <a:srgbClr val="003399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Excel and QM for Windows used in this book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15360" indent="-315360">
              <a:spcBef>
                <a:spcPts val="1049"/>
              </a:spcBef>
              <a:buClr>
                <a:srgbClr val="003399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15360" indent="-315360">
              <a:spcBef>
                <a:spcPts val="1049"/>
              </a:spcBef>
              <a:buClr>
                <a:srgbClr val="003399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ee book’s companion website – </a:t>
            </a:r>
            <a:r>
              <a:rPr b="1" i="1" lang="en-US" sz="2400" spc="-1" strike="noStrike">
                <a:solidFill>
                  <a:srgbClr val="000514"/>
                </a:solidFill>
                <a:latin typeface="Garamond"/>
              </a:rPr>
              <a:t>“Integer Programming:  the Branch and Bound Method”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for detailed description of this metho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9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0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9T17:58:54Z</dcterms:created>
  <dc:creator>Preferred Customer</dc:creator>
  <dc:description/>
  <dc:language>en-US</dc:language>
  <cp:lastModifiedBy>KSU</cp:lastModifiedBy>
  <cp:lastPrinted>2015-04-20T05:36:01Z</cp:lastPrinted>
  <dcterms:modified xsi:type="dcterms:W3CDTF">2015-04-20T05:47:55Z</dcterms:modified>
  <cp:revision>228</cp:revision>
  <dc:subject/>
  <dc:title>No Slide Title</dc:title>
</cp:coreProperties>
</file>