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3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6F28-509F-4740-9750-C784DED5E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C0E0-54C3-418A-A8A8-20D08886C73B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2454-09CE-4C6C-9F2E-643BB4A1CF4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BD70-BE7A-4A54-81B2-3F0DCB5EEDA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4D5C-254E-46DB-B903-B36BE001FBA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8AA-5D29-48C6-936E-6A9ADD4D1D38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A1DA-E3C7-4400-8D63-00896D72C402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9365-7E52-45D6-BD6C-74478A83ED3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39DA-1AC4-4AFE-96BC-4D49DB3D30A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4EF1-EDAB-47BA-8160-F0DBAE682BB1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71B-B209-4FCD-86A5-E09CAE4E74EF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E30E-5B8D-468F-9916-04D268E6277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F259-346C-42A5-A61E-A63ABA150A8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CBA-7204-4DBA-AC47-802711E842DC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4B7-9F3A-4966-B459-31C96FDA2DB8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318-B138-449A-89DD-79FA6BB1CBDA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870C-B60B-4B35-8DEE-7F751EB07DA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EA2D-E251-404D-8454-A65D5A343947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A34E-5252-47D1-84D0-B881853CB95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DD03-1A29-477D-81E3-7D25D50713D7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47D-4937-470F-B15F-AAAE9294D5CD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C9E-4440-4CF7-A357-3EFBAF1158D8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FDD1-F225-4BF7-A170-D9D9ED51D017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E54-8A91-4E7A-A2D3-06D06C4468A5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4871-C154-48CA-BECF-23F62D909434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14C2-B8EB-4AA0-AA7E-86CB9EDF9520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BC40-007E-42C0-8ED5-722349E3C758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939A-17D2-45A2-B687-452439D73526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D728-BE55-43E0-9455-99AE8B693D7C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31AD-A016-4A48-91F2-9A4242D8992E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77D9-BA69-4201-9E86-8DB9278DE920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02D3-502B-4BF8-ACAE-691ADA16F9D9}" type="slidenum">
              <a:rPr b="0" lang="en-US" sz="1200" spc="-1" strike="noStrike">
                <a:solidFill>
                  <a:srgbClr val="000514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B5B7BD2D-CD02-44C1-99AD-8B3070D835F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536F11BF-41F7-4E78-9FD6-433DC57AB3F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BEB667C3-5927-4B3C-AE86-79B117DD1D8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DD6CAF56-53CC-4843-9FFC-DBE9D0DFE20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63CDC180-04F4-45AF-ABB3-11EB854F669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42AE344F-DDCA-4EAD-B57C-D93AC0A5996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8D8D1970-AC0E-42C8-A0E2-42D17B82D39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99D760A2-A33D-4389-BFA8-B55B1E15BEE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ED9FB310-695B-4DCE-8372-F53E300A149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3F0A40DB-8C07-4F8A-A105-D000FE2F520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CC98AE3A-FE2B-4A3A-9DC3-2453D85C939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842ECBA6-E493-4AB5-B6AD-69A65302D45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5-</a:t>
            </a:r>
            <a:fld id="{356D6FFD-AB73-49C8-B223-FCDE57918E7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901800"/>
            <a:ext cx="9144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Integer Programming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5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177840" y="1447920"/>
            <a:ext cx="645156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teger Programming Model of Machine Shop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Z = $10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$15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8,00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4,00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$40,0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15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200 ft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0 and intege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5"/>
          <p:cNvSpPr/>
          <p:nvPr/>
        </p:nvSpPr>
        <p:spPr>
          <a:xfrm>
            <a:off x="3571920" y="636120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9" name="Picture 7" descr="F:\POM\Chapter 5\AAIOQJW0.jpg"/>
          <p:cNvPicPr/>
          <p:nvPr/>
        </p:nvPicPr>
        <p:blipFill>
          <a:blip r:embed="rId1"/>
          <a:srcRect l="0" t="0" r="16824" b="0"/>
          <a:stretch/>
        </p:blipFill>
        <p:spPr>
          <a:xfrm>
            <a:off x="266760" y="1450800"/>
            <a:ext cx="8432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5"/>
          <p:cNvSpPr/>
          <p:nvPr/>
        </p:nvSpPr>
        <p:spPr>
          <a:xfrm>
            <a:off x="5675400" y="6006960"/>
            <a:ext cx="17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4" name="Picture 10" descr="F:\POM\Chapter 5\AAIOQJX0.jpg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030"/>
          <p:cNvSpPr/>
          <p:nvPr/>
        </p:nvSpPr>
        <p:spPr>
          <a:xfrm>
            <a:off x="5003640" y="61722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1032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9" name="Picture 6" descr="F:\POM\Chapter 5\AAFQRFQ0.jpg"/>
          <p:cNvPicPr/>
          <p:nvPr/>
        </p:nvPicPr>
        <p:blipFill>
          <a:blip r:embed="rId1"/>
          <a:stretch/>
        </p:blipFill>
        <p:spPr>
          <a:xfrm>
            <a:off x="457200" y="1698480"/>
            <a:ext cx="82296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4"/>
          <p:cNvSpPr/>
          <p:nvPr/>
        </p:nvSpPr>
        <p:spPr>
          <a:xfrm>
            <a:off x="35654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3774960" y="6310440"/>
            <a:ext cx="22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teger Model with Excel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9" descr="F:\POM\Chapter 5\AAIOQJY0.jpg"/>
          <p:cNvPicPr/>
          <p:nvPr/>
        </p:nvPicPr>
        <p:blipFill>
          <a:blip r:embed="rId1"/>
          <a:srcRect l="0" t="0" r="45836" b="0"/>
          <a:stretch/>
        </p:blipFill>
        <p:spPr>
          <a:xfrm>
            <a:off x="546120" y="1370160"/>
            <a:ext cx="7264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0 - 1 Integer Model (1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8" name="Picture 7" descr="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3448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"/>
          <p:cNvPicPr/>
          <p:nvPr/>
        </p:nvPicPr>
        <p:blipFill>
          <a:blip r:embed="rId2"/>
          <a:stretch/>
        </p:blipFill>
        <p:spPr>
          <a:xfrm>
            <a:off x="0" y="4873680"/>
            <a:ext cx="91440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030"/>
          <p:cNvSpPr/>
          <p:nvPr/>
        </p:nvSpPr>
        <p:spPr>
          <a:xfrm>
            <a:off x="304920" y="1187280"/>
            <a:ext cx="856764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teger Programming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 swimming poo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 tennis cente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n athletic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nstruction of a gymnasiu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3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3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7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 acr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 facil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 0 or 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1031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0 - 1 Integer Model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9"/>
          <p:cNvSpPr/>
          <p:nvPr/>
        </p:nvSpPr>
        <p:spPr>
          <a:xfrm>
            <a:off x="270000" y="14860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creational Facilities Exampl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3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1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5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90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$12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7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 acr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 facilit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0 or 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5"/>
          <p:cNvSpPr/>
          <p:nvPr/>
        </p:nvSpPr>
        <p:spPr>
          <a:xfrm>
            <a:off x="758160" y="601992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0" y="0"/>
            <a:ext cx="87249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2" name="Picture 7" descr="F:\POM\Chapter 5\AAIOQJN0.jpg"/>
          <p:cNvPicPr/>
          <p:nvPr/>
        </p:nvPicPr>
        <p:blipFill>
          <a:blip r:embed="rId1"/>
          <a:srcRect l="0" t="0" r="8491" b="0"/>
          <a:stretch/>
        </p:blipFill>
        <p:spPr>
          <a:xfrm>
            <a:off x="457200" y="1652760"/>
            <a:ext cx="8045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6"/>
          <p:cNvSpPr/>
          <p:nvPr/>
        </p:nvSpPr>
        <p:spPr>
          <a:xfrm>
            <a:off x="3422160" y="6070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3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7" name="Picture 6" descr="F:\POM\Chapter 5\AAFQRFK0.jpg"/>
          <p:cNvPicPr/>
          <p:nvPr/>
        </p:nvPicPr>
        <p:blipFill>
          <a:blip r:embed="rId1"/>
          <a:stretch/>
        </p:blipFill>
        <p:spPr>
          <a:xfrm>
            <a:off x="457200" y="1887480"/>
            <a:ext cx="82296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6801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0320" y="1600200"/>
            <a:ext cx="81644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teger Programming (IP)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 of Integer Programming Problems With Excel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0-1 Integer Programming Modeling Examp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9"/>
          <p:cNvSpPr/>
          <p:nvPr/>
        </p:nvSpPr>
        <p:spPr>
          <a:xfrm>
            <a:off x="380880" y="2374920"/>
            <a:ext cx="8382240" cy="179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5174640" y="59691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3" name="Picture 8" descr="F:\POM\Chapter 5\AAFQRFL0.jpg"/>
          <p:cNvPicPr/>
          <p:nvPr/>
        </p:nvPicPr>
        <p:blipFill>
          <a:blip r:embed="rId1"/>
          <a:stretch/>
        </p:blipFill>
        <p:spPr>
          <a:xfrm>
            <a:off x="419040" y="1420920"/>
            <a:ext cx="82296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4"/>
          <p:cNvSpPr/>
          <p:nvPr/>
        </p:nvSpPr>
        <p:spPr>
          <a:xfrm>
            <a:off x="5546880" y="639612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Solution of IP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Model with Excel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7" name="Picture 7" descr="F:\POM\Chapter 5\AAIOQJO0.jpg"/>
          <p:cNvPicPr/>
          <p:nvPr/>
        </p:nvPicPr>
        <p:blipFill>
          <a:blip r:embed="rId1"/>
          <a:srcRect l="0" t="0" r="40586" b="0"/>
          <a:stretch/>
        </p:blipFill>
        <p:spPr>
          <a:xfrm>
            <a:off x="457200" y="1359000"/>
            <a:ext cx="7750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0" name="Picture 10" descr=""/>
          <p:cNvPicPr/>
          <p:nvPr/>
        </p:nvPicPr>
        <p:blipFill>
          <a:blip r:embed="rId1"/>
          <a:stretch/>
        </p:blipFill>
        <p:spPr>
          <a:xfrm>
            <a:off x="0" y="1263600"/>
            <a:ext cx="91440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3" name="Picture 2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26478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"/>
          <p:cNvPicPr/>
          <p:nvPr/>
        </p:nvPicPr>
        <p:blipFill>
          <a:blip r:embed="rId2"/>
          <a:stretch/>
        </p:blipFill>
        <p:spPr>
          <a:xfrm>
            <a:off x="179280" y="3848040"/>
            <a:ext cx="5229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Object 2"/>
          <p:cNvGraphicFramePr/>
          <p:nvPr/>
        </p:nvGraphicFramePr>
        <p:xfrm>
          <a:off x="76320" y="4648320"/>
          <a:ext cx="3352680" cy="19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48320"/>
                    <a:ext cx="33526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3"/>
          <p:cNvGraphicFramePr/>
          <p:nvPr/>
        </p:nvGraphicFramePr>
        <p:xfrm>
          <a:off x="0" y="1994040"/>
          <a:ext cx="5321160" cy="271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94040"/>
                    <a:ext cx="532116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4"/>
          <p:cNvGraphicFramePr/>
          <p:nvPr/>
        </p:nvGraphicFramePr>
        <p:xfrm>
          <a:off x="5156280" y="1905120"/>
          <a:ext cx="3822480" cy="3682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6280" y="1905120"/>
                    <a:ext cx="382248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7"/>
          <a:stretch/>
        </p:blipFill>
        <p:spPr>
          <a:xfrm>
            <a:off x="0" y="1312920"/>
            <a:ext cx="89028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3"/>
          <p:cNvSpPr/>
          <p:nvPr/>
        </p:nvSpPr>
        <p:spPr>
          <a:xfrm>
            <a:off x="0" y="1117440"/>
            <a:ext cx="8902800" cy="59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= 0 if farm i is not selected, and 1 if farm i is selected;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i = 1,2,3,4,5,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= potatoes (1000 tons) shipped from farm I to plant j;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j = A,B,C.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inimize Z =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18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5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2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3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0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7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6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4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B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18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9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5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6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7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9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12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4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A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6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12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405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390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450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368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520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465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11.2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Arial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10.5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12.8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9.3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10.8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- 9.6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≤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A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= 1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B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= 10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1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2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3C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4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5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6C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= 14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Arial"/>
              </a:rPr>
              <a:t>≥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0                 y</a:t>
            </a:r>
            <a:r>
              <a:rPr b="0" lang="en-US" sz="20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= 0 or 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11"/>
          <p:cNvSpPr/>
          <p:nvPr/>
        </p:nvSpPr>
        <p:spPr>
          <a:xfrm>
            <a:off x="5469840" y="6197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0" name="Picture 7" descr="F:\POM\Chapter 5\AAIOQKE0.jpg"/>
          <p:cNvPicPr/>
          <p:nvPr/>
        </p:nvPicPr>
        <p:blipFill>
          <a:blip r:embed="rId1"/>
          <a:srcRect l="0" t="0" r="25311" b="0"/>
          <a:stretch/>
        </p:blipFill>
        <p:spPr>
          <a:xfrm>
            <a:off x="457200" y="1623960"/>
            <a:ext cx="73659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6"/>
          <p:cNvSpPr/>
          <p:nvPr/>
        </p:nvSpPr>
        <p:spPr>
          <a:xfrm>
            <a:off x="4732920" y="59817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1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ixed Charge and Facility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4" name="Picture 6" descr="F:\POM\Chapter 5\AAIOQKF0.jpg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4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0" y="2154240"/>
            <a:ext cx="7000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3"/>
          <p:cNvSpPr/>
          <p:nvPr/>
        </p:nvSpPr>
        <p:spPr>
          <a:xfrm>
            <a:off x="0" y="1062000"/>
            <a:ext cx="9334440" cy="60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city i, i = 1 to 12;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0 if city is not selected as a hub and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 if it is.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964"/>
              </a:spcBef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Atlanta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Boston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Charlotte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Cincinnati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Detroit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Indianapolis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lwaukee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7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Nashville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New York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Pittsburgh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4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5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Richmond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3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9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0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37160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t Louis: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6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8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1             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ij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0 or 1        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teger Programming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ypes of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71680" y="1587600"/>
          <a:ext cx="8127720" cy="3565440"/>
        </p:xfrm>
        <a:graphic>
          <a:graphicData uri="http://schemas.openxmlformats.org/drawingml/2006/table">
            <a:tbl>
              <a:tblPr/>
              <a:tblGrid>
                <a:gridCol w="2755800"/>
                <a:gridCol w="53719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tal Integer Model: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 decision variables required to have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integer solution values.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-1 Integer Model: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 decision variables required to have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integer values of zero or one.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ixed Integer Model: 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ome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of the decision variables (but not all)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required to have integer values.</a:t>
                      </a: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3" name="Rectangle 17"/>
          <p:cNvSpPr/>
          <p:nvPr/>
        </p:nvSpPr>
        <p:spPr>
          <a:xfrm>
            <a:off x="8858160" y="5864400"/>
            <a:ext cx="285840" cy="117360"/>
          </a:xfrm>
          <a:prstGeom prst="rect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6620040" y="6396120"/>
            <a:ext cx="19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6" name="Picture 13" descr="F:\POM\Chapter 5\AAIOQKG0.jpg"/>
          <p:cNvPicPr/>
          <p:nvPr/>
        </p:nvPicPr>
        <p:blipFill>
          <a:blip r:embed="rId1"/>
          <a:stretch/>
        </p:blipFill>
        <p:spPr>
          <a:xfrm>
            <a:off x="393840" y="1469880"/>
            <a:ext cx="822960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6"/>
          <p:cNvSpPr/>
          <p:nvPr/>
        </p:nvSpPr>
        <p:spPr>
          <a:xfrm>
            <a:off x="4983120" y="618480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hibit 5.2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0 – 1 Integer Programming Modeling Examp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et Covering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80" name="Picture 6" descr="F:\POM\Chapter 5\AAIOQKH0.jpg"/>
          <p:cNvPicPr/>
          <p:nvPr/>
        </p:nvPicPr>
        <p:blipFill>
          <a:blip r:embed="rId1"/>
          <a:stretch/>
        </p:blipFill>
        <p:spPr>
          <a:xfrm>
            <a:off x="457200" y="1658880"/>
            <a:ext cx="822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otal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Integer Model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5" name="Picture 9" descr=""/>
          <p:cNvPicPr/>
          <p:nvPr/>
        </p:nvPicPr>
        <p:blipFill>
          <a:blip r:embed="rId1"/>
          <a:stretch/>
        </p:blipFill>
        <p:spPr>
          <a:xfrm>
            <a:off x="0" y="4933800"/>
            <a:ext cx="9144000" cy="7239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7" descr=""/>
          <p:cNvPicPr/>
          <p:nvPr/>
        </p:nvPicPr>
        <p:blipFill>
          <a:blip r:embed="rId2"/>
          <a:stretch/>
        </p:blipFill>
        <p:spPr>
          <a:xfrm>
            <a:off x="4680" y="1500120"/>
            <a:ext cx="91346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Object 2"/>
          <p:cNvGraphicFramePr/>
          <p:nvPr/>
        </p:nvGraphicFramePr>
        <p:xfrm>
          <a:off x="1054080" y="3086280"/>
          <a:ext cx="71755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3086280"/>
                    <a:ext cx="71755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otal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Integer Model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chine shop obtaining new presses and lath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ginal profitability: each press $100/day; each lathe $150/da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ource constraints: $40,000 budget, 200 sq. ft. floor spa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chine purchase prices and space requireme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 Total Integer Model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270000" y="1301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teger Programming  Model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1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1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8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,00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$40,0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ft</a:t>
            </a:r>
            <a:r>
              <a:rPr b="0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and intege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press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lath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17520" y="1720800"/>
            <a:ext cx="856764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ounding non-integer solution values up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the nearest integer value can result in a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feasible solu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easible solution is ensured by rounding dow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on-integer solution values but may result in a less than optimal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(sub-optimal)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teger Programming Graphical Solution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9"/>
          <p:cNvSpPr/>
          <p:nvPr/>
        </p:nvSpPr>
        <p:spPr>
          <a:xfrm>
            <a:off x="449568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5" descr="05-01"/>
          <p:cNvPicPr/>
          <p:nvPr/>
        </p:nvPicPr>
        <p:blipFill>
          <a:blip r:embed="rId1"/>
          <a:stretch/>
        </p:blipFill>
        <p:spPr>
          <a:xfrm>
            <a:off x="3822840" y="1344600"/>
            <a:ext cx="4851360" cy="47293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8"/>
          <p:cNvSpPr/>
          <p:nvPr/>
        </p:nvSpPr>
        <p:spPr>
          <a:xfrm>
            <a:off x="0" y="0"/>
            <a:ext cx="87249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teger Programming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chine Shop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0" y="1663560"/>
            <a:ext cx="45086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aximize Z = $1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$15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8,0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4,00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$40,000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      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15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200 ft</a:t>
            </a:r>
            <a:r>
              <a:rPr b="1" lang="en-US" sz="22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1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0 and integer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Optimal Solution: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Z = $1,055.56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2.22 presse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1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 = 5.55 lathe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301680" y="6060960"/>
            <a:ext cx="88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5.1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with Integer Solution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anch and Bound Method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raditional approach to solving integer programming problem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36200" indent="-315360"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easible solutions can be partitioned into smaller subse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36200" indent="-315360"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maller subsets evaluated until best solution is fou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36200" indent="-315360"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ethod is a tedious and complex mathematical proces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cel and QM for Windows used in this boo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15360" indent="-315360">
              <a:spcBef>
                <a:spcPts val="1049"/>
              </a:spcBef>
              <a:buClr>
                <a:srgbClr val="003399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e book’s companion website –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“Integer Programming:  the Branch and Bound Method”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for detailed description of this metho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KSU</cp:lastModifiedBy>
  <cp:lastPrinted>2015-04-20T05:36:01Z</cp:lastPrinted>
  <dcterms:modified xsi:type="dcterms:W3CDTF">2015-04-20T05:47:55Z</dcterms:modified>
  <cp:revision>228</cp:revision>
  <dc:subject/>
  <dc:title>No Slide Title</dc:title>
</cp:coreProperties>
</file>