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C452-47FD-46EB-8863-A781D3957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E3E9-1B83-41F8-AF8A-D7276E592CF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6BB5-C13D-4729-BEAE-305F6AFB1A5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simple example of public and private modifiers. See how the client can access the public data member and meth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204F-C880-4D41-BED5-5A06CE070A7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ahoma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766-A34D-46B5-869B-001DBD8D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051-16F1-4C86-B413-C8F6FF7A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9DB-AA93-4B43-9690-864AE097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C00-32FA-476A-B099-549A0EB1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F4FE-A81B-4985-B471-096EC015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EDC1-B6F9-48DE-8926-0CE7024C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962F-613C-4C4F-A566-DBE985BB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385D-D30E-416A-AEF2-ACEAB869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E080-0E43-4B25-B7D2-DC79D228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7C23-F6BE-4153-BF82-0E77478B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5263-5EEE-4B74-A794-594F3241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22D-7415-4EBA-BF81-2736536F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DEA7-9DE1-4D5E-BB8C-E55A588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194F-D549-4BE7-859E-FDFA93A4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69C5-9B54-4DF4-85D7-257881C8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29F6-DF61-401D-B35F-A194C849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E5B9-7168-4B63-9D79-2198E375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97D-BCC2-4319-8996-8FB451FE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8EB-3A00-47EF-9080-1FEF535C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DE4-CC36-492D-BA2E-185A0B45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434-0962-440E-B3F0-8651CE65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3E8-9646-4550-9414-6D4A7212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C34-D1A1-4F6F-9257-42CE571A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ECC-0692-42AD-BD4E-EA9EEBE0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" name="Group 57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Rectangle 58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Rectangle 70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4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5" name="Group 81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Line 82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" name="Line 83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8" name="Arc 84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F561DAB3-CFEA-4C16-9CD7-4E3BF98279B9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Group 90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Rectangle 86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3" name="Rectangle 87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4" name="Rectangle 88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" name="Rectangle 89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6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7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1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5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6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8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9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0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1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2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4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7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8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3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4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5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87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8" name="Group 106"/>
            <p:cNvGrpSpPr/>
            <p:nvPr/>
          </p:nvGrpSpPr>
          <p:grpSpPr>
            <a:xfrm>
              <a:off x="414360" y="3114720"/>
              <a:ext cx="5662440" cy="2371680"/>
              <a:chOff x="414360" y="3114720"/>
              <a:chExt cx="5662440" cy="2371680"/>
            </a:xfrm>
          </p:grpSpPr>
          <p:sp>
            <p:nvSpPr>
              <p:cNvPr id="189" name="Line 82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0" name="Line 83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1" name="Arc 84"/>
              <p:cNvSpPr/>
              <p:nvPr/>
            </p:nvSpPr>
            <p:spPr>
              <a:xfrm flipH="1" rot="16200000">
                <a:off x="480240" y="31140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2" name="Arc 91"/>
              <p:cNvSpPr/>
              <p:nvPr/>
            </p:nvSpPr>
            <p:spPr>
              <a:xfrm>
                <a:off x="1098720" y="3143520"/>
                <a:ext cx="423720" cy="3315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fill="none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</a:path>
                  <a:path stroke="0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  <a:lnTo>
                      <a:pt x="16787" y="856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3" name="Arc 92"/>
              <p:cNvSpPr/>
              <p:nvPr/>
            </p:nvSpPr>
            <p:spPr>
              <a:xfrm flipV="1">
                <a:off x="1324080" y="3140280"/>
                <a:ext cx="457200" cy="5112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360 h 511200"/>
                  <a:gd name="textAreaBottom" fmla="*/ 511920 h 511200"/>
                </a:gdLst>
                <a:ahLst/>
                <a:rect l="textAreaLeft" t="textAreaTop" r="textAreaRight" b="textAreaBottom"/>
                <a:pathLst>
                  <a:path fill="none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</a:path>
                  <a:path stroke="0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  <a:lnTo>
                      <a:pt x="21600" y="5361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4" name="Arc 93"/>
              <p:cNvSpPr/>
              <p:nvPr/>
            </p:nvSpPr>
            <p:spPr>
              <a:xfrm flipV="1">
                <a:off x="1784520" y="3131640"/>
                <a:ext cx="457200" cy="522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fill="none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</a:path>
                  <a:path stroke="0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  <a:lnTo>
                      <a:pt x="0" y="493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5" name="Line 94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6" name="Line 95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7" name="Arc 96"/>
              <p:cNvSpPr/>
              <p:nvPr/>
            </p:nvSpPr>
            <p:spPr>
              <a:xfrm flipV="1">
                <a:off x="4299120" y="3236400"/>
                <a:ext cx="1153800" cy="982440"/>
              </a:xfrm>
              <a:custGeom>
                <a:avLst/>
                <a:gdLst>
                  <a:gd name="textAreaLeft" fmla="*/ 0 w 1153800"/>
                  <a:gd name="textAreaRight" fmla="*/ 1154160 w 1153800"/>
                  <a:gd name="textAreaTop" fmla="*/ -360 h 982440"/>
                  <a:gd name="textAreaBottom" fmla="*/ 982440 h 982440"/>
                </a:gdLst>
                <a:ahLst/>
                <a:rect l="textAreaLeft" t="textAreaTop" r="textAreaRight" b="textAreaBottom"/>
                <a:pathLst>
                  <a:path fill="none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</a:path>
                  <a:path stroke="0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  <a:lnTo>
                      <a:pt x="18917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" name="Arc 97"/>
              <p:cNvSpPr/>
              <p:nvPr/>
            </p:nvSpPr>
            <p:spPr>
              <a:xfrm>
                <a:off x="4883040" y="3186360"/>
                <a:ext cx="674640" cy="34128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fill="none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</a:path>
                  <a:path stroke="0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  <a:lnTo>
                      <a:pt x="21430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9" name="Arc 98"/>
              <p:cNvSpPr/>
              <p:nvPr/>
            </p:nvSpPr>
            <p:spPr>
              <a:xfrm flipH="1" flipV="1">
                <a:off x="5462640" y="3368160"/>
                <a:ext cx="457200" cy="22860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</a:path>
                  <a:path stroke="0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  <a:lnTo>
                      <a:pt x="21571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0" name="Arc 99"/>
              <p:cNvSpPr/>
              <p:nvPr/>
            </p:nvSpPr>
            <p:spPr>
              <a:xfrm flipH="1" flipV="1">
                <a:off x="4357800" y="3380760"/>
                <a:ext cx="318960" cy="206280"/>
              </a:xfrm>
              <a:custGeom>
                <a:avLst/>
                <a:gdLst>
                  <a:gd name="textAreaLeft" fmla="*/ 360 w 318960"/>
                  <a:gd name="textAreaRight" fmla="*/ 319680 w 318960"/>
                  <a:gd name="textAreaTop" fmla="*/ -360 h 206280"/>
                  <a:gd name="textAreaBottom" fmla="*/ 206280 h 206280"/>
                </a:gdLst>
                <a:ahLst/>
                <a:rect l="textAreaLeft" t="textAreaTop" r="textAreaRight" b="textAreaBottom"/>
                <a:pathLst>
                  <a:path fill="none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</a:path>
                  <a:path stroke="0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  <a:lnTo>
                      <a:pt x="21600" y="640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1" name="Line 100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2" name="Line 101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3" name="Line 102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" name="Line 103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5" name="Line 104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B481-F854-4F97-B685-A24F88AC3409}" type="datetime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4CB1B1D-9EB3-4DC6-BEF0-91EB52CC6302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5257800" y="4648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Information Hid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33520" y="2514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  <a:ea typeface="ＭＳ Ｐゴシック"/>
              </a:rPr>
              <a:t>Chapter 5: Classes and Objects in Depth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3D4D494-6143-4694-89D4-346FC97F788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and </a:t>
            </a:r>
            <a:r>
              <a:rPr b="0" i="1" lang="en-US" sz="4400" spc="-1" strike="noStrike">
                <a:solidFill>
                  <a:srgbClr val="9900cc"/>
                </a:solidFill>
                <a:latin typeface="Tahoma"/>
              </a:rPr>
              <a:t>private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modifi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’s consider a class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t’s consider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 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client clas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f X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Y is a class that uses X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ttribu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(and methods)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of 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clared with the </a:t>
            </a:r>
            <a:r>
              <a:rPr b="0" i="1" lang="en-US" sz="28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odifie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are accessible from instances of 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public modifier does not guarantee the information hiding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Attribute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and methods)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of X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clared with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ivat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odifie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are not accessible from instances of 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private modifier guarantee the information hiding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DF45F38-9667-4986-B8C5-70A2188021D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457200" y="7621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 Inside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(the Instance itself)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2514600" y="4495680"/>
            <a:ext cx="2819520" cy="152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ll members of an inst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re accessible from th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tance itsel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895480" y="2286000"/>
            <a:ext cx="1828800" cy="1752480"/>
          </a:xfrm>
          <a:prstGeom prst="rect">
            <a:avLst/>
          </a:prstGeom>
          <a:solidFill>
            <a:srgbClr val="b4c2ea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21" name="Group 28"/>
          <p:cNvGrpSpPr/>
          <p:nvPr/>
        </p:nvGrpSpPr>
        <p:grpSpPr>
          <a:xfrm>
            <a:off x="2895480" y="1935000"/>
            <a:ext cx="1828440" cy="427320"/>
            <a:chOff x="2895480" y="1935000"/>
            <a:chExt cx="1828440" cy="427320"/>
          </a:xfrm>
        </p:grpSpPr>
        <p:sp>
          <p:nvSpPr>
            <p:cNvPr id="322" name="Rectangle 12"/>
            <p:cNvSpPr/>
            <p:nvPr/>
          </p:nvSpPr>
          <p:spPr>
            <a:xfrm>
              <a:off x="2895480" y="1935000"/>
              <a:ext cx="1828440" cy="42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3" name="Text Box 13"/>
            <p:cNvSpPr/>
            <p:nvPr/>
          </p:nvSpPr>
          <p:spPr>
            <a:xfrm>
              <a:off x="3269520" y="1943280"/>
              <a:ext cx="103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40458c"/>
                  </a:solidFill>
                  <a:uFillTx/>
                  <a:latin typeface="Tahoma"/>
                </a:rPr>
                <a:t>object:X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24" name="Group 30"/>
          <p:cNvGrpSpPr/>
          <p:nvPr/>
        </p:nvGrpSpPr>
        <p:grpSpPr>
          <a:xfrm>
            <a:off x="2989440" y="2468520"/>
            <a:ext cx="987480" cy="307080"/>
            <a:chOff x="2989440" y="2468520"/>
            <a:chExt cx="987480" cy="307080"/>
          </a:xfrm>
        </p:grpSpPr>
        <p:sp>
          <p:nvSpPr>
            <p:cNvPr id="325" name="Rectangle 14"/>
            <p:cNvSpPr/>
            <p:nvPr/>
          </p:nvSpPr>
          <p:spPr>
            <a:xfrm>
              <a:off x="2989440" y="2506680"/>
              <a:ext cx="72396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 rot="534600">
              <a:off x="3809880" y="252108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7" name="Text Box 16"/>
            <p:cNvSpPr/>
            <p:nvPr/>
          </p:nvSpPr>
          <p:spPr>
            <a:xfrm>
              <a:off x="3004920" y="246852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public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28" name="Group 17"/>
          <p:cNvGrpSpPr/>
          <p:nvPr/>
        </p:nvGrpSpPr>
        <p:grpSpPr>
          <a:xfrm>
            <a:off x="4876920" y="2263680"/>
            <a:ext cx="1904760" cy="761760"/>
            <a:chOff x="4876920" y="2263680"/>
            <a:chExt cx="1904760" cy="761760"/>
          </a:xfrm>
        </p:grpSpPr>
        <p:sp>
          <p:nvSpPr>
            <p:cNvPr id="329" name="Rectangle 18"/>
            <p:cNvSpPr/>
            <p:nvPr/>
          </p:nvSpPr>
          <p:spPr>
            <a:xfrm>
              <a:off x="4876920" y="2263680"/>
              <a:ext cx="1904760" cy="761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0" name="Text Box 19"/>
            <p:cNvSpPr/>
            <p:nvPr/>
          </p:nvSpPr>
          <p:spPr>
            <a:xfrm>
              <a:off x="5117760" y="2323800"/>
              <a:ext cx="16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1" name="Freeform 20"/>
            <p:cNvSpPr/>
            <p:nvPr/>
          </p:nvSpPr>
          <p:spPr>
            <a:xfrm rot="534600">
              <a:off x="4980960" y="241596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2" name="Freeform 21"/>
            <p:cNvSpPr/>
            <p:nvPr/>
          </p:nvSpPr>
          <p:spPr>
            <a:xfrm rot="21549000">
              <a:off x="4946400" y="2720880"/>
              <a:ext cx="225360" cy="118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33" name="AutoShape 22"/>
          <p:cNvCxnSpPr>
            <a:stCxn id="334" idx="0"/>
            <a:endCxn id="327" idx="2"/>
          </p:cNvCxnSpPr>
          <p:nvPr/>
        </p:nvCxnSpPr>
        <p:spPr>
          <a:xfrm flipH="1" flipV="1">
            <a:off x="3366360" y="2773080"/>
            <a:ext cx="405720" cy="9612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335" name="Group 31"/>
          <p:cNvGrpSpPr/>
          <p:nvPr/>
        </p:nvGrpSpPr>
        <p:grpSpPr>
          <a:xfrm>
            <a:off x="3600000" y="2849400"/>
            <a:ext cx="1062720" cy="307080"/>
            <a:chOff x="3600000" y="2849400"/>
            <a:chExt cx="1062720" cy="307080"/>
          </a:xfrm>
        </p:grpSpPr>
        <p:sp>
          <p:nvSpPr>
            <p:cNvPr id="336" name="Rectangle 23"/>
            <p:cNvSpPr/>
            <p:nvPr/>
          </p:nvSpPr>
          <p:spPr>
            <a:xfrm>
              <a:off x="3641760" y="2895480"/>
              <a:ext cx="723960" cy="2286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7" name="Text Box 24"/>
            <p:cNvSpPr/>
            <p:nvPr/>
          </p:nvSpPr>
          <p:spPr>
            <a:xfrm>
              <a:off x="3600000" y="2849400"/>
              <a:ext cx="82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private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8" name="Freeform 25"/>
            <p:cNvSpPr/>
            <p:nvPr/>
          </p:nvSpPr>
          <p:spPr>
            <a:xfrm rot="534600">
              <a:off x="4495320" y="2909520"/>
              <a:ext cx="152640" cy="1983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39" name="AutoShape 26"/>
          <p:cNvCxnSpPr>
            <a:stCxn id="334" idx="0"/>
            <a:endCxn id="337" idx="2"/>
          </p:cNvCxnSpPr>
          <p:nvPr/>
        </p:nvCxnSpPr>
        <p:spPr>
          <a:xfrm flipV="1">
            <a:off x="3771720" y="3153960"/>
            <a:ext cx="240120" cy="580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34" name="AutoShape 29"/>
          <p:cNvSpPr/>
          <p:nvPr/>
        </p:nvSpPr>
        <p:spPr>
          <a:xfrm>
            <a:off x="3048120" y="3733920"/>
            <a:ext cx="1447560" cy="228600"/>
          </a:xfrm>
          <a:prstGeom prst="flowChartTerminator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D5D345F-9FEF-489F-BE18-0AD233111F8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685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n Instance of another Clas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1828800" y="4648320"/>
            <a:ext cx="266688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nly public membe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re visible from outsid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ll else is hidden from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sid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45" name="Group 38"/>
          <p:cNvGrpSpPr/>
          <p:nvPr/>
        </p:nvGrpSpPr>
        <p:grpSpPr>
          <a:xfrm>
            <a:off x="2280960" y="2438280"/>
            <a:ext cx="1761120" cy="1951200"/>
            <a:chOff x="2280960" y="2438280"/>
            <a:chExt cx="1761120" cy="1951200"/>
          </a:xfrm>
        </p:grpSpPr>
        <p:grpSp>
          <p:nvGrpSpPr>
            <p:cNvPr id="346" name="Group 11"/>
            <p:cNvGrpSpPr/>
            <p:nvPr/>
          </p:nvGrpSpPr>
          <p:grpSpPr>
            <a:xfrm>
              <a:off x="2514600" y="2971800"/>
              <a:ext cx="1295280" cy="1417680"/>
              <a:chOff x="2514600" y="2971800"/>
              <a:chExt cx="1295280" cy="1417680"/>
            </a:xfrm>
          </p:grpSpPr>
          <p:sp>
            <p:nvSpPr>
              <p:cNvPr id="347" name="Rectangle 7"/>
              <p:cNvSpPr/>
              <p:nvPr/>
            </p:nvSpPr>
            <p:spPr>
              <a:xfrm>
                <a:off x="2514600" y="3322440"/>
                <a:ext cx="1295280" cy="1067040"/>
              </a:xfrm>
              <a:prstGeom prst="rect">
                <a:avLst/>
              </a:prstGeom>
              <a:solidFill>
                <a:srgbClr val="b4c2ea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8" name="Rectangle 8"/>
              <p:cNvSpPr/>
              <p:nvPr/>
            </p:nvSpPr>
            <p:spPr>
              <a:xfrm>
                <a:off x="2514600" y="2971800"/>
                <a:ext cx="129528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9" name="Text Box 9"/>
              <p:cNvSpPr/>
              <p:nvPr/>
            </p:nvSpPr>
            <p:spPr>
              <a:xfrm>
                <a:off x="2616480" y="2979720"/>
                <a:ext cx="109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1b285f"/>
                    </a:solidFill>
                    <a:uFillTx/>
                    <a:latin typeface="Tahoma"/>
                  </a:rPr>
                  <a:t>:Y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50" name="Text Box 22"/>
            <p:cNvSpPr/>
            <p:nvPr/>
          </p:nvSpPr>
          <p:spPr>
            <a:xfrm>
              <a:off x="2280960" y="2438280"/>
              <a:ext cx="176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Accessibility from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The Client class.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1" name="Group 39"/>
          <p:cNvGrpSpPr/>
          <p:nvPr/>
        </p:nvGrpSpPr>
        <p:grpSpPr>
          <a:xfrm>
            <a:off x="4800600" y="1935000"/>
            <a:ext cx="3352680" cy="1417680"/>
            <a:chOff x="4800600" y="1935000"/>
            <a:chExt cx="3352680" cy="1417680"/>
          </a:xfrm>
        </p:grpSpPr>
        <p:grpSp>
          <p:nvGrpSpPr>
            <p:cNvPr id="352" name="Group 36"/>
            <p:cNvGrpSpPr/>
            <p:nvPr/>
          </p:nvGrpSpPr>
          <p:grpSpPr>
            <a:xfrm>
              <a:off x="4800600" y="1935000"/>
              <a:ext cx="1295280" cy="1417680"/>
              <a:chOff x="4800600" y="1935000"/>
              <a:chExt cx="1295280" cy="1417680"/>
            </a:xfrm>
          </p:grpSpPr>
          <p:grpSp>
            <p:nvGrpSpPr>
              <p:cNvPr id="353" name="Group 16"/>
              <p:cNvGrpSpPr/>
              <p:nvPr/>
            </p:nvGrpSpPr>
            <p:grpSpPr>
              <a:xfrm>
                <a:off x="4800600" y="1935000"/>
                <a:ext cx="1295280" cy="1417680"/>
                <a:chOff x="4800600" y="1935000"/>
                <a:chExt cx="1295280" cy="1417680"/>
              </a:xfrm>
            </p:grpSpPr>
            <p:sp>
              <p:nvSpPr>
                <p:cNvPr id="354" name="Rectangle 13"/>
                <p:cNvSpPr/>
                <p:nvPr/>
              </p:nvSpPr>
              <p:spPr>
                <a:xfrm>
                  <a:off x="4800600" y="2285640"/>
                  <a:ext cx="1295280" cy="1067040"/>
                </a:xfrm>
                <a:prstGeom prst="rect">
                  <a:avLst/>
                </a:prstGeom>
                <a:solidFill>
                  <a:srgbClr val="b4c2ea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Rectangle 14"/>
                <p:cNvSpPr/>
                <p:nvPr/>
              </p:nvSpPr>
              <p:spPr>
                <a:xfrm>
                  <a:off x="4800600" y="1935000"/>
                  <a:ext cx="1295280" cy="3808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Text Box 15"/>
                <p:cNvSpPr/>
                <p:nvPr/>
              </p:nvSpPr>
              <p:spPr>
                <a:xfrm>
                  <a:off x="4930200" y="1942920"/>
                  <a:ext cx="1035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 u="sng">
                      <a:solidFill>
                        <a:srgbClr val="40458c"/>
                      </a:solidFill>
                      <a:uFillTx/>
                      <a:latin typeface="Tahoma"/>
                    </a:rPr>
                    <a:t>object:X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7" name="Rectangle 17"/>
              <p:cNvSpPr/>
              <p:nvPr/>
            </p:nvSpPr>
            <p:spPr>
              <a:xfrm>
                <a:off x="5013000" y="2506320"/>
                <a:ext cx="72360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 rot="534600">
                <a:off x="5833440" y="2520720"/>
                <a:ext cx="151920" cy="198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9" name="Rectangle 18"/>
              <p:cNvSpPr/>
              <p:nvPr/>
            </p:nvSpPr>
            <p:spPr>
              <a:xfrm>
                <a:off x="5013000" y="2887560"/>
                <a:ext cx="72360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0" name="Freeform 24"/>
              <p:cNvSpPr/>
              <p:nvPr/>
            </p:nvSpPr>
            <p:spPr>
              <a:xfrm rot="21549000">
                <a:off x="5794200" y="2943000"/>
                <a:ext cx="225000" cy="1191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78" h="398">
                    <a:moveTo>
                      <a:pt x="74" y="12"/>
                    </a:moveTo>
                    <a:lnTo>
                      <a:pt x="152" y="12"/>
                    </a:lnTo>
                    <a:lnTo>
                      <a:pt x="188" y="166"/>
                    </a:lnTo>
                    <a:lnTo>
                      <a:pt x="288" y="0"/>
                    </a:lnTo>
                    <a:lnTo>
                      <a:pt x="378" y="0"/>
                    </a:lnTo>
                    <a:lnTo>
                      <a:pt x="214" y="214"/>
                    </a:lnTo>
                    <a:lnTo>
                      <a:pt x="268" y="388"/>
                    </a:lnTo>
                    <a:lnTo>
                      <a:pt x="190" y="386"/>
                    </a:lnTo>
                    <a:lnTo>
                      <a:pt x="162" y="256"/>
                    </a:lnTo>
                    <a:lnTo>
                      <a:pt x="68" y="398"/>
                    </a:lnTo>
                    <a:lnTo>
                      <a:pt x="0" y="398"/>
                    </a:lnTo>
                    <a:lnTo>
                      <a:pt x="128" y="22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6061d"/>
              </a:solidFill>
              <a:ln w="9360">
                <a:solidFill>
                  <a:srgbClr val="f606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1" name="Text Box 28"/>
              <p:cNvSpPr/>
              <p:nvPr/>
            </p:nvSpPr>
            <p:spPr>
              <a:xfrm>
                <a:off x="5028480" y="246816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2" name="Text Box 29"/>
              <p:cNvSpPr/>
              <p:nvPr/>
            </p:nvSpPr>
            <p:spPr>
              <a:xfrm>
                <a:off x="4970880" y="284940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63" name="Group 37"/>
            <p:cNvGrpSpPr/>
            <p:nvPr/>
          </p:nvGrpSpPr>
          <p:grpSpPr>
            <a:xfrm>
              <a:off x="6248520" y="2263320"/>
              <a:ext cx="1904760" cy="761760"/>
              <a:chOff x="6248520" y="2263320"/>
              <a:chExt cx="1904760" cy="761760"/>
            </a:xfrm>
          </p:grpSpPr>
          <p:sp>
            <p:nvSpPr>
              <p:cNvPr id="364" name="Rectangle 30"/>
              <p:cNvSpPr/>
              <p:nvPr/>
            </p:nvSpPr>
            <p:spPr>
              <a:xfrm>
                <a:off x="6248520" y="2263320"/>
                <a:ext cx="1904760" cy="76176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5" name="Text Box 32"/>
              <p:cNvSpPr/>
              <p:nvPr/>
            </p:nvSpPr>
            <p:spPr>
              <a:xfrm>
                <a:off x="6489360" y="2323440"/>
                <a:ext cx="161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ccessibl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accessibl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6" name="Freeform 33"/>
              <p:cNvSpPr/>
              <p:nvPr/>
            </p:nvSpPr>
            <p:spPr>
              <a:xfrm rot="534600">
                <a:off x="6352560" y="241560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7" name="Freeform 34"/>
              <p:cNvSpPr/>
              <p:nvPr/>
            </p:nvSpPr>
            <p:spPr>
              <a:xfrm rot="21549000">
                <a:off x="6318000" y="2720520"/>
                <a:ext cx="225360" cy="1188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378" h="398">
                    <a:moveTo>
                      <a:pt x="74" y="12"/>
                    </a:moveTo>
                    <a:lnTo>
                      <a:pt x="152" y="12"/>
                    </a:lnTo>
                    <a:lnTo>
                      <a:pt x="188" y="166"/>
                    </a:lnTo>
                    <a:lnTo>
                      <a:pt x="288" y="0"/>
                    </a:lnTo>
                    <a:lnTo>
                      <a:pt x="378" y="0"/>
                    </a:lnTo>
                    <a:lnTo>
                      <a:pt x="214" y="214"/>
                    </a:lnTo>
                    <a:lnTo>
                      <a:pt x="268" y="388"/>
                    </a:lnTo>
                    <a:lnTo>
                      <a:pt x="190" y="386"/>
                    </a:lnTo>
                    <a:lnTo>
                      <a:pt x="162" y="256"/>
                    </a:lnTo>
                    <a:lnTo>
                      <a:pt x="68" y="398"/>
                    </a:lnTo>
                    <a:lnTo>
                      <a:pt x="0" y="398"/>
                    </a:lnTo>
                    <a:lnTo>
                      <a:pt x="128" y="22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6061d"/>
              </a:solidFill>
              <a:ln w="9360">
                <a:solidFill>
                  <a:srgbClr val="f606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cxnSp>
        <p:nvCxnSpPr>
          <p:cNvPr id="368" name="AutoShape 35"/>
          <p:cNvCxnSpPr>
            <a:stCxn id="347" idx="3"/>
            <a:endCxn id="361" idx="1"/>
          </p:cNvCxnSpPr>
          <p:nvPr/>
        </p:nvCxnSpPr>
        <p:spPr>
          <a:xfrm flipV="1">
            <a:off x="3809520" y="2620080"/>
            <a:ext cx="1220040" cy="12358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EDA0D82-FF06-4766-844D-99AE7544086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457200" y="6858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from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n Instance of the same Clas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1828800" y="4648320"/>
            <a:ext cx="281952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a member is accessib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rom an instance, it is als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cessible from other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tances of the sam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74" name="Group 31"/>
          <p:cNvGrpSpPr/>
          <p:nvPr/>
        </p:nvGrpSpPr>
        <p:grpSpPr>
          <a:xfrm>
            <a:off x="2280960" y="2438280"/>
            <a:ext cx="1761120" cy="1951200"/>
            <a:chOff x="2280960" y="2438280"/>
            <a:chExt cx="1761120" cy="1951200"/>
          </a:xfrm>
        </p:grpSpPr>
        <p:grpSp>
          <p:nvGrpSpPr>
            <p:cNvPr id="375" name="Group 30"/>
            <p:cNvGrpSpPr/>
            <p:nvPr/>
          </p:nvGrpSpPr>
          <p:grpSpPr>
            <a:xfrm>
              <a:off x="2514600" y="2971800"/>
              <a:ext cx="1295280" cy="1417680"/>
              <a:chOff x="2514600" y="2971800"/>
              <a:chExt cx="1295280" cy="1417680"/>
            </a:xfrm>
          </p:grpSpPr>
          <p:sp>
            <p:nvSpPr>
              <p:cNvPr id="376" name="Rectangle 6"/>
              <p:cNvSpPr/>
              <p:nvPr/>
            </p:nvSpPr>
            <p:spPr>
              <a:xfrm>
                <a:off x="2514600" y="3322800"/>
                <a:ext cx="1295280" cy="1066680"/>
              </a:xfrm>
              <a:prstGeom prst="rect">
                <a:avLst/>
              </a:prstGeom>
              <a:solidFill>
                <a:srgbClr val="b4c2ea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377" name="Group 29"/>
              <p:cNvGrpSpPr/>
              <p:nvPr/>
            </p:nvGrpSpPr>
            <p:grpSpPr>
              <a:xfrm>
                <a:off x="2514600" y="2971800"/>
                <a:ext cx="1295280" cy="380880"/>
                <a:chOff x="2514600" y="2971800"/>
                <a:chExt cx="1295280" cy="380880"/>
              </a:xfrm>
            </p:grpSpPr>
            <p:sp>
              <p:nvSpPr>
                <p:cNvPr id="378" name="Rectangle 7"/>
                <p:cNvSpPr/>
                <p:nvPr/>
              </p:nvSpPr>
              <p:spPr>
                <a:xfrm>
                  <a:off x="2514600" y="2971800"/>
                  <a:ext cx="1295280" cy="3808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40458c"/>
                  </a:solidFill>
                  <a:miter/>
                </a:ln>
                <a:effectLst>
                  <a:outerShdw dist="17819" dir="2700000" blurRad="0" rotWithShape="0">
                    <a:srgbClr val="1b28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9" name="Text Box 8"/>
                <p:cNvSpPr/>
                <p:nvPr/>
              </p:nvSpPr>
              <p:spPr>
                <a:xfrm>
                  <a:off x="2774160" y="2979720"/>
                  <a:ext cx="77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 u="sng">
                      <a:solidFill>
                        <a:srgbClr val="1b285f"/>
                      </a:solidFill>
                      <a:uFillTx/>
                      <a:latin typeface="Tahoma"/>
                    </a:rPr>
                    <a:t>two:X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80" name="Text Box 9"/>
            <p:cNvSpPr/>
            <p:nvPr/>
          </p:nvSpPr>
          <p:spPr>
            <a:xfrm>
              <a:off x="2280960" y="2438280"/>
              <a:ext cx="176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Accessibility from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Tahoma"/>
                </a:rPr>
                <a:t>The Client class.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81" name="Rectangle 13"/>
          <p:cNvSpPr/>
          <p:nvPr/>
        </p:nvSpPr>
        <p:spPr>
          <a:xfrm>
            <a:off x="4800600" y="2286000"/>
            <a:ext cx="1295280" cy="1066680"/>
          </a:xfrm>
          <a:prstGeom prst="rect">
            <a:avLst/>
          </a:prstGeom>
          <a:solidFill>
            <a:srgbClr val="b4c2ea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Rectangle 14"/>
          <p:cNvSpPr/>
          <p:nvPr/>
        </p:nvSpPr>
        <p:spPr>
          <a:xfrm>
            <a:off x="4800600" y="1935000"/>
            <a:ext cx="12952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5054760" y="1943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one:X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5013360" y="2506680"/>
            <a:ext cx="72396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Freeform 17"/>
          <p:cNvSpPr/>
          <p:nvPr/>
        </p:nvSpPr>
        <p:spPr>
          <a:xfrm rot="534600">
            <a:off x="5833800" y="2521080"/>
            <a:ext cx="152280" cy="198360"/>
          </a:xfrm>
          <a:custGeom>
            <a:avLst/>
            <a:gdLst>
              <a:gd name="textAreaLeft" fmla="*/ 0 w 152280"/>
              <a:gd name="textAreaRight" fmla="*/ 152640 w 1522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1b285f"/>
          </a:solidFill>
          <a:ln w="9360">
            <a:solidFill>
              <a:srgbClr val="1b2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5028840" y="246852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public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87" name="Group 22"/>
          <p:cNvGrpSpPr/>
          <p:nvPr/>
        </p:nvGrpSpPr>
        <p:grpSpPr>
          <a:xfrm>
            <a:off x="6248520" y="2263680"/>
            <a:ext cx="1904760" cy="761760"/>
            <a:chOff x="6248520" y="2263680"/>
            <a:chExt cx="1904760" cy="761760"/>
          </a:xfrm>
        </p:grpSpPr>
        <p:sp>
          <p:nvSpPr>
            <p:cNvPr id="388" name="Rectangle 23"/>
            <p:cNvSpPr/>
            <p:nvPr/>
          </p:nvSpPr>
          <p:spPr>
            <a:xfrm>
              <a:off x="6248520" y="2263680"/>
              <a:ext cx="1904760" cy="761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6489360" y="2323800"/>
              <a:ext cx="16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accessibl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0" name="Freeform 25"/>
            <p:cNvSpPr/>
            <p:nvPr/>
          </p:nvSpPr>
          <p:spPr>
            <a:xfrm rot="534600">
              <a:off x="6352560" y="2415960"/>
              <a:ext cx="152280" cy="19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2" h="476">
                  <a:moveTo>
                    <a:pt x="0" y="284"/>
                  </a:moveTo>
                  <a:lnTo>
                    <a:pt x="112" y="284"/>
                  </a:lnTo>
                  <a:lnTo>
                    <a:pt x="160" y="374"/>
                  </a:lnTo>
                  <a:lnTo>
                    <a:pt x="266" y="64"/>
                  </a:lnTo>
                  <a:lnTo>
                    <a:pt x="412" y="0"/>
                  </a:lnTo>
                  <a:lnTo>
                    <a:pt x="150" y="476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1b285f"/>
            </a:solidFill>
            <a:ln w="9360">
              <a:solidFill>
                <a:srgbClr val="1b2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 rot="21549000">
              <a:off x="6318000" y="2720880"/>
              <a:ext cx="225360" cy="118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392" name="AutoShape 27"/>
          <p:cNvCxnSpPr>
            <a:stCxn id="376" idx="3"/>
            <a:endCxn id="386" idx="1"/>
          </p:cNvCxnSpPr>
          <p:nvPr/>
        </p:nvCxnSpPr>
        <p:spPr>
          <a:xfrm flipV="1">
            <a:off x="3809520" y="2620080"/>
            <a:ext cx="1220040" cy="12358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93" name="Rectangle 18"/>
          <p:cNvSpPr/>
          <p:nvPr/>
        </p:nvSpPr>
        <p:spPr>
          <a:xfrm>
            <a:off x="5013360" y="2895480"/>
            <a:ext cx="72396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4971600" y="284940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privat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Freeform 32"/>
          <p:cNvSpPr/>
          <p:nvPr/>
        </p:nvSpPr>
        <p:spPr>
          <a:xfrm rot="534600">
            <a:off x="5866920" y="2909520"/>
            <a:ext cx="152640" cy="198360"/>
          </a:xfrm>
          <a:custGeom>
            <a:avLst/>
            <a:gdLst>
              <a:gd name="textAreaLeft" fmla="*/ 0 w 152640"/>
              <a:gd name="textAreaRight" fmla="*/ 153000 w 1526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1b285f"/>
          </a:solidFill>
          <a:ln w="9360">
            <a:solidFill>
              <a:srgbClr val="1b2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96" name="AutoShape 34"/>
          <p:cNvCxnSpPr>
            <a:stCxn id="376" idx="3"/>
            <a:endCxn id="394" idx="1"/>
          </p:cNvCxnSpPr>
          <p:nvPr/>
        </p:nvCxnSpPr>
        <p:spPr>
          <a:xfrm flipV="1">
            <a:off x="3809520" y="3001680"/>
            <a:ext cx="1164600" cy="854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Footer Placeholder 6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Slide Number Placeholder 7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E08154D-C557-43E7-95C8-CBC577515C5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5220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UML Representation of a Class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(UML Class Diagram)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ML uses three symbols to represent the visibility of the class’ memb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: mentions that the member is </a:t>
            </a:r>
            <a:r>
              <a:rPr b="0" i="1" lang="en-US" sz="2000" spc="-1" strike="noStrike">
                <a:solidFill>
                  <a:srgbClr val="9900cc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: mentions that the member is 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priv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# : introduced in the CSC 113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02" name="Group 18"/>
          <p:cNvGrpSpPr/>
          <p:nvPr/>
        </p:nvGrpSpPr>
        <p:grpSpPr>
          <a:xfrm>
            <a:off x="2743200" y="3657600"/>
            <a:ext cx="5194080" cy="2716560"/>
            <a:chOff x="2743200" y="3657600"/>
            <a:chExt cx="5194080" cy="2716560"/>
          </a:xfrm>
        </p:grpSpPr>
        <p:sp>
          <p:nvSpPr>
            <p:cNvPr id="403" name="AutoShape 19"/>
            <p:cNvSpPr/>
            <p:nvPr/>
          </p:nvSpPr>
          <p:spPr>
            <a:xfrm>
              <a:off x="5956200" y="5257800"/>
              <a:ext cx="1981080" cy="674640"/>
            </a:xfrm>
            <a:prstGeom prst="wedgeRoundRectCallout">
              <a:avLst>
                <a:gd name="adj1" fmla="val -123398"/>
                <a:gd name="adj2" fmla="val 18703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Methods (Services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AutoShape 20"/>
            <p:cNvSpPr/>
            <p:nvPr/>
          </p:nvSpPr>
          <p:spPr>
            <a:xfrm>
              <a:off x="5879880" y="4343400"/>
              <a:ext cx="1981440" cy="457200"/>
            </a:xfrm>
            <a:prstGeom prst="wedgeRoundRectCallout">
              <a:avLst>
                <a:gd name="adj1" fmla="val -125240"/>
                <a:gd name="adj2" fmla="val 8680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05" name="Group 21"/>
            <p:cNvGrpSpPr/>
            <p:nvPr/>
          </p:nvGrpSpPr>
          <p:grpSpPr>
            <a:xfrm>
              <a:off x="2743200" y="3657600"/>
              <a:ext cx="2272320" cy="2716560"/>
              <a:chOff x="2743200" y="3657600"/>
              <a:chExt cx="2272320" cy="2716560"/>
            </a:xfrm>
          </p:grpSpPr>
          <p:sp>
            <p:nvSpPr>
              <p:cNvPr id="406" name="Rectangle 22"/>
              <p:cNvSpPr/>
              <p:nvPr/>
            </p:nvSpPr>
            <p:spPr>
              <a:xfrm>
                <a:off x="2743200" y="5105520"/>
                <a:ext cx="2261520" cy="106668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7" name="Rectangle 23"/>
              <p:cNvSpPr/>
              <p:nvPr/>
            </p:nvSpPr>
            <p:spPr>
              <a:xfrm>
                <a:off x="2743200" y="4114800"/>
                <a:ext cx="2261520" cy="9907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8" name="Rectangle 24"/>
              <p:cNvSpPr/>
              <p:nvPr/>
            </p:nvSpPr>
            <p:spPr>
              <a:xfrm>
                <a:off x="2743200" y="3657600"/>
                <a:ext cx="2261520" cy="4572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9" name="Text Box 25"/>
              <p:cNvSpPr/>
              <p:nvPr/>
            </p:nvSpPr>
            <p:spPr>
              <a:xfrm>
                <a:off x="3043080" y="3733920"/>
                <a:ext cx="137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lassName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0" name="Text Box 26"/>
              <p:cNvSpPr/>
              <p:nvPr/>
            </p:nvSpPr>
            <p:spPr>
              <a:xfrm>
                <a:off x="2764800" y="4038480"/>
                <a:ext cx="191880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tt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…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buClr>
                    <a:srgbClr val="40458c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tt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i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i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1" name="Text Box 27"/>
              <p:cNvSpPr/>
              <p:nvPr/>
            </p:nvSpPr>
            <p:spPr>
              <a:xfrm>
                <a:off x="2799000" y="5173560"/>
                <a:ext cx="221652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m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(…)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...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+ m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j</a:t>
                </a: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(…): dataType</a:t>
                </a:r>
                <a:r>
                  <a:rPr b="1" lang="en-US" sz="2400" spc="-1" strike="noStrike" baseline="-25000">
                    <a:solidFill>
                      <a:srgbClr val="40458c"/>
                    </a:solidFill>
                    <a:latin typeface="Tahoma"/>
                  </a:rPr>
                  <a:t>j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2194F04-EA96-4C3C-B588-045254345C7F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358920"/>
            <a:ext cx="91440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Declaring Private Attribut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228680" y="2452680"/>
            <a:ext cx="6619680" cy="936720"/>
            <a:chOff x="1228680" y="2452680"/>
            <a:chExt cx="6619680" cy="936720"/>
          </a:xfrm>
        </p:grpSpPr>
        <p:sp>
          <p:nvSpPr>
            <p:cNvPr id="417" name="Rectangle 4"/>
            <p:cNvSpPr/>
            <p:nvPr/>
          </p:nvSpPr>
          <p:spPr>
            <a:xfrm>
              <a:off x="1228680" y="2452680"/>
              <a:ext cx="6453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8" name="Rectangle 5"/>
            <p:cNvSpPr/>
            <p:nvPr/>
          </p:nvSpPr>
          <p:spPr>
            <a:xfrm>
              <a:off x="1296720" y="2571480"/>
              <a:ext cx="65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odifiers&gt;  &lt;data type&gt; &lt;attribute name&gt; 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19" name="Rectangle 6"/>
          <p:cNvSpPr/>
          <p:nvPr/>
        </p:nvSpPr>
        <p:spPr>
          <a:xfrm>
            <a:off x="1762200" y="47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Courier New"/>
                <a:ea typeface="ＭＳ Ｐゴシック"/>
              </a:rPr>
              <a:t>private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String    studentName 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Line 7"/>
          <p:cNvSpPr/>
          <p:nvPr/>
        </p:nvSpPr>
        <p:spPr>
          <a:xfrm flipV="1">
            <a:off x="275256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Line 8"/>
          <p:cNvSpPr/>
          <p:nvPr/>
        </p:nvSpPr>
        <p:spPr>
          <a:xfrm flipV="1">
            <a:off x="433224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Line 9"/>
          <p:cNvSpPr/>
          <p:nvPr/>
        </p:nvSpPr>
        <p:spPr>
          <a:xfrm flipV="1">
            <a:off x="6067440" y="3948120"/>
            <a:ext cx="0" cy="673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2130480" y="3595680"/>
            <a:ext cx="115560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er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AutoShape 11"/>
          <p:cNvSpPr/>
          <p:nvPr/>
        </p:nvSpPr>
        <p:spPr>
          <a:xfrm>
            <a:off x="3666960" y="3595680"/>
            <a:ext cx="152424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Typ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AutoShape 12"/>
          <p:cNvSpPr/>
          <p:nvPr/>
        </p:nvSpPr>
        <p:spPr>
          <a:xfrm>
            <a:off x="5343480" y="3595680"/>
            <a:ext cx="162576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74BF1E13-9001-4A88-BAE3-FD912A05474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295280" y="3962520"/>
            <a:ext cx="65534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1523880" y="4102200"/>
            <a:ext cx="52578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Attribu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No method Members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868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ample of a Class with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rivate attribut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32" name="Group 23"/>
          <p:cNvGrpSpPr/>
          <p:nvPr/>
        </p:nvGrpSpPr>
        <p:grpSpPr>
          <a:xfrm>
            <a:off x="3352680" y="1776240"/>
            <a:ext cx="2361960" cy="1828800"/>
            <a:chOff x="3352680" y="1776240"/>
            <a:chExt cx="2361960" cy="1828800"/>
          </a:xfrm>
        </p:grpSpPr>
        <p:sp>
          <p:nvSpPr>
            <p:cNvPr id="433" name="Rectangle 17"/>
            <p:cNvSpPr/>
            <p:nvPr/>
          </p:nvSpPr>
          <p:spPr>
            <a:xfrm>
              <a:off x="3352680" y="3223800"/>
              <a:ext cx="2361960" cy="3812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Rectangle 18"/>
            <p:cNvSpPr/>
            <p:nvPr/>
          </p:nvSpPr>
          <p:spPr>
            <a:xfrm>
              <a:off x="3352680" y="2233440"/>
              <a:ext cx="2361960" cy="9903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Rectangle 19"/>
            <p:cNvSpPr/>
            <p:nvPr/>
          </p:nvSpPr>
          <p:spPr>
            <a:xfrm>
              <a:off x="3352680" y="1776240"/>
              <a:ext cx="236196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36" name="Text Box 20"/>
          <p:cNvSpPr/>
          <p:nvPr/>
        </p:nvSpPr>
        <p:spPr>
          <a:xfrm>
            <a:off x="3653280" y="18525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Nam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3290760" y="2227320"/>
            <a:ext cx="25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tudentName: Str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urseCode: Str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3352680" y="3321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7840F77-994E-4BC4-9A07-1484B268CBE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304920" y="1752480"/>
            <a:ext cx="79246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533520" y="4648320"/>
            <a:ext cx="75438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533520" y="3962520"/>
            <a:ext cx="6553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533520" y="2895480"/>
            <a:ext cx="6553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380880" y="152280"/>
            <a:ext cx="65534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09480" y="291960"/>
            <a:ext cx="52578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Data Memb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57200" y="1828800"/>
            <a:ext cx="84582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4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courseCode= “CSC112“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tudentName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“Majed AlKebir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courseCode=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CSC107“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tudentName=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“Fahd AlAmri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ourse1.studentName</a:t>
            </a: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+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courseCod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ourse2.studentName + </a:t>
            </a: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+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7f"/>
                </a:solidFill>
                <a:latin typeface="Courier New"/>
                <a:ea typeface="Courier New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courseCod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Freeform 13"/>
          <p:cNvSpPr/>
          <p:nvPr/>
        </p:nvSpPr>
        <p:spPr>
          <a:xfrm rot="21549000">
            <a:off x="685800" y="297144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Freeform 14"/>
          <p:cNvSpPr/>
          <p:nvPr/>
        </p:nvSpPr>
        <p:spPr>
          <a:xfrm rot="21549000">
            <a:off x="685800" y="403812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Freeform 15"/>
          <p:cNvSpPr/>
          <p:nvPr/>
        </p:nvSpPr>
        <p:spPr>
          <a:xfrm rot="21549000">
            <a:off x="685800" y="4952520"/>
            <a:ext cx="533520" cy="344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AC851C59-15CA-438C-8AB2-E829BEF78C9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ccessibility Exam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5057640" y="1682640"/>
            <a:ext cx="3863880" cy="3528720"/>
            <a:chOff x="5057640" y="1682640"/>
            <a:chExt cx="3863880" cy="3528720"/>
          </a:xfrm>
        </p:grpSpPr>
        <p:sp>
          <p:nvSpPr>
            <p:cNvPr id="457" name="Rectangle 4"/>
            <p:cNvSpPr/>
            <p:nvPr/>
          </p:nvSpPr>
          <p:spPr>
            <a:xfrm>
              <a:off x="5122440" y="1682640"/>
              <a:ext cx="3799080" cy="35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5057640" y="1830600"/>
              <a:ext cx="3857760" cy="32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class Service {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ublic  int memberOne;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rivate int memberTwo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public void doOne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br>
                <a:rPr sz="1600"/>
              </a:b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private void doTwo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171360" y="1701720"/>
            <a:ext cx="4071960" cy="4050720"/>
            <a:chOff x="171360" y="1701720"/>
            <a:chExt cx="4071960" cy="4050720"/>
          </a:xfrm>
        </p:grpSpPr>
        <p:sp>
          <p:nvSpPr>
            <p:cNvPr id="460" name="Rectangle 7"/>
            <p:cNvSpPr/>
            <p:nvPr/>
          </p:nvSpPr>
          <p:spPr>
            <a:xfrm>
              <a:off x="239760" y="1701720"/>
              <a:ext cx="4003560" cy="350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71360" y="1848600"/>
              <a:ext cx="406512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Service obj = new Service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memberOne = 10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memberTwo = 20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doOne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2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obj.doTwo()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ahoma"/>
                  <a:ea typeface="ＭＳ Ｐゴシック"/>
                </a:rPr>
                <a:t>…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62" name="Freeform 9"/>
          <p:cNvSpPr/>
          <p:nvPr/>
        </p:nvSpPr>
        <p:spPr>
          <a:xfrm rot="534600">
            <a:off x="3402000" y="2527200"/>
            <a:ext cx="450720" cy="527040"/>
          </a:xfrm>
          <a:custGeom>
            <a:avLst/>
            <a:gdLst>
              <a:gd name="textAreaLeft" fmla="*/ 0 w 450720"/>
              <a:gd name="textAreaRight" fmla="*/ 451080 w 4507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6f89f7"/>
            </a:solidFill>
            <a:miter/>
          </a:ln>
          <a:effectLst>
            <a:outerShdw dist="53966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Freeform 10"/>
          <p:cNvSpPr/>
          <p:nvPr/>
        </p:nvSpPr>
        <p:spPr>
          <a:xfrm rot="21549000">
            <a:off x="3347640" y="3228840"/>
            <a:ext cx="422280" cy="4287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Freeform 11"/>
          <p:cNvSpPr/>
          <p:nvPr/>
        </p:nvSpPr>
        <p:spPr>
          <a:xfrm rot="534600">
            <a:off x="3408480" y="3814920"/>
            <a:ext cx="450720" cy="527040"/>
          </a:xfrm>
          <a:custGeom>
            <a:avLst/>
            <a:gdLst>
              <a:gd name="textAreaLeft" fmla="*/ 0 w 450720"/>
              <a:gd name="textAreaRight" fmla="*/ 451080 w 4507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12" h="476">
                <a:moveTo>
                  <a:pt x="0" y="284"/>
                </a:moveTo>
                <a:lnTo>
                  <a:pt x="112" y="284"/>
                </a:lnTo>
                <a:lnTo>
                  <a:pt x="160" y="374"/>
                </a:lnTo>
                <a:lnTo>
                  <a:pt x="266" y="64"/>
                </a:lnTo>
                <a:lnTo>
                  <a:pt x="412" y="0"/>
                </a:lnTo>
                <a:lnTo>
                  <a:pt x="150" y="476"/>
                </a:lnTo>
                <a:lnTo>
                  <a:pt x="0" y="284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6f89f7"/>
            </a:solidFill>
            <a:miter/>
          </a:ln>
          <a:effectLst>
            <a:outerShdw dist="53966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Freeform 12"/>
          <p:cNvSpPr/>
          <p:nvPr/>
        </p:nvSpPr>
        <p:spPr>
          <a:xfrm rot="21549000">
            <a:off x="3354120" y="4516560"/>
            <a:ext cx="422280" cy="428400"/>
          </a:xfrm>
          <a:custGeom>
            <a:avLst/>
            <a:gdLst>
              <a:gd name="textAreaLeft" fmla="*/ 0 w 422280"/>
              <a:gd name="textAreaRight" fmla="*/ 422640 w 422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378" h="398">
                <a:moveTo>
                  <a:pt x="74" y="12"/>
                </a:moveTo>
                <a:lnTo>
                  <a:pt x="152" y="12"/>
                </a:lnTo>
                <a:lnTo>
                  <a:pt x="188" y="166"/>
                </a:lnTo>
                <a:lnTo>
                  <a:pt x="288" y="0"/>
                </a:lnTo>
                <a:lnTo>
                  <a:pt x="378" y="0"/>
                </a:lnTo>
                <a:lnTo>
                  <a:pt x="214" y="214"/>
                </a:lnTo>
                <a:lnTo>
                  <a:pt x="268" y="388"/>
                </a:lnTo>
                <a:lnTo>
                  <a:pt x="190" y="386"/>
                </a:lnTo>
                <a:lnTo>
                  <a:pt x="162" y="256"/>
                </a:lnTo>
                <a:lnTo>
                  <a:pt x="68" y="398"/>
                </a:lnTo>
                <a:lnTo>
                  <a:pt x="0" y="398"/>
                </a:lnTo>
                <a:lnTo>
                  <a:pt x="128" y="220"/>
                </a:lnTo>
                <a:lnTo>
                  <a:pt x="74" y="12"/>
                </a:lnTo>
                <a:close/>
              </a:path>
            </a:pathLst>
          </a:custGeom>
          <a:solidFill>
            <a:srgbClr val="f6061d"/>
          </a:solidFill>
          <a:ln w="9360">
            <a:solidFill>
              <a:srgbClr val="f6061d"/>
            </a:solidFill>
            <a:miter/>
          </a:ln>
          <a:effectLst>
            <a:outerShdw dist="52300" dir="4563564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1455840" y="5573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6186600" y="5573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4243320" y="3548160"/>
            <a:ext cx="889200" cy="0"/>
          </a:xfrm>
          <a:prstGeom prst="line">
            <a:avLst/>
          </a:prstGeom>
          <a:ln w="38160">
            <a:solidFill>
              <a:srgbClr val="40458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88EC196-D0AA-40BA-BDE5-B806022BCE4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  <a:ea typeface="ＭＳ Ｐゴシック"/>
              </a:rPr>
              <a:t>Objectiv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Information hiding princi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odifiers and the visi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UML representation of a cla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etho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Message passing princi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Passing parame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Getters and set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Construct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Overloa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D5928F2-835E-42AA-BB5E-7C7E55BB199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Object Oriented Basic Principles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10240" cy="2362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ssage Pass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loa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3809880" cy="23623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erit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ri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lymorphis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ynamic Bin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49876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Rectangle 18"/>
          <p:cNvSpPr/>
          <p:nvPr/>
        </p:nvSpPr>
        <p:spPr>
          <a:xfrm>
            <a:off x="838080" y="4038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and Message passing are discussed in this chapt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verloading is discussed in chapter 6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eritance, Polymorphism, Overriding and Dynamic binding are discussed in CSC 113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23E4E3F3-B993-4DD5-B0BB-30A5ECB50972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bstraction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 Abstrac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order to process something from the real world we have to extract the essential characteristics of that objec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abstraction is the process of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fining away the unimportant details of an object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Keeping only the useful characteristics that define the object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example, depending on how a car is viewed (e.g. in terms of something to be registered, or alternatively something to be repaired, etc.) different sets of characteristics will emerge as being importa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00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Functionality Abstrac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deling functionality suffers fro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unnecessary functionality may be extracted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or alternatively, an important piece of functionality may be omitted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unctionality abstraction is the process of determining which functionality is importa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6" name="Group 17"/>
          <p:cNvGrpSpPr/>
          <p:nvPr/>
        </p:nvGrpSpPr>
        <p:grpSpPr>
          <a:xfrm>
            <a:off x="5297400" y="3962520"/>
            <a:ext cx="3233880" cy="2385720"/>
            <a:chOff x="5297400" y="3962520"/>
            <a:chExt cx="3233880" cy="2385720"/>
          </a:xfrm>
        </p:grpSpPr>
        <p:pic>
          <p:nvPicPr>
            <p:cNvPr id="277" name="Picture 8" descr=""/>
            <p:cNvPicPr/>
            <p:nvPr/>
          </p:nvPicPr>
          <p:blipFill>
            <a:blip r:embed="rId1"/>
            <a:stretch/>
          </p:blipFill>
          <p:spPr>
            <a:xfrm>
              <a:off x="7083360" y="3962520"/>
              <a:ext cx="1414440" cy="23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9" descr=""/>
            <p:cNvPicPr/>
            <p:nvPr/>
          </p:nvPicPr>
          <p:blipFill>
            <a:blip r:embed="rId2"/>
            <a:stretch/>
          </p:blipFill>
          <p:spPr>
            <a:xfrm>
              <a:off x="5297400" y="4343400"/>
              <a:ext cx="1793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3"/>
            <p:cNvSpPr/>
            <p:nvPr/>
          </p:nvSpPr>
          <p:spPr>
            <a:xfrm>
              <a:off x="7866720" y="53341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0" name="Text Box 14"/>
            <p:cNvSpPr/>
            <p:nvPr/>
          </p:nvSpPr>
          <p:spPr>
            <a:xfrm>
              <a:off x="8119080" y="40226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1" name="Text Box 16"/>
            <p:cNvSpPr/>
            <p:nvPr/>
          </p:nvSpPr>
          <p:spPr>
            <a:xfrm>
              <a:off x="6053760" y="53341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view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A9084CF-DE86-4300-8127-7FE18142E34C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ncapsulation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86" name="Picture 8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6095880" y="12193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/>
          <p:cNvPicPr/>
          <p:nvPr/>
        </p:nvPicPr>
        <p:blipFill>
          <a:blip r:embed="rId2"/>
          <a:stretch/>
        </p:blipFill>
        <p:spPr>
          <a:xfrm>
            <a:off x="5991120" y="3286080"/>
            <a:ext cx="2847960" cy="30384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ction involves reducing a real world entity to its abstraction essential defining characteristic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capsulation extends this idea by also modeling and </a:t>
            </a:r>
            <a:r>
              <a:rPr b="0" i="1" lang="en-US" sz="2000" spc="-1" strike="noStrike">
                <a:solidFill>
                  <a:srgbClr val="9900cc"/>
                </a:solidFill>
                <a:latin typeface="Tahoma"/>
              </a:rPr>
              <a:t>link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each data of an entity to the appropriate functionality of that entit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8C96F82-AF84-4CC5-B814-4F7AE8A2DE3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ncapsulation Gives Class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OP makes use of encapsulation to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ensur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at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us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 an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anne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y preventing from accessing data in a non-intended manner (e.g. asking if an Integer is true or false, etc.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rough encapsulation,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nl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 predetermined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group of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peratio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ay b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li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have access)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Place data and the operations that act on that data in the same clas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0600" y="12193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capsulation is the OO principle that allows objects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contain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ropriat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peratio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at could b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appli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o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hey sto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y Nokia-N71 cell-phone stores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y contacts,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issed call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y Nokia-N71 may perform the following operations on the data it contains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dit/Update/Delete an existing contac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Add a new contac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isplay my missed call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5B57E2D-25B0-41E5-9E11-DB387BF8A0E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Information Hiding Principl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 access to data only to internal operations that need it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O classes hide the data as private data members and use public accessor operations to get at it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scope of the data is limited to th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4A0F829-48DB-48C4-B3F0-8FD7D262B1D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Information Hiding Objectiv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formation hiding protects from exposing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items (attributes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difference between stored data and derived dat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internal structure of a clas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tion details of a clas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999D758D-9267-4568-9F84-9D15BA72DF2E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ncapsulation and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Information Hiding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(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s a language construc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hat ) facilitates the bundling of data with the operations acting on that da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Tahoma"/>
              </a:rPr>
              <a:t>Place data and the operations that perform on that data in the same clas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s a design princip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hat strives to shield client classes from the internal workings of a clas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facilita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but does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not guarante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information hiding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mearing the two into one concept prevents a clear understanding of eithe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45:47Z</dcterms:created>
  <dc:creator>Staff Member</dc:creator>
  <dc:description/>
  <dc:language>en-US</dc:language>
  <cp:lastModifiedBy>Rawan</cp:lastModifiedBy>
  <dcterms:modified xsi:type="dcterms:W3CDTF">2012-11-15T12:34:43Z</dcterms:modified>
  <cp:revision>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dience">
    <vt:lpwstr/>
  </property>
  <property fmtid="{D5CDD505-2E9C-101B-9397-08002B2CF9AE}" pid="3" name="Comments">
    <vt:lpwstr/>
  </property>
  <property fmtid="{D5CDD505-2E9C-101B-9397-08002B2CF9AE}" pid="4" name="Comments1">
    <vt:lpwstr/>
  </property>
  <property fmtid="{D5CDD505-2E9C-101B-9397-08002B2CF9AE}" pid="5" name="PublishingContactEmail">
    <vt:lpwstr/>
  </property>
  <property fmtid="{D5CDD505-2E9C-101B-9397-08002B2CF9AE}" pid="6" name="PublishingContactName">
    <vt:lpwstr/>
  </property>
  <property fmtid="{D5CDD505-2E9C-101B-9397-08002B2CF9AE}" pid="7" name="PublishingContactPicture">
    <vt:lpwstr/>
  </property>
  <property fmtid="{D5CDD505-2E9C-101B-9397-08002B2CF9AE}" pid="8" name="PublishingRollupImage">
    <vt:lpwstr/>
  </property>
  <property fmtid="{D5CDD505-2E9C-101B-9397-08002B2CF9AE}" pid="9" name="_TemplateID">
    <vt:lpwstr>TC010689871033</vt:lpwstr>
  </property>
</Properties>
</file>