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502D-1B79-440E-953E-1ABEDD77B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D09E-4177-449A-B1DA-C71E6BBD7CF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2B4-F57F-4615-9DB9-196960F6140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AFD7-DA2B-4EBE-B900-28717BF3B66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ollowing calls are val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 i, k, m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= 12; k = 10; m = 14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3, 4, 5.5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i, k, m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m, 20, 40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ollowing calls are not val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2, 4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mo.compute(14.0, 2, 3.0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F7E-EA19-49AC-A12C-DBFF65A08F7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8184-21DF-4C51-BB9C-273BC9771BD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8E97-E7C8-4D74-A042-B02F2EE832C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D72C-101E-400D-8486-9C87F5077C1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D888-F497-4B36-90A0-4B56BE7254B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F5F-AA11-44D1-9BE7-C1EC303EEB0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2577-033B-45E4-AB16-6760D3033B7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CC32-683E-4676-AF39-E1D71F8C753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720-9653-4F60-BCFD-EF97E8FB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F54-DA41-4FFE-8FDE-7E79DD93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760-CF39-4F65-ABAE-94D48AFD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CF3-6EA1-4AC1-8078-C48D86DC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E224-B900-42D6-9F02-54CFF519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5182-52DD-4862-A0A5-950BED60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201F-4C73-420F-8FDD-F59112E8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AF31-2249-4C5F-AE50-51401951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0EDE-61D6-47BD-A394-0DF0AC37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C86D-DC35-410A-9576-B5CBE391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71F7-5CBA-41BD-9B91-A9B4713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9C2-BB50-4E99-8758-DA766F60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66B9-9CCC-4BA8-9203-8B09973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C991-8377-4E79-B618-0DA3E77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DE3C-0B59-421B-8E11-50A70076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8666-0A3B-4BB7-A93B-B2F30431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69FA-BDB0-4CF2-B21D-03AF9B9A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9DD-0B7F-4188-BC83-9353BE93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91E-72B2-46BB-B6E4-555C23A1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25B-66EC-416E-8216-53756C8B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EA4-D936-4DD0-9095-1071A32D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374-E391-495C-8450-5A8E4FE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190-664F-4DFA-9E52-9347956F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522-A96A-48F8-91CD-843DD060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Group 57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8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69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0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Group 81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82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Line 83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Arc 84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AD7121D5-386F-4DDA-BC16-B5BBC00DBF29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Group 90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Rectangle 86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3" name="Rectangle 87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" name="Rectangle 89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6" name="Rectangle 56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Group 3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Line 4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5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6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7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8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9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1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2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9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20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21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22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23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24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25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26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3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4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5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7" name="Line 80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8" name="Group 106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189" name="Line 82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0" name="Line 83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1" name="Arc 84"/>
              <p:cNvSpPr/>
              <p:nvPr/>
            </p:nvSpPr>
            <p:spPr>
              <a:xfrm flipH="1" rot="16200000">
                <a:off x="480240" y="31140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2" name="Arc 91"/>
              <p:cNvSpPr/>
              <p:nvPr/>
            </p:nvSpPr>
            <p:spPr>
              <a:xfrm>
                <a:off x="1098720" y="3143520"/>
                <a:ext cx="423720" cy="3315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fill="none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</a:path>
                  <a:path stroke="0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  <a:lnTo>
                      <a:pt x="16787" y="856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3" name="Arc 92"/>
              <p:cNvSpPr/>
              <p:nvPr/>
            </p:nvSpPr>
            <p:spPr>
              <a:xfrm flipV="1">
                <a:off x="1324080" y="3140280"/>
                <a:ext cx="457200" cy="5112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360 h 511200"/>
                  <a:gd name="textAreaBottom" fmla="*/ 511920 h 511200"/>
                </a:gdLst>
                <a:ahLst/>
                <a:rect l="textAreaLeft" t="textAreaTop" r="textAreaRight" b="textAreaBottom"/>
                <a:pathLst>
                  <a:path fill="none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</a:path>
                  <a:path stroke="0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  <a:lnTo>
                      <a:pt x="21600" y="536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4" name="Arc 93"/>
              <p:cNvSpPr/>
              <p:nvPr/>
            </p:nvSpPr>
            <p:spPr>
              <a:xfrm flipV="1">
                <a:off x="1784520" y="3131640"/>
                <a:ext cx="457200" cy="522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fill="none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</a:path>
                  <a:path stroke="0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  <a:lnTo>
                      <a:pt x="0" y="4933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5" name="Line 94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6" name="Line 95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" name="Arc 96"/>
              <p:cNvSpPr/>
              <p:nvPr/>
            </p:nvSpPr>
            <p:spPr>
              <a:xfrm flipV="1">
                <a:off x="4299120" y="3236400"/>
                <a:ext cx="1153800" cy="982440"/>
              </a:xfrm>
              <a:custGeom>
                <a:avLst/>
                <a:gdLst>
                  <a:gd name="textAreaLeft" fmla="*/ 0 w 1153800"/>
                  <a:gd name="textAreaRight" fmla="*/ 1154160 w 1153800"/>
                  <a:gd name="textAreaTop" fmla="*/ -360 h 982440"/>
                  <a:gd name="textAreaBottom" fmla="*/ 982440 h 982440"/>
                </a:gdLst>
                <a:ahLst/>
                <a:rect l="textAreaLeft" t="textAreaTop" r="textAreaRight" b="textAreaBottom"/>
                <a:pathLst>
                  <a:path fill="none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</a:path>
                  <a:path stroke="0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  <a:lnTo>
                      <a:pt x="18917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" name="Arc 97"/>
              <p:cNvSpPr/>
              <p:nvPr/>
            </p:nvSpPr>
            <p:spPr>
              <a:xfrm>
                <a:off x="4883040" y="3186360"/>
                <a:ext cx="674640" cy="34128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fill="none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</a:path>
                  <a:path stroke="0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  <a:lnTo>
                      <a:pt x="21430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" name="Arc 98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</a:path>
                  <a:path stroke="0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  <a:lnTo>
                      <a:pt x="21571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0" name="Arc 99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custGeom>
                <a:avLst/>
                <a:gdLst>
                  <a:gd name="textAreaLeft" fmla="*/ 360 w 318960"/>
                  <a:gd name="textAreaRight" fmla="*/ 319680 w 318960"/>
                  <a:gd name="textAreaTop" fmla="*/ -360 h 206280"/>
                  <a:gd name="textAreaBottom" fmla="*/ 206280 h 206280"/>
                </a:gdLst>
                <a:ahLst/>
                <a:rect l="textAreaLeft" t="textAreaTop" r="textAreaRight" b="textAreaBottom"/>
                <a:pathLst>
                  <a:path fill="none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</a:path>
                  <a:path stroke="0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  <a:lnTo>
                      <a:pt x="21600" y="640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B84A-F9F2-4444-99A6-6510089D8747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D0347E5-A915-46A4-951C-799593BC02B0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5257800" y="4648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troduction to method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3520" y="2514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  <a:ea typeface="ＭＳ Ｐゴシック"/>
              </a:rPr>
              <a:t>Chapter 5: Classes and Objects in Depth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BF5702F-D1F1-4803-A7C0-CACE01F12FD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685800" y="3467160"/>
            <a:ext cx="79246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914400" y="5295960"/>
            <a:ext cx="655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Invoc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voking a method of a given object requires using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stance vari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at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ref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this 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ot (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operator as following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instanceVariabl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methodName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arguments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914400" y="4610160"/>
            <a:ext cx="655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838080" y="3543480"/>
            <a:ext cx="84582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4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1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enterDataFromKeyBoar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1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displa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2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enterDataFromKeyBoar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9966"/>
                </a:solidFill>
                <a:latin typeface="Courier New"/>
                <a:ea typeface="Courier New"/>
              </a:rPr>
              <a:t>course2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1" lang="en-US" sz="1400" spc="-1" strike="noStrike">
                <a:solidFill>
                  <a:srgbClr val="9900cc"/>
                </a:solidFill>
                <a:latin typeface="Courier New"/>
                <a:ea typeface="Courier New"/>
              </a:rPr>
              <a:t>displa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D715E46-E684-4383-89FD-5D851777BDE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Method Invocation Execution Schema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85800" y="1295280"/>
            <a:ext cx="3657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73640" y="1371600"/>
            <a:ext cx="30153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lien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static voi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in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ring[] arg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 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obj = new X();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Block statement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bj.method();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Block statement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171240" y="33526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5029200" y="1295280"/>
            <a:ext cx="3657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5191560" y="1447920"/>
            <a:ext cx="255816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X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ethod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) {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Method bo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2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152280" y="4038480"/>
            <a:ext cx="3353040" cy="2210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5638680" y="4038480"/>
            <a:ext cx="3353040" cy="2210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3200400" y="4114800"/>
            <a:ext cx="0" cy="6858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200400" y="5486400"/>
            <a:ext cx="0" cy="4572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5943600" y="4876920"/>
            <a:ext cx="0" cy="53316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346" name="AutoShape 21"/>
          <p:cNvCxnSpPr>
            <a:stCxn id="343" idx="0"/>
            <a:endCxn id="345" idx="0"/>
          </p:cNvCxnSpPr>
          <p:nvPr/>
        </p:nvCxnSpPr>
        <p:spPr>
          <a:xfrm>
            <a:off x="3200400" y="4828680"/>
            <a:ext cx="2743920" cy="19800"/>
          </a:xfrm>
          <a:prstGeom prst="straightConnector1">
            <a:avLst/>
          </a:prstGeom>
          <a:ln w="3816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cxnSp>
        <p:nvCxnSpPr>
          <p:cNvPr id="347" name="AutoShape 22"/>
          <p:cNvCxnSpPr>
            <a:stCxn id="345" idx="1"/>
            <a:endCxn id="344" idx="0"/>
          </p:cNvCxnSpPr>
          <p:nvPr/>
        </p:nvCxnSpPr>
        <p:spPr>
          <a:xfrm flipH="1">
            <a:off x="3200040" y="5438520"/>
            <a:ext cx="2743920" cy="19800"/>
          </a:xfrm>
          <a:prstGeom prst="straightConnector1">
            <a:avLst/>
          </a:prstGeom>
          <a:ln w="38160">
            <a:solidFill>
              <a:srgbClr val="339966"/>
            </a:solidFill>
            <a:prstDash val="sysDot"/>
            <a:miter/>
            <a:tailEnd len="med" type="triangle" w="med"/>
          </a:ln>
        </p:spPr>
      </p:cxnSp>
      <p:sp>
        <p:nvSpPr>
          <p:cNvPr id="348" name="Text Box 23"/>
          <p:cNvSpPr/>
          <p:nvPr/>
        </p:nvSpPr>
        <p:spPr>
          <a:xfrm>
            <a:off x="2180520" y="5958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Text Box 25"/>
          <p:cNvSpPr/>
          <p:nvPr/>
        </p:nvSpPr>
        <p:spPr>
          <a:xfrm>
            <a:off x="168840" y="41292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lock statement 1 execu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504360" y="53341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lock statement 2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star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600120" y="45864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The method Invo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5929920" y="472428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method body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star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30"/>
          <p:cNvSpPr/>
          <p:nvPr/>
        </p:nvSpPr>
        <p:spPr>
          <a:xfrm>
            <a:off x="3403800" y="44956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Passing Paramet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if exi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1"/>
          <p:cNvSpPr/>
          <p:nvPr/>
        </p:nvSpPr>
        <p:spPr>
          <a:xfrm>
            <a:off x="5932800" y="51958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method body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finish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Text Box 33"/>
          <p:cNvSpPr/>
          <p:nvPr/>
        </p:nvSpPr>
        <p:spPr>
          <a:xfrm>
            <a:off x="3449160" y="51055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Return result if an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D0E4D16-BECB-43CA-B5A5-390E93CF343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Tahoma"/>
              </a:rPr>
              <a:t>Returning a Value from a Method 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 method returns to the code that invoked it when i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mpletes all the statements in the method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aches a return statement, 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rows an exception (covered in CSC 113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f the method returns a valu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caller must declare a variable of the same type of the return val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aller assigns the return value to the variab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variableN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instanceVariabl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thodName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gs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8876363-FDA4-401B-9D46-FFC25B6E39EB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he </a:t>
            </a:r>
            <a:r>
              <a:rPr b="1" i="1" lang="en-US" sz="4400" spc="-1" strike="noStrike">
                <a:solidFill>
                  <a:srgbClr val="990033"/>
                </a:solidFill>
                <a:latin typeface="Tahoma"/>
              </a:rPr>
              <a:t>return</a:t>
            </a: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 keywor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method's return typ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declared in its method declaration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retur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statement is used within the body of the method to return the valu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y method declared </a:t>
            </a:r>
            <a:r>
              <a:rPr b="0" i="1" lang="en-GB" sz="2400" spc="-1" strike="noStrike">
                <a:solidFill>
                  <a:srgbClr val="339966"/>
                </a:solidFill>
                <a:latin typeface="Tahoma"/>
              </a:rPr>
              <a:t>voi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doesn't return a valu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 does not need to contain a return stateme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It may use a return statement to branch out of a control flow block and exit the method. The return statement is simply used like this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eturn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Return a value from a such method, will cause a compiler error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ny method that is not declared voi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must contain a return statement with a corresponding return value, like this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eturn returnValue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The data type of the return value must match the method's declared return type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you can't return an integer value from a method declared to return a boolea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9AD2FF0-FFE3-4600-8198-33DE4CF520E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ample of a Method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ith Return valu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685800" y="1371600"/>
            <a:ext cx="8077320" cy="2490120"/>
            <a:chOff x="685800" y="1371600"/>
            <a:chExt cx="8077320" cy="2490120"/>
          </a:xfrm>
        </p:grpSpPr>
        <p:sp>
          <p:nvSpPr>
            <p:cNvPr id="371" name="Rectangle 3"/>
            <p:cNvSpPr/>
            <p:nvPr/>
          </p:nvSpPr>
          <p:spPr>
            <a:xfrm>
              <a:off x="685800" y="1371600"/>
              <a:ext cx="807732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2" name="Rectangle 4"/>
            <p:cNvSpPr/>
            <p:nvPr/>
          </p:nvSpPr>
          <p:spPr>
            <a:xfrm>
              <a:off x="914400" y="15112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udent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studentName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int midTerm1, midTerm2, lab, final 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Methods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i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mputeTotalMark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value = mid1 + mid2 + lab + final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alue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73" name="Group 8"/>
          <p:cNvGrpSpPr/>
          <p:nvPr/>
        </p:nvGrpSpPr>
        <p:grpSpPr>
          <a:xfrm>
            <a:off x="685800" y="3886200"/>
            <a:ext cx="8077320" cy="2362320"/>
            <a:chOff x="685800" y="3886200"/>
            <a:chExt cx="8077320" cy="2362320"/>
          </a:xfrm>
        </p:grpSpPr>
        <p:sp>
          <p:nvSpPr>
            <p:cNvPr id="374" name="Rectangle 6"/>
            <p:cNvSpPr/>
            <p:nvPr/>
          </p:nvSpPr>
          <p:spPr>
            <a:xfrm>
              <a:off x="685800" y="3886200"/>
              <a:ext cx="80773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Rectangle 7"/>
            <p:cNvSpPr/>
            <p:nvPr/>
          </p:nvSpPr>
          <p:spPr>
            <a:xfrm>
              <a:off x="914400" y="4025880"/>
              <a:ext cx="7772400" cy="21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TestStudent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udent st = new Student(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total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…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total = st.computeTotalMark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ystem.out.println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total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B72F3A6-1182-4744-9025-4A9A6DD201F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Methods </a:t>
            </a:r>
            <a:br>
              <a:rPr sz="4400"/>
            </a:b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ith Return valu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685800" y="1371600"/>
            <a:ext cx="8077320" cy="2490120"/>
            <a:chOff x="685800" y="1371600"/>
            <a:chExt cx="8077320" cy="2490120"/>
          </a:xfrm>
        </p:grpSpPr>
        <p:sp>
          <p:nvSpPr>
            <p:cNvPr id="381" name="Rectangle 4"/>
            <p:cNvSpPr/>
            <p:nvPr/>
          </p:nvSpPr>
          <p:spPr>
            <a:xfrm>
              <a:off x="685800" y="1371600"/>
              <a:ext cx="807732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914400" y="15112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assName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Methods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methodNam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…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// 1 - calculate the value to return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// 2 - assign the value to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variableNam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3" name="Group 6"/>
          <p:cNvGrpSpPr/>
          <p:nvPr/>
        </p:nvGrpSpPr>
        <p:grpSpPr>
          <a:xfrm>
            <a:off x="685800" y="3886200"/>
            <a:ext cx="8077320" cy="2490120"/>
            <a:chOff x="685800" y="3886200"/>
            <a:chExt cx="8077320" cy="2490120"/>
          </a:xfrm>
        </p:grpSpPr>
        <p:sp>
          <p:nvSpPr>
            <p:cNvPr id="384" name="Rectangle 7"/>
            <p:cNvSpPr/>
            <p:nvPr/>
          </p:nvSpPr>
          <p:spPr>
            <a:xfrm>
              <a:off x="685800" y="3886200"/>
              <a:ext cx="807732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914400" y="4025880"/>
              <a:ext cx="7772400" cy="23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ientClass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ClassName </a:t>
              </a:r>
              <a:r>
                <a:rPr b="1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instanceVar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= new ClassName(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return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4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receivingVara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receivingVarai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= </a:t>
              </a:r>
              <a:r>
                <a:rPr b="1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instanceVariable</a:t>
              </a:r>
              <a:r>
                <a:rPr b="0" lang="en-US" sz="14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ethodName(…)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9BE2453-DA58-4A8E-BDE7-CA42A0F7327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Passing Information to a Method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declaration for a method declares the number and the type of the data-items to be passed for that metho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990033"/>
                </a:solidFill>
                <a:latin typeface="Tahoma"/>
              </a:rPr>
              <a:t>Parameter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refer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to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e list of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variabl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n a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method declar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0033"/>
                </a:solidFill>
                <a:latin typeface="Tahoma"/>
              </a:rPr>
              <a:t>Argument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ar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e actual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valu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that are 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passed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n when the method is</a:t>
            </a:r>
            <a:r>
              <a:rPr b="0" lang="en-GB" sz="2800" spc="-1" strike="noStrike">
                <a:solidFill>
                  <a:srgbClr val="339966"/>
                </a:solidFill>
                <a:latin typeface="Tahoma"/>
              </a:rPr>
              <a:t> invoked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When you invoke a method, the arguments used must match the declaration's parameters in type and 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D02E470-5001-44A9-BB2A-FA12FBBA21E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rguments and Parame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 argument is a value we pass to a meth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parameter is a placeholder in the called method to hold the value of the passed argume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6" name="Group 13"/>
          <p:cNvGrpSpPr/>
          <p:nvPr/>
        </p:nvGrpSpPr>
        <p:grpSpPr>
          <a:xfrm>
            <a:off x="685800" y="3809880"/>
            <a:ext cx="3657600" cy="2362320"/>
            <a:chOff x="685800" y="3809880"/>
            <a:chExt cx="3657600" cy="2362320"/>
          </a:xfrm>
        </p:grpSpPr>
        <p:sp>
          <p:nvSpPr>
            <p:cNvPr id="397" name="Rectangle 4"/>
            <p:cNvSpPr/>
            <p:nvPr/>
          </p:nvSpPr>
          <p:spPr>
            <a:xfrm>
              <a:off x="685800" y="3809880"/>
              <a:ext cx="36576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Text Box 7"/>
            <p:cNvSpPr/>
            <p:nvPr/>
          </p:nvSpPr>
          <p:spPr>
            <a:xfrm>
              <a:off x="774720" y="3886200"/>
              <a:ext cx="3381120" cy="21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ample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static voi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main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ring[] arg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Account acct = new Account()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acct.add(400)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 flipV="1">
              <a:off x="2361960" y="5271480"/>
              <a:ext cx="0" cy="38124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1907640" y="55767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89f7"/>
                  </a:solidFill>
                  <a:latin typeface="Arial"/>
                </a:rPr>
                <a:t>argumen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01" name="Group 12"/>
          <p:cNvGrpSpPr/>
          <p:nvPr/>
        </p:nvGrpSpPr>
        <p:grpSpPr>
          <a:xfrm>
            <a:off x="5029200" y="3809880"/>
            <a:ext cx="3657600" cy="2438280"/>
            <a:chOff x="5029200" y="3809880"/>
            <a:chExt cx="3657600" cy="2438280"/>
          </a:xfrm>
        </p:grpSpPr>
        <p:sp>
          <p:nvSpPr>
            <p:cNvPr id="402" name="Rectangle 5"/>
            <p:cNvSpPr/>
            <p:nvPr/>
          </p:nvSpPr>
          <p:spPr>
            <a:xfrm>
              <a:off x="5029200" y="3809880"/>
              <a:ext cx="36576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3" name="Text Box 6"/>
            <p:cNvSpPr/>
            <p:nvPr/>
          </p:nvSpPr>
          <p:spPr>
            <a:xfrm>
              <a:off x="5193720" y="3962160"/>
              <a:ext cx="3198240" cy="17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clas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ccount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voi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add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double amt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) {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balance = balance + amt;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2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2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7848360" y="4190760"/>
              <a:ext cx="0" cy="38124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7317720" y="388620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89f7"/>
                  </a:solidFill>
                  <a:latin typeface="Arial"/>
                </a:rPr>
                <a:t>paramete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D6238E0-8E62-4FBF-942D-31BC04C38BF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atching Arguments and Parame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35400" y="1523880"/>
            <a:ext cx="2879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number or arguments and the parameters must be the sa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guments and parameters are paired left to righ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matched pair must be assignment-compatible (e.g. you cannot pass a double argument to a int paramet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1" name="Picture 4" descr="ch4-2"/>
          <p:cNvPicPr/>
          <p:nvPr/>
        </p:nvPicPr>
        <p:blipFill>
          <a:blip r:embed="rId1"/>
          <a:stretch/>
        </p:blipFill>
        <p:spPr>
          <a:xfrm>
            <a:off x="685800" y="1762200"/>
            <a:ext cx="52102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855EA1D-E0C8-4B0E-95D2-A853CA162F4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arameter Passing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a method is calle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parameters are creat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values of arguments are copied into the parameters’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variables declared in the method body (called local variables) are create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ethod body is executed using the parameters and local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the method finish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and local variables are destroy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406E46D9-0E43-4CFB-81AB-8B59C8CB398C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hat are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 ar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ntiti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f the real-world that interact with their environments by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erforming services on deman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 of the same class hav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characteristics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ore the same type of data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behavio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provide the same services to their environmen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rvices that objects provide are called method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A806464-3616-4CAA-9DE3-917EE79C7ED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assing Objects to a Metho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 we can pass primitive data type values, we can also pass object references to a method using instance variab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n instance variable to a method means passing a reference of an objec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means that the corresponding parameter will be a copy of the reference of this object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ecause the passing parameter mechanism copies the value of the argument (which is an object reference) into the parameter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argument and its corresponding parameter refer to the same objec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object is not duplicate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re are two instance variables (the argument and the parameter) referring to the same objec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644BD1AE-F68A-4D95-B20C-5C3F4BEEC84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How Private Attributes could be Accessed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vate attributes are not accessible from outsid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cept from objects of the sam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y are accessibl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om inside: from the object containing the data itsel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om objects of the same clas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y are accessible from outside using accessor operati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t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D4E4803-7622-4999-A607-6D2C277F2DC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380880" y="152280"/>
            <a:ext cx="65534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609480" y="291960"/>
            <a:ext cx="52578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Data Memb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32" name="Group 4"/>
          <p:cNvGrpSpPr/>
          <p:nvPr/>
        </p:nvGrpSpPr>
        <p:grpSpPr>
          <a:xfrm>
            <a:off x="304920" y="1752480"/>
            <a:ext cx="8610480" cy="4920120"/>
            <a:chOff x="304920" y="1752480"/>
            <a:chExt cx="8610480" cy="4920120"/>
          </a:xfrm>
        </p:grpSpPr>
        <p:sp>
          <p:nvSpPr>
            <p:cNvPr id="433" name="Rectangle 5"/>
            <p:cNvSpPr/>
            <p:nvPr/>
          </p:nvSpPr>
          <p:spPr>
            <a:xfrm>
              <a:off x="304920" y="1752480"/>
              <a:ext cx="7924680" cy="449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533520" y="4648320"/>
              <a:ext cx="7543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533520" y="3962520"/>
              <a:ext cx="65530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Rectangle 8"/>
            <p:cNvSpPr/>
            <p:nvPr/>
          </p:nvSpPr>
          <p:spPr>
            <a:xfrm>
              <a:off x="533520" y="2895480"/>
              <a:ext cx="65530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Rectangle 9"/>
            <p:cNvSpPr/>
            <p:nvPr/>
          </p:nvSpPr>
          <p:spPr>
            <a:xfrm>
              <a:off x="457200" y="1828800"/>
              <a:ext cx="845820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Registration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static voi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main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ing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]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rgs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 {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 course1, course2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//Create and assign values to course1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</a:t>
              </a:r>
              <a:r>
                <a:rPr b="0" lang="en-US" sz="1400" spc="-1" strike="noStrike">
                  <a:solidFill>
                    <a:srgbClr val="40458c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 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courseCode= “CSC112“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studentName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=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“Majed AlKebir“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//Create and assign values to course2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 = 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Cours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( 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courseCode=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“CSC107“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studentName=</a:t>
              </a:r>
              <a:r>
                <a:rPr b="0" lang="en-US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“Fahd AlAmri“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  <a:ea typeface="Courier New"/>
                </a:rPr>
                <a:t>	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ystem.out.println(course1.studentName</a:t>
              </a: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" has the course “+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1.courseCod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                          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ystem.out.println(course2.studentName + </a:t>
              </a: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" has the course “+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f7f"/>
                  </a:solidFill>
                  <a:latin typeface="Courier New"/>
                  <a:ea typeface="Courier New"/>
                </a:rPr>
                <a:t>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2.courseCode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)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 rot="21549000">
              <a:off x="685800" y="297144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 rot="21549000">
              <a:off x="685800" y="403812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 rot="21549000">
              <a:off x="685800" y="4952520"/>
              <a:ext cx="533520" cy="344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78" h="398">
                  <a:moveTo>
                    <a:pt x="74" y="12"/>
                  </a:moveTo>
                  <a:lnTo>
                    <a:pt x="152" y="12"/>
                  </a:lnTo>
                  <a:lnTo>
                    <a:pt x="188" y="166"/>
                  </a:lnTo>
                  <a:lnTo>
                    <a:pt x="288" y="0"/>
                  </a:lnTo>
                  <a:lnTo>
                    <a:pt x="378" y="0"/>
                  </a:lnTo>
                  <a:lnTo>
                    <a:pt x="214" y="214"/>
                  </a:lnTo>
                  <a:lnTo>
                    <a:pt x="268" y="388"/>
                  </a:lnTo>
                  <a:lnTo>
                    <a:pt x="190" y="386"/>
                  </a:lnTo>
                  <a:lnTo>
                    <a:pt x="162" y="256"/>
                  </a:lnTo>
                  <a:lnTo>
                    <a:pt x="68" y="398"/>
                  </a:lnTo>
                  <a:lnTo>
                    <a:pt x="0" y="398"/>
                  </a:lnTo>
                  <a:lnTo>
                    <a:pt x="128" y="220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f6061d"/>
            </a:solidFill>
            <a:ln w="9360">
              <a:solidFill>
                <a:srgbClr val="f6061d"/>
              </a:solidFill>
              <a:miter/>
            </a:ln>
            <a:effectLst>
              <a:outerShdw dist="52300" dir="4563564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40092EF-831A-45BC-B349-9A1AA7DF5CC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G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operations performed  by the object returning to outsiders data retrieved from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services called from outside allowing to retrieve data from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528120" y="990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object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5002920" y="100476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user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457200" y="4145040"/>
            <a:ext cx="5029200" cy="2103480"/>
            <a:chOff x="457200" y="4145040"/>
            <a:chExt cx="5029200" cy="2103480"/>
          </a:xfrm>
        </p:grpSpPr>
        <p:sp>
          <p:nvSpPr>
            <p:cNvPr id="450" name="Rectangle 8"/>
            <p:cNvSpPr/>
            <p:nvPr/>
          </p:nvSpPr>
          <p:spPr>
            <a:xfrm>
              <a:off x="3657600" y="449604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51" name="Group 9"/>
            <p:cNvGrpSpPr/>
            <p:nvPr/>
          </p:nvGrpSpPr>
          <p:grpSpPr>
            <a:xfrm>
              <a:off x="3657600" y="4145040"/>
              <a:ext cx="1828440" cy="427320"/>
              <a:chOff x="3657600" y="4145040"/>
              <a:chExt cx="1828440" cy="427320"/>
            </a:xfrm>
          </p:grpSpPr>
          <p:sp>
            <p:nvSpPr>
              <p:cNvPr id="452" name="Rectangle 10"/>
              <p:cNvSpPr/>
              <p:nvPr/>
            </p:nvSpPr>
            <p:spPr>
              <a:xfrm>
                <a:off x="3657600" y="414504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4031640" y="415332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object:X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54" name="Group 12"/>
            <p:cNvGrpSpPr/>
            <p:nvPr/>
          </p:nvGrpSpPr>
          <p:grpSpPr>
            <a:xfrm>
              <a:off x="3751200" y="4678560"/>
              <a:ext cx="987480" cy="307080"/>
              <a:chOff x="3751200" y="4678560"/>
              <a:chExt cx="987480" cy="307080"/>
            </a:xfrm>
          </p:grpSpPr>
          <p:sp>
            <p:nvSpPr>
              <p:cNvPr id="455" name="Rectangle 13"/>
              <p:cNvSpPr/>
              <p:nvPr/>
            </p:nvSpPr>
            <p:spPr>
              <a:xfrm>
                <a:off x="3751200" y="4716720"/>
                <a:ext cx="72396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6" name="Freeform 14"/>
              <p:cNvSpPr/>
              <p:nvPr/>
            </p:nvSpPr>
            <p:spPr>
              <a:xfrm rot="534600">
                <a:off x="4571640" y="473112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7" name="Text Box 15"/>
              <p:cNvSpPr/>
              <p:nvPr/>
            </p:nvSpPr>
            <p:spPr>
              <a:xfrm>
                <a:off x="3766680" y="467856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58" name="Group 16"/>
            <p:cNvGrpSpPr/>
            <p:nvPr/>
          </p:nvGrpSpPr>
          <p:grpSpPr>
            <a:xfrm>
              <a:off x="4361760" y="5059440"/>
              <a:ext cx="1062720" cy="307080"/>
              <a:chOff x="4361760" y="5059440"/>
              <a:chExt cx="1062720" cy="307080"/>
            </a:xfrm>
          </p:grpSpPr>
          <p:sp>
            <p:nvSpPr>
              <p:cNvPr id="459" name="Rectangle 17"/>
              <p:cNvSpPr/>
              <p:nvPr/>
            </p:nvSpPr>
            <p:spPr>
              <a:xfrm>
                <a:off x="4403520" y="5105520"/>
                <a:ext cx="72396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0" name="Text Box 18"/>
              <p:cNvSpPr/>
              <p:nvPr/>
            </p:nvSpPr>
            <p:spPr>
              <a:xfrm>
                <a:off x="4361760" y="505944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1" name="Freeform 19"/>
              <p:cNvSpPr/>
              <p:nvPr/>
            </p:nvSpPr>
            <p:spPr>
              <a:xfrm rot="534600">
                <a:off x="5257080" y="5119560"/>
                <a:ext cx="152640" cy="1983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62" name="AutoShape 20"/>
            <p:cNvSpPr/>
            <p:nvPr/>
          </p:nvSpPr>
          <p:spPr>
            <a:xfrm>
              <a:off x="3809880" y="5943960"/>
              <a:ext cx="1447920" cy="228600"/>
            </a:xfrm>
            <a:prstGeom prst="flowChartTerminator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et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3" name="Rectangle 21"/>
            <p:cNvSpPr/>
            <p:nvPr/>
          </p:nvSpPr>
          <p:spPr>
            <a:xfrm>
              <a:off x="457200" y="449604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4" name="Group 22"/>
            <p:cNvGrpSpPr/>
            <p:nvPr/>
          </p:nvGrpSpPr>
          <p:grpSpPr>
            <a:xfrm>
              <a:off x="457200" y="4145040"/>
              <a:ext cx="1828440" cy="427320"/>
              <a:chOff x="457200" y="4145040"/>
              <a:chExt cx="1828440" cy="427320"/>
            </a:xfrm>
          </p:grpSpPr>
          <p:sp>
            <p:nvSpPr>
              <p:cNvPr id="465" name="Rectangle 23"/>
              <p:cNvSpPr/>
              <p:nvPr/>
            </p:nvSpPr>
            <p:spPr>
              <a:xfrm>
                <a:off x="457200" y="414504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6" name="Text Box 24"/>
              <p:cNvSpPr/>
              <p:nvPr/>
            </p:nvSpPr>
            <p:spPr>
              <a:xfrm>
                <a:off x="852480" y="4153320"/>
                <a:ext cx="11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:Y 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67" name="Text Box 25"/>
            <p:cNvSpPr/>
            <p:nvPr/>
          </p:nvSpPr>
          <p:spPr>
            <a:xfrm>
              <a:off x="2636640" y="53676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4586040" y="54867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cxnSp>
          <p:nvCxnSpPr>
            <p:cNvPr id="469" name="AutoShape 27"/>
            <p:cNvCxnSpPr>
              <a:stCxn id="460" idx="2"/>
              <a:endCxn id="462" idx="0"/>
            </p:cNvCxnSpPr>
            <p:nvPr/>
          </p:nvCxnSpPr>
          <p:spPr>
            <a:xfrm flipH="1">
              <a:off x="4533480" y="5364360"/>
              <a:ext cx="240480" cy="580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70" name="AutoShape 28"/>
            <p:cNvCxnSpPr>
              <a:stCxn id="462" idx="1"/>
              <a:endCxn id="463" idx="3"/>
            </p:cNvCxnSpPr>
            <p:nvPr/>
          </p:nvCxnSpPr>
          <p:spPr>
            <a:xfrm flipH="1" flipV="1">
              <a:off x="2285280" y="5371560"/>
              <a:ext cx="1524600" cy="686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71" name="Group 32"/>
          <p:cNvGrpSpPr/>
          <p:nvPr/>
        </p:nvGrpSpPr>
        <p:grpSpPr>
          <a:xfrm>
            <a:off x="5943600" y="4343400"/>
            <a:ext cx="2971800" cy="1676520"/>
            <a:chOff x="5943600" y="4343400"/>
            <a:chExt cx="2971800" cy="1676520"/>
          </a:xfrm>
        </p:grpSpPr>
        <p:sp>
          <p:nvSpPr>
            <p:cNvPr id="472" name="Text Box 29"/>
            <p:cNvSpPr/>
            <p:nvPr/>
          </p:nvSpPr>
          <p:spPr>
            <a:xfrm>
              <a:off x="5962680" y="4487760"/>
              <a:ext cx="2868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etters are: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Public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no parame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return val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3" name="AutoShape 31"/>
            <p:cNvSpPr/>
            <p:nvPr/>
          </p:nvSpPr>
          <p:spPr>
            <a:xfrm>
              <a:off x="5943600" y="4343400"/>
              <a:ext cx="2971800" cy="16765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a500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0B352D1-275E-4743-BA7B-C49F0065F54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G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1371600" y="1371600"/>
            <a:ext cx="5943600" cy="4876920"/>
            <a:chOff x="1371600" y="1371600"/>
            <a:chExt cx="5943600" cy="4876920"/>
          </a:xfrm>
        </p:grpSpPr>
        <p:sp>
          <p:nvSpPr>
            <p:cNvPr id="479" name="Rectangle 4"/>
            <p:cNvSpPr/>
            <p:nvPr/>
          </p:nvSpPr>
          <p:spPr>
            <a:xfrm>
              <a:off x="1371600" y="1371600"/>
              <a:ext cx="594360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1523880" y="1420920"/>
              <a:ext cx="5639040" cy="47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lassName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dataType1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attribute1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dataTypen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attributen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dataType1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getAttribute1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attribute1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dataTypen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getAttributen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 </a:t>
              </a:r>
              <a:r>
                <a:rPr b="1" lang="en-US" sz="16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attributen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D4DC636-FBBF-498F-9C81-9CDDC643C0F8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operations performed  by the object allowing to receive and store in the object state the data provided by outsid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e services used by outsiders allowing to provide to the object the data that should be stored in the object sta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528120" y="990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object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5002920" y="100476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user point of 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533520" y="4191120"/>
            <a:ext cx="5029200" cy="2103480"/>
            <a:chOff x="533520" y="4191120"/>
            <a:chExt cx="5029200" cy="2103480"/>
          </a:xfrm>
        </p:grpSpPr>
        <p:sp>
          <p:nvSpPr>
            <p:cNvPr id="490" name="Rectangle 8"/>
            <p:cNvSpPr/>
            <p:nvPr/>
          </p:nvSpPr>
          <p:spPr>
            <a:xfrm>
              <a:off x="3733920" y="454212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91" name="Group 9"/>
            <p:cNvGrpSpPr/>
            <p:nvPr/>
          </p:nvGrpSpPr>
          <p:grpSpPr>
            <a:xfrm>
              <a:off x="3733920" y="4191120"/>
              <a:ext cx="1828440" cy="427320"/>
              <a:chOff x="3733920" y="4191120"/>
              <a:chExt cx="1828440" cy="427320"/>
            </a:xfrm>
          </p:grpSpPr>
          <p:sp>
            <p:nvSpPr>
              <p:cNvPr id="492" name="Rectangle 10"/>
              <p:cNvSpPr/>
              <p:nvPr/>
            </p:nvSpPr>
            <p:spPr>
              <a:xfrm>
                <a:off x="3733920" y="419112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3" name="Text Box 11"/>
              <p:cNvSpPr/>
              <p:nvPr/>
            </p:nvSpPr>
            <p:spPr>
              <a:xfrm>
                <a:off x="4107960" y="419940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object:X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94" name="Group 12"/>
            <p:cNvGrpSpPr/>
            <p:nvPr/>
          </p:nvGrpSpPr>
          <p:grpSpPr>
            <a:xfrm>
              <a:off x="3827520" y="4724640"/>
              <a:ext cx="987480" cy="307080"/>
              <a:chOff x="3827520" y="4724640"/>
              <a:chExt cx="987480" cy="307080"/>
            </a:xfrm>
          </p:grpSpPr>
          <p:sp>
            <p:nvSpPr>
              <p:cNvPr id="495" name="Rectangle 13"/>
              <p:cNvSpPr/>
              <p:nvPr/>
            </p:nvSpPr>
            <p:spPr>
              <a:xfrm>
                <a:off x="3827520" y="4762800"/>
                <a:ext cx="72396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6" name="Freeform 14"/>
              <p:cNvSpPr/>
              <p:nvPr/>
            </p:nvSpPr>
            <p:spPr>
              <a:xfrm rot="534600">
                <a:off x="4647960" y="4777200"/>
                <a:ext cx="152280" cy="198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7" name="Text Box 15"/>
              <p:cNvSpPr/>
              <p:nvPr/>
            </p:nvSpPr>
            <p:spPr>
              <a:xfrm>
                <a:off x="3843000" y="472464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ublic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98" name="Group 16"/>
            <p:cNvGrpSpPr/>
            <p:nvPr/>
          </p:nvGrpSpPr>
          <p:grpSpPr>
            <a:xfrm>
              <a:off x="4438080" y="5105520"/>
              <a:ext cx="1062720" cy="307080"/>
              <a:chOff x="4438080" y="5105520"/>
              <a:chExt cx="1062720" cy="307080"/>
            </a:xfrm>
          </p:grpSpPr>
          <p:sp>
            <p:nvSpPr>
              <p:cNvPr id="499" name="Rectangle 17"/>
              <p:cNvSpPr/>
              <p:nvPr/>
            </p:nvSpPr>
            <p:spPr>
              <a:xfrm>
                <a:off x="4479840" y="5151600"/>
                <a:ext cx="723960" cy="2286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0" name="Text Box 18"/>
              <p:cNvSpPr/>
              <p:nvPr/>
            </p:nvSpPr>
            <p:spPr>
              <a:xfrm>
                <a:off x="4438080" y="510552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private</a:t>
                </a:r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1" name="Freeform 19"/>
              <p:cNvSpPr/>
              <p:nvPr/>
            </p:nvSpPr>
            <p:spPr>
              <a:xfrm rot="534600">
                <a:off x="5333400" y="5165640"/>
                <a:ext cx="152640" cy="1983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12" h="476">
                    <a:moveTo>
                      <a:pt x="0" y="284"/>
                    </a:moveTo>
                    <a:lnTo>
                      <a:pt x="112" y="284"/>
                    </a:lnTo>
                    <a:lnTo>
                      <a:pt x="160" y="374"/>
                    </a:lnTo>
                    <a:lnTo>
                      <a:pt x="266" y="64"/>
                    </a:lnTo>
                    <a:lnTo>
                      <a:pt x="412" y="0"/>
                    </a:lnTo>
                    <a:lnTo>
                      <a:pt x="150" y="476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1b285f"/>
              </a:solidFill>
              <a:ln w="9360">
                <a:solidFill>
                  <a:srgbClr val="1b28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cxnSp>
          <p:nvCxnSpPr>
            <p:cNvPr id="502" name="AutoShape 20"/>
            <p:cNvCxnSpPr>
              <a:stCxn id="503" idx="0"/>
              <a:endCxn id="500" idx="2"/>
            </p:cNvCxnSpPr>
            <p:nvPr/>
          </p:nvCxnSpPr>
          <p:spPr>
            <a:xfrm flipV="1">
              <a:off x="4610160" y="5410080"/>
              <a:ext cx="240480" cy="580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503" name="AutoShape 21"/>
            <p:cNvSpPr/>
            <p:nvPr/>
          </p:nvSpPr>
          <p:spPr>
            <a:xfrm>
              <a:off x="3886200" y="5990040"/>
              <a:ext cx="1447920" cy="228600"/>
            </a:xfrm>
            <a:prstGeom prst="flowChartTerminator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etter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4" name="Rectangle 22"/>
            <p:cNvSpPr/>
            <p:nvPr/>
          </p:nvSpPr>
          <p:spPr>
            <a:xfrm>
              <a:off x="533520" y="4542120"/>
              <a:ext cx="1828800" cy="1752480"/>
            </a:xfrm>
            <a:prstGeom prst="rect">
              <a:avLst/>
            </a:prstGeom>
            <a:solidFill>
              <a:srgbClr val="b4c2ea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05" name="Group 23"/>
            <p:cNvGrpSpPr/>
            <p:nvPr/>
          </p:nvGrpSpPr>
          <p:grpSpPr>
            <a:xfrm>
              <a:off x="533520" y="4191120"/>
              <a:ext cx="1828440" cy="427320"/>
              <a:chOff x="533520" y="4191120"/>
              <a:chExt cx="1828440" cy="427320"/>
            </a:xfrm>
          </p:grpSpPr>
          <p:sp>
            <p:nvSpPr>
              <p:cNvPr id="506" name="Rectangle 24"/>
              <p:cNvSpPr/>
              <p:nvPr/>
            </p:nvSpPr>
            <p:spPr>
              <a:xfrm>
                <a:off x="533520" y="4191120"/>
                <a:ext cx="1828440" cy="42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7819" dir="2700000" blurRad="0" rotWithShape="0">
                  <a:srgbClr val="1b28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928800" y="4199400"/>
                <a:ext cx="118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40458c"/>
                    </a:solidFill>
                    <a:uFillTx/>
                    <a:latin typeface="Tahoma"/>
                  </a:rPr>
                  <a:t>:Y (Client)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cxnSp>
          <p:nvCxnSpPr>
            <p:cNvPr id="508" name="AutoShape 26"/>
            <p:cNvCxnSpPr>
              <a:stCxn id="504" idx="3"/>
              <a:endCxn id="503" idx="1"/>
            </p:cNvCxnSpPr>
            <p:nvPr/>
          </p:nvCxnSpPr>
          <p:spPr>
            <a:xfrm>
              <a:off x="2361960" y="5418000"/>
              <a:ext cx="1524600" cy="686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509" name="Text Box 27"/>
            <p:cNvSpPr/>
            <p:nvPr/>
          </p:nvSpPr>
          <p:spPr>
            <a:xfrm>
              <a:off x="2712960" y="54136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Text Box 28"/>
            <p:cNvSpPr/>
            <p:nvPr/>
          </p:nvSpPr>
          <p:spPr>
            <a:xfrm>
              <a:off x="4662360" y="55328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11" name="Group 29"/>
          <p:cNvGrpSpPr/>
          <p:nvPr/>
        </p:nvGrpSpPr>
        <p:grpSpPr>
          <a:xfrm>
            <a:off x="5943600" y="4343400"/>
            <a:ext cx="2971800" cy="1676520"/>
            <a:chOff x="5943600" y="4343400"/>
            <a:chExt cx="2971800" cy="1676520"/>
          </a:xfrm>
        </p:grpSpPr>
        <p:sp>
          <p:nvSpPr>
            <p:cNvPr id="512" name="Text Box 30"/>
            <p:cNvSpPr/>
            <p:nvPr/>
          </p:nvSpPr>
          <p:spPr>
            <a:xfrm>
              <a:off x="5967360" y="4487760"/>
              <a:ext cx="293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etters are: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Public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1 paramete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  <a:ea typeface="Arial"/>
                </a:rPr>
                <a:t>With no return val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3" name="AutoShape 31"/>
            <p:cNvSpPr/>
            <p:nvPr/>
          </p:nvSpPr>
          <p:spPr>
            <a:xfrm>
              <a:off x="5943600" y="4343400"/>
              <a:ext cx="2971800" cy="16765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a5002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B1AC5D3-756A-4932-A56C-7834B453A8B9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emplate for Sette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1371600" y="1371600"/>
            <a:ext cx="67057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535040" y="1420920"/>
            <a:ext cx="638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lassName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dataTyp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attribut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9966"/>
                </a:solidFill>
                <a:latin typeface="Courier New"/>
                <a:ea typeface="ＭＳ Ｐゴシック"/>
              </a:rPr>
              <a:t>dataTyp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 </a:t>
            </a:r>
            <a:r>
              <a:rPr b="0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setAttribute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dataType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attribute1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 </a:t>
            </a:r>
            <a:r>
              <a:rPr b="0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set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339966"/>
                </a:solidFill>
                <a:latin typeface="Courier New"/>
                <a:ea typeface="ＭＳ Ｐゴシック"/>
              </a:rPr>
              <a:t>dataType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3399ff"/>
                </a:solidFill>
                <a:latin typeface="Courier New"/>
                <a:ea typeface="ＭＳ Ｐゴシック"/>
              </a:rPr>
              <a:t>attributen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am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6455903-4389-45EA-883A-CF3CE029788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3" name="Group 13"/>
          <p:cNvGrpSpPr/>
          <p:nvPr/>
        </p:nvGrpSpPr>
        <p:grpSpPr>
          <a:xfrm>
            <a:off x="685800" y="990720"/>
            <a:ext cx="7772400" cy="5495400"/>
            <a:chOff x="685800" y="990720"/>
            <a:chExt cx="7772400" cy="5495400"/>
          </a:xfrm>
        </p:grpSpPr>
        <p:sp>
          <p:nvSpPr>
            <p:cNvPr id="524" name="Rectangle 2"/>
            <p:cNvSpPr/>
            <p:nvPr/>
          </p:nvSpPr>
          <p:spPr>
            <a:xfrm>
              <a:off x="685800" y="990720"/>
              <a:ext cx="7772400" cy="51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5" name="Rectangle 3"/>
            <p:cNvSpPr/>
            <p:nvPr/>
          </p:nvSpPr>
          <p:spPr>
            <a:xfrm>
              <a:off x="914400" y="1130400"/>
              <a:ext cx="7315200" cy="53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urse </a:t>
              </a: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800" spc="-1" strike="noStrike">
                  <a:solidFill>
                    <a:srgbClr val="00ff00"/>
                  </a:solidFill>
                  <a:latin typeface="Courier New"/>
                  <a:ea typeface="ＭＳ Ｐゴシック"/>
                </a:rPr>
                <a:t>// Attributes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studentNam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courseCode 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getStudentName(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udentNam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String getCourseCode(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return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courseCode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..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oid setStudentName(String val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studentName = val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void setCourseCode(String val) 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courseCode = val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B228722-BB15-41FA-A5C7-C1932F50F760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228600" y="152280"/>
            <a:ext cx="8610480" cy="6096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685800" y="3962520"/>
            <a:ext cx="8001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685800" y="312408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685800" y="175248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304920" y="304920"/>
            <a:ext cx="883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Registration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 {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 course1, course2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etCourseCode(“CSC112“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setStudentName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“Majed AlKebir“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//Create and assign values to course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 =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rs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“CSC107“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s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“Fahd AlAmri“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rse1.g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 +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1.g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rse2.getStudentNam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7f7f"/>
                </a:solidFill>
                <a:latin typeface="Courier New"/>
                <a:ea typeface="Courier New"/>
              </a:rPr>
              <a:t>" has the course “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2.getCourseCode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DD9DB48-D7A9-41C8-8249-EEEA6349E72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Passing an Object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to a Setter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1905120" y="1371600"/>
            <a:ext cx="4952880" cy="4876560"/>
            <a:chOff x="1905120" y="1371600"/>
            <a:chExt cx="4952880" cy="4876560"/>
          </a:xfrm>
        </p:grpSpPr>
        <p:pic>
          <p:nvPicPr>
            <p:cNvPr id="539" name="Picture 4" descr="ch4-5"/>
            <p:cNvPicPr/>
            <p:nvPr/>
          </p:nvPicPr>
          <p:blipFill>
            <a:blip r:embed="rId1"/>
            <a:stretch/>
          </p:blipFill>
          <p:spPr>
            <a:xfrm>
              <a:off x="1905120" y="1371600"/>
              <a:ext cx="4952880" cy="48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5"/>
            <p:cNvSpPr/>
            <p:nvPr/>
          </p:nvSpPr>
          <p:spPr>
            <a:xfrm>
              <a:off x="1981080" y="4952880"/>
              <a:ext cx="11430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1" name="Freeform 6"/>
            <p:cNvSpPr/>
            <p:nvPr/>
          </p:nvSpPr>
          <p:spPr>
            <a:xfrm>
              <a:off x="2629080" y="4432320"/>
              <a:ext cx="241200" cy="14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2" h="1">
                  <a:moveTo>
                    <a:pt x="152" y="0"/>
                  </a:moveTo>
                  <a:cubicBezTo>
                    <a:pt x="101" y="0"/>
                    <a:pt x="51" y="0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>
              <a:off x="2057400" y="4343400"/>
              <a:ext cx="5335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F4351AB-CE5F-41DC-ACDA-E2EBE5816591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hy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tion hiding prevent the data an object stores from being directly accessed by outsider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capsulation allows objects containing the appropriate operations that could be applied on the data they sto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, the data that an object stores would be accessed only through appropriate oper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B99EA64-8A55-420A-8D8B-1F320F7EBD4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Using Setters and sharing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the same Object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547" name="Picture 4" descr="ch4-4"/>
          <p:cNvPicPr/>
          <p:nvPr/>
        </p:nvPicPr>
        <p:blipFill>
          <a:blip r:embed="rId1"/>
          <a:stretch/>
        </p:blipFill>
        <p:spPr>
          <a:xfrm>
            <a:off x="380880" y="3048120"/>
            <a:ext cx="4638960" cy="31716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26232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ame Student object reference is passed to card1 and card2 using set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5181480" y="4038480"/>
            <a:ext cx="358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ince we are actually passing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he same object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reference, it results in the </a:t>
            </a:r>
            <a:r>
              <a:rPr b="0" lang="en-US" sz="1800" spc="-1" strike="noStrike">
                <a:solidFill>
                  <a:srgbClr val="6f89f7"/>
                </a:solidFill>
                <a:latin typeface="Arial"/>
              </a:rPr>
              <a:t>owner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of two LibraryCard objects referring to the same Student obje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0" name="Picture 3" descr="ch4-3"/>
          <p:cNvPicPr/>
          <p:nvPr/>
        </p:nvPicPr>
        <p:blipFill>
          <a:blip r:embed="rId2"/>
          <a:stretch/>
        </p:blipFill>
        <p:spPr>
          <a:xfrm>
            <a:off x="4267080" y="1295280"/>
            <a:ext cx="4534200" cy="2133720"/>
          </a:xfrm>
          <a:prstGeom prst="rect">
            <a:avLst/>
          </a:prstGeom>
          <a:ln w="0">
            <a:noFill/>
          </a:ln>
        </p:spPr>
      </p:pic>
      <p:sp>
        <p:nvSpPr>
          <p:cNvPr id="551" name="Line 6"/>
          <p:cNvSpPr/>
          <p:nvPr/>
        </p:nvSpPr>
        <p:spPr>
          <a:xfrm flipV="1">
            <a:off x="3503880" y="2538360"/>
            <a:ext cx="840960" cy="28800"/>
          </a:xfrm>
          <a:prstGeom prst="line">
            <a:avLst/>
          </a:prstGeom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Line 7"/>
          <p:cNvSpPr/>
          <p:nvPr/>
        </p:nvSpPr>
        <p:spPr>
          <a:xfrm>
            <a:off x="3505320" y="2590920"/>
            <a:ext cx="914400" cy="533160"/>
          </a:xfrm>
          <a:prstGeom prst="line">
            <a:avLst/>
          </a:prstGeom>
          <a:ln w="2844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7430D72-B057-485A-BC99-8FD683F2363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ass Constructor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clas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a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bluepri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prototyp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from which objects of the same type are creat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tructors define the initial states of objects when they are creat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 x = </a:t>
            </a:r>
            <a:r>
              <a:rPr b="1" i="1" lang="en-US" sz="2400" spc="-1" strike="noStrike">
                <a:solidFill>
                  <a:srgbClr val="9900cc"/>
                </a:solidFill>
                <a:latin typeface="Tahoma"/>
              </a:rPr>
              <a:t>new </a:t>
            </a: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ass contains at least one constructo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ass may contain more than one constructo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73ADF11-8344-4CB7-B18E-658DBFBAF7F7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he Default Class Constructor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If no constructor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re defined in the class,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the default constructor is adde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by the compiler at compile tim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default constructor does </a:t>
            </a:r>
            <a:r>
              <a:rPr b="0" lang="en-US" sz="3200" spc="-1" strike="noStrike">
                <a:solidFill>
                  <a:srgbClr val="9900cc"/>
                </a:solidFill>
                <a:latin typeface="Tahoma"/>
              </a:rPr>
              <a:t>not accept parameter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nd creates objects with empty stat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 x = </a:t>
            </a:r>
            <a:r>
              <a:rPr b="1" i="1" lang="en-US" sz="2400" spc="-1" strike="noStrike">
                <a:solidFill>
                  <a:srgbClr val="9900cc"/>
                </a:solidFill>
                <a:latin typeface="Tahoma"/>
              </a:rPr>
              <a:t>new </a:t>
            </a:r>
            <a:r>
              <a:rPr b="1" i="1" lang="en-US" sz="2400" spc="-1" strike="noStrike">
                <a:solidFill>
                  <a:srgbClr val="00cc99"/>
                </a:solidFill>
                <a:latin typeface="Tahoma"/>
              </a:rPr>
              <a:t>ClassName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D45A2148-5210-4AB7-8D72-E43EA946F783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ass Constructors Declar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constructor na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a constructor has the name of the class 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values that will be passed to the constructor for initialize the object sta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uctor declarations look like method declarations—except that they use the name of the class and have no return typ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304920" y="914400"/>
            <a:ext cx="8663040" cy="1447920"/>
            <a:chOff x="304920" y="914400"/>
            <a:chExt cx="8663040" cy="1447920"/>
          </a:xfrm>
        </p:grpSpPr>
        <p:sp>
          <p:nvSpPr>
            <p:cNvPr id="569" name="Rectangle 5"/>
            <p:cNvSpPr/>
            <p:nvPr/>
          </p:nvSpPr>
          <p:spPr>
            <a:xfrm>
              <a:off x="390600" y="91440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Rectangle 6"/>
            <p:cNvSpPr/>
            <p:nvPr/>
          </p:nvSpPr>
          <p:spPr>
            <a:xfrm>
              <a:off x="304920" y="106668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public  &lt;constructor name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parameters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constructor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DADBB7A-DDE8-43FB-BA63-AB0CA541C984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ample of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a Constructor with No-Parameter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152280" y="1143000"/>
            <a:ext cx="3733920" cy="2745720"/>
            <a:chOff x="152280" y="1143000"/>
            <a:chExt cx="3733920" cy="2745720"/>
          </a:xfrm>
        </p:grpSpPr>
        <p:sp>
          <p:nvSpPr>
            <p:cNvPr id="576" name="Rectangle 4"/>
            <p:cNvSpPr/>
            <p:nvPr/>
          </p:nvSpPr>
          <p:spPr>
            <a:xfrm>
              <a:off x="152280" y="1143000"/>
              <a:ext cx="37339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7" name="Text Box 5"/>
            <p:cNvSpPr/>
            <p:nvPr/>
          </p:nvSpPr>
          <p:spPr>
            <a:xfrm>
              <a:off x="247680" y="1169640"/>
              <a:ext cx="3542400" cy="27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clas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Kasre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bast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rivate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t maquam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Courier New"/>
                  <a:ea typeface="ＭＳ Ｐゴシック"/>
                </a:rPr>
                <a:t>public </a:t>
              </a: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Kasree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() {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Courier New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bast = 0; maquam =1;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</a:t>
              </a:r>
              <a:r>
                <a:rPr b="0" lang="en-US" sz="16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. . .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78" name="Rectangle 6"/>
          <p:cNvSpPr/>
          <p:nvPr/>
        </p:nvSpPr>
        <p:spPr>
          <a:xfrm>
            <a:off x="419040" y="4114800"/>
            <a:ext cx="3314880" cy="1905120"/>
          </a:xfrm>
          <a:prstGeom prst="rect">
            <a:avLst/>
          </a:prstGeom>
          <a:solidFill>
            <a:srgbClr val="effbff"/>
          </a:solidFill>
          <a:ln w="9360">
            <a:solidFill>
              <a:srgbClr val="eaf0fe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538920" y="4584600"/>
            <a:ext cx="2984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x   =                 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1895400" y="6019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555480" y="4432320"/>
            <a:ext cx="127800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Kasree x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1357200" y="4889520"/>
            <a:ext cx="1843200" cy="505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new Kasree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( 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83" name="Group 11"/>
          <p:cNvGrpSpPr/>
          <p:nvPr/>
        </p:nvGrpSpPr>
        <p:grpSpPr>
          <a:xfrm>
            <a:off x="-157320" y="3809880"/>
            <a:ext cx="3000240" cy="1047960"/>
            <a:chOff x="-157320" y="3809880"/>
            <a:chExt cx="3000240" cy="1047960"/>
          </a:xfrm>
        </p:grpSpPr>
        <p:sp>
          <p:nvSpPr>
            <p:cNvPr id="584" name="Oval 12"/>
            <p:cNvSpPr/>
            <p:nvPr/>
          </p:nvSpPr>
          <p:spPr>
            <a:xfrm>
              <a:off x="2406240" y="3809880"/>
              <a:ext cx="43668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Line 13"/>
            <p:cNvSpPr/>
            <p:nvPr/>
          </p:nvSpPr>
          <p:spPr>
            <a:xfrm flipH="1">
              <a:off x="1756800" y="4066920"/>
              <a:ext cx="679320" cy="46548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-157320" y="45212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87" name="Group 15"/>
          <p:cNvGrpSpPr/>
          <p:nvPr/>
        </p:nvGrpSpPr>
        <p:grpSpPr>
          <a:xfrm>
            <a:off x="709920" y="4360680"/>
            <a:ext cx="452520" cy="1513800"/>
            <a:chOff x="709920" y="4360680"/>
            <a:chExt cx="452520" cy="1513800"/>
          </a:xfrm>
        </p:grpSpPr>
        <p:sp>
          <p:nvSpPr>
            <p:cNvPr id="588" name="Line 16"/>
            <p:cNvSpPr/>
            <p:nvPr/>
          </p:nvSpPr>
          <p:spPr>
            <a:xfrm flipV="1">
              <a:off x="1017720" y="5287680"/>
              <a:ext cx="144720" cy="410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9" name="Oval 17"/>
            <p:cNvSpPr/>
            <p:nvPr/>
          </p:nvSpPr>
          <p:spPr>
            <a:xfrm rot="5050200">
              <a:off x="919800" y="5706000"/>
              <a:ext cx="165240" cy="155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0" name="Text Box 18"/>
            <p:cNvSpPr/>
            <p:nvPr/>
          </p:nvSpPr>
          <p:spPr>
            <a:xfrm rot="5050200">
              <a:off x="563040" y="4532400"/>
              <a:ext cx="428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-309600" y="4429080"/>
            <a:ext cx="3753000" cy="885600"/>
            <a:chOff x="-309600" y="4429080"/>
            <a:chExt cx="3753000" cy="885600"/>
          </a:xfrm>
        </p:grpSpPr>
        <p:sp>
          <p:nvSpPr>
            <p:cNvPr id="592" name="Line 20"/>
            <p:cNvSpPr/>
            <p:nvPr/>
          </p:nvSpPr>
          <p:spPr>
            <a:xfrm flipH="1">
              <a:off x="2320560" y="4635360"/>
              <a:ext cx="69228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Oval 21"/>
            <p:cNvSpPr/>
            <p:nvPr/>
          </p:nvSpPr>
          <p:spPr>
            <a:xfrm>
              <a:off x="3006720" y="4429080"/>
              <a:ext cx="43668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4" name="Text Box 22"/>
            <p:cNvSpPr/>
            <p:nvPr/>
          </p:nvSpPr>
          <p:spPr>
            <a:xfrm>
              <a:off x="-309600" y="4978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5" name="Text Box 23"/>
          <p:cNvSpPr/>
          <p:nvPr/>
        </p:nvSpPr>
        <p:spPr>
          <a:xfrm>
            <a:off x="5680440" y="5791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State of Mem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Rectangle 24"/>
          <p:cNvSpPr/>
          <p:nvPr/>
        </p:nvSpPr>
        <p:spPr>
          <a:xfrm>
            <a:off x="4038480" y="1216080"/>
            <a:ext cx="4918320" cy="4422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7439040" y="1547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7748640" y="163188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AutoShape 29"/>
          <p:cNvSpPr/>
          <p:nvPr/>
        </p:nvSpPr>
        <p:spPr>
          <a:xfrm>
            <a:off x="4267080" y="1512720"/>
            <a:ext cx="2057400" cy="696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A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stance variable 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cated in memory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AutoShape 30"/>
          <p:cNvSpPr/>
          <p:nvPr/>
        </p:nvSpPr>
        <p:spPr>
          <a:xfrm>
            <a:off x="4267080" y="24382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B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bject 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d with initial stat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AutoShape 31"/>
          <p:cNvSpPr/>
          <p:nvPr/>
        </p:nvSpPr>
        <p:spPr>
          <a:xfrm>
            <a:off x="4343400" y="35053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C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reference of the object created in B  is assigned to the variable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AutoShape 48"/>
          <p:cNvSpPr/>
          <p:nvPr/>
        </p:nvSpPr>
        <p:spPr>
          <a:xfrm>
            <a:off x="6934320" y="3581280"/>
            <a:ext cx="184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Rectangle 50"/>
          <p:cNvSpPr/>
          <p:nvPr/>
        </p:nvSpPr>
        <p:spPr>
          <a:xfrm>
            <a:off x="7043760" y="36608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4" name="Group 51"/>
          <p:cNvGrpSpPr/>
          <p:nvPr/>
        </p:nvGrpSpPr>
        <p:grpSpPr>
          <a:xfrm>
            <a:off x="7497720" y="3695760"/>
            <a:ext cx="903240" cy="328680"/>
            <a:chOff x="7497720" y="3695760"/>
            <a:chExt cx="903240" cy="328680"/>
          </a:xfrm>
        </p:grpSpPr>
        <p:sp>
          <p:nvSpPr>
            <p:cNvPr id="605" name="Rectangle 52"/>
            <p:cNvSpPr/>
            <p:nvPr/>
          </p:nvSpPr>
          <p:spPr>
            <a:xfrm>
              <a:off x="7543800" y="3741840"/>
              <a:ext cx="857160" cy="282600"/>
            </a:xfrm>
            <a:prstGeom prst="rect">
              <a:avLst/>
            </a:prstGeom>
            <a:solidFill>
              <a:srgbClr val="1b2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6" name="Rectangle 53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7" name="Rectangle 54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noFill/>
            <a:ln cap="rnd" w="79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08" name="Rectangle 55"/>
          <p:cNvSpPr/>
          <p:nvPr/>
        </p:nvSpPr>
        <p:spPr>
          <a:xfrm>
            <a:off x="7327440" y="36608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9" name="Group 56"/>
          <p:cNvGrpSpPr/>
          <p:nvPr/>
        </p:nvGrpSpPr>
        <p:grpSpPr>
          <a:xfrm>
            <a:off x="7497720" y="3695760"/>
            <a:ext cx="903240" cy="328680"/>
            <a:chOff x="7497720" y="3695760"/>
            <a:chExt cx="903240" cy="328680"/>
          </a:xfrm>
        </p:grpSpPr>
        <p:sp>
          <p:nvSpPr>
            <p:cNvPr id="610" name="Rectangle 57"/>
            <p:cNvSpPr/>
            <p:nvPr/>
          </p:nvSpPr>
          <p:spPr>
            <a:xfrm>
              <a:off x="7543800" y="3741840"/>
              <a:ext cx="857160" cy="282600"/>
            </a:xfrm>
            <a:prstGeom prst="rect">
              <a:avLst/>
            </a:prstGeom>
            <a:solidFill>
              <a:srgbClr val="1b2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1" name="Rectangle 58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2" name="Rectangle 59"/>
            <p:cNvSpPr/>
            <p:nvPr/>
          </p:nvSpPr>
          <p:spPr>
            <a:xfrm>
              <a:off x="7497720" y="3695760"/>
              <a:ext cx="857160" cy="284040"/>
            </a:xfrm>
            <a:prstGeom prst="rect">
              <a:avLst/>
            </a:prstGeom>
            <a:noFill/>
            <a:ln cap="rnd" w="79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13" name="Freeform 73"/>
          <p:cNvSpPr/>
          <p:nvPr/>
        </p:nvSpPr>
        <p:spPr>
          <a:xfrm>
            <a:off x="7656480" y="3843360"/>
            <a:ext cx="192240" cy="817560"/>
          </a:xfrm>
          <a:custGeom>
            <a:avLst/>
            <a:gdLst>
              <a:gd name="textAreaLeft" fmla="*/ 0 w 192240"/>
              <a:gd name="textAreaRight" fmla="*/ 192600 w 19224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21" h="515">
                <a:moveTo>
                  <a:pt x="121" y="0"/>
                </a:moveTo>
                <a:lnTo>
                  <a:pt x="70" y="63"/>
                </a:lnTo>
                <a:lnTo>
                  <a:pt x="33" y="126"/>
                </a:lnTo>
                <a:lnTo>
                  <a:pt x="9" y="191"/>
                </a:lnTo>
                <a:lnTo>
                  <a:pt x="0" y="255"/>
                </a:lnTo>
                <a:lnTo>
                  <a:pt x="4" y="319"/>
                </a:lnTo>
                <a:lnTo>
                  <a:pt x="21" y="384"/>
                </a:lnTo>
                <a:lnTo>
                  <a:pt x="53" y="449"/>
                </a:lnTo>
                <a:lnTo>
                  <a:pt x="98" y="515"/>
                </a:lnTo>
              </a:path>
            </a:pathLst>
          </a:custGeom>
          <a:noFill/>
          <a:ln cap="rnd" w="3240">
            <a:solidFill>
              <a:srgbClr val="4677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Freeform 74"/>
          <p:cNvSpPr/>
          <p:nvPr/>
        </p:nvSpPr>
        <p:spPr>
          <a:xfrm>
            <a:off x="7781760" y="4633920"/>
            <a:ext cx="66960" cy="69840"/>
          </a:xfrm>
          <a:custGeom>
            <a:avLst/>
            <a:gdLst>
              <a:gd name="textAreaLeft" fmla="*/ 0 w 66960"/>
              <a:gd name="textAreaRight" fmla="*/ 67320 w 669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0" y="26"/>
                </a:moveTo>
                <a:lnTo>
                  <a:pt x="42" y="44"/>
                </a:lnTo>
                <a:lnTo>
                  <a:pt x="31" y="0"/>
                </a:lnTo>
                <a:lnTo>
                  <a:pt x="0" y="26"/>
                </a:lnTo>
                <a:close/>
              </a:path>
            </a:pathLst>
          </a:custGeom>
          <a:solidFill>
            <a:srgbClr val="467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15" name="Group 79"/>
          <p:cNvGrpSpPr/>
          <p:nvPr/>
        </p:nvGrpSpPr>
        <p:grpSpPr>
          <a:xfrm>
            <a:off x="6781680" y="2286000"/>
            <a:ext cx="2011320" cy="949320"/>
            <a:chOff x="6781680" y="2286000"/>
            <a:chExt cx="2011320" cy="949320"/>
          </a:xfrm>
        </p:grpSpPr>
        <p:sp>
          <p:nvSpPr>
            <p:cNvPr id="616" name="AutoShape 33"/>
            <p:cNvSpPr/>
            <p:nvPr/>
          </p:nvSpPr>
          <p:spPr>
            <a:xfrm>
              <a:off x="6781680" y="228600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7" name="Rectangle 34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9" name="Rectangle 36"/>
            <p:cNvSpPr/>
            <p:nvPr/>
          </p:nvSpPr>
          <p:spPr>
            <a:xfrm>
              <a:off x="7619400" y="233352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0" name="Rectangle 37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1" name="Rectangle 38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2" name="Rectangle 39"/>
            <p:cNvSpPr/>
            <p:nvPr/>
          </p:nvSpPr>
          <p:spPr>
            <a:xfrm>
              <a:off x="6870600" y="255420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>
              <a:off x="6924240" y="258120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4" name="Rectangle 41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5" name="Rectangle 42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6" name="Rectangle 43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7" name="Rectangle 44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8" name="Rectangle 45"/>
            <p:cNvSpPr/>
            <p:nvPr/>
          </p:nvSpPr>
          <p:spPr>
            <a:xfrm>
              <a:off x="6834240" y="285912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9" name="Rectangle 46"/>
            <p:cNvSpPr/>
            <p:nvPr/>
          </p:nvSpPr>
          <p:spPr>
            <a:xfrm>
              <a:off x="6915240" y="288612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0" name="Text Box 76"/>
            <p:cNvSpPr/>
            <p:nvPr/>
          </p:nvSpPr>
          <p:spPr>
            <a:xfrm>
              <a:off x="7923600" y="2743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>
              <a:off x="7923600" y="24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32" name="Group 80"/>
          <p:cNvGrpSpPr/>
          <p:nvPr/>
        </p:nvGrpSpPr>
        <p:grpSpPr>
          <a:xfrm>
            <a:off x="6781680" y="4689360"/>
            <a:ext cx="2011320" cy="949320"/>
            <a:chOff x="6781680" y="4689360"/>
            <a:chExt cx="2011320" cy="949320"/>
          </a:xfrm>
        </p:grpSpPr>
        <p:sp>
          <p:nvSpPr>
            <p:cNvPr id="633" name="AutoShape 81"/>
            <p:cNvSpPr/>
            <p:nvPr/>
          </p:nvSpPr>
          <p:spPr>
            <a:xfrm>
              <a:off x="6781680" y="468936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4" name="Rectangle 82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5" name="Rectangle 83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6" name="Rectangle 84"/>
            <p:cNvSpPr/>
            <p:nvPr/>
          </p:nvSpPr>
          <p:spPr>
            <a:xfrm>
              <a:off x="7619400" y="473688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7" name="Rectangle 85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8" name="Rectangle 86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Rectangle 87"/>
            <p:cNvSpPr/>
            <p:nvPr/>
          </p:nvSpPr>
          <p:spPr>
            <a:xfrm>
              <a:off x="6870600" y="495756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0" name="Rectangle 88"/>
            <p:cNvSpPr/>
            <p:nvPr/>
          </p:nvSpPr>
          <p:spPr>
            <a:xfrm>
              <a:off x="6924240" y="498456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1" name="Rectangle 89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2" name="Rectangle 90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Rectangle 91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Rectangle 92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Rectangle 93"/>
            <p:cNvSpPr/>
            <p:nvPr/>
          </p:nvSpPr>
          <p:spPr>
            <a:xfrm>
              <a:off x="6834240" y="526248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Rectangle 94"/>
            <p:cNvSpPr/>
            <p:nvPr/>
          </p:nvSpPr>
          <p:spPr>
            <a:xfrm>
              <a:off x="6915240" y="52894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Text Box 95"/>
            <p:cNvSpPr/>
            <p:nvPr/>
          </p:nvSpPr>
          <p:spPr>
            <a:xfrm>
              <a:off x="7923600" y="5146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Text Box 96"/>
            <p:cNvSpPr/>
            <p:nvPr/>
          </p:nvSpPr>
          <p:spPr>
            <a:xfrm>
              <a:off x="7923600" y="485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8578C53-9271-4EA5-9EDC-AF92FF0CD7B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Class with Multiple Constructor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152280" y="1143000"/>
            <a:ext cx="426744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247680" y="1170000"/>
            <a:ext cx="4248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bas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maquam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ast = 0; maquam =1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9900cc"/>
                </a:solidFill>
                <a:latin typeface="Courier New"/>
                <a:ea typeface="ＭＳ Ｐゴシック"/>
              </a:rPr>
              <a:t>Kasr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, int b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ast = a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 != 0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quam = b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aquam = 1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. . 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419040" y="4648320"/>
            <a:ext cx="3314880" cy="1371600"/>
          </a:xfrm>
          <a:prstGeom prst="rect">
            <a:avLst/>
          </a:prstGeom>
          <a:solidFill>
            <a:srgbClr val="effbff"/>
          </a:solidFill>
          <a:ln w="9360">
            <a:solidFill>
              <a:srgbClr val="eaf0fe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538920" y="4903920"/>
            <a:ext cx="298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x   =  new Kasree(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y   = new Kasree(4, 3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1895400" y="6019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556200" y="4751280"/>
            <a:ext cx="1765800" cy="459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Kasree x , y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59" name="Group 19"/>
          <p:cNvGrpSpPr/>
          <p:nvPr/>
        </p:nvGrpSpPr>
        <p:grpSpPr>
          <a:xfrm>
            <a:off x="-309600" y="4748040"/>
            <a:ext cx="3753000" cy="885600"/>
            <a:chOff x="-309600" y="4748040"/>
            <a:chExt cx="3753000" cy="885600"/>
          </a:xfrm>
        </p:grpSpPr>
        <p:sp>
          <p:nvSpPr>
            <p:cNvPr id="660" name="Line 20"/>
            <p:cNvSpPr/>
            <p:nvPr/>
          </p:nvSpPr>
          <p:spPr>
            <a:xfrm flipH="1">
              <a:off x="2320560" y="4954320"/>
              <a:ext cx="69228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1" name="Oval 21"/>
            <p:cNvSpPr/>
            <p:nvPr/>
          </p:nvSpPr>
          <p:spPr>
            <a:xfrm>
              <a:off x="3006720" y="4748040"/>
              <a:ext cx="43668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2" name="Text Box 22"/>
            <p:cNvSpPr/>
            <p:nvPr/>
          </p:nvSpPr>
          <p:spPr>
            <a:xfrm>
              <a:off x="-309600" y="52970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63" name="Text Box 23"/>
          <p:cNvSpPr/>
          <p:nvPr/>
        </p:nvSpPr>
        <p:spPr>
          <a:xfrm>
            <a:off x="5680440" y="5791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51d"/>
                </a:solidFill>
                <a:latin typeface="Tahoma"/>
                <a:ea typeface="ＭＳ Ｐゴシック"/>
              </a:rPr>
              <a:t>State of Mem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Rectangle 24"/>
          <p:cNvSpPr/>
          <p:nvPr/>
        </p:nvSpPr>
        <p:spPr>
          <a:xfrm>
            <a:off x="4724280" y="1216080"/>
            <a:ext cx="4232520" cy="4422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17181" dir="2961631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Rectangle 25"/>
          <p:cNvSpPr/>
          <p:nvPr/>
        </p:nvSpPr>
        <p:spPr>
          <a:xfrm>
            <a:off x="7439040" y="1547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x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6" name="Rectangle 26"/>
          <p:cNvSpPr/>
          <p:nvPr/>
        </p:nvSpPr>
        <p:spPr>
          <a:xfrm>
            <a:off x="7748640" y="163188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7" name="AutoShape 28"/>
          <p:cNvSpPr/>
          <p:nvPr/>
        </p:nvSpPr>
        <p:spPr>
          <a:xfrm>
            <a:off x="4952880" y="1447920"/>
            <a:ext cx="243864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A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structor declared with no-parameter is used to create the objec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AutoShape 30"/>
          <p:cNvSpPr/>
          <p:nvPr/>
        </p:nvSpPr>
        <p:spPr>
          <a:xfrm>
            <a:off x="6934320" y="3581280"/>
            <a:ext cx="184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69" name="Group 44"/>
          <p:cNvGrpSpPr/>
          <p:nvPr/>
        </p:nvGrpSpPr>
        <p:grpSpPr>
          <a:xfrm>
            <a:off x="6781680" y="2286000"/>
            <a:ext cx="2011320" cy="949320"/>
            <a:chOff x="6781680" y="2286000"/>
            <a:chExt cx="2011320" cy="949320"/>
          </a:xfrm>
        </p:grpSpPr>
        <p:sp>
          <p:nvSpPr>
            <p:cNvPr id="670" name="AutoShape 45"/>
            <p:cNvSpPr/>
            <p:nvPr/>
          </p:nvSpPr>
          <p:spPr>
            <a:xfrm>
              <a:off x="6781680" y="228600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1" name="Rectangle 46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Rectangle 47"/>
            <p:cNvSpPr/>
            <p:nvPr/>
          </p:nvSpPr>
          <p:spPr>
            <a:xfrm>
              <a:off x="6797520" y="230184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3" name="Rectangle 48"/>
            <p:cNvSpPr/>
            <p:nvPr/>
          </p:nvSpPr>
          <p:spPr>
            <a:xfrm>
              <a:off x="7619400" y="233352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4" name="Rectangle 49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5" name="Rectangle 50"/>
            <p:cNvSpPr/>
            <p:nvPr/>
          </p:nvSpPr>
          <p:spPr>
            <a:xfrm>
              <a:off x="6797520" y="250020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6" name="Rectangle 51"/>
            <p:cNvSpPr/>
            <p:nvPr/>
          </p:nvSpPr>
          <p:spPr>
            <a:xfrm>
              <a:off x="6870600" y="255420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7" name="Rectangle 52"/>
            <p:cNvSpPr/>
            <p:nvPr/>
          </p:nvSpPr>
          <p:spPr>
            <a:xfrm>
              <a:off x="6924240" y="258120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8" name="Rectangle 53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9" name="Rectangle 54"/>
            <p:cNvSpPr/>
            <p:nvPr/>
          </p:nvSpPr>
          <p:spPr>
            <a:xfrm>
              <a:off x="7751880" y="285912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0" name="Rectangle 55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1" name="Rectangle 56"/>
            <p:cNvSpPr/>
            <p:nvPr/>
          </p:nvSpPr>
          <p:spPr>
            <a:xfrm>
              <a:off x="7751880" y="255420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2" name="Rectangle 57"/>
            <p:cNvSpPr/>
            <p:nvPr/>
          </p:nvSpPr>
          <p:spPr>
            <a:xfrm>
              <a:off x="6834240" y="285912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3" name="Rectangle 58"/>
            <p:cNvSpPr/>
            <p:nvPr/>
          </p:nvSpPr>
          <p:spPr>
            <a:xfrm>
              <a:off x="6915240" y="288612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4" name="Text Box 59"/>
            <p:cNvSpPr/>
            <p:nvPr/>
          </p:nvSpPr>
          <p:spPr>
            <a:xfrm>
              <a:off x="7923600" y="2743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5" name="Text Box 60"/>
            <p:cNvSpPr/>
            <p:nvPr/>
          </p:nvSpPr>
          <p:spPr>
            <a:xfrm>
              <a:off x="7923600" y="24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86" name="Group 61"/>
          <p:cNvGrpSpPr/>
          <p:nvPr/>
        </p:nvGrpSpPr>
        <p:grpSpPr>
          <a:xfrm>
            <a:off x="6781680" y="4689360"/>
            <a:ext cx="2011320" cy="949320"/>
            <a:chOff x="6781680" y="4689360"/>
            <a:chExt cx="2011320" cy="949320"/>
          </a:xfrm>
        </p:grpSpPr>
        <p:sp>
          <p:nvSpPr>
            <p:cNvPr id="687" name="AutoShape 62"/>
            <p:cNvSpPr/>
            <p:nvPr/>
          </p:nvSpPr>
          <p:spPr>
            <a:xfrm>
              <a:off x="6781680" y="4689360"/>
              <a:ext cx="20113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8" name="Rectangle 63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9" name="Rectangle 64"/>
            <p:cNvSpPr/>
            <p:nvPr/>
          </p:nvSpPr>
          <p:spPr>
            <a:xfrm>
              <a:off x="6797520" y="4705200"/>
              <a:ext cx="1979640" cy="19836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0" name="Rectangle 65"/>
            <p:cNvSpPr/>
            <p:nvPr/>
          </p:nvSpPr>
          <p:spPr>
            <a:xfrm>
              <a:off x="7619400" y="4736880"/>
              <a:ext cx="67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Object: Kasree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1" name="Rectangle 66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2" name="Rectangle 67"/>
            <p:cNvSpPr/>
            <p:nvPr/>
          </p:nvSpPr>
          <p:spPr>
            <a:xfrm>
              <a:off x="6797520" y="4903560"/>
              <a:ext cx="1979640" cy="719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3" name="Rectangle 68"/>
            <p:cNvSpPr/>
            <p:nvPr/>
          </p:nvSpPr>
          <p:spPr>
            <a:xfrm>
              <a:off x="6870600" y="4957560"/>
              <a:ext cx="71928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4" name="Rectangle 69"/>
            <p:cNvSpPr/>
            <p:nvPr/>
          </p:nvSpPr>
          <p:spPr>
            <a:xfrm>
              <a:off x="6924240" y="498456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t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5" name="Rectangle 70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6" name="Rectangle 71"/>
            <p:cNvSpPr/>
            <p:nvPr/>
          </p:nvSpPr>
          <p:spPr>
            <a:xfrm>
              <a:off x="7751880" y="5262480"/>
              <a:ext cx="774720" cy="181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7" name="Rectangle 72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8" name="Rectangle 73"/>
            <p:cNvSpPr/>
            <p:nvPr/>
          </p:nvSpPr>
          <p:spPr>
            <a:xfrm>
              <a:off x="7751880" y="4957560"/>
              <a:ext cx="774720" cy="179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9" name="Rectangle 74"/>
            <p:cNvSpPr/>
            <p:nvPr/>
          </p:nvSpPr>
          <p:spPr>
            <a:xfrm>
              <a:off x="6834240" y="5262480"/>
              <a:ext cx="701640" cy="18108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0" name="Rectangle 75"/>
            <p:cNvSpPr/>
            <p:nvPr/>
          </p:nvSpPr>
          <p:spPr>
            <a:xfrm>
              <a:off x="6915240" y="5289480"/>
              <a:ext cx="39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quam</a:t>
              </a:r>
              <a:endParaRPr b="0" lang="en-US" sz="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1" name="Text Box 76"/>
            <p:cNvSpPr/>
            <p:nvPr/>
          </p:nvSpPr>
          <p:spPr>
            <a:xfrm>
              <a:off x="7923600" y="5146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2" name="Text Box 77"/>
            <p:cNvSpPr/>
            <p:nvPr/>
          </p:nvSpPr>
          <p:spPr>
            <a:xfrm>
              <a:off x="7923600" y="485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703" name="Group 78"/>
          <p:cNvGrpSpPr/>
          <p:nvPr/>
        </p:nvGrpSpPr>
        <p:grpSpPr>
          <a:xfrm>
            <a:off x="57240" y="5181480"/>
            <a:ext cx="3752280" cy="885600"/>
            <a:chOff x="57240" y="5181480"/>
            <a:chExt cx="3752280" cy="885600"/>
          </a:xfrm>
        </p:grpSpPr>
        <p:sp>
          <p:nvSpPr>
            <p:cNvPr id="704" name="Line 79"/>
            <p:cNvSpPr/>
            <p:nvPr/>
          </p:nvSpPr>
          <p:spPr>
            <a:xfrm flipH="1">
              <a:off x="2687400" y="5387760"/>
              <a:ext cx="691920" cy="4287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5" name="Oval 80"/>
            <p:cNvSpPr/>
            <p:nvPr/>
          </p:nvSpPr>
          <p:spPr>
            <a:xfrm>
              <a:off x="3373200" y="5181480"/>
              <a:ext cx="43632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40186" dir="1096358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1051b"/>
                  </a:solidFill>
                  <a:latin typeface="Arial"/>
                  <a:ea typeface="ＭＳ Ｐゴシック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6" name="Text Box 81"/>
            <p:cNvSpPr/>
            <p:nvPr/>
          </p:nvSpPr>
          <p:spPr>
            <a:xfrm>
              <a:off x="57240" y="5730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cxnSp>
        <p:nvCxnSpPr>
          <p:cNvPr id="707" name="AutoShape 83"/>
          <p:cNvCxnSpPr>
            <a:endCxn id="672" idx="0"/>
          </p:cNvCxnSpPr>
          <p:nvPr/>
        </p:nvCxnSpPr>
        <p:spPr>
          <a:xfrm rot="5400000">
            <a:off x="7771680" y="1768320"/>
            <a:ext cx="550080" cy="518400"/>
          </a:xfrm>
          <a:prstGeom prst="curvedConnector5">
            <a:avLst>
              <a:gd name="adj1" fmla="val 49967"/>
              <a:gd name="adj2" fmla="val 49965"/>
              <a:gd name="adj3" fmla="val 499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708" name="Rectangle 86"/>
          <p:cNvSpPr/>
          <p:nvPr/>
        </p:nvSpPr>
        <p:spPr>
          <a:xfrm>
            <a:off x="7468920" y="35352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ＭＳ Ｐゴシック"/>
              </a:rPr>
              <a:t>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Rectangle 87"/>
          <p:cNvSpPr/>
          <p:nvPr/>
        </p:nvSpPr>
        <p:spPr>
          <a:xfrm>
            <a:off x="7778880" y="3619440"/>
            <a:ext cx="9381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710" name="AutoShape 89"/>
          <p:cNvCxnSpPr>
            <a:endCxn id="689" idx="0"/>
          </p:cNvCxnSpPr>
          <p:nvPr/>
        </p:nvCxnSpPr>
        <p:spPr>
          <a:xfrm rot="5400000">
            <a:off x="7560720" y="4036680"/>
            <a:ext cx="896040" cy="44208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711" name="AutoShape 90"/>
          <p:cNvSpPr/>
          <p:nvPr/>
        </p:nvSpPr>
        <p:spPr>
          <a:xfrm>
            <a:off x="4952880" y="3505320"/>
            <a:ext cx="243864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1051b"/>
                </a:solidFill>
                <a:latin typeface="Arial"/>
                <a:ea typeface="ＭＳ Ｐゴシック"/>
              </a:rPr>
              <a:t>B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nstructor declared with parameters is used to create the object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FFD6009F-994B-45FD-9404-6E5C7B0B152E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Overloading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wo of the components of a method declaration comprise the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method signatu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method's nam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parameter typ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signature of the constructors declared above 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Kasree(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89f7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Kasree(int, in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overloading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methods allows implementing different versions of the same method with different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method signature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is means that methods within a class can have the same name if they have different parameter list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38FB7E84-150B-4DD2-AC89-71FB459F2796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Overloading (cont.)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verloaded methods are differentiated b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number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type of the arguments passed into the method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You cannot declare more than one method with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he same nam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and the same number and type of parameter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iler does not consider return type when differentiating method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o declaration of two methods having the same signature even if they have a different return typ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83C8D6A-59A9-4288-B211-6124695A4AAE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Declar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thod declaration is composed o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hea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b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390600" y="3657600"/>
            <a:ext cx="8753400" cy="1447560"/>
            <a:chOff x="390600" y="3657600"/>
            <a:chExt cx="8753400" cy="1447560"/>
          </a:xfrm>
        </p:grpSpPr>
        <p:sp>
          <p:nvSpPr>
            <p:cNvPr id="273" name="Rectangle 5"/>
            <p:cNvSpPr/>
            <p:nvPr/>
          </p:nvSpPr>
          <p:spPr>
            <a:xfrm>
              <a:off x="390600" y="3657600"/>
              <a:ext cx="853272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480960" y="384156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method header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1" lang="en-US" sz="1800" spc="-1" strike="noStrike">
                  <a:solidFill>
                    <a:srgbClr val="3399ff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C504510-401B-4B7D-8B4A-D1691FC0380A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Declaration (cont.)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2600" y="462276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urier New"/>
                <a:ea typeface="ＭＳ Ｐゴシック"/>
              </a:rPr>
              <a:t>public    void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 setOwnerName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(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String  name 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  <a:ea typeface="ＭＳ Ｐゴシック"/>
              </a:rPr>
              <a:t>ownerName = name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ＭＳ Ｐゴシック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6477120" y="5105520"/>
            <a:ext cx="1625400" cy="353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 bod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1295280" y="5029200"/>
            <a:ext cx="4029120" cy="571680"/>
          </a:xfrm>
          <a:prstGeom prst="roundRect">
            <a:avLst>
              <a:gd name="adj" fmla="val 16667"/>
            </a:avLst>
          </a:prstGeom>
          <a:noFill/>
          <a:ln cap="rnd" w="3816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5562720" y="4572000"/>
            <a:ext cx="1736640" cy="0"/>
          </a:xfrm>
          <a:prstGeom prst="line">
            <a:avLst/>
          </a:prstGeom>
          <a:ln cap="rnd" w="5724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14"/>
          <p:cNvSpPr/>
          <p:nvPr/>
        </p:nvSpPr>
        <p:spPr>
          <a:xfrm flipV="1">
            <a:off x="5410080" y="5257440"/>
            <a:ext cx="1067040" cy="12600"/>
          </a:xfrm>
          <a:prstGeom prst="line">
            <a:avLst/>
          </a:prstGeom>
          <a:ln w="28440">
            <a:solidFill>
              <a:srgbClr val="40458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84" name="Group 19"/>
          <p:cNvGrpSpPr/>
          <p:nvPr/>
        </p:nvGrpSpPr>
        <p:grpSpPr>
          <a:xfrm>
            <a:off x="228600" y="3502080"/>
            <a:ext cx="1155600" cy="1025640"/>
            <a:chOff x="228600" y="3502080"/>
            <a:chExt cx="1155600" cy="1025640"/>
          </a:xfrm>
        </p:grpSpPr>
        <p:sp>
          <p:nvSpPr>
            <p:cNvPr id="285" name="Line 7"/>
            <p:cNvSpPr/>
            <p:nvPr/>
          </p:nvSpPr>
          <p:spPr>
            <a:xfrm flipV="1">
              <a:off x="101448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AutoShape 15"/>
            <p:cNvSpPr/>
            <p:nvPr/>
          </p:nvSpPr>
          <p:spPr>
            <a:xfrm>
              <a:off x="228600" y="3502080"/>
              <a:ext cx="115560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ifier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1676520" y="3502080"/>
            <a:ext cx="1523880" cy="1025640"/>
            <a:chOff x="1676520" y="3502080"/>
            <a:chExt cx="1523880" cy="1025640"/>
          </a:xfrm>
        </p:grpSpPr>
        <p:sp>
          <p:nvSpPr>
            <p:cNvPr id="288" name="Line 10"/>
            <p:cNvSpPr/>
            <p:nvPr/>
          </p:nvSpPr>
          <p:spPr>
            <a:xfrm flipV="1">
              <a:off x="234144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AutoShape 16"/>
            <p:cNvSpPr/>
            <p:nvPr/>
          </p:nvSpPr>
          <p:spPr>
            <a:xfrm>
              <a:off x="1676520" y="3502080"/>
              <a:ext cx="152388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turn Type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0" name="Group 21"/>
          <p:cNvGrpSpPr/>
          <p:nvPr/>
        </p:nvGrpSpPr>
        <p:grpSpPr>
          <a:xfrm>
            <a:off x="3581280" y="3502080"/>
            <a:ext cx="1625760" cy="1025640"/>
            <a:chOff x="3581280" y="3502080"/>
            <a:chExt cx="1625760" cy="1025640"/>
          </a:xfrm>
        </p:grpSpPr>
        <p:sp>
          <p:nvSpPr>
            <p:cNvPr id="291" name="Line 11"/>
            <p:cNvSpPr/>
            <p:nvPr/>
          </p:nvSpPr>
          <p:spPr>
            <a:xfrm flipV="1">
              <a:off x="4305240" y="3854520"/>
              <a:ext cx="0" cy="673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AutoShape 17"/>
            <p:cNvSpPr/>
            <p:nvPr/>
          </p:nvSpPr>
          <p:spPr>
            <a:xfrm>
              <a:off x="3581280" y="3502080"/>
              <a:ext cx="162576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ethod Name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3" name="Group 22"/>
          <p:cNvGrpSpPr/>
          <p:nvPr/>
        </p:nvGrpSpPr>
        <p:grpSpPr>
          <a:xfrm>
            <a:off x="5638680" y="3502080"/>
            <a:ext cx="1523880" cy="1025280"/>
            <a:chOff x="5638680" y="3502080"/>
            <a:chExt cx="1523880" cy="1025280"/>
          </a:xfrm>
        </p:grpSpPr>
        <p:sp>
          <p:nvSpPr>
            <p:cNvPr id="294" name="Line 12"/>
            <p:cNvSpPr/>
            <p:nvPr/>
          </p:nvSpPr>
          <p:spPr>
            <a:xfrm flipV="1">
              <a:off x="6432480" y="3909960"/>
              <a:ext cx="0" cy="617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AutoShape 18"/>
            <p:cNvSpPr/>
            <p:nvPr/>
          </p:nvSpPr>
          <p:spPr>
            <a:xfrm>
              <a:off x="5638680" y="3502080"/>
              <a:ext cx="1523880" cy="3542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4045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meters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6" name="Group 23"/>
          <p:cNvGrpSpPr/>
          <p:nvPr/>
        </p:nvGrpSpPr>
        <p:grpSpPr>
          <a:xfrm>
            <a:off x="304920" y="1295280"/>
            <a:ext cx="8663040" cy="1447920"/>
            <a:chOff x="304920" y="1295280"/>
            <a:chExt cx="8663040" cy="1447920"/>
          </a:xfrm>
        </p:grpSpPr>
        <p:sp>
          <p:nvSpPr>
            <p:cNvPr id="297" name="Rectangle 24"/>
            <p:cNvSpPr/>
            <p:nvPr/>
          </p:nvSpPr>
          <p:spPr>
            <a:xfrm>
              <a:off x="390600" y="129528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>
              <a:off x="304920" y="144756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odifiers&gt;  &lt;return type&gt;  &lt;method name&gt;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&lt;parameters&gt;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551BF21B-A1F3-49B8-9D5C-97E464144E4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ethod Header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modifi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the way the method is accesse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return typ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dicates the type of value (if any) the method return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the method returns a value, the type of the value must be declare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ed values can be used by the calling method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y method can return at most one value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the method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turns nothing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the keyword </a:t>
            </a:r>
            <a:r>
              <a:rPr b="1" i="1" lang="en-US" sz="1800" spc="-1" strike="noStrike">
                <a:solidFill>
                  <a:srgbClr val="9900cc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must be used as th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return type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339966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epresent a list of variables whose values will be passed to the method for use by the metho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y are optional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method that does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not accept parameters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s declared with an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empty set of parameters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side the parentheses.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304920" y="914400"/>
            <a:ext cx="8663040" cy="1447920"/>
            <a:chOff x="304920" y="914400"/>
            <a:chExt cx="8663040" cy="1447920"/>
          </a:xfrm>
        </p:grpSpPr>
        <p:sp>
          <p:nvSpPr>
            <p:cNvPr id="305" name="Rectangle 5"/>
            <p:cNvSpPr/>
            <p:nvPr/>
          </p:nvSpPr>
          <p:spPr>
            <a:xfrm>
              <a:off x="390600" y="914400"/>
              <a:ext cx="85327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1b28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304920" y="1066680"/>
              <a:ext cx="8663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modifiers&gt;  &lt;return type&gt;  &lt;method name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(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339966"/>
                  </a:solidFill>
                  <a:latin typeface="Courier New"/>
                  <a:ea typeface="ＭＳ Ｐゴシック"/>
                </a:rPr>
                <a:t>&lt;parameters&gt;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</a:t>
              </a: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){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       </a:t>
              </a:r>
              <a:r>
                <a:rPr b="0" lang="en-US" sz="1800" spc="-1" strike="noStrike">
                  <a:solidFill>
                    <a:srgbClr val="40458c"/>
                  </a:solidFill>
                  <a:latin typeface="Courier New"/>
                  <a:ea typeface="ＭＳ Ｐゴシック"/>
                </a:rPr>
                <a:t>&lt;method body&gt;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1144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289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Courier New"/>
                  <a:ea typeface="ＭＳ Ｐゴシック"/>
                </a:rPr>
                <a:t>}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BE49A7BC-C724-4578-9AF2-014125B2A89B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ypes of method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3 different criteria defining types of method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ifiers: this criteria is also composed of 3 sub-crite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isibility: public or private (or protected in csc 113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ared between all instances or not: class member (static) or instance meth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verride able or not (final): to be discussed in CSC 113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urn type: method with or without (void) return val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: with or without paramet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E6184104-0EB6-4E22-9326-D208D13E50FD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ample of Methods with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No-Parameters and No-Return value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685800" y="1676520"/>
            <a:ext cx="807732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1b28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14400" y="1816200"/>
            <a:ext cx="777240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import java.util.Scanner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urs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Attribu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studentName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tring courseCode 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Scanner input = new Scanner(System.in); //Class att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ff00"/>
                </a:solidFill>
                <a:latin typeface="Courier New"/>
                <a:ea typeface="ＭＳ Ｐゴシック"/>
              </a:rPr>
              <a:t>// Methods 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enterDataFromKeyBoard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 (“Enter the student name: ”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udentName = input.next(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 (“Enter the course code: ”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urseCode = input.next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public 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displayData()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ln (“The student name is: ” + studentName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ystem.out.println (“The the course code is: ”+ courseCode)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Introduction to OOP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Dr. S. GANNOUNI &amp; Dr.  A. TOUIR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6B34C29-43B2-42FD-956C-04660E2328E5}" type="slidenum">
              <a:rPr b="0" lang="en-US" sz="10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Message Passing Principle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or Method Invocation</a:t>
            </a:r>
            <a:br>
              <a:rPr sz="4000"/>
            </a:b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ssage passing is the principle that allows objects to communicate by exchanging messag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ssing a message to an object means ordering this latter to execute a specific metho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ssing messages to objects is also known as method invoc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Rawan</cp:lastModifiedBy>
  <dcterms:modified xsi:type="dcterms:W3CDTF">2012-11-15T12:35:15Z</dcterms:modified>
  <cp:revision>1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">
    <vt:lpwstr/>
  </property>
  <property fmtid="{D5CDD505-2E9C-101B-9397-08002B2CF9AE}" pid="3" name="Comments">
    <vt:lpwstr/>
  </property>
  <property fmtid="{D5CDD505-2E9C-101B-9397-08002B2CF9AE}" pid="4" name="Comments1">
    <vt:lpwstr/>
  </property>
  <property fmtid="{D5CDD505-2E9C-101B-9397-08002B2CF9AE}" pid="5" name="PublishingContactEmail">
    <vt:lpwstr/>
  </property>
  <property fmtid="{D5CDD505-2E9C-101B-9397-08002B2CF9AE}" pid="6" name="PublishingContactName">
    <vt:lpwstr/>
  </property>
  <property fmtid="{D5CDD505-2E9C-101B-9397-08002B2CF9AE}" pid="7" name="PublishingContactPicture">
    <vt:lpwstr/>
  </property>
  <property fmtid="{D5CDD505-2E9C-101B-9397-08002B2CF9AE}" pid="8" name="PublishingRollupImage">
    <vt:lpwstr/>
  </property>
  <property fmtid="{D5CDD505-2E9C-101B-9397-08002B2CF9AE}" pid="9" name="_TemplateID">
    <vt:lpwstr>TC010689871033</vt:lpwstr>
  </property>
</Properties>
</file>