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A0AA-F50B-4A77-83DB-6711619C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CBC-9F20-4E28-B9C5-39D25E86E42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08AE-C653-4703-841F-0C7EB62F4EC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BC16-3E7A-4187-AB13-1268A60032F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 i, k, m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= 12; k = 10; m = 14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3, 4, 5.5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i, k, m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m, 20, 4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not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2, 4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14.0, 2, 3.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A07-DA59-4948-9C65-B50086BD583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C89-1B3E-4859-9C0F-4EDE5218BDD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01B-7F6D-48A1-A5DB-B50552C11EA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4CE3-3F59-4BEA-B8BA-8D164135030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92F3-8F34-40A8-8CB3-7F590ED1034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4EF-309A-4E57-B3C5-8A29AACD08F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A262-48E0-4563-B16A-7456E85030E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E091-FBD0-4585-8FC3-82E944A0A0A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926-3850-4D58-80CF-BEE47ECC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76C-B326-4A31-A696-C89471B9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217-3AF9-4513-B39F-0CD7756E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B3C-2CA6-4BFF-88B4-5253E595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D184-8D8B-492B-800B-3A1523C2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C306-589F-48C2-99B2-444B61A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3205-8E4A-4AF7-ADE3-D2F856E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C252-744A-4572-A653-10E07A5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0C9E-974A-4A3B-900E-F77EE46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14DC-083F-48CC-AAF2-182DAC68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83D7-C91D-4FD8-8825-AF2744FE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386-5665-4773-8AF2-2893E12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615C-7B7A-4C1D-9086-6A4022D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3315-39A4-4F36-9CC6-792A638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C8FA-8D7C-4838-B6AD-0F3396BD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3E4E-2DD8-44EC-A8F6-07263AB1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1327-2C3A-44FA-B8DA-E8186FCC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6EF-D102-471C-968E-1FABB1FB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321-89CC-426C-ACBF-5F288A98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584-AE93-4A66-95DD-E770DBA0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4D5-7FAC-4FBF-9DF5-B05C50C9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9AA-A87B-4CDC-980F-7064E22F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F0F-D7DC-444D-9BC8-24AB830D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931-482F-478B-95D8-55DE3615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1A605932-7AB7-45B5-8C89-1E46253F3F2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6192-F893-4D41-93E7-5EB9947F8972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FC22F06-68FE-4BCF-8166-8F3011CBB5E4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troduction to method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D765310-FDA2-4D95-8833-AC8C868E952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685800" y="3467160"/>
            <a:ext cx="79246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914400" y="52959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Invoc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oking a method of a given object requires using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stance 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this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ot (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operator as following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methodName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arguments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914400" y="46101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38080" y="3543480"/>
            <a:ext cx="8458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A4DE1DF-BB4B-4EA5-AF5D-6182F5CD233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thod Invocation Execution Schema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85800" y="1295280"/>
            <a:ext cx="3657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73640" y="1371600"/>
            <a:ext cx="30153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ien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stat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in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[] arg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obj = new X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bj.method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171240" y="33526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029200" y="1295280"/>
            <a:ext cx="3657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5191560" y="1447920"/>
            <a:ext cx="255816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X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ethod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Method bo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1522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56386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3200400" y="4114800"/>
            <a:ext cx="0" cy="6858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200400" y="5486400"/>
            <a:ext cx="0" cy="4572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5943600" y="4876920"/>
            <a:ext cx="0" cy="53316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46" name="AutoShape 21"/>
          <p:cNvCxnSpPr>
            <a:stCxn id="343" idx="0"/>
            <a:endCxn id="345" idx="0"/>
          </p:cNvCxnSpPr>
          <p:nvPr/>
        </p:nvCxnSpPr>
        <p:spPr>
          <a:xfrm>
            <a:off x="3200400" y="482868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cxnSp>
        <p:nvCxnSpPr>
          <p:cNvPr id="347" name="AutoShape 22"/>
          <p:cNvCxnSpPr>
            <a:stCxn id="345" idx="1"/>
            <a:endCxn id="344" idx="0"/>
          </p:cNvCxnSpPr>
          <p:nvPr/>
        </p:nvCxnSpPr>
        <p:spPr>
          <a:xfrm flipH="1">
            <a:off x="3200040" y="543852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sp>
        <p:nvSpPr>
          <p:cNvPr id="348" name="Text Box 23"/>
          <p:cNvSpPr/>
          <p:nvPr/>
        </p:nvSpPr>
        <p:spPr>
          <a:xfrm>
            <a:off x="2180520" y="5958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 Box 25"/>
          <p:cNvSpPr/>
          <p:nvPr/>
        </p:nvSpPr>
        <p:spPr>
          <a:xfrm>
            <a:off x="168840" y="41292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1 execu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504360" y="53341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2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600120" y="45864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The method Invo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5929920" y="472428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3403800" y="44956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Passing Paramet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if exi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1"/>
          <p:cNvSpPr/>
          <p:nvPr/>
        </p:nvSpPr>
        <p:spPr>
          <a:xfrm>
            <a:off x="5932800" y="51958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inish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 Box 33"/>
          <p:cNvSpPr/>
          <p:nvPr/>
        </p:nvSpPr>
        <p:spPr>
          <a:xfrm>
            <a:off x="3449160" y="51055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Return result if an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0CA97C0-06C2-4531-8111-5CE55001715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Tahoma"/>
              </a:rPr>
              <a:t>Returning a Value from a Method 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method returns to the code that invoked it when i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mpletes all the statements in the method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aches a return statement,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rows an exception (covered in CSC 113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f the method returns a valu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caller must declare a variable of the same type of the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aller assigns the return value to the variab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variableN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thodNam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s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37C8790-CBB0-4635-81EA-0D04DC3DE8C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</a:t>
            </a:r>
            <a:r>
              <a:rPr b="1" i="1" lang="en-US" sz="4400" spc="-1" strike="noStrike">
                <a:solidFill>
                  <a:srgbClr val="990033"/>
                </a:solidFill>
                <a:latin typeface="Tahoma"/>
              </a:rPr>
              <a:t>return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keywor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method's return typ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declared in its method declaration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retur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statement is used within the body of the method to return the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declared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voi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doesn't return a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does not need to contain a return stateme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may use a return statement to branch out of a control flow block and exit the method. The return statement is simply used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Return a value from a such method, will cause a compiler erro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that is not declared voi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ust contain a return statement with a corresponding return value,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 returnValue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data type of the return value must match the method's declared return typ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you can't return an integer value from a method declared to return a boole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0E0D943-3616-4E00-B3FA-96215FE9F6C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Method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71" name="Rectangle 3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Rectangle 4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int midTerm1, midTerm2, lab, final 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i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value = mid1 + mid2 + lab + fin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alu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3" name="Group 8"/>
          <p:cNvGrpSpPr/>
          <p:nvPr/>
        </p:nvGrpSpPr>
        <p:grpSpPr>
          <a:xfrm>
            <a:off x="685800" y="3886200"/>
            <a:ext cx="8077320" cy="2362320"/>
            <a:chOff x="685800" y="3886200"/>
            <a:chExt cx="8077320" cy="2362320"/>
          </a:xfrm>
        </p:grpSpPr>
        <p:sp>
          <p:nvSpPr>
            <p:cNvPr id="374" name="Rectangle 6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914400" y="4025880"/>
              <a:ext cx="7772400" cy="21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Test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 st = new Student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tot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…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 = st.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ystem.out.printl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83CBD8E-FC02-4683-8DE3-FA118BB2C53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Methods 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81" name="Rectangle 4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methodNam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…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1 - calculate the value to return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2 - assign the value to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685800" y="3886200"/>
            <a:ext cx="8077320" cy="2490120"/>
            <a:chOff x="685800" y="3886200"/>
            <a:chExt cx="8077320" cy="2490120"/>
          </a:xfrm>
        </p:grpSpPr>
        <p:sp>
          <p:nvSpPr>
            <p:cNvPr id="384" name="Rectangle 7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914400" y="40258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ientClass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lassName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new ClassName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ethodName(…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9FBC923-D6C8-4391-B7EF-9F537316751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Information to a Metho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declaration for a method declares the number and the type of the data-items to be passed for that metho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Paramet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to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list of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riabl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a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method declar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Argument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ar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actual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lu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at are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pass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when the method is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 invok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en you invoke a method, the arguments used must match the declaration's parameters in type and 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A603CEF-7B73-44E3-BDD2-ECF810FCEE3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argument is a value we pass to a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parameter is a placeholder in the called method to hold the value of the passed argu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685800" y="3809880"/>
            <a:ext cx="3657600" cy="2362320"/>
            <a:chOff x="685800" y="3809880"/>
            <a:chExt cx="3657600" cy="2362320"/>
          </a:xfrm>
        </p:grpSpPr>
        <p:sp>
          <p:nvSpPr>
            <p:cNvPr id="397" name="Rectangle 4"/>
            <p:cNvSpPr/>
            <p:nvPr/>
          </p:nvSpPr>
          <p:spPr>
            <a:xfrm>
              <a:off x="685800" y="3809880"/>
              <a:ext cx="36576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774720" y="3886200"/>
              <a:ext cx="338112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ample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stat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[] arg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ount acct = new Account(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t.add(400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 flipV="1">
              <a:off x="2361960" y="527148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1907640" y="55767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argum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01" name="Group 12"/>
          <p:cNvGrpSpPr/>
          <p:nvPr/>
        </p:nvGrpSpPr>
        <p:grpSpPr>
          <a:xfrm>
            <a:off x="5029200" y="3809880"/>
            <a:ext cx="3657600" cy="2438280"/>
            <a:chOff x="5029200" y="3809880"/>
            <a:chExt cx="3657600" cy="2438280"/>
          </a:xfrm>
        </p:grpSpPr>
        <p:sp>
          <p:nvSpPr>
            <p:cNvPr id="402" name="Rectangle 5"/>
            <p:cNvSpPr/>
            <p:nvPr/>
          </p:nvSpPr>
          <p:spPr>
            <a:xfrm>
              <a:off x="5029200" y="3809880"/>
              <a:ext cx="36576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5193720" y="3962160"/>
              <a:ext cx="3198240" cy="17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ccount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dd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ouble amt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lance = balance + amt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7848360" y="419076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7317720" y="388620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D3CA28D-C128-4CBB-A4CF-05D61980326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atching 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35400" y="1523880"/>
            <a:ext cx="2879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number or arguments and the parameters must be the sa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uments and parameters are paired left to righ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matched pair must be assignment-compatible (e.g. you cannot pass a double argument to a int paramet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1" name="Picture 4" descr="ch4-2"/>
          <p:cNvPicPr/>
          <p:nvPr/>
        </p:nvPicPr>
        <p:blipFill>
          <a:blip r:embed="rId1"/>
          <a:stretch/>
        </p:blipFill>
        <p:spPr>
          <a:xfrm>
            <a:off x="685800" y="1762200"/>
            <a:ext cx="52102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59ADBF0-722C-40C5-85E8-9B9FFE91916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rameter Pass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 method is call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parameters are creat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lues of arguments are copied into the parameters’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riables declared in the method body (called local variables) are creat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ethod body is executed using the parameters and local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the method finish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and local variables are destroy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7DADADB-2B3F-4EA7-BECE-52C6F0AA328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at are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ar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i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the real-world that interact with their environments b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erforming services on deman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of the same class hav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haracteristic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the same type of data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behavio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provide the same services to their environmen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rvices that objects provide are called method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2FA2AE4-6BC9-414E-A371-824F0BE31F3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ssing Objects to a Metho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 we can pass primitive data type values, we can also pass object references to a method using instance variab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n instance variable to a method means passing a reference of an objec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means that the corresponding parameter will be a copy of the reference of this object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ecause the passing parameter mechanism copies the value of the argument (which is an object reference) into the parameter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rgument and its corresponding parameter refer to the same objec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object is not duplicat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re are two instance variables (the argument and the parameter) referring to the same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8A7BE93-0D6A-4FD7-A8DC-D8BE8A0DC09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How Private Attributes could be Accesse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vate attributes are not accessible from outsid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cept 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inside: from the object containing the data itsel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 from outside using accessor opera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59BBBA7-2635-45D0-A5E1-7BD3D8AE1CA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32" name="Group 4"/>
          <p:cNvGrpSpPr/>
          <p:nvPr/>
        </p:nvGrpSpPr>
        <p:grpSpPr>
          <a:xfrm>
            <a:off x="304920" y="1752480"/>
            <a:ext cx="8610480" cy="4920120"/>
            <a:chOff x="304920" y="1752480"/>
            <a:chExt cx="8610480" cy="4920120"/>
          </a:xfrm>
        </p:grpSpPr>
        <p:sp>
          <p:nvSpPr>
            <p:cNvPr id="433" name="Rectangle 5"/>
            <p:cNvSpPr/>
            <p:nvPr/>
          </p:nvSpPr>
          <p:spPr>
            <a:xfrm>
              <a:off x="304920" y="1752480"/>
              <a:ext cx="7924680" cy="449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533520" y="4648320"/>
              <a:ext cx="7543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533520" y="3962520"/>
              <a:ext cx="65530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533520" y="2895480"/>
              <a:ext cx="65530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457200" y="1828800"/>
              <a:ext cx="845820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Registration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static 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mai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 {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 course1, course2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= “CSC112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studentName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Majed AlKebir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2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 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“CSC107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studentNam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Fahd AlAmri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1.studentName</a:t>
              </a: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                     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2.studentName 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21549000">
              <a:off x="685800" y="297144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 rot="21549000">
              <a:off x="685800" y="40381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 rot="21549000">
              <a:off x="685800" y="49525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BD3806D-3C5B-4C31-8E0D-655325943E2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returning to outsiders data retrieved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called from outside allowing to retrieve data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457200" y="4145040"/>
            <a:ext cx="5029200" cy="2103480"/>
            <a:chOff x="457200" y="4145040"/>
            <a:chExt cx="5029200" cy="2103480"/>
          </a:xfrm>
        </p:grpSpPr>
        <p:sp>
          <p:nvSpPr>
            <p:cNvPr id="450" name="Rectangle 8"/>
            <p:cNvSpPr/>
            <p:nvPr/>
          </p:nvSpPr>
          <p:spPr>
            <a:xfrm>
              <a:off x="36576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51" name="Group 9"/>
            <p:cNvGrpSpPr/>
            <p:nvPr/>
          </p:nvGrpSpPr>
          <p:grpSpPr>
            <a:xfrm>
              <a:off x="3657600" y="4145040"/>
              <a:ext cx="1828440" cy="427320"/>
              <a:chOff x="3657600" y="4145040"/>
              <a:chExt cx="1828440" cy="427320"/>
            </a:xfrm>
          </p:grpSpPr>
          <p:sp>
            <p:nvSpPr>
              <p:cNvPr id="452" name="Rectangle 10"/>
              <p:cNvSpPr/>
              <p:nvPr/>
            </p:nvSpPr>
            <p:spPr>
              <a:xfrm>
                <a:off x="36576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4031640" y="415332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12"/>
            <p:cNvGrpSpPr/>
            <p:nvPr/>
          </p:nvGrpSpPr>
          <p:grpSpPr>
            <a:xfrm>
              <a:off x="3751200" y="4678560"/>
              <a:ext cx="987480" cy="307080"/>
              <a:chOff x="3751200" y="4678560"/>
              <a:chExt cx="987480" cy="307080"/>
            </a:xfrm>
          </p:grpSpPr>
          <p:sp>
            <p:nvSpPr>
              <p:cNvPr id="455" name="Rectangle 13"/>
              <p:cNvSpPr/>
              <p:nvPr/>
            </p:nvSpPr>
            <p:spPr>
              <a:xfrm>
                <a:off x="3751200" y="471672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 rot="534600">
                <a:off x="4571640" y="473112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7" name="Text Box 15"/>
              <p:cNvSpPr/>
              <p:nvPr/>
            </p:nvSpPr>
            <p:spPr>
              <a:xfrm>
                <a:off x="3766680" y="46785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8" name="Group 16"/>
            <p:cNvGrpSpPr/>
            <p:nvPr/>
          </p:nvGrpSpPr>
          <p:grpSpPr>
            <a:xfrm>
              <a:off x="4361760" y="5059440"/>
              <a:ext cx="1062720" cy="307080"/>
              <a:chOff x="4361760" y="5059440"/>
              <a:chExt cx="1062720" cy="307080"/>
            </a:xfrm>
          </p:grpSpPr>
          <p:sp>
            <p:nvSpPr>
              <p:cNvPr id="459" name="Rectangle 17"/>
              <p:cNvSpPr/>
              <p:nvPr/>
            </p:nvSpPr>
            <p:spPr>
              <a:xfrm>
                <a:off x="4403520" y="510552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0" name="Text Box 18"/>
              <p:cNvSpPr/>
              <p:nvPr/>
            </p:nvSpPr>
            <p:spPr>
              <a:xfrm>
                <a:off x="4361760" y="505944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1" name="Freeform 19"/>
              <p:cNvSpPr/>
              <p:nvPr/>
            </p:nvSpPr>
            <p:spPr>
              <a:xfrm rot="534600">
                <a:off x="5257080" y="511956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2" name="AutoShape 20"/>
            <p:cNvSpPr/>
            <p:nvPr/>
          </p:nvSpPr>
          <p:spPr>
            <a:xfrm>
              <a:off x="3809880" y="594396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>
              <a:off x="4572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457200" y="4145040"/>
              <a:ext cx="1828440" cy="427320"/>
              <a:chOff x="457200" y="4145040"/>
              <a:chExt cx="1828440" cy="427320"/>
            </a:xfrm>
          </p:grpSpPr>
          <p:sp>
            <p:nvSpPr>
              <p:cNvPr id="465" name="Rectangle 23"/>
              <p:cNvSpPr/>
              <p:nvPr/>
            </p:nvSpPr>
            <p:spPr>
              <a:xfrm>
                <a:off x="4572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6" name="Text Box 24"/>
              <p:cNvSpPr/>
              <p:nvPr/>
            </p:nvSpPr>
            <p:spPr>
              <a:xfrm>
                <a:off x="852480" y="415332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7" name="Text Box 25"/>
            <p:cNvSpPr/>
            <p:nvPr/>
          </p:nvSpPr>
          <p:spPr>
            <a:xfrm>
              <a:off x="2636640" y="53676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4586040" y="54867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cxnSp>
          <p:nvCxnSpPr>
            <p:cNvPr id="469" name="AutoShape 27"/>
            <p:cNvCxnSpPr>
              <a:stCxn id="460" idx="2"/>
              <a:endCxn id="462" idx="0"/>
            </p:cNvCxnSpPr>
            <p:nvPr/>
          </p:nvCxnSpPr>
          <p:spPr>
            <a:xfrm flipH="1">
              <a:off x="4533480" y="536436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70" name="AutoShape 28"/>
            <p:cNvCxnSpPr>
              <a:stCxn id="462" idx="1"/>
              <a:endCxn id="463" idx="3"/>
            </p:cNvCxnSpPr>
            <p:nvPr/>
          </p:nvCxnSpPr>
          <p:spPr>
            <a:xfrm flipH="1" flipV="1">
              <a:off x="2285280" y="537156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71" name="Group 32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472" name="Text Box 29"/>
            <p:cNvSpPr/>
            <p:nvPr/>
          </p:nvSpPr>
          <p:spPr>
            <a:xfrm>
              <a:off x="5962680" y="4487760"/>
              <a:ext cx="2868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parame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74B9482-E18D-44A5-BB83-0020CFC165E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1371600" y="1371600"/>
            <a:ext cx="5943600" cy="4876920"/>
            <a:chOff x="1371600" y="1371600"/>
            <a:chExt cx="5943600" cy="4876920"/>
          </a:xfrm>
        </p:grpSpPr>
        <p:sp>
          <p:nvSpPr>
            <p:cNvPr id="479" name="Rectangle 4"/>
            <p:cNvSpPr/>
            <p:nvPr/>
          </p:nvSpPr>
          <p:spPr>
            <a:xfrm>
              <a:off x="1371600" y="1371600"/>
              <a:ext cx="594360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1523880" y="1420920"/>
              <a:ext cx="5639040" cy="47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getAttribute1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getAttributen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840346D-A38C-44BC-AA78-209A80698D7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allowing to receive and store in the object state the data provided by outsid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used by outsiders allowing to provide to the object the data that should be stored in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533520" y="4191120"/>
            <a:ext cx="5029200" cy="2103480"/>
            <a:chOff x="533520" y="4191120"/>
            <a:chExt cx="5029200" cy="2103480"/>
          </a:xfrm>
        </p:grpSpPr>
        <p:sp>
          <p:nvSpPr>
            <p:cNvPr id="490" name="Rectangle 8"/>
            <p:cNvSpPr/>
            <p:nvPr/>
          </p:nvSpPr>
          <p:spPr>
            <a:xfrm>
              <a:off x="37339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91" name="Group 9"/>
            <p:cNvGrpSpPr/>
            <p:nvPr/>
          </p:nvGrpSpPr>
          <p:grpSpPr>
            <a:xfrm>
              <a:off x="3733920" y="4191120"/>
              <a:ext cx="1828440" cy="427320"/>
              <a:chOff x="3733920" y="4191120"/>
              <a:chExt cx="1828440" cy="427320"/>
            </a:xfrm>
          </p:grpSpPr>
          <p:sp>
            <p:nvSpPr>
              <p:cNvPr id="492" name="Rectangle 10"/>
              <p:cNvSpPr/>
              <p:nvPr/>
            </p:nvSpPr>
            <p:spPr>
              <a:xfrm>
                <a:off x="37339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3" name="Text Box 11"/>
              <p:cNvSpPr/>
              <p:nvPr/>
            </p:nvSpPr>
            <p:spPr>
              <a:xfrm>
                <a:off x="4107960" y="419940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4" name="Group 12"/>
            <p:cNvGrpSpPr/>
            <p:nvPr/>
          </p:nvGrpSpPr>
          <p:grpSpPr>
            <a:xfrm>
              <a:off x="3827520" y="4724640"/>
              <a:ext cx="987480" cy="307080"/>
              <a:chOff x="3827520" y="4724640"/>
              <a:chExt cx="987480" cy="307080"/>
            </a:xfrm>
          </p:grpSpPr>
          <p:sp>
            <p:nvSpPr>
              <p:cNvPr id="495" name="Rectangle 13"/>
              <p:cNvSpPr/>
              <p:nvPr/>
            </p:nvSpPr>
            <p:spPr>
              <a:xfrm>
                <a:off x="3827520" y="476280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6" name="Freeform 14"/>
              <p:cNvSpPr/>
              <p:nvPr/>
            </p:nvSpPr>
            <p:spPr>
              <a:xfrm rot="534600">
                <a:off x="4647960" y="47772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7" name="Text Box 15"/>
              <p:cNvSpPr/>
              <p:nvPr/>
            </p:nvSpPr>
            <p:spPr>
              <a:xfrm>
                <a:off x="3843000" y="472464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4438080" y="5105520"/>
              <a:ext cx="1062720" cy="307080"/>
              <a:chOff x="4438080" y="5105520"/>
              <a:chExt cx="1062720" cy="307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4479840" y="515160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0" name="Text Box 18"/>
              <p:cNvSpPr/>
              <p:nvPr/>
            </p:nvSpPr>
            <p:spPr>
              <a:xfrm>
                <a:off x="4438080" y="510552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1" name="Freeform 19"/>
              <p:cNvSpPr/>
              <p:nvPr/>
            </p:nvSpPr>
            <p:spPr>
              <a:xfrm rot="534600">
                <a:off x="5333400" y="516564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2" name="AutoShape 20"/>
            <p:cNvCxnSpPr>
              <a:stCxn id="503" idx="0"/>
              <a:endCxn id="500" idx="2"/>
            </p:cNvCxnSpPr>
            <p:nvPr/>
          </p:nvCxnSpPr>
          <p:spPr>
            <a:xfrm flipV="1">
              <a:off x="4610160" y="541008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3" name="AutoShape 21"/>
            <p:cNvSpPr/>
            <p:nvPr/>
          </p:nvSpPr>
          <p:spPr>
            <a:xfrm>
              <a:off x="3886200" y="599004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4" name="Rectangle 22"/>
            <p:cNvSpPr/>
            <p:nvPr/>
          </p:nvSpPr>
          <p:spPr>
            <a:xfrm>
              <a:off x="5335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05" name="Group 23"/>
            <p:cNvGrpSpPr/>
            <p:nvPr/>
          </p:nvGrpSpPr>
          <p:grpSpPr>
            <a:xfrm>
              <a:off x="533520" y="4191120"/>
              <a:ext cx="1828440" cy="427320"/>
              <a:chOff x="533520" y="4191120"/>
              <a:chExt cx="1828440" cy="427320"/>
            </a:xfrm>
          </p:grpSpPr>
          <p:sp>
            <p:nvSpPr>
              <p:cNvPr id="506" name="Rectangle 24"/>
              <p:cNvSpPr/>
              <p:nvPr/>
            </p:nvSpPr>
            <p:spPr>
              <a:xfrm>
                <a:off x="5335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928800" y="419940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8" name="AutoShape 26"/>
            <p:cNvCxnSpPr>
              <a:stCxn id="504" idx="3"/>
              <a:endCxn id="503" idx="1"/>
            </p:cNvCxnSpPr>
            <p:nvPr/>
          </p:nvCxnSpPr>
          <p:spPr>
            <a:xfrm>
              <a:off x="2361960" y="541800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9" name="Text Box 27"/>
            <p:cNvSpPr/>
            <p:nvPr/>
          </p:nvSpPr>
          <p:spPr>
            <a:xfrm>
              <a:off x="2712960" y="54136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Text Box 28"/>
            <p:cNvSpPr/>
            <p:nvPr/>
          </p:nvSpPr>
          <p:spPr>
            <a:xfrm>
              <a:off x="4662360" y="55328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1" name="Group 29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512" name="Text Box 30"/>
            <p:cNvSpPr/>
            <p:nvPr/>
          </p:nvSpPr>
          <p:spPr>
            <a:xfrm>
              <a:off x="5967360" y="4487760"/>
              <a:ext cx="293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1 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9BA6D11-7244-44A4-A2E6-9F4228F04CD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1371600" y="1371600"/>
            <a:ext cx="67057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535040" y="1420920"/>
            <a:ext cx="638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assNam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setAttribute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set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F7153DF-18B6-491A-9076-287C89ED002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3" name="Group 13"/>
          <p:cNvGrpSpPr/>
          <p:nvPr/>
        </p:nvGrpSpPr>
        <p:grpSpPr>
          <a:xfrm>
            <a:off x="685800" y="990720"/>
            <a:ext cx="7772400" cy="5495400"/>
            <a:chOff x="685800" y="990720"/>
            <a:chExt cx="7772400" cy="5495400"/>
          </a:xfrm>
        </p:grpSpPr>
        <p:sp>
          <p:nvSpPr>
            <p:cNvPr id="524" name="Rectangle 2"/>
            <p:cNvSpPr/>
            <p:nvPr/>
          </p:nvSpPr>
          <p:spPr>
            <a:xfrm>
              <a:off x="685800" y="990720"/>
              <a:ext cx="7772400" cy="51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Rectangle 3"/>
            <p:cNvSpPr/>
            <p:nvPr/>
          </p:nvSpPr>
          <p:spPr>
            <a:xfrm>
              <a:off x="914400" y="1130400"/>
              <a:ext cx="7315200" cy="53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courseCode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StudentNam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CourseCod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Cod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StudentNam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Nam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CourseCod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ourseCod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FAB7394-446C-4E3C-83F5-4CF019243FB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228600" y="152280"/>
            <a:ext cx="861048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685800" y="3962520"/>
            <a:ext cx="8001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685800" y="31240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685800" y="17524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304920" y="304920"/>
            <a:ext cx="883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CourseCode(“CSC112“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StudentName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1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2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C40D8D7-CFDB-4768-BBF2-54501CFFA41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an Object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o a Set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905120" y="1371600"/>
            <a:ext cx="4952880" cy="4876560"/>
            <a:chOff x="1905120" y="1371600"/>
            <a:chExt cx="4952880" cy="4876560"/>
          </a:xfrm>
        </p:grpSpPr>
        <p:pic>
          <p:nvPicPr>
            <p:cNvPr id="539" name="Picture 4" descr="ch4-5"/>
            <p:cNvPicPr/>
            <p:nvPr/>
          </p:nvPicPr>
          <p:blipFill>
            <a:blip r:embed="rId1"/>
            <a:stretch/>
          </p:blipFill>
          <p:spPr>
            <a:xfrm>
              <a:off x="1905120" y="1371600"/>
              <a:ext cx="4952880" cy="48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5"/>
            <p:cNvSpPr/>
            <p:nvPr/>
          </p:nvSpPr>
          <p:spPr>
            <a:xfrm>
              <a:off x="1981080" y="4952880"/>
              <a:ext cx="1143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Freeform 6"/>
            <p:cNvSpPr/>
            <p:nvPr/>
          </p:nvSpPr>
          <p:spPr>
            <a:xfrm>
              <a:off x="2629080" y="4432320"/>
              <a:ext cx="241200" cy="1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152" y="0"/>
                  </a:moveTo>
                  <a:cubicBezTo>
                    <a:pt x="101" y="0"/>
                    <a:pt x="51" y="0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2057400" y="4343400"/>
              <a:ext cx="5335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B5B9308-4698-41A7-A5BF-B0F164EE43F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y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prevent the data an object stores from being directly accessed by outsider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allows objects containing the appropriate operations that could be applied on the data they sto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, the data that an object stores would be accessed only through appropriate oper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CA6E08F-8F95-4E5F-8D20-3AB9573B9DF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sing Setters and sharing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he same Object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547" name="Picture 4" descr="ch4-4"/>
          <p:cNvPicPr/>
          <p:nvPr/>
        </p:nvPicPr>
        <p:blipFill>
          <a:blip r:embed="rId1"/>
          <a:stretch/>
        </p:blipFill>
        <p:spPr>
          <a:xfrm>
            <a:off x="380880" y="3048120"/>
            <a:ext cx="4638960" cy="31716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2623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ame Student object reference is passed to card1 and card2 using set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5181480" y="4038480"/>
            <a:ext cx="358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ince we are actually passing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e same objec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reference, it results in the </a:t>
            </a: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owner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of two LibraryCard objects referring to the same Student obje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0" name="Picture 3" descr="ch4-3"/>
          <p:cNvPicPr/>
          <p:nvPr/>
        </p:nvPicPr>
        <p:blipFill>
          <a:blip r:embed="rId2"/>
          <a:stretch/>
        </p:blipFill>
        <p:spPr>
          <a:xfrm>
            <a:off x="4267080" y="1295280"/>
            <a:ext cx="4534200" cy="2133720"/>
          </a:xfrm>
          <a:prstGeom prst="rect">
            <a:avLst/>
          </a:prstGeom>
          <a:ln w="0">
            <a:noFill/>
          </a:ln>
        </p:spPr>
      </p:pic>
      <p:sp>
        <p:nvSpPr>
          <p:cNvPr id="551" name="Line 6"/>
          <p:cNvSpPr/>
          <p:nvPr/>
        </p:nvSpPr>
        <p:spPr>
          <a:xfrm flipV="1">
            <a:off x="3503880" y="2538360"/>
            <a:ext cx="840960" cy="2880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3505320" y="2590920"/>
            <a:ext cx="914400" cy="53316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7E4B7A6-93F7-488F-9139-81E0FA13F5F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bluepri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prototyp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rom which objects of the same type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tructors define the initial states of objects when they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contains at least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may contain more than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9BBB628-FD70-4FA2-B701-D7EF2A5F7CC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Default Class Constructo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If no constructo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re defined in the class,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the default constructor is add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by the compiler at compile tim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default constructor does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creates objects with empty stat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1F2327A-2EF7-4C7D-870A-11F0888D5F9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constructor na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a constructor has the name of the class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values that will be passed to the constructor for initialize the object sta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uctor declarations look like method declarations—except that they use the name of the class and have no return typ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569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public  &lt;constructor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constructor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8575ECD-8512-429D-8151-C8E71A992FA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a Constructor with No-Parame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152280" y="1143000"/>
            <a:ext cx="3733920" cy="2745720"/>
            <a:chOff x="152280" y="1143000"/>
            <a:chExt cx="3733920" cy="2745720"/>
          </a:xfrm>
        </p:grpSpPr>
        <p:sp>
          <p:nvSpPr>
            <p:cNvPr id="576" name="Rectangle 4"/>
            <p:cNvSpPr/>
            <p:nvPr/>
          </p:nvSpPr>
          <p:spPr>
            <a:xfrm>
              <a:off x="152280" y="1143000"/>
              <a:ext cx="37339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Text Box 5"/>
            <p:cNvSpPr/>
            <p:nvPr/>
          </p:nvSpPr>
          <p:spPr>
            <a:xfrm>
              <a:off x="247680" y="1169640"/>
              <a:ext cx="3542400" cy="27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bast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maquam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st = 0; maquam =1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8" name="Rectangle 6"/>
          <p:cNvSpPr/>
          <p:nvPr/>
        </p:nvSpPr>
        <p:spPr>
          <a:xfrm>
            <a:off x="419040" y="4114800"/>
            <a:ext cx="3314880" cy="190512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538920" y="4584600"/>
            <a:ext cx="2984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               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555480" y="4432320"/>
            <a:ext cx="12780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1357200" y="4889520"/>
            <a:ext cx="1843200" cy="505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new Kasre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 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3" name="Group 11"/>
          <p:cNvGrpSpPr/>
          <p:nvPr/>
        </p:nvGrpSpPr>
        <p:grpSpPr>
          <a:xfrm>
            <a:off x="-157320" y="3809880"/>
            <a:ext cx="3000240" cy="1047960"/>
            <a:chOff x="-157320" y="3809880"/>
            <a:chExt cx="3000240" cy="1047960"/>
          </a:xfrm>
        </p:grpSpPr>
        <p:sp>
          <p:nvSpPr>
            <p:cNvPr id="584" name="Oval 12"/>
            <p:cNvSpPr/>
            <p:nvPr/>
          </p:nvSpPr>
          <p:spPr>
            <a:xfrm>
              <a:off x="2406240" y="3809880"/>
              <a:ext cx="43668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Line 13"/>
            <p:cNvSpPr/>
            <p:nvPr/>
          </p:nvSpPr>
          <p:spPr>
            <a:xfrm flipH="1">
              <a:off x="1756800" y="4066920"/>
              <a:ext cx="679320" cy="4654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-157320" y="45212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7" name="Group 15"/>
          <p:cNvGrpSpPr/>
          <p:nvPr/>
        </p:nvGrpSpPr>
        <p:grpSpPr>
          <a:xfrm>
            <a:off x="709920" y="4360680"/>
            <a:ext cx="452520" cy="1513800"/>
            <a:chOff x="709920" y="4360680"/>
            <a:chExt cx="452520" cy="1513800"/>
          </a:xfrm>
        </p:grpSpPr>
        <p:sp>
          <p:nvSpPr>
            <p:cNvPr id="588" name="Line 16"/>
            <p:cNvSpPr/>
            <p:nvPr/>
          </p:nvSpPr>
          <p:spPr>
            <a:xfrm flipV="1">
              <a:off x="1017720" y="5287680"/>
              <a:ext cx="144720" cy="410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Oval 17"/>
            <p:cNvSpPr/>
            <p:nvPr/>
          </p:nvSpPr>
          <p:spPr>
            <a:xfrm rot="5050200">
              <a:off x="919800" y="5706000"/>
              <a:ext cx="165240" cy="15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Text Box 18"/>
            <p:cNvSpPr/>
            <p:nvPr/>
          </p:nvSpPr>
          <p:spPr>
            <a:xfrm rot="5050200">
              <a:off x="563040" y="4532400"/>
              <a:ext cx="428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-309600" y="4429080"/>
            <a:ext cx="3753000" cy="885600"/>
            <a:chOff x="-309600" y="4429080"/>
            <a:chExt cx="3753000" cy="885600"/>
          </a:xfrm>
        </p:grpSpPr>
        <p:sp>
          <p:nvSpPr>
            <p:cNvPr id="592" name="Line 20"/>
            <p:cNvSpPr/>
            <p:nvPr/>
          </p:nvSpPr>
          <p:spPr>
            <a:xfrm flipH="1">
              <a:off x="2320560" y="463536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>
              <a:off x="3006720" y="442908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Text Box 22"/>
            <p:cNvSpPr/>
            <p:nvPr/>
          </p:nvSpPr>
          <p:spPr>
            <a:xfrm>
              <a:off x="-309600" y="4978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5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Rectangle 24"/>
          <p:cNvSpPr/>
          <p:nvPr/>
        </p:nvSpPr>
        <p:spPr>
          <a:xfrm>
            <a:off x="4038480" y="1216080"/>
            <a:ext cx="49183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AutoShape 29"/>
          <p:cNvSpPr/>
          <p:nvPr/>
        </p:nvSpPr>
        <p:spPr>
          <a:xfrm>
            <a:off x="4267080" y="1512720"/>
            <a:ext cx="2057400" cy="696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stance variable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ed in memory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AutoShape 30"/>
          <p:cNvSpPr/>
          <p:nvPr/>
        </p:nvSpPr>
        <p:spPr>
          <a:xfrm>
            <a:off x="4267080" y="24382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bject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d with initial st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AutoShape 31"/>
          <p:cNvSpPr/>
          <p:nvPr/>
        </p:nvSpPr>
        <p:spPr>
          <a:xfrm>
            <a:off x="4343400" y="35053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C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ference of the object created in B  is assigned to the variable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AutoShape 48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7043760" y="36608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4" name="Group 51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05" name="Rectangle 52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6" name="Rectangle 53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7" name="Rectangle 54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08" name="Rectangle 55"/>
          <p:cNvSpPr/>
          <p:nvPr/>
        </p:nvSpPr>
        <p:spPr>
          <a:xfrm>
            <a:off x="7327440" y="36608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9" name="Group 56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10" name="Rectangle 57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1" name="Rectangle 58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Rectangle 59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13" name="Freeform 73"/>
          <p:cNvSpPr/>
          <p:nvPr/>
        </p:nvSpPr>
        <p:spPr>
          <a:xfrm>
            <a:off x="7656480" y="3843360"/>
            <a:ext cx="192240" cy="817560"/>
          </a:xfrm>
          <a:custGeom>
            <a:avLst/>
            <a:gdLst>
              <a:gd name="textAreaLeft" fmla="*/ 0 w 192240"/>
              <a:gd name="textAreaRight" fmla="*/ 192600 w 1922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21" h="515">
                <a:moveTo>
                  <a:pt x="121" y="0"/>
                </a:moveTo>
                <a:lnTo>
                  <a:pt x="70" y="63"/>
                </a:lnTo>
                <a:lnTo>
                  <a:pt x="33" y="126"/>
                </a:lnTo>
                <a:lnTo>
                  <a:pt x="9" y="191"/>
                </a:lnTo>
                <a:lnTo>
                  <a:pt x="0" y="255"/>
                </a:lnTo>
                <a:lnTo>
                  <a:pt x="4" y="319"/>
                </a:lnTo>
                <a:lnTo>
                  <a:pt x="21" y="384"/>
                </a:lnTo>
                <a:lnTo>
                  <a:pt x="53" y="449"/>
                </a:lnTo>
                <a:lnTo>
                  <a:pt x="98" y="515"/>
                </a:lnTo>
              </a:path>
            </a:pathLst>
          </a:custGeom>
          <a:noFill/>
          <a:ln cap="rnd" w="324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Freeform 74"/>
          <p:cNvSpPr/>
          <p:nvPr/>
        </p:nvSpPr>
        <p:spPr>
          <a:xfrm>
            <a:off x="7781760" y="463392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26"/>
                </a:moveTo>
                <a:lnTo>
                  <a:pt x="42" y="44"/>
                </a:lnTo>
                <a:lnTo>
                  <a:pt x="31" y="0"/>
                </a:lnTo>
                <a:lnTo>
                  <a:pt x="0" y="26"/>
                </a:lnTo>
                <a:close/>
              </a:path>
            </a:pathLst>
          </a:custGeom>
          <a:solidFill>
            <a:srgbClr val="467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5" name="Group 79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16" name="AutoShape 33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7" name="Rectangle 34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Rectangle 36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Rectangle 37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Rectangle 38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Rectangle 39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Rectangle 41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0" name="Text Box 76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32" name="Group 80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33" name="AutoShape 81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5" name="Rectangle 8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6" name="Rectangle 84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7" name="Rectangle 85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8" name="Rectangle 8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Rectangle 87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Rectangle 89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Rectangle 9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Rectangle 91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Rectangle 9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Rectangle 93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Text Box 95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Text Box 96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20F0E2A-0F21-45E3-97EC-B5C96625B7A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Class with Multiple Constructor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152280" y="1143000"/>
            <a:ext cx="426744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247680" y="1170000"/>
            <a:ext cx="4248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bas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maquam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0; maquam =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, int b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a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!= 0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b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419040" y="4648320"/>
            <a:ext cx="3314880" cy="137160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538920" y="4903920"/>
            <a:ext cx="298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new Kasree(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y   = new Kasree(4, 3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556200" y="4751280"/>
            <a:ext cx="17658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 , y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9" name="Group 19"/>
          <p:cNvGrpSpPr/>
          <p:nvPr/>
        </p:nvGrpSpPr>
        <p:grpSpPr>
          <a:xfrm>
            <a:off x="-309600" y="4748040"/>
            <a:ext cx="3753000" cy="885600"/>
            <a:chOff x="-309600" y="4748040"/>
            <a:chExt cx="3753000" cy="885600"/>
          </a:xfrm>
        </p:grpSpPr>
        <p:sp>
          <p:nvSpPr>
            <p:cNvPr id="660" name="Line 20"/>
            <p:cNvSpPr/>
            <p:nvPr/>
          </p:nvSpPr>
          <p:spPr>
            <a:xfrm flipH="1">
              <a:off x="2320560" y="495432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1" name="Oval 21"/>
            <p:cNvSpPr/>
            <p:nvPr/>
          </p:nvSpPr>
          <p:spPr>
            <a:xfrm>
              <a:off x="3006720" y="474804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Text Box 22"/>
            <p:cNvSpPr/>
            <p:nvPr/>
          </p:nvSpPr>
          <p:spPr>
            <a:xfrm>
              <a:off x="-309600" y="52970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63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Rectangle 24"/>
          <p:cNvSpPr/>
          <p:nvPr/>
        </p:nvSpPr>
        <p:spPr>
          <a:xfrm>
            <a:off x="4724280" y="1216080"/>
            <a:ext cx="42325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Rectangle 25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Rectangle 26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AutoShape 28"/>
          <p:cNvSpPr/>
          <p:nvPr/>
        </p:nvSpPr>
        <p:spPr>
          <a:xfrm>
            <a:off x="4952880" y="14479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no-parameter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AutoShape 30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69" name="Group 44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70" name="AutoShape 45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Rectangle 46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Rectangle 47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3" name="Rectangle 48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4" name="Rectangle 49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5" name="Rectangle 50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6" name="Rectangle 51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7" name="Rectangle 52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8" name="Rectangle 53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9" name="Rectangle 54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0" name="Rectangle 55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1" name="Rectangle 56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2" name="Rectangle 57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3" name="Rectangle 58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4" name="Text Box 59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Text Box 60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86" name="Group 61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87" name="AutoShape 62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8" name="Rectangle 6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9" name="Rectangle 64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0" name="Rectangle 65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1" name="Rectangle 6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Rectangle 67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Rectangle 68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Rectangle 69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5" name="Rectangle 7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6" name="Rectangle 71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7" name="Rectangle 7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8" name="Rectangle 73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9" name="Rectangle 74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0" name="Rectangle 75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1" name="Text Box 76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2" name="Text Box 77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703" name="Group 78"/>
          <p:cNvGrpSpPr/>
          <p:nvPr/>
        </p:nvGrpSpPr>
        <p:grpSpPr>
          <a:xfrm>
            <a:off x="57240" y="5181480"/>
            <a:ext cx="3752280" cy="885600"/>
            <a:chOff x="57240" y="5181480"/>
            <a:chExt cx="3752280" cy="885600"/>
          </a:xfrm>
        </p:grpSpPr>
        <p:sp>
          <p:nvSpPr>
            <p:cNvPr id="704" name="Line 79"/>
            <p:cNvSpPr/>
            <p:nvPr/>
          </p:nvSpPr>
          <p:spPr>
            <a:xfrm flipH="1">
              <a:off x="2687400" y="5387760"/>
              <a:ext cx="69192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5" name="Oval 80"/>
            <p:cNvSpPr/>
            <p:nvPr/>
          </p:nvSpPr>
          <p:spPr>
            <a:xfrm>
              <a:off x="3373200" y="5181480"/>
              <a:ext cx="43632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6" name="Text Box 81"/>
            <p:cNvSpPr/>
            <p:nvPr/>
          </p:nvSpPr>
          <p:spPr>
            <a:xfrm>
              <a:off x="57240" y="5730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707" name="AutoShape 83"/>
          <p:cNvCxnSpPr>
            <a:endCxn id="672" idx="0"/>
          </p:cNvCxnSpPr>
          <p:nvPr/>
        </p:nvCxnSpPr>
        <p:spPr>
          <a:xfrm rot="5400000">
            <a:off x="7771680" y="1768320"/>
            <a:ext cx="550080" cy="518400"/>
          </a:xfrm>
          <a:prstGeom prst="curvedConnector5">
            <a:avLst>
              <a:gd name="adj1" fmla="val 49967"/>
              <a:gd name="adj2" fmla="val 49965"/>
              <a:gd name="adj3" fmla="val 499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08" name="Rectangle 86"/>
          <p:cNvSpPr/>
          <p:nvPr/>
        </p:nvSpPr>
        <p:spPr>
          <a:xfrm>
            <a:off x="7468920" y="35352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Rectangle 87"/>
          <p:cNvSpPr/>
          <p:nvPr/>
        </p:nvSpPr>
        <p:spPr>
          <a:xfrm>
            <a:off x="7778880" y="361944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710" name="AutoShape 89"/>
          <p:cNvCxnSpPr>
            <a:endCxn id="689" idx="0"/>
          </p:cNvCxnSpPr>
          <p:nvPr/>
        </p:nvCxnSpPr>
        <p:spPr>
          <a:xfrm rot="5400000">
            <a:off x="7560720" y="4036680"/>
            <a:ext cx="896040" cy="44208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11" name="AutoShape 90"/>
          <p:cNvSpPr/>
          <p:nvPr/>
        </p:nvSpPr>
        <p:spPr>
          <a:xfrm>
            <a:off x="4952880" y="35053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parameters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EA5511C-4975-49F8-92E8-9072AC523AB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wo of the components of a method declaration comprise the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method's nam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parameter typ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ignature of the constructors declared above 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int, in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methods allows implementing different versions of the same method with different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is means that methods within a class can have the same name if they have different parameter list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F721602-1771-4701-BCF9-A5054656AE1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verloaded methods are differentiated b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number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type of the arguments passed into the method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You cannot declare more than one method with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ame nam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same number and type of parameter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iler does not consider return type when differentiating method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 declaration of two methods having the same signature even if they have a different return typ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2D0921A-191D-4558-A01C-EDBBD10C404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thod declaration is composed o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hea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b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390600" y="3657600"/>
            <a:ext cx="8753400" cy="1447560"/>
            <a:chOff x="390600" y="3657600"/>
            <a:chExt cx="8753400" cy="1447560"/>
          </a:xfrm>
        </p:grpSpPr>
        <p:sp>
          <p:nvSpPr>
            <p:cNvPr id="273" name="Rectangle 5"/>
            <p:cNvSpPr/>
            <p:nvPr/>
          </p:nvSpPr>
          <p:spPr>
            <a:xfrm>
              <a:off x="390600" y="3657600"/>
              <a:ext cx="853272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480960" y="3841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ethod header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1" lang="en-US" sz="18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C59437A-87A6-4996-85F5-CC96B9C98B8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2600" y="462276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ublic    void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setOwnerName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(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String  name 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ownerName = name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6477120" y="5105520"/>
            <a:ext cx="16254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 bod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1295280" y="5029200"/>
            <a:ext cx="4029120" cy="571680"/>
          </a:xfrm>
          <a:prstGeom prst="roundRect">
            <a:avLst>
              <a:gd name="adj" fmla="val 16667"/>
            </a:avLst>
          </a:prstGeom>
          <a:noFill/>
          <a:ln cap="rnd" w="381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5562720" y="4572000"/>
            <a:ext cx="1736640" cy="0"/>
          </a:xfrm>
          <a:prstGeom prst="line">
            <a:avLst/>
          </a:prstGeom>
          <a:ln cap="rnd" w="5724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14"/>
          <p:cNvSpPr/>
          <p:nvPr/>
        </p:nvSpPr>
        <p:spPr>
          <a:xfrm flipV="1">
            <a:off x="5410080" y="5257440"/>
            <a:ext cx="1067040" cy="126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4" name="Group 19"/>
          <p:cNvGrpSpPr/>
          <p:nvPr/>
        </p:nvGrpSpPr>
        <p:grpSpPr>
          <a:xfrm>
            <a:off x="228600" y="3502080"/>
            <a:ext cx="1155600" cy="1025640"/>
            <a:chOff x="228600" y="3502080"/>
            <a:chExt cx="1155600" cy="1025640"/>
          </a:xfrm>
        </p:grpSpPr>
        <p:sp>
          <p:nvSpPr>
            <p:cNvPr id="285" name="Line 7"/>
            <p:cNvSpPr/>
            <p:nvPr/>
          </p:nvSpPr>
          <p:spPr>
            <a:xfrm flipV="1">
              <a:off x="101448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228600" y="3502080"/>
              <a:ext cx="115560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ifier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1676520" y="3502080"/>
            <a:ext cx="1523880" cy="1025640"/>
            <a:chOff x="1676520" y="3502080"/>
            <a:chExt cx="1523880" cy="1025640"/>
          </a:xfrm>
        </p:grpSpPr>
        <p:sp>
          <p:nvSpPr>
            <p:cNvPr id="288" name="Line 10"/>
            <p:cNvSpPr/>
            <p:nvPr/>
          </p:nvSpPr>
          <p:spPr>
            <a:xfrm flipV="1">
              <a:off x="23414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AutoShape 16"/>
            <p:cNvSpPr/>
            <p:nvPr/>
          </p:nvSpPr>
          <p:spPr>
            <a:xfrm>
              <a:off x="167652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turn Typ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3581280" y="3502080"/>
            <a:ext cx="1625760" cy="1025640"/>
            <a:chOff x="3581280" y="3502080"/>
            <a:chExt cx="1625760" cy="1025640"/>
          </a:xfrm>
        </p:grpSpPr>
        <p:sp>
          <p:nvSpPr>
            <p:cNvPr id="291" name="Line 11"/>
            <p:cNvSpPr/>
            <p:nvPr/>
          </p:nvSpPr>
          <p:spPr>
            <a:xfrm flipV="1">
              <a:off x="43052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AutoShape 17"/>
            <p:cNvSpPr/>
            <p:nvPr/>
          </p:nvSpPr>
          <p:spPr>
            <a:xfrm>
              <a:off x="3581280" y="3502080"/>
              <a:ext cx="162576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thod Nam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38680" y="3502080"/>
            <a:ext cx="1523880" cy="1025280"/>
            <a:chOff x="5638680" y="3502080"/>
            <a:chExt cx="1523880" cy="1025280"/>
          </a:xfrm>
        </p:grpSpPr>
        <p:sp>
          <p:nvSpPr>
            <p:cNvPr id="294" name="Line 12"/>
            <p:cNvSpPr/>
            <p:nvPr/>
          </p:nvSpPr>
          <p:spPr>
            <a:xfrm flipV="1">
              <a:off x="6432480" y="3909960"/>
              <a:ext cx="0" cy="617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AutoShape 18"/>
            <p:cNvSpPr/>
            <p:nvPr/>
          </p:nvSpPr>
          <p:spPr>
            <a:xfrm>
              <a:off x="563868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meters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304920" y="1295280"/>
            <a:ext cx="8663040" cy="1447920"/>
            <a:chOff x="304920" y="1295280"/>
            <a:chExt cx="8663040" cy="1447920"/>
          </a:xfrm>
        </p:grpSpPr>
        <p:sp>
          <p:nvSpPr>
            <p:cNvPr id="297" name="Rectangle 24"/>
            <p:cNvSpPr/>
            <p:nvPr/>
          </p:nvSpPr>
          <p:spPr>
            <a:xfrm>
              <a:off x="390600" y="129528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>
              <a:off x="304920" y="1447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return type&gt;  &lt;method name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&lt;parameters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4CE9801-A32B-4C56-8AD8-DC5B8CBEE18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Heade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modifi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the way the method is access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return ty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dicates the type of value (if any) the method return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returns a value, the type of the value must be declar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ed values can be used by the calling method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y method can return at most one valu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turns nothin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the keyword </a:t>
            </a:r>
            <a:r>
              <a:rPr b="1" i="1" lang="en-US" sz="1800" spc="-1" strike="noStrike">
                <a:solidFill>
                  <a:srgbClr val="9900cc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must be used as th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return typ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a list of variables whose values will be passed to the method for use by the metho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y are optional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method that does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s declared with an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empty set of parameters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ide the parentheses.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305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odifiers&gt;  &lt;return type&gt;  &lt;method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84AA301-03EF-45E8-901F-B890746B651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ypes of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3 different criteria defining types of method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ifiers: this criteria is also composed of 3 sub-crite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sibility: public or private (or protected in csc 113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ared between all instances or not: class member (static) or instance meth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verride able or not (final): to be discussed in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type: method with or without (void)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: with or without paramet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38B22F4-82D6-40CD-A964-E6DA9DA0CB3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Methods with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No-Parameters and No-Return value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85800" y="1676520"/>
            <a:ext cx="807732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816200"/>
            <a:ext cx="777240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mport java.util.Scanner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canner input = new Scanner(System.in); //Class att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Method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enterDataFromKeyBoard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student nam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entName = input.next(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course cod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urseCode = input.next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displayData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student name is: ” + studentNam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the course code is: ”+ courseCod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BE14890-C4BB-4E74-954A-FE21009709F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ssage Passing Principle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r Method Invocation</a:t>
            </a:r>
            <a:br>
              <a:rPr sz="4000"/>
            </a:b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ssage passing is the principle that allows objects to communicate by exchanging messag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a message to an object means ordering this latter to execute a specific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messages to objects is also known as method invoc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5:15Z</dcterms:modified>
  <cp:revision>1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