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4774-E1DC-4E97-9AFD-DC4F6D3E2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C52F-2C40-4131-AED5-50A06F3D572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6175-9812-4633-AA69-74236AA24C6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85A6-A350-451B-8D8A-274C366A1C1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ollowing calls are vali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 i, k, m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 = 12; k = 10; m = 14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mo.compute(3, 4, 5.5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mo.compute(i, k, m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mo.compute(m, 20, 40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ollowing calls are not vali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mo.compute(2, 4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mo.compute(14.0, 2, 3.0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EDCD-A9A8-443E-8500-070CD0F723F1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9A54-24B1-40E8-9D74-BB3F825503C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BCB1-106B-48B9-A29C-A93D79ADAD1E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B50B-E7C8-4D5F-87E0-3D6A3F468A2A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ADF7-E496-436B-8951-9E96F3B95D0C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2F03-2B61-49E9-A8F9-78E07D33387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B7C8-5EEE-4988-B8EB-5841D22C2FD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F553-04EA-46DD-AED0-A7596291C82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9F22-9ECB-411F-9188-E3207A7F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274E-FBE3-480F-8933-BC59E831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5AB-4838-4B8C-ABD6-A369C358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422-4379-4978-B09E-390D6A0D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FA96-2907-4097-9124-5DF4E6B6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F491-1396-4993-8042-930479F4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64E1-70E4-4674-B9AF-A1ECCB91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F505-B257-4491-8387-D3BBF3DE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451B-D4B6-4008-BF11-8B4DACE4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0F00-6F6C-44D3-8F87-42BC09E0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044A-F1A9-4F0A-B0BA-9CDBCB82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BC5-9976-436B-855C-8BB09630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B645-418C-4714-80DD-18A8866B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7D3B-73A7-4994-ADE8-2A20987A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0F85-8FC4-43AD-AE05-A470E114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2E10-D2C5-4366-8080-74C3D5EB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A409-474D-4560-B8C4-AB1DF752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D15-2FEA-4AE9-88ED-BCA17919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19E-31D1-43D6-BADF-BBC55102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C2E-0FA3-41F7-9846-E9DD4F79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FB27-5446-4133-8CC8-E57FA572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135D-248E-40BE-A5E2-19FDBCB2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389-9C1E-42C4-B623-652D7659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6A7-2DFF-4904-B30C-39A1AB2C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3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4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5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6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7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8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9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0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1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2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3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4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5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6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7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8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19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0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1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2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3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4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5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6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6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6" name="Group 57"/>
            <p:cNvGrpSpPr/>
            <p:nvPr/>
          </p:nvGrpSpPr>
          <p:grpSpPr>
            <a:xfrm>
              <a:off x="3276720" y="6324480"/>
              <a:ext cx="3047760" cy="457200"/>
              <a:chOff x="3276720" y="6324480"/>
              <a:chExt cx="3047760" cy="457200"/>
            </a:xfrm>
          </p:grpSpPr>
          <p:sp>
            <p:nvSpPr>
              <p:cNvPr id="57" name="Rectangle 58"/>
              <p:cNvSpPr/>
              <p:nvPr/>
            </p:nvSpPr>
            <p:spPr>
              <a:xfrm>
                <a:off x="3352680" y="6400800"/>
                <a:ext cx="2895840" cy="304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8" name="Line 59"/>
              <p:cNvSpPr/>
              <p:nvPr/>
            </p:nvSpPr>
            <p:spPr>
              <a:xfrm>
                <a:off x="3276720" y="640080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0"/>
              <p:cNvSpPr/>
              <p:nvPr/>
            </p:nvSpPr>
            <p:spPr>
              <a:xfrm>
                <a:off x="3276720" y="670572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Line 61"/>
              <p:cNvSpPr/>
              <p:nvPr/>
            </p:nvSpPr>
            <p:spPr>
              <a:xfrm>
                <a:off x="3352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1" name="Line 62"/>
              <p:cNvSpPr/>
              <p:nvPr/>
            </p:nvSpPr>
            <p:spPr>
              <a:xfrm>
                <a:off x="6248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2" name="Group 63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63" name="Rectangle 64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4" name="Line 65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5" name="Line 66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6" name="Line 67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" name="Line 68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8" name="Group 69"/>
            <p:cNvGrpSpPr/>
            <p:nvPr/>
          </p:nvGrpSpPr>
          <p:grpSpPr>
            <a:xfrm>
              <a:off x="990720" y="6324480"/>
              <a:ext cx="1447560" cy="457200"/>
              <a:chOff x="990720" y="6324480"/>
              <a:chExt cx="1447560" cy="457200"/>
            </a:xfrm>
          </p:grpSpPr>
          <p:sp>
            <p:nvSpPr>
              <p:cNvPr id="69" name="Rectangle 70"/>
              <p:cNvSpPr/>
              <p:nvPr/>
            </p:nvSpPr>
            <p:spPr>
              <a:xfrm>
                <a:off x="1066680" y="6400800"/>
                <a:ext cx="1295640" cy="304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0" name="Line 71"/>
              <p:cNvSpPr/>
              <p:nvPr/>
            </p:nvSpPr>
            <p:spPr>
              <a:xfrm>
                <a:off x="9907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1" name="Line 72"/>
              <p:cNvSpPr/>
              <p:nvPr/>
            </p:nvSpPr>
            <p:spPr>
              <a:xfrm>
                <a:off x="9907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2" name="Line 73"/>
              <p:cNvSpPr/>
              <p:nvPr/>
            </p:nvSpPr>
            <p:spPr>
              <a:xfrm>
                <a:off x="1066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3" name="Line 74"/>
              <p:cNvSpPr/>
              <p:nvPr/>
            </p:nvSpPr>
            <p:spPr>
              <a:xfrm>
                <a:off x="23623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74" name="Line 80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5" name="Group 81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6" name="Line 82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" name="Line 83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8" name="Arc 84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age </a:t>
            </a:r>
            <a:fld id="{6FBD7416-D799-4BC5-B22F-B13B26859266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1" name="Group 90"/>
            <p:cNvGrpSpPr/>
            <p:nvPr/>
          </p:nvGrpSpPr>
          <p:grpSpPr>
            <a:xfrm>
              <a:off x="1104840" y="3141720"/>
              <a:ext cx="4971960" cy="514440"/>
              <a:chOff x="1104840" y="3141720"/>
              <a:chExt cx="4971960" cy="514440"/>
            </a:xfrm>
          </p:grpSpPr>
          <p:sp>
            <p:nvSpPr>
              <p:cNvPr id="122" name="Rectangle 86"/>
              <p:cNvSpPr/>
              <p:nvPr/>
            </p:nvSpPr>
            <p:spPr>
              <a:xfrm>
                <a:off x="1104840" y="3141720"/>
                <a:ext cx="1752840" cy="4572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3" name="Rectangle 87"/>
              <p:cNvSpPr/>
              <p:nvPr/>
            </p:nvSpPr>
            <p:spPr>
              <a:xfrm>
                <a:off x="1104840" y="3503880"/>
                <a:ext cx="228600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4" name="Rectangle 88"/>
              <p:cNvSpPr/>
              <p:nvPr/>
            </p:nvSpPr>
            <p:spPr>
              <a:xfrm>
                <a:off x="2724120" y="3418200"/>
                <a:ext cx="3352680" cy="17136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5" name="Rectangle 89"/>
              <p:cNvSpPr/>
              <p:nvPr/>
            </p:nvSpPr>
            <p:spPr>
              <a:xfrm>
                <a:off x="2719440" y="3237120"/>
                <a:ext cx="2971800" cy="2286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26" name="Rectangle 56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27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8" name="Group 3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9" name="Line 4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5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6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7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8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9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1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2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3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4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5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6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7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8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9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20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21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22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23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24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25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1" name="Group 26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52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7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8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9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0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1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2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3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4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5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6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7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8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9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0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1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2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3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4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5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6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7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8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9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0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81" name="Group 63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182" name="Rectangle 64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3" name="Line 65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4" name="Line 66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5" name="Line 67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6" name="Line 68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87" name="Line 80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88" name="Group 106"/>
            <p:cNvGrpSpPr/>
            <p:nvPr/>
          </p:nvGrpSpPr>
          <p:grpSpPr>
            <a:xfrm>
              <a:off x="414360" y="3114720"/>
              <a:ext cx="5662440" cy="2371680"/>
              <a:chOff x="414360" y="3114720"/>
              <a:chExt cx="5662440" cy="2371680"/>
            </a:xfrm>
          </p:grpSpPr>
          <p:sp>
            <p:nvSpPr>
              <p:cNvPr id="189" name="Line 82"/>
              <p:cNvSpPr/>
              <p:nvPr/>
            </p:nvSpPr>
            <p:spPr>
              <a:xfrm flipH="1">
                <a:off x="414360" y="3232440"/>
                <a:ext cx="243360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0" name="Line 83"/>
              <p:cNvSpPr/>
              <p:nvPr/>
            </p:nvSpPr>
            <p:spPr>
              <a:xfrm>
                <a:off x="608040" y="3117960"/>
                <a:ext cx="0" cy="2368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1" name="Arc 84"/>
              <p:cNvSpPr/>
              <p:nvPr/>
            </p:nvSpPr>
            <p:spPr>
              <a:xfrm flipH="1" rot="16200000">
                <a:off x="480240" y="31140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2" name="Arc 91"/>
              <p:cNvSpPr/>
              <p:nvPr/>
            </p:nvSpPr>
            <p:spPr>
              <a:xfrm>
                <a:off x="1098720" y="3143520"/>
                <a:ext cx="423720" cy="331560"/>
              </a:xfrm>
              <a:custGeom>
                <a:avLst/>
                <a:gdLst>
                  <a:gd name="textAreaLeft" fmla="*/ 0 w 423720"/>
                  <a:gd name="textAreaRight" fmla="*/ 424080 w 42372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fill="none" w="38387" h="30163">
                    <a:moveTo>
                      <a:pt x="36617" y="-1"/>
                    </a:moveTo>
                    <a:cubicBezTo>
                      <a:pt x="37784" y="2703"/>
                      <a:pt x="38387" y="5617"/>
                      <a:pt x="38387" y="8563"/>
                    </a:cubicBezTo>
                    <a:cubicBezTo>
                      <a:pt x="38387" y="20492"/>
                      <a:pt x="28716" y="30163"/>
                      <a:pt x="16787" y="30163"/>
                    </a:cubicBezTo>
                    <a:cubicBezTo>
                      <a:pt x="10269" y="30163"/>
                      <a:pt x="4101" y="27220"/>
                      <a:pt x="0" y="22155"/>
                    </a:cubicBezTo>
                  </a:path>
                  <a:path stroke="0" w="38387" h="30163">
                    <a:moveTo>
                      <a:pt x="36617" y="-1"/>
                    </a:moveTo>
                    <a:cubicBezTo>
                      <a:pt x="37784" y="2703"/>
                      <a:pt x="38387" y="5617"/>
                      <a:pt x="38387" y="8563"/>
                    </a:cubicBezTo>
                    <a:cubicBezTo>
                      <a:pt x="38387" y="20492"/>
                      <a:pt x="28716" y="30163"/>
                      <a:pt x="16787" y="30163"/>
                    </a:cubicBezTo>
                    <a:cubicBezTo>
                      <a:pt x="10269" y="30163"/>
                      <a:pt x="4101" y="27220"/>
                      <a:pt x="0" y="22155"/>
                    </a:cubicBezTo>
                    <a:lnTo>
                      <a:pt x="16787" y="8563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3" name="Arc 92"/>
              <p:cNvSpPr/>
              <p:nvPr/>
            </p:nvSpPr>
            <p:spPr>
              <a:xfrm flipV="1">
                <a:off x="1324080" y="3140280"/>
                <a:ext cx="457200" cy="5112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360 h 511200"/>
                  <a:gd name="textAreaBottom" fmla="*/ 511920 h 511200"/>
                </a:gdLst>
                <a:ahLst/>
                <a:rect l="textAreaLeft" t="textAreaTop" r="textAreaRight" b="textAreaBottom"/>
                <a:pathLst>
                  <a:path fill="none" w="21600" h="24179">
                    <a:moveTo>
                      <a:pt x="10995" y="24178"/>
                    </a:moveTo>
                    <a:cubicBezTo>
                      <a:pt x="4202" y="20350"/>
                      <a:pt x="0" y="13158"/>
                      <a:pt x="0" y="5361"/>
                    </a:cubicBezTo>
                    <a:cubicBezTo>
                      <a:pt x="-1" y="3552"/>
                      <a:pt x="227" y="1751"/>
                      <a:pt x="675" y="-1"/>
                    </a:cubicBezTo>
                  </a:path>
                  <a:path stroke="0" w="21600" h="24179">
                    <a:moveTo>
                      <a:pt x="10995" y="24178"/>
                    </a:moveTo>
                    <a:cubicBezTo>
                      <a:pt x="4202" y="20350"/>
                      <a:pt x="0" y="13158"/>
                      <a:pt x="0" y="5361"/>
                    </a:cubicBezTo>
                    <a:cubicBezTo>
                      <a:pt x="-1" y="3552"/>
                      <a:pt x="227" y="1751"/>
                      <a:pt x="675" y="-1"/>
                    </a:cubicBezTo>
                    <a:lnTo>
                      <a:pt x="21600" y="5361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4" name="Arc 93"/>
              <p:cNvSpPr/>
              <p:nvPr/>
            </p:nvSpPr>
            <p:spPr>
              <a:xfrm flipV="1">
                <a:off x="1784520" y="3131640"/>
                <a:ext cx="457200" cy="5223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fill="none" w="21600" h="24653">
                    <a:moveTo>
                      <a:pt x="21029" y="-1"/>
                    </a:moveTo>
                    <a:cubicBezTo>
                      <a:pt x="21408" y="1616"/>
                      <a:pt x="21600" y="3272"/>
                      <a:pt x="21600" y="4933"/>
                    </a:cubicBezTo>
                    <a:cubicBezTo>
                      <a:pt x="21600" y="13452"/>
                      <a:pt x="16591" y="21176"/>
                      <a:pt x="8813" y="24653"/>
                    </a:cubicBezTo>
                  </a:path>
                  <a:path stroke="0" w="21600" h="24653">
                    <a:moveTo>
                      <a:pt x="21029" y="-1"/>
                    </a:moveTo>
                    <a:cubicBezTo>
                      <a:pt x="21408" y="1616"/>
                      <a:pt x="21600" y="3272"/>
                      <a:pt x="21600" y="4933"/>
                    </a:cubicBezTo>
                    <a:cubicBezTo>
                      <a:pt x="21600" y="13452"/>
                      <a:pt x="16591" y="21176"/>
                      <a:pt x="8813" y="24653"/>
                    </a:cubicBezTo>
                    <a:lnTo>
                      <a:pt x="0" y="4933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5" name="Line 94"/>
              <p:cNvSpPr/>
              <p:nvPr/>
            </p:nvSpPr>
            <p:spPr>
              <a:xfrm flipV="1">
                <a:off x="1143000" y="3137040"/>
                <a:ext cx="662040" cy="519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6" name="Line 95"/>
              <p:cNvSpPr/>
              <p:nvPr/>
            </p:nvSpPr>
            <p:spPr>
              <a:xfrm>
                <a:off x="1224000" y="3137040"/>
                <a:ext cx="476280" cy="514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7" name="Arc 96"/>
              <p:cNvSpPr/>
              <p:nvPr/>
            </p:nvSpPr>
            <p:spPr>
              <a:xfrm flipV="1">
                <a:off x="4299120" y="3236400"/>
                <a:ext cx="1153800" cy="982440"/>
              </a:xfrm>
              <a:custGeom>
                <a:avLst/>
                <a:gdLst>
                  <a:gd name="textAreaLeft" fmla="*/ 0 w 1153800"/>
                  <a:gd name="textAreaRight" fmla="*/ 1154160 w 1153800"/>
                  <a:gd name="textAreaTop" fmla="*/ -360 h 982440"/>
                  <a:gd name="textAreaBottom" fmla="*/ 982440 h 982440"/>
                </a:gdLst>
                <a:ahLst/>
                <a:rect l="textAreaLeft" t="textAreaTop" r="textAreaRight" b="textAreaBottom"/>
                <a:pathLst>
                  <a:path fill="none" w="18917" h="16117">
                    <a:moveTo>
                      <a:pt x="4536" y="16116"/>
                    </a:moveTo>
                    <a:cubicBezTo>
                      <a:pt x="2713" y="14490"/>
                      <a:pt x="1179" y="12565"/>
                      <a:pt x="-1" y="10426"/>
                    </a:cubicBezTo>
                  </a:path>
                  <a:path stroke="0" w="18917" h="16117">
                    <a:moveTo>
                      <a:pt x="4536" y="16116"/>
                    </a:moveTo>
                    <a:cubicBezTo>
                      <a:pt x="2713" y="14490"/>
                      <a:pt x="1179" y="12565"/>
                      <a:pt x="-1" y="10426"/>
                    </a:cubicBezTo>
                    <a:lnTo>
                      <a:pt x="18917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8" name="Arc 97"/>
              <p:cNvSpPr/>
              <p:nvPr/>
            </p:nvSpPr>
            <p:spPr>
              <a:xfrm>
                <a:off x="4883040" y="3186360"/>
                <a:ext cx="674640" cy="34128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fill="none" w="42771" h="21600">
                    <a:moveTo>
                      <a:pt x="42771" y="3334"/>
                    </a:moveTo>
                    <a:cubicBezTo>
                      <a:pt x="41128" y="13848"/>
                      <a:pt x="32072" y="21599"/>
                      <a:pt x="21430" y="21600"/>
                    </a:cubicBezTo>
                    <a:cubicBezTo>
                      <a:pt x="10545" y="21600"/>
                      <a:pt x="1361" y="13501"/>
                      <a:pt x="-1" y="2703"/>
                    </a:cubicBezTo>
                  </a:path>
                  <a:path stroke="0" w="42771" h="21600">
                    <a:moveTo>
                      <a:pt x="42771" y="3334"/>
                    </a:moveTo>
                    <a:cubicBezTo>
                      <a:pt x="41128" y="13848"/>
                      <a:pt x="32072" y="21599"/>
                      <a:pt x="21430" y="21600"/>
                    </a:cubicBezTo>
                    <a:cubicBezTo>
                      <a:pt x="10545" y="21600"/>
                      <a:pt x="1361" y="13501"/>
                      <a:pt x="-1" y="2703"/>
                    </a:cubicBezTo>
                    <a:lnTo>
                      <a:pt x="21430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9" name="Arc 98"/>
              <p:cNvSpPr/>
              <p:nvPr/>
            </p:nvSpPr>
            <p:spPr>
              <a:xfrm flipH="1" flipV="1">
                <a:off x="5462640" y="3368160"/>
                <a:ext cx="457200" cy="228600"/>
              </a:xfrm>
              <a:custGeom>
                <a:avLst/>
                <a:gdLst>
                  <a:gd name="textAreaLeft" fmla="*/ 360 w 457200"/>
                  <a:gd name="textAreaRight" fmla="*/ 457920 w 457200"/>
                  <a:gd name="textAreaTop" fmla="*/ -360 h 228600"/>
                  <a:gd name="textAreaBottom" fmla="*/ 228600 h 228600"/>
                </a:gdLst>
                <a:ahLst/>
                <a:rect l="textAreaLeft" t="textAreaTop" r="textAreaRight" b="textAreaBottom"/>
                <a:pathLst>
                  <a:path fill="none" w="43129" h="21600">
                    <a:moveTo>
                      <a:pt x="43128" y="1347"/>
                    </a:moveTo>
                    <a:cubicBezTo>
                      <a:pt x="42417" y="12731"/>
                      <a:pt x="32976" y="21599"/>
                      <a:pt x="21571" y="21600"/>
                    </a:cubicBezTo>
                    <a:cubicBezTo>
                      <a:pt x="10074" y="21600"/>
                      <a:pt x="593" y="12595"/>
                      <a:pt x="-1" y="1115"/>
                    </a:cubicBezTo>
                  </a:path>
                  <a:path stroke="0" w="43129" h="21600">
                    <a:moveTo>
                      <a:pt x="43128" y="1347"/>
                    </a:moveTo>
                    <a:cubicBezTo>
                      <a:pt x="42417" y="12731"/>
                      <a:pt x="32976" y="21599"/>
                      <a:pt x="21571" y="21600"/>
                    </a:cubicBezTo>
                    <a:cubicBezTo>
                      <a:pt x="10074" y="21600"/>
                      <a:pt x="593" y="12595"/>
                      <a:pt x="-1" y="1115"/>
                    </a:cubicBezTo>
                    <a:lnTo>
                      <a:pt x="21571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0" name="Arc 99"/>
              <p:cNvSpPr/>
              <p:nvPr/>
            </p:nvSpPr>
            <p:spPr>
              <a:xfrm flipH="1" flipV="1">
                <a:off x="4357800" y="3380760"/>
                <a:ext cx="318960" cy="206280"/>
              </a:xfrm>
              <a:custGeom>
                <a:avLst/>
                <a:gdLst>
                  <a:gd name="textAreaLeft" fmla="*/ 360 w 318960"/>
                  <a:gd name="textAreaRight" fmla="*/ 319680 w 318960"/>
                  <a:gd name="textAreaTop" fmla="*/ -360 h 206280"/>
                  <a:gd name="textAreaBottom" fmla="*/ 206280 h 206280"/>
                </a:gdLst>
                <a:ahLst/>
                <a:rect l="textAreaLeft" t="textAreaTop" r="textAreaRight" b="textAreaBottom"/>
                <a:pathLst>
                  <a:path fill="none" w="43200" h="28005">
                    <a:moveTo>
                      <a:pt x="42228" y="0"/>
                    </a:moveTo>
                    <a:cubicBezTo>
                      <a:pt x="42872" y="2074"/>
                      <a:pt x="43200" y="4233"/>
                      <a:pt x="43200" y="6405"/>
                    </a:cubicBezTo>
                    <a:cubicBezTo>
                      <a:pt x="43200" y="18334"/>
                      <a:pt x="33529" y="28005"/>
                      <a:pt x="21600" y="28005"/>
                    </a:cubicBezTo>
                    <a:cubicBezTo>
                      <a:pt x="9670" y="28005"/>
                      <a:pt x="0" y="18334"/>
                      <a:pt x="0" y="6405"/>
                    </a:cubicBezTo>
                    <a:cubicBezTo>
                      <a:pt x="-1" y="4481"/>
                      <a:pt x="257" y="2565"/>
                      <a:pt x="764" y="710"/>
                    </a:cubicBezTo>
                  </a:path>
                  <a:path stroke="0" w="43200" h="28005">
                    <a:moveTo>
                      <a:pt x="42228" y="0"/>
                    </a:moveTo>
                    <a:cubicBezTo>
                      <a:pt x="42872" y="2074"/>
                      <a:pt x="43200" y="4233"/>
                      <a:pt x="43200" y="6405"/>
                    </a:cubicBezTo>
                    <a:cubicBezTo>
                      <a:pt x="43200" y="18334"/>
                      <a:pt x="33529" y="28005"/>
                      <a:pt x="21600" y="28005"/>
                    </a:cubicBezTo>
                    <a:cubicBezTo>
                      <a:pt x="9670" y="28005"/>
                      <a:pt x="0" y="18334"/>
                      <a:pt x="0" y="6405"/>
                    </a:cubicBezTo>
                    <a:cubicBezTo>
                      <a:pt x="-1" y="4481"/>
                      <a:pt x="257" y="2565"/>
                      <a:pt x="764" y="710"/>
                    </a:cubicBezTo>
                    <a:lnTo>
                      <a:pt x="21600" y="640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1" name="Line 100"/>
              <p:cNvSpPr/>
              <p:nvPr/>
            </p:nvSpPr>
            <p:spPr>
              <a:xfrm>
                <a:off x="4419720" y="3246480"/>
                <a:ext cx="347400" cy="3430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2" name="Line 101"/>
              <p:cNvSpPr/>
              <p:nvPr/>
            </p:nvSpPr>
            <p:spPr>
              <a:xfrm>
                <a:off x="521028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3" name="Line 102"/>
              <p:cNvSpPr/>
              <p:nvPr/>
            </p:nvSpPr>
            <p:spPr>
              <a:xfrm flipH="1">
                <a:off x="472392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4" name="Line 103"/>
              <p:cNvSpPr/>
              <p:nvPr/>
            </p:nvSpPr>
            <p:spPr>
              <a:xfrm>
                <a:off x="5205240" y="3232440"/>
                <a:ext cx="0" cy="357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5" name="Line 104"/>
              <p:cNvSpPr/>
              <p:nvPr/>
            </p:nvSpPr>
            <p:spPr>
              <a:xfrm>
                <a:off x="5681520" y="3232440"/>
                <a:ext cx="0" cy="4712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6" name="Line 105"/>
              <p:cNvSpPr/>
              <p:nvPr/>
            </p:nvSpPr>
            <p:spPr>
              <a:xfrm>
                <a:off x="457200" y="3589560"/>
                <a:ext cx="561960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4"/>
          </p:nvPr>
        </p:nvSpPr>
        <p:spPr>
          <a:xfrm>
            <a:off x="7238880" y="6248520"/>
            <a:ext cx="133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9A4E-8E69-4F9A-9FE0-F3657A7093E3}" type="datetime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28083644-52EB-44B0-85EE-0FB5C73317BD}" type="slidenum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5257800" y="46483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Introduction to method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533520" y="251460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  <a:ea typeface="ＭＳ Ｐゴシック"/>
              </a:rPr>
              <a:t>Chapter 5: Classes and Objects in Depth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B5CED521-D23C-49E3-B787-1C9EF1643329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685800" y="3467160"/>
            <a:ext cx="792468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914400" y="5295960"/>
            <a:ext cx="6553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Method Invocation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voking a method of a given object requires using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nstance variabl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at 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refer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o this 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ot (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operator as following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ahoma"/>
              </a:rPr>
              <a:t>instanceVariable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339966"/>
                </a:solidFill>
                <a:latin typeface="Tahoma"/>
              </a:rPr>
              <a:t>methodName</a:t>
            </a: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339966"/>
                </a:solidFill>
                <a:latin typeface="Tahoma"/>
              </a:rPr>
              <a:t>arguments</a:t>
            </a: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914400" y="4610160"/>
            <a:ext cx="6553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838080" y="3543480"/>
            <a:ext cx="84582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Registration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[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s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) {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 course1, course2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1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</a:t>
            </a:r>
            <a:r>
              <a:rPr b="0" lang="en-US" sz="1400" spc="-1" strike="noStrike">
                <a:solidFill>
                  <a:srgbClr val="40458c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339966"/>
                </a:solidFill>
                <a:latin typeface="Courier New"/>
                <a:ea typeface="Courier New"/>
              </a:rPr>
              <a:t>course1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.</a:t>
            </a:r>
            <a:r>
              <a:rPr b="1" lang="en-US" sz="1400" spc="-1" strike="noStrike">
                <a:solidFill>
                  <a:srgbClr val="9900cc"/>
                </a:solidFill>
                <a:latin typeface="Courier New"/>
                <a:ea typeface="Courier New"/>
              </a:rPr>
              <a:t>enterDataFromKeyBoard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339966"/>
                </a:solidFill>
                <a:latin typeface="Courier New"/>
                <a:ea typeface="Courier New"/>
              </a:rPr>
              <a:t>course1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.</a:t>
            </a:r>
            <a:r>
              <a:rPr b="1" lang="en-US" sz="1400" spc="-1" strike="noStrike">
                <a:solidFill>
                  <a:srgbClr val="9900cc"/>
                </a:solidFill>
                <a:latin typeface="Courier New"/>
                <a:ea typeface="Courier New"/>
              </a:rPr>
              <a:t>display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 =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339966"/>
                </a:solidFill>
                <a:latin typeface="Courier New"/>
                <a:ea typeface="Courier New"/>
              </a:rPr>
              <a:t>course2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.</a:t>
            </a:r>
            <a:r>
              <a:rPr b="1" lang="en-US" sz="1400" spc="-1" strike="noStrike">
                <a:solidFill>
                  <a:srgbClr val="9900cc"/>
                </a:solidFill>
                <a:latin typeface="Courier New"/>
                <a:ea typeface="Courier New"/>
              </a:rPr>
              <a:t>enterDataFromKeyBoard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339966"/>
                </a:solidFill>
                <a:latin typeface="Courier New"/>
                <a:ea typeface="Courier New"/>
              </a:rPr>
              <a:t>course2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.</a:t>
            </a:r>
            <a:r>
              <a:rPr b="1" lang="en-US" sz="1400" spc="-1" strike="noStrike">
                <a:solidFill>
                  <a:srgbClr val="9900cc"/>
                </a:solidFill>
                <a:latin typeface="Courier New"/>
                <a:ea typeface="Courier New"/>
              </a:rPr>
              <a:t>display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D0C2D497-6F15-4917-9260-AACC7296773C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Method Invocation Execution Schema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685800" y="1295280"/>
            <a:ext cx="36576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773640" y="1371600"/>
            <a:ext cx="30153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lient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static voi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in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ring[] arg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) {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X obj = new X();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Block statement 1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bj.method();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Block statement 2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3171240" y="33526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f89f7"/>
                </a:solidFill>
                <a:latin typeface="Arial"/>
              </a:rPr>
              <a:t>The cli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5029200" y="1295280"/>
            <a:ext cx="365760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5191560" y="1447920"/>
            <a:ext cx="255816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X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voi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ethod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() {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Method bod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152280" y="4038480"/>
            <a:ext cx="3353040" cy="22100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AutoShape 15"/>
          <p:cNvSpPr/>
          <p:nvPr/>
        </p:nvSpPr>
        <p:spPr>
          <a:xfrm>
            <a:off x="5638680" y="4038480"/>
            <a:ext cx="3353040" cy="22100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3200400" y="4114800"/>
            <a:ext cx="0" cy="68580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3200400" y="5486400"/>
            <a:ext cx="0" cy="45720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Line 18"/>
          <p:cNvSpPr/>
          <p:nvPr/>
        </p:nvSpPr>
        <p:spPr>
          <a:xfrm>
            <a:off x="5943600" y="4876920"/>
            <a:ext cx="0" cy="53316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cxnSp>
        <p:nvCxnSpPr>
          <p:cNvPr id="346" name="AutoShape 21"/>
          <p:cNvCxnSpPr>
            <a:stCxn id="343" idx="0"/>
            <a:endCxn id="345" idx="0"/>
          </p:cNvCxnSpPr>
          <p:nvPr/>
        </p:nvCxnSpPr>
        <p:spPr>
          <a:xfrm>
            <a:off x="3200400" y="4828680"/>
            <a:ext cx="2743920" cy="19800"/>
          </a:xfrm>
          <a:prstGeom prst="straightConnector1">
            <a:avLst/>
          </a:prstGeom>
          <a:ln w="38160">
            <a:solidFill>
              <a:srgbClr val="339966"/>
            </a:solidFill>
            <a:prstDash val="sysDot"/>
            <a:miter/>
            <a:tailEnd len="med" type="triangle" w="med"/>
          </a:ln>
        </p:spPr>
      </p:cxnSp>
      <p:cxnSp>
        <p:nvCxnSpPr>
          <p:cNvPr id="347" name="AutoShape 22"/>
          <p:cNvCxnSpPr>
            <a:stCxn id="345" idx="1"/>
            <a:endCxn id="344" idx="0"/>
          </p:cNvCxnSpPr>
          <p:nvPr/>
        </p:nvCxnSpPr>
        <p:spPr>
          <a:xfrm flipH="1">
            <a:off x="3200040" y="5438520"/>
            <a:ext cx="2743920" cy="19800"/>
          </a:xfrm>
          <a:prstGeom prst="straightConnector1">
            <a:avLst/>
          </a:prstGeom>
          <a:ln w="38160">
            <a:solidFill>
              <a:srgbClr val="339966"/>
            </a:solidFill>
            <a:prstDash val="sysDot"/>
            <a:miter/>
            <a:tailEnd len="med" type="triangle" w="med"/>
          </a:ln>
        </p:spPr>
      </p:cxnSp>
      <p:sp>
        <p:nvSpPr>
          <p:cNvPr id="348" name="Text Box 23"/>
          <p:cNvSpPr/>
          <p:nvPr/>
        </p:nvSpPr>
        <p:spPr>
          <a:xfrm>
            <a:off x="2180520" y="5958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f89f7"/>
                </a:solidFill>
                <a:latin typeface="Arial"/>
              </a:rPr>
              <a:t>The cli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Text Box 25"/>
          <p:cNvSpPr/>
          <p:nvPr/>
        </p:nvSpPr>
        <p:spPr>
          <a:xfrm>
            <a:off x="168840" y="41292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lock statement 1 execut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504360" y="53341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lock statement 2 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star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600120" y="458640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The method Invoc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5929920" y="472428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method body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star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Text Box 30"/>
          <p:cNvSpPr/>
          <p:nvPr/>
        </p:nvSpPr>
        <p:spPr>
          <a:xfrm>
            <a:off x="3403800" y="449568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Passing Parameter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if exi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Text Box 31"/>
          <p:cNvSpPr/>
          <p:nvPr/>
        </p:nvSpPr>
        <p:spPr>
          <a:xfrm>
            <a:off x="5932800" y="519588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method body 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finish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5" name="Text Box 33"/>
          <p:cNvSpPr/>
          <p:nvPr/>
        </p:nvSpPr>
        <p:spPr>
          <a:xfrm>
            <a:off x="3449160" y="510552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Return result if an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5A0101F2-D046-4F86-B57D-B7C7AD67AFF4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Tahoma"/>
              </a:rPr>
              <a:t>Returning a Value from a Method 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 method returns to the code that invoked it when it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mpletes all the statements in the method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aches a return statement, o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rows an exception (covered in CSC 113)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f the method returns a valu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caller must declare a variable of the same type of the return valu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caller assigns the return value to the variabl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ahoma"/>
              </a:rPr>
              <a:t>variableNam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instanceVariable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ethodName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gs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0A00C865-571F-47FC-AD5D-22C22865F6BE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he </a:t>
            </a:r>
            <a:r>
              <a:rPr b="1" i="1" lang="en-US" sz="4400" spc="-1" strike="noStrike">
                <a:solidFill>
                  <a:srgbClr val="990033"/>
                </a:solidFill>
                <a:latin typeface="Tahoma"/>
              </a:rPr>
              <a:t>return</a:t>
            </a: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 keyword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i="1" lang="en-GB" sz="2400" spc="-1" strike="noStrike">
                <a:solidFill>
                  <a:srgbClr val="339966"/>
                </a:solidFill>
                <a:latin typeface="Tahoma"/>
              </a:rPr>
              <a:t>method's return typ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is declared in its method declaration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i="1" lang="en-GB" sz="2400" spc="-1" strike="noStrike">
                <a:solidFill>
                  <a:srgbClr val="339966"/>
                </a:solidFill>
                <a:latin typeface="Tahoma"/>
              </a:rPr>
              <a:t>retur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statement is used within the body of the method to return the valu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ny method declared </a:t>
            </a:r>
            <a:r>
              <a:rPr b="0" i="1" lang="en-GB" sz="2400" spc="-1" strike="noStrike">
                <a:solidFill>
                  <a:srgbClr val="339966"/>
                </a:solidFill>
                <a:latin typeface="Tahoma"/>
              </a:rPr>
              <a:t>void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doesn't return a valu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It does not need to contain a return statemen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It may use a return statement to branch out of a control flow block and exit the method. The return statement is simply used like this: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return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Return a value from a such method, will cause a compiler error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ny method that is not declared void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must contain a return statement with a corresponding return value, like this: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89f7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return returnValue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The data type of the return value must match the method's declared return type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you can't return an integer value from a method declared to return a boolean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9619FBA0-9F2C-4026-B868-6920E4CEFB22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xample of a Method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with Return valu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370" name="Group 5"/>
          <p:cNvGrpSpPr/>
          <p:nvPr/>
        </p:nvGrpSpPr>
        <p:grpSpPr>
          <a:xfrm>
            <a:off x="685800" y="1371600"/>
            <a:ext cx="8077320" cy="2490120"/>
            <a:chOff x="685800" y="1371600"/>
            <a:chExt cx="8077320" cy="2490120"/>
          </a:xfrm>
        </p:grpSpPr>
        <p:sp>
          <p:nvSpPr>
            <p:cNvPr id="371" name="Rectangle 3"/>
            <p:cNvSpPr/>
            <p:nvPr/>
          </p:nvSpPr>
          <p:spPr>
            <a:xfrm>
              <a:off x="685800" y="1371600"/>
              <a:ext cx="8077320" cy="23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2" name="Rectangle 4"/>
            <p:cNvSpPr/>
            <p:nvPr/>
          </p:nvSpPr>
          <p:spPr>
            <a:xfrm>
              <a:off x="914400" y="1511280"/>
              <a:ext cx="7772400" cy="23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udent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// Attribute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ring studentName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int midTerm1, midTerm2, lab, final 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// Methods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in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omputeTotalMarks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) 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t value = mid1 + mid2 + lab + final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value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73" name="Group 8"/>
          <p:cNvGrpSpPr/>
          <p:nvPr/>
        </p:nvGrpSpPr>
        <p:grpSpPr>
          <a:xfrm>
            <a:off x="685800" y="3886200"/>
            <a:ext cx="8077320" cy="2362320"/>
            <a:chOff x="685800" y="3886200"/>
            <a:chExt cx="8077320" cy="2362320"/>
          </a:xfrm>
        </p:grpSpPr>
        <p:sp>
          <p:nvSpPr>
            <p:cNvPr id="374" name="Rectangle 6"/>
            <p:cNvSpPr/>
            <p:nvPr/>
          </p:nvSpPr>
          <p:spPr>
            <a:xfrm>
              <a:off x="685800" y="3886200"/>
              <a:ext cx="807732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5" name="Rectangle 7"/>
            <p:cNvSpPr/>
            <p:nvPr/>
          </p:nvSpPr>
          <p:spPr>
            <a:xfrm>
              <a:off x="914400" y="4025880"/>
              <a:ext cx="7772400" cy="21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TestStudent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voi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mai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tring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[]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args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) 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tudent st = new Student()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t total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…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total = st.computeTotalMarks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ystem.out.println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total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CC98AB2C-9EDB-45FD-9ABC-59CF704FC65A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emplate for Methods 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with Return valu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380" name="Group 3"/>
          <p:cNvGrpSpPr/>
          <p:nvPr/>
        </p:nvGrpSpPr>
        <p:grpSpPr>
          <a:xfrm>
            <a:off x="685800" y="1371600"/>
            <a:ext cx="8077320" cy="2490120"/>
            <a:chOff x="685800" y="1371600"/>
            <a:chExt cx="8077320" cy="2490120"/>
          </a:xfrm>
        </p:grpSpPr>
        <p:sp>
          <p:nvSpPr>
            <p:cNvPr id="381" name="Rectangle 4"/>
            <p:cNvSpPr/>
            <p:nvPr/>
          </p:nvSpPr>
          <p:spPr>
            <a:xfrm>
              <a:off x="685800" y="1371600"/>
              <a:ext cx="8077320" cy="23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2" name="Rectangle 5"/>
            <p:cNvSpPr/>
            <p:nvPr/>
          </p:nvSpPr>
          <p:spPr>
            <a:xfrm>
              <a:off x="914400" y="1511280"/>
              <a:ext cx="7772400" cy="23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lassName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// Attribute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// Methods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</a:t>
              </a:r>
              <a:r>
                <a:rPr b="1" lang="en-US" sz="14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returnTyp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methodName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…) 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returnTyp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variableNam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// 1 - calculate the value to return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// 2 - assign the value to </a:t>
              </a:r>
              <a:r>
                <a:rPr b="1" lang="en-US" sz="14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variableNam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variableNam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83" name="Group 6"/>
          <p:cNvGrpSpPr/>
          <p:nvPr/>
        </p:nvGrpSpPr>
        <p:grpSpPr>
          <a:xfrm>
            <a:off x="685800" y="3886200"/>
            <a:ext cx="8077320" cy="2490120"/>
            <a:chOff x="685800" y="3886200"/>
            <a:chExt cx="8077320" cy="2490120"/>
          </a:xfrm>
        </p:grpSpPr>
        <p:sp>
          <p:nvSpPr>
            <p:cNvPr id="384" name="Rectangle 7"/>
            <p:cNvSpPr/>
            <p:nvPr/>
          </p:nvSpPr>
          <p:spPr>
            <a:xfrm>
              <a:off x="685800" y="3886200"/>
              <a:ext cx="807732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5" name="Rectangle 8"/>
            <p:cNvSpPr/>
            <p:nvPr/>
          </p:nvSpPr>
          <p:spPr>
            <a:xfrm>
              <a:off x="914400" y="4025880"/>
              <a:ext cx="7772400" cy="23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lientClass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voi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mai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tring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[]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args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) 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ClassName </a:t>
              </a:r>
              <a:r>
                <a:rPr b="1" lang="en-US" sz="14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instanceVariabl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= new ClassName()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returnTyp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receivingVaraiabl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receivingVaraiabl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= </a:t>
              </a:r>
              <a:r>
                <a:rPr b="1" lang="en-US" sz="14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instanceVariable</a:t>
              </a:r>
              <a:r>
                <a:rPr b="0" lang="en-US" sz="14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methodName(…)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83CD063F-0655-4DCB-BE3E-4A3AF0F19D4C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Passing Information to a Method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declaration for a method declares the number and the type of the data-items to be passed for that metho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990033"/>
                </a:solidFill>
                <a:latin typeface="Tahoma"/>
              </a:rPr>
              <a:t>Parameter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refer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to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the list of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variable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in a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method declaration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990033"/>
                </a:solidFill>
                <a:latin typeface="Tahoma"/>
              </a:rPr>
              <a:t>Argument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ar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the actual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value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that are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passed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in when the method is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 invoked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When you invoke a method, the arguments used must match the declaration's parameters in type and or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E0D5677B-49EB-49C9-908E-BFE90F857EA5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rguments and Parame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 argument is a value we pass to a metho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parameter is a placeholder in the called method to hold the value of the passed argumen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96" name="Group 13"/>
          <p:cNvGrpSpPr/>
          <p:nvPr/>
        </p:nvGrpSpPr>
        <p:grpSpPr>
          <a:xfrm>
            <a:off x="685800" y="3809880"/>
            <a:ext cx="3657600" cy="2362320"/>
            <a:chOff x="685800" y="3809880"/>
            <a:chExt cx="3657600" cy="2362320"/>
          </a:xfrm>
        </p:grpSpPr>
        <p:sp>
          <p:nvSpPr>
            <p:cNvPr id="397" name="Rectangle 4"/>
            <p:cNvSpPr/>
            <p:nvPr/>
          </p:nvSpPr>
          <p:spPr>
            <a:xfrm>
              <a:off x="685800" y="3809880"/>
              <a:ext cx="365760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8" name="Text Box 7"/>
            <p:cNvSpPr/>
            <p:nvPr/>
          </p:nvSpPr>
          <p:spPr>
            <a:xfrm>
              <a:off x="774720" y="3886200"/>
              <a:ext cx="3381120" cy="21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clas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ample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static voi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main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tring[] arg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) {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 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Account acct = new Account();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 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acct.add(400);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9" name="Line 8"/>
            <p:cNvSpPr/>
            <p:nvPr/>
          </p:nvSpPr>
          <p:spPr>
            <a:xfrm flipV="1">
              <a:off x="2361960" y="5271480"/>
              <a:ext cx="0" cy="381240"/>
            </a:xfrm>
            <a:prstGeom prst="line">
              <a:avLst/>
            </a:prstGeom>
            <a:ln w="28440">
              <a:solidFill>
                <a:srgbClr val="6f89f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0" name="Text Box 10"/>
            <p:cNvSpPr/>
            <p:nvPr/>
          </p:nvSpPr>
          <p:spPr>
            <a:xfrm>
              <a:off x="1907640" y="55767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f89f7"/>
                  </a:solidFill>
                  <a:latin typeface="Arial"/>
                </a:rPr>
                <a:t>argument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01" name="Group 12"/>
          <p:cNvGrpSpPr/>
          <p:nvPr/>
        </p:nvGrpSpPr>
        <p:grpSpPr>
          <a:xfrm>
            <a:off x="5029200" y="3809880"/>
            <a:ext cx="3657600" cy="2438280"/>
            <a:chOff x="5029200" y="3809880"/>
            <a:chExt cx="3657600" cy="2438280"/>
          </a:xfrm>
        </p:grpSpPr>
        <p:sp>
          <p:nvSpPr>
            <p:cNvPr id="402" name="Rectangle 5"/>
            <p:cNvSpPr/>
            <p:nvPr/>
          </p:nvSpPr>
          <p:spPr>
            <a:xfrm>
              <a:off x="5029200" y="3809880"/>
              <a:ext cx="365760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3" name="Text Box 6"/>
            <p:cNvSpPr/>
            <p:nvPr/>
          </p:nvSpPr>
          <p:spPr>
            <a:xfrm>
              <a:off x="5193720" y="3962160"/>
              <a:ext cx="3198240" cy="17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clas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Account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voi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add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double amt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) {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balance = balance + amt;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4" name="Line 9"/>
            <p:cNvSpPr/>
            <p:nvPr/>
          </p:nvSpPr>
          <p:spPr>
            <a:xfrm>
              <a:off x="7848360" y="4190760"/>
              <a:ext cx="0" cy="381240"/>
            </a:xfrm>
            <a:prstGeom prst="line">
              <a:avLst/>
            </a:prstGeom>
            <a:ln w="28440">
              <a:solidFill>
                <a:srgbClr val="6f89f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7317720" y="388620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f89f7"/>
                  </a:solidFill>
                  <a:latin typeface="Arial"/>
                </a:rPr>
                <a:t>parameter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0CB94F8B-CCC8-4DA2-BC59-DE4C5E7BE9BF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Matching Arguments and Parame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35400" y="1523880"/>
            <a:ext cx="2879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number or arguments and the parameters must be the sam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guments and parameters are paired left to right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matched pair must be assignment-compatible (e.g. you cannot pass a double argument to a int paramete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11" name="Picture 4" descr="ch4-2"/>
          <p:cNvPicPr/>
          <p:nvPr/>
        </p:nvPicPr>
        <p:blipFill>
          <a:blip r:embed="rId1"/>
          <a:stretch/>
        </p:blipFill>
        <p:spPr>
          <a:xfrm>
            <a:off x="685800" y="1762200"/>
            <a:ext cx="521028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68BE69B5-C8C1-4CAD-971C-B756116105D6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Parameter Passing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a method is called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parameters are create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values of arguments are copied into the parameters’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variables declared in the method body (called local variables) are create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method body is executed using the parameters and local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the method finish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meters and local variables are destroye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430BAF52-B66B-486A-A15C-A10EFA0CAA1D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What are Method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jects are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entitie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of the real-world that interact with their environments by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performing services on deman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jects of the same class hav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sam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characteristics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ore the same type of data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d 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sam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behavior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: provide the same services to their environment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rvices that objects provide are called method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65326E7E-3135-4E65-98D7-1DB42A2E09BD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Passing Objects to a Method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 we can pass primitive data type values, we can also pass object references to a method using instance variab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ss an instance variable to a method means passing a reference of an objec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t means that the corresponding parameter will be a copy of the reference of this object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ecause the passing parameter mechanism copies the value of the argument (which is an object reference) into the parameter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argument and its corresponding parameter refer to the same object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object is not duplicate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re are two instance variables (the argument and the parameter) referring to the same objec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D8F98400-67DB-4EA0-B85E-01B1D2CE13A7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How Private Attributes could be Accessed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vate attributes are not accessible from outsid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cept from objects of the same clas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y are accessibl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om inside: from the object containing the data itself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om objects of the same clas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y are accessible from outside using accessor operation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tt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tt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1CA6F0A0-3B65-4FBE-87CA-38426FE8E8DC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380880" y="152280"/>
            <a:ext cx="65534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609480" y="291960"/>
            <a:ext cx="525780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ours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Data Memb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studentName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courseCode 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32" name="Group 4"/>
          <p:cNvGrpSpPr/>
          <p:nvPr/>
        </p:nvGrpSpPr>
        <p:grpSpPr>
          <a:xfrm>
            <a:off x="304920" y="1752480"/>
            <a:ext cx="8610480" cy="4920120"/>
            <a:chOff x="304920" y="1752480"/>
            <a:chExt cx="8610480" cy="4920120"/>
          </a:xfrm>
        </p:grpSpPr>
        <p:sp>
          <p:nvSpPr>
            <p:cNvPr id="433" name="Rectangle 5"/>
            <p:cNvSpPr/>
            <p:nvPr/>
          </p:nvSpPr>
          <p:spPr>
            <a:xfrm>
              <a:off x="304920" y="1752480"/>
              <a:ext cx="7924680" cy="449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Rectangle 6"/>
            <p:cNvSpPr/>
            <p:nvPr/>
          </p:nvSpPr>
          <p:spPr>
            <a:xfrm>
              <a:off x="533520" y="4648320"/>
              <a:ext cx="754380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Rectangle 7"/>
            <p:cNvSpPr/>
            <p:nvPr/>
          </p:nvSpPr>
          <p:spPr>
            <a:xfrm>
              <a:off x="533520" y="3962520"/>
              <a:ext cx="65530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6" name="Rectangle 8"/>
            <p:cNvSpPr/>
            <p:nvPr/>
          </p:nvSpPr>
          <p:spPr>
            <a:xfrm>
              <a:off x="533520" y="2895480"/>
              <a:ext cx="65530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7" name="Rectangle 9"/>
            <p:cNvSpPr/>
            <p:nvPr/>
          </p:nvSpPr>
          <p:spPr>
            <a:xfrm>
              <a:off x="457200" y="1828800"/>
              <a:ext cx="845820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CourseRegistration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static voi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main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]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args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) {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 course1, course2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Courier New"/>
                </a:rPr>
                <a:t>//Create and assign values to course1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1</a:t>
              </a:r>
              <a:r>
                <a:rPr b="0" lang="en-US" sz="1400" spc="-1" strike="noStrike">
                  <a:solidFill>
                    <a:srgbClr val="40458c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Course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( 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1.courseCode= “CSC112“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1.studentName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= </a:t>
              </a: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“Majed AlKebir“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Courier New"/>
                </a:rPr>
                <a:t>//Create and assign values to course2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2 =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Course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( 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2.courseCode=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“CSC107“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2.studentName=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“Fahd AlAmri“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Courier New"/>
                </a:rPr>
                <a:t>	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ystem.out.println(course1.studentName</a:t>
              </a:r>
              <a:r>
                <a:rPr b="0" lang="en-US" sz="1800" spc="-1" strike="noStrike">
                  <a:solidFill>
                    <a:srgbClr val="40458c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 </a:t>
              </a: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" has the course “+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           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1.courseCode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                        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ystem.out.println(course2.studentName + </a:t>
              </a: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" has the course “+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           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2.courseCode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 rot="21549000">
              <a:off x="685800" y="2971440"/>
              <a:ext cx="533520" cy="344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78" h="398">
                  <a:moveTo>
                    <a:pt x="74" y="12"/>
                  </a:moveTo>
                  <a:lnTo>
                    <a:pt x="152" y="12"/>
                  </a:lnTo>
                  <a:lnTo>
                    <a:pt x="188" y="166"/>
                  </a:lnTo>
                  <a:lnTo>
                    <a:pt x="288" y="0"/>
                  </a:lnTo>
                  <a:lnTo>
                    <a:pt x="378" y="0"/>
                  </a:lnTo>
                  <a:lnTo>
                    <a:pt x="214" y="214"/>
                  </a:lnTo>
                  <a:lnTo>
                    <a:pt x="268" y="388"/>
                  </a:lnTo>
                  <a:lnTo>
                    <a:pt x="190" y="386"/>
                  </a:lnTo>
                  <a:lnTo>
                    <a:pt x="162" y="256"/>
                  </a:lnTo>
                  <a:lnTo>
                    <a:pt x="68" y="398"/>
                  </a:lnTo>
                  <a:lnTo>
                    <a:pt x="0" y="398"/>
                  </a:lnTo>
                  <a:lnTo>
                    <a:pt x="128" y="220"/>
                  </a:lnTo>
                  <a:lnTo>
                    <a:pt x="74" y="12"/>
                  </a:lnTo>
                  <a:close/>
                </a:path>
              </a:pathLst>
            </a:custGeom>
            <a:solidFill>
              <a:srgbClr val="f6061d"/>
            </a:solidFill>
            <a:ln w="9360">
              <a:solidFill>
                <a:srgbClr val="f6061d"/>
              </a:solidFill>
              <a:miter/>
            </a:ln>
            <a:effectLst>
              <a:outerShdw dist="52300" dir="4563564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 rot="21549000">
              <a:off x="685800" y="4038120"/>
              <a:ext cx="533520" cy="344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78" h="398">
                  <a:moveTo>
                    <a:pt x="74" y="12"/>
                  </a:moveTo>
                  <a:lnTo>
                    <a:pt x="152" y="12"/>
                  </a:lnTo>
                  <a:lnTo>
                    <a:pt x="188" y="166"/>
                  </a:lnTo>
                  <a:lnTo>
                    <a:pt x="288" y="0"/>
                  </a:lnTo>
                  <a:lnTo>
                    <a:pt x="378" y="0"/>
                  </a:lnTo>
                  <a:lnTo>
                    <a:pt x="214" y="214"/>
                  </a:lnTo>
                  <a:lnTo>
                    <a:pt x="268" y="388"/>
                  </a:lnTo>
                  <a:lnTo>
                    <a:pt x="190" y="386"/>
                  </a:lnTo>
                  <a:lnTo>
                    <a:pt x="162" y="256"/>
                  </a:lnTo>
                  <a:lnTo>
                    <a:pt x="68" y="398"/>
                  </a:lnTo>
                  <a:lnTo>
                    <a:pt x="0" y="398"/>
                  </a:lnTo>
                  <a:lnTo>
                    <a:pt x="128" y="220"/>
                  </a:lnTo>
                  <a:lnTo>
                    <a:pt x="74" y="12"/>
                  </a:lnTo>
                  <a:close/>
                </a:path>
              </a:pathLst>
            </a:custGeom>
            <a:solidFill>
              <a:srgbClr val="f6061d"/>
            </a:solidFill>
            <a:ln w="9360">
              <a:solidFill>
                <a:srgbClr val="f6061d"/>
              </a:solidFill>
              <a:miter/>
            </a:ln>
            <a:effectLst>
              <a:outerShdw dist="52300" dir="4563564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0" name="Freeform 12"/>
            <p:cNvSpPr/>
            <p:nvPr/>
          </p:nvSpPr>
          <p:spPr>
            <a:xfrm rot="21549000">
              <a:off x="685800" y="4952520"/>
              <a:ext cx="533520" cy="344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78" h="398">
                  <a:moveTo>
                    <a:pt x="74" y="12"/>
                  </a:moveTo>
                  <a:lnTo>
                    <a:pt x="152" y="12"/>
                  </a:lnTo>
                  <a:lnTo>
                    <a:pt x="188" y="166"/>
                  </a:lnTo>
                  <a:lnTo>
                    <a:pt x="288" y="0"/>
                  </a:lnTo>
                  <a:lnTo>
                    <a:pt x="378" y="0"/>
                  </a:lnTo>
                  <a:lnTo>
                    <a:pt x="214" y="214"/>
                  </a:lnTo>
                  <a:lnTo>
                    <a:pt x="268" y="388"/>
                  </a:lnTo>
                  <a:lnTo>
                    <a:pt x="190" y="386"/>
                  </a:lnTo>
                  <a:lnTo>
                    <a:pt x="162" y="256"/>
                  </a:lnTo>
                  <a:lnTo>
                    <a:pt x="68" y="398"/>
                  </a:lnTo>
                  <a:lnTo>
                    <a:pt x="0" y="398"/>
                  </a:lnTo>
                  <a:lnTo>
                    <a:pt x="128" y="220"/>
                  </a:lnTo>
                  <a:lnTo>
                    <a:pt x="74" y="12"/>
                  </a:lnTo>
                  <a:close/>
                </a:path>
              </a:pathLst>
            </a:custGeom>
            <a:solidFill>
              <a:srgbClr val="f6061d"/>
            </a:solidFill>
            <a:ln w="9360">
              <a:solidFill>
                <a:srgbClr val="f6061d"/>
              </a:solidFill>
              <a:miter/>
            </a:ln>
            <a:effectLst>
              <a:outerShdw dist="52300" dir="4563564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5C9AC563-FD41-4449-BE78-43295F738606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Get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e operations performed  by the object returning to outsiders data retrieved from the object sta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81120" y="14479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e services called from outside allowing to retrieve data from the object sta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528120" y="99072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object point of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5002920" y="100476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user point of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457200" y="4145040"/>
            <a:ext cx="5029200" cy="2103480"/>
            <a:chOff x="457200" y="4145040"/>
            <a:chExt cx="5029200" cy="2103480"/>
          </a:xfrm>
        </p:grpSpPr>
        <p:sp>
          <p:nvSpPr>
            <p:cNvPr id="450" name="Rectangle 8"/>
            <p:cNvSpPr/>
            <p:nvPr/>
          </p:nvSpPr>
          <p:spPr>
            <a:xfrm>
              <a:off x="3657600" y="4496040"/>
              <a:ext cx="1828800" cy="1752480"/>
            </a:xfrm>
            <a:prstGeom prst="rect">
              <a:avLst/>
            </a:prstGeom>
            <a:solidFill>
              <a:srgbClr val="b4c2ea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51" name="Group 9"/>
            <p:cNvGrpSpPr/>
            <p:nvPr/>
          </p:nvGrpSpPr>
          <p:grpSpPr>
            <a:xfrm>
              <a:off x="3657600" y="4145040"/>
              <a:ext cx="1828440" cy="427320"/>
              <a:chOff x="3657600" y="4145040"/>
              <a:chExt cx="1828440" cy="427320"/>
            </a:xfrm>
          </p:grpSpPr>
          <p:sp>
            <p:nvSpPr>
              <p:cNvPr id="452" name="Rectangle 10"/>
              <p:cNvSpPr/>
              <p:nvPr/>
            </p:nvSpPr>
            <p:spPr>
              <a:xfrm>
                <a:off x="3657600" y="4145040"/>
                <a:ext cx="1828440" cy="427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3" name="Text Box 11"/>
              <p:cNvSpPr/>
              <p:nvPr/>
            </p:nvSpPr>
            <p:spPr>
              <a:xfrm>
                <a:off x="4031640" y="415332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40458c"/>
                    </a:solidFill>
                    <a:uFillTx/>
                    <a:latin typeface="Tahoma"/>
                  </a:rPr>
                  <a:t>object:X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54" name="Group 12"/>
            <p:cNvGrpSpPr/>
            <p:nvPr/>
          </p:nvGrpSpPr>
          <p:grpSpPr>
            <a:xfrm>
              <a:off x="3751200" y="4678560"/>
              <a:ext cx="987480" cy="307080"/>
              <a:chOff x="3751200" y="4678560"/>
              <a:chExt cx="987480" cy="307080"/>
            </a:xfrm>
          </p:grpSpPr>
          <p:sp>
            <p:nvSpPr>
              <p:cNvPr id="455" name="Rectangle 13"/>
              <p:cNvSpPr/>
              <p:nvPr/>
            </p:nvSpPr>
            <p:spPr>
              <a:xfrm>
                <a:off x="3751200" y="4716720"/>
                <a:ext cx="723960" cy="228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6" name="Freeform 14"/>
              <p:cNvSpPr/>
              <p:nvPr/>
            </p:nvSpPr>
            <p:spPr>
              <a:xfrm rot="534600">
                <a:off x="4571640" y="4731120"/>
                <a:ext cx="152280" cy="1983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7" name="Text Box 15"/>
              <p:cNvSpPr/>
              <p:nvPr/>
            </p:nvSpPr>
            <p:spPr>
              <a:xfrm>
                <a:off x="3766680" y="4678560"/>
                <a:ext cx="72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ublic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58" name="Group 16"/>
            <p:cNvGrpSpPr/>
            <p:nvPr/>
          </p:nvGrpSpPr>
          <p:grpSpPr>
            <a:xfrm>
              <a:off x="4361760" y="5059440"/>
              <a:ext cx="1062720" cy="307080"/>
              <a:chOff x="4361760" y="5059440"/>
              <a:chExt cx="1062720" cy="307080"/>
            </a:xfrm>
          </p:grpSpPr>
          <p:sp>
            <p:nvSpPr>
              <p:cNvPr id="459" name="Rectangle 17"/>
              <p:cNvSpPr/>
              <p:nvPr/>
            </p:nvSpPr>
            <p:spPr>
              <a:xfrm>
                <a:off x="4403520" y="5105520"/>
                <a:ext cx="723960" cy="22860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0" name="Text Box 18"/>
              <p:cNvSpPr/>
              <p:nvPr/>
            </p:nvSpPr>
            <p:spPr>
              <a:xfrm>
                <a:off x="4361760" y="505944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rivate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1" name="Freeform 19"/>
              <p:cNvSpPr/>
              <p:nvPr/>
            </p:nvSpPr>
            <p:spPr>
              <a:xfrm rot="534600">
                <a:off x="5257080" y="5119560"/>
                <a:ext cx="152640" cy="19836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462" name="AutoShape 20"/>
            <p:cNvSpPr/>
            <p:nvPr/>
          </p:nvSpPr>
          <p:spPr>
            <a:xfrm>
              <a:off x="3809880" y="5943960"/>
              <a:ext cx="1447920" cy="228600"/>
            </a:xfrm>
            <a:prstGeom prst="flowChartTerminator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Getters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3" name="Rectangle 21"/>
            <p:cNvSpPr/>
            <p:nvPr/>
          </p:nvSpPr>
          <p:spPr>
            <a:xfrm>
              <a:off x="457200" y="4496040"/>
              <a:ext cx="1828800" cy="1752480"/>
            </a:xfrm>
            <a:prstGeom prst="rect">
              <a:avLst/>
            </a:prstGeom>
            <a:solidFill>
              <a:srgbClr val="b4c2ea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64" name="Group 22"/>
            <p:cNvGrpSpPr/>
            <p:nvPr/>
          </p:nvGrpSpPr>
          <p:grpSpPr>
            <a:xfrm>
              <a:off x="457200" y="4145040"/>
              <a:ext cx="1828440" cy="427320"/>
              <a:chOff x="457200" y="4145040"/>
              <a:chExt cx="1828440" cy="427320"/>
            </a:xfrm>
          </p:grpSpPr>
          <p:sp>
            <p:nvSpPr>
              <p:cNvPr id="465" name="Rectangle 23"/>
              <p:cNvSpPr/>
              <p:nvPr/>
            </p:nvSpPr>
            <p:spPr>
              <a:xfrm>
                <a:off x="457200" y="4145040"/>
                <a:ext cx="1828440" cy="427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6" name="Text Box 24"/>
              <p:cNvSpPr/>
              <p:nvPr/>
            </p:nvSpPr>
            <p:spPr>
              <a:xfrm>
                <a:off x="852480" y="4153320"/>
                <a:ext cx="118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40458c"/>
                    </a:solidFill>
                    <a:uFillTx/>
                    <a:latin typeface="Tahoma"/>
                  </a:rPr>
                  <a:t>:Y (Client)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467" name="Text Box 25"/>
            <p:cNvSpPr/>
            <p:nvPr/>
          </p:nvSpPr>
          <p:spPr>
            <a:xfrm>
              <a:off x="2636640" y="53676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4586040" y="54867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cxnSp>
          <p:nvCxnSpPr>
            <p:cNvPr id="469" name="AutoShape 27"/>
            <p:cNvCxnSpPr>
              <a:stCxn id="460" idx="2"/>
              <a:endCxn id="462" idx="0"/>
            </p:cNvCxnSpPr>
            <p:nvPr/>
          </p:nvCxnSpPr>
          <p:spPr>
            <a:xfrm flipH="1">
              <a:off x="4533480" y="5364360"/>
              <a:ext cx="240480" cy="5803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cxnSp>
          <p:nvCxnSpPr>
            <p:cNvPr id="470" name="AutoShape 28"/>
            <p:cNvCxnSpPr>
              <a:stCxn id="462" idx="1"/>
              <a:endCxn id="463" idx="3"/>
            </p:cNvCxnSpPr>
            <p:nvPr/>
          </p:nvCxnSpPr>
          <p:spPr>
            <a:xfrm flipH="1" flipV="1">
              <a:off x="2285280" y="5371560"/>
              <a:ext cx="1524600" cy="6865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471" name="Group 32"/>
          <p:cNvGrpSpPr/>
          <p:nvPr/>
        </p:nvGrpSpPr>
        <p:grpSpPr>
          <a:xfrm>
            <a:off x="5943600" y="4343400"/>
            <a:ext cx="2971800" cy="1676520"/>
            <a:chOff x="5943600" y="4343400"/>
            <a:chExt cx="2971800" cy="1676520"/>
          </a:xfrm>
        </p:grpSpPr>
        <p:sp>
          <p:nvSpPr>
            <p:cNvPr id="472" name="Text Box 29"/>
            <p:cNvSpPr/>
            <p:nvPr/>
          </p:nvSpPr>
          <p:spPr>
            <a:xfrm>
              <a:off x="5962680" y="4487760"/>
              <a:ext cx="2868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Getters are: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Public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With no parameters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With return valu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3" name="AutoShape 31"/>
            <p:cNvSpPr/>
            <p:nvPr/>
          </p:nvSpPr>
          <p:spPr>
            <a:xfrm>
              <a:off x="5943600" y="4343400"/>
              <a:ext cx="2971800" cy="1676520"/>
            </a:xfrm>
            <a:prstGeom prst="roundRect">
              <a:avLst>
                <a:gd name="adj" fmla="val 16667"/>
              </a:avLst>
            </a:prstGeom>
            <a:noFill/>
            <a:ln cap="rnd" w="38160">
              <a:solidFill>
                <a:srgbClr val="a5002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F45CE837-C82E-4779-9DD7-7BBFE3CC249A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emplate for Get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478" name="Group 3"/>
          <p:cNvGrpSpPr/>
          <p:nvPr/>
        </p:nvGrpSpPr>
        <p:grpSpPr>
          <a:xfrm>
            <a:off x="1371600" y="1371600"/>
            <a:ext cx="5943600" cy="4876920"/>
            <a:chOff x="1371600" y="1371600"/>
            <a:chExt cx="5943600" cy="4876920"/>
          </a:xfrm>
        </p:grpSpPr>
        <p:sp>
          <p:nvSpPr>
            <p:cNvPr id="479" name="Rectangle 4"/>
            <p:cNvSpPr/>
            <p:nvPr/>
          </p:nvSpPr>
          <p:spPr>
            <a:xfrm>
              <a:off x="1371600" y="1371600"/>
              <a:ext cx="594360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0" name="Text Box 5"/>
            <p:cNvSpPr/>
            <p:nvPr/>
          </p:nvSpPr>
          <p:spPr>
            <a:xfrm>
              <a:off x="1523880" y="1420920"/>
              <a:ext cx="5639040" cy="47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lassName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dataType1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attribute1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dataTypen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3399ff"/>
                  </a:solidFill>
                  <a:latin typeface="Courier New"/>
                  <a:ea typeface="ＭＳ Ｐゴシック"/>
                </a:rPr>
                <a:t>attributen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</a:t>
              </a:r>
              <a:r>
                <a:rPr b="1" lang="en-US" sz="16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dataType1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getAttribute1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) 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attribute1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</a:t>
              </a:r>
              <a:r>
                <a:rPr b="1" lang="en-US" sz="16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dataTypen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3399ff"/>
                  </a:solidFill>
                  <a:latin typeface="Courier New"/>
                  <a:ea typeface="ＭＳ Ｐゴシック"/>
                </a:rPr>
                <a:t>getAttributen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) 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    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 </a:t>
              </a:r>
              <a:r>
                <a:rPr b="1" lang="en-US" sz="1600" spc="-1" strike="noStrike">
                  <a:solidFill>
                    <a:srgbClr val="3399ff"/>
                  </a:solidFill>
                  <a:latin typeface="Courier New"/>
                  <a:ea typeface="ＭＳ Ｐゴシック"/>
                </a:rPr>
                <a:t>attributen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D9B4072F-04BE-46A3-A314-2E478D887D34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Set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e operations performed  by the object allowing to receive and store in the object state the data provided by outsider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81120" y="14479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e services used by outsiders allowing to provide to the object the data that should be stored in the object sta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528120" y="99072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object point of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5002920" y="100476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user point of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89" name="Group 7"/>
          <p:cNvGrpSpPr/>
          <p:nvPr/>
        </p:nvGrpSpPr>
        <p:grpSpPr>
          <a:xfrm>
            <a:off x="533520" y="4191120"/>
            <a:ext cx="5029200" cy="2103480"/>
            <a:chOff x="533520" y="4191120"/>
            <a:chExt cx="5029200" cy="2103480"/>
          </a:xfrm>
        </p:grpSpPr>
        <p:sp>
          <p:nvSpPr>
            <p:cNvPr id="490" name="Rectangle 8"/>
            <p:cNvSpPr/>
            <p:nvPr/>
          </p:nvSpPr>
          <p:spPr>
            <a:xfrm>
              <a:off x="3733920" y="4542120"/>
              <a:ext cx="1828800" cy="1752480"/>
            </a:xfrm>
            <a:prstGeom prst="rect">
              <a:avLst/>
            </a:prstGeom>
            <a:solidFill>
              <a:srgbClr val="b4c2ea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91" name="Group 9"/>
            <p:cNvGrpSpPr/>
            <p:nvPr/>
          </p:nvGrpSpPr>
          <p:grpSpPr>
            <a:xfrm>
              <a:off x="3733920" y="4191120"/>
              <a:ext cx="1828440" cy="427320"/>
              <a:chOff x="3733920" y="4191120"/>
              <a:chExt cx="1828440" cy="427320"/>
            </a:xfrm>
          </p:grpSpPr>
          <p:sp>
            <p:nvSpPr>
              <p:cNvPr id="492" name="Rectangle 10"/>
              <p:cNvSpPr/>
              <p:nvPr/>
            </p:nvSpPr>
            <p:spPr>
              <a:xfrm>
                <a:off x="3733920" y="4191120"/>
                <a:ext cx="1828440" cy="427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3" name="Text Box 11"/>
              <p:cNvSpPr/>
              <p:nvPr/>
            </p:nvSpPr>
            <p:spPr>
              <a:xfrm>
                <a:off x="4107960" y="419940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40458c"/>
                    </a:solidFill>
                    <a:uFillTx/>
                    <a:latin typeface="Tahoma"/>
                  </a:rPr>
                  <a:t>object:X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94" name="Group 12"/>
            <p:cNvGrpSpPr/>
            <p:nvPr/>
          </p:nvGrpSpPr>
          <p:grpSpPr>
            <a:xfrm>
              <a:off x="3827520" y="4724640"/>
              <a:ext cx="987480" cy="307080"/>
              <a:chOff x="3827520" y="4724640"/>
              <a:chExt cx="987480" cy="307080"/>
            </a:xfrm>
          </p:grpSpPr>
          <p:sp>
            <p:nvSpPr>
              <p:cNvPr id="495" name="Rectangle 13"/>
              <p:cNvSpPr/>
              <p:nvPr/>
            </p:nvSpPr>
            <p:spPr>
              <a:xfrm>
                <a:off x="3827520" y="4762800"/>
                <a:ext cx="723960" cy="228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6" name="Freeform 14"/>
              <p:cNvSpPr/>
              <p:nvPr/>
            </p:nvSpPr>
            <p:spPr>
              <a:xfrm rot="534600">
                <a:off x="4647960" y="4777200"/>
                <a:ext cx="152280" cy="1983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7" name="Text Box 15"/>
              <p:cNvSpPr/>
              <p:nvPr/>
            </p:nvSpPr>
            <p:spPr>
              <a:xfrm>
                <a:off x="3843000" y="4724640"/>
                <a:ext cx="72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ublic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98" name="Group 16"/>
            <p:cNvGrpSpPr/>
            <p:nvPr/>
          </p:nvGrpSpPr>
          <p:grpSpPr>
            <a:xfrm>
              <a:off x="4438080" y="5105520"/>
              <a:ext cx="1062720" cy="307080"/>
              <a:chOff x="4438080" y="5105520"/>
              <a:chExt cx="1062720" cy="307080"/>
            </a:xfrm>
          </p:grpSpPr>
          <p:sp>
            <p:nvSpPr>
              <p:cNvPr id="499" name="Rectangle 17"/>
              <p:cNvSpPr/>
              <p:nvPr/>
            </p:nvSpPr>
            <p:spPr>
              <a:xfrm>
                <a:off x="4479840" y="5151600"/>
                <a:ext cx="723960" cy="22860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00" name="Text Box 18"/>
              <p:cNvSpPr/>
              <p:nvPr/>
            </p:nvSpPr>
            <p:spPr>
              <a:xfrm>
                <a:off x="4438080" y="510552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rivate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01" name="Freeform 19"/>
              <p:cNvSpPr/>
              <p:nvPr/>
            </p:nvSpPr>
            <p:spPr>
              <a:xfrm rot="534600">
                <a:off x="5333400" y="5165640"/>
                <a:ext cx="152640" cy="19836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cxnSp>
          <p:nvCxnSpPr>
            <p:cNvPr id="502" name="AutoShape 20"/>
            <p:cNvCxnSpPr>
              <a:stCxn id="503" idx="0"/>
              <a:endCxn id="500" idx="2"/>
            </p:cNvCxnSpPr>
            <p:nvPr/>
          </p:nvCxnSpPr>
          <p:spPr>
            <a:xfrm flipV="1">
              <a:off x="4610160" y="5410080"/>
              <a:ext cx="240480" cy="5803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503" name="AutoShape 21"/>
            <p:cNvSpPr/>
            <p:nvPr/>
          </p:nvSpPr>
          <p:spPr>
            <a:xfrm>
              <a:off x="3886200" y="5990040"/>
              <a:ext cx="1447920" cy="228600"/>
            </a:xfrm>
            <a:prstGeom prst="flowChartTerminator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etters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4" name="Rectangle 22"/>
            <p:cNvSpPr/>
            <p:nvPr/>
          </p:nvSpPr>
          <p:spPr>
            <a:xfrm>
              <a:off x="533520" y="4542120"/>
              <a:ext cx="1828800" cy="1752480"/>
            </a:xfrm>
            <a:prstGeom prst="rect">
              <a:avLst/>
            </a:prstGeom>
            <a:solidFill>
              <a:srgbClr val="b4c2ea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05" name="Group 23"/>
            <p:cNvGrpSpPr/>
            <p:nvPr/>
          </p:nvGrpSpPr>
          <p:grpSpPr>
            <a:xfrm>
              <a:off x="533520" y="4191120"/>
              <a:ext cx="1828440" cy="427320"/>
              <a:chOff x="533520" y="4191120"/>
              <a:chExt cx="1828440" cy="427320"/>
            </a:xfrm>
          </p:grpSpPr>
          <p:sp>
            <p:nvSpPr>
              <p:cNvPr id="506" name="Rectangle 24"/>
              <p:cNvSpPr/>
              <p:nvPr/>
            </p:nvSpPr>
            <p:spPr>
              <a:xfrm>
                <a:off x="533520" y="4191120"/>
                <a:ext cx="1828440" cy="427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07" name="Text Box 25"/>
              <p:cNvSpPr/>
              <p:nvPr/>
            </p:nvSpPr>
            <p:spPr>
              <a:xfrm>
                <a:off x="928800" y="4199400"/>
                <a:ext cx="118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40458c"/>
                    </a:solidFill>
                    <a:uFillTx/>
                    <a:latin typeface="Tahoma"/>
                  </a:rPr>
                  <a:t>:Y (Client)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cxnSp>
          <p:nvCxnSpPr>
            <p:cNvPr id="508" name="AutoShape 26"/>
            <p:cNvCxnSpPr>
              <a:stCxn id="504" idx="3"/>
              <a:endCxn id="503" idx="1"/>
            </p:cNvCxnSpPr>
            <p:nvPr/>
          </p:nvCxnSpPr>
          <p:spPr>
            <a:xfrm>
              <a:off x="2361960" y="5418000"/>
              <a:ext cx="1524600" cy="6865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509" name="Text Box 27"/>
            <p:cNvSpPr/>
            <p:nvPr/>
          </p:nvSpPr>
          <p:spPr>
            <a:xfrm>
              <a:off x="2712960" y="54136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0" name="Text Box 28"/>
            <p:cNvSpPr/>
            <p:nvPr/>
          </p:nvSpPr>
          <p:spPr>
            <a:xfrm>
              <a:off x="4662360" y="55328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11" name="Group 29"/>
          <p:cNvGrpSpPr/>
          <p:nvPr/>
        </p:nvGrpSpPr>
        <p:grpSpPr>
          <a:xfrm>
            <a:off x="5943600" y="4343400"/>
            <a:ext cx="2971800" cy="1676520"/>
            <a:chOff x="5943600" y="4343400"/>
            <a:chExt cx="2971800" cy="1676520"/>
          </a:xfrm>
        </p:grpSpPr>
        <p:sp>
          <p:nvSpPr>
            <p:cNvPr id="512" name="Text Box 30"/>
            <p:cNvSpPr/>
            <p:nvPr/>
          </p:nvSpPr>
          <p:spPr>
            <a:xfrm>
              <a:off x="5967360" y="4487760"/>
              <a:ext cx="2937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etters are: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Public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With 1 parameter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With no return valu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3" name="AutoShape 31"/>
            <p:cNvSpPr/>
            <p:nvPr/>
          </p:nvSpPr>
          <p:spPr>
            <a:xfrm>
              <a:off x="5943600" y="4343400"/>
              <a:ext cx="2971800" cy="1676520"/>
            </a:xfrm>
            <a:prstGeom prst="roundRect">
              <a:avLst>
                <a:gd name="adj" fmla="val 16667"/>
              </a:avLst>
            </a:prstGeom>
            <a:noFill/>
            <a:ln cap="rnd" w="38160">
              <a:solidFill>
                <a:srgbClr val="a5002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B6780B49-6BAB-4DC0-864F-2071B3F5B518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emplate for Set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1371600" y="1371600"/>
            <a:ext cx="670572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1535040" y="1420920"/>
            <a:ext cx="638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lassName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Courier New"/>
                <a:ea typeface="ＭＳ Ｐゴシック"/>
              </a:rPr>
              <a:t>dataType1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attribute1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339966"/>
                </a:solidFill>
                <a:latin typeface="Courier New"/>
                <a:ea typeface="ＭＳ Ｐゴシック"/>
              </a:rPr>
              <a:t>dataTypen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3399ff"/>
                </a:solidFill>
                <a:latin typeface="Courier New"/>
                <a:ea typeface="ＭＳ Ｐゴシック"/>
              </a:rPr>
              <a:t>attributen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void </a:t>
            </a:r>
            <a:r>
              <a:rPr b="0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setAttribute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(</a:t>
            </a:r>
            <a:r>
              <a:rPr b="1" lang="en-US" sz="1600" spc="-1" strike="noStrike">
                <a:solidFill>
                  <a:srgbClr val="990033"/>
                </a:solidFill>
                <a:latin typeface="Courier New"/>
                <a:ea typeface="ＭＳ Ｐゴシック"/>
              </a:rPr>
              <a:t>dataType1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aram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)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attribute1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ara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void </a:t>
            </a:r>
            <a:r>
              <a:rPr b="0" lang="en-US" sz="1600" spc="-1" strike="noStrike">
                <a:solidFill>
                  <a:srgbClr val="3399ff"/>
                </a:solidFill>
                <a:latin typeface="Courier New"/>
                <a:ea typeface="ＭＳ Ｐゴシック"/>
              </a:rPr>
              <a:t>setAttributen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(</a:t>
            </a:r>
            <a:r>
              <a:rPr b="1" lang="en-US" sz="1600" spc="-1" strike="noStrike">
                <a:solidFill>
                  <a:srgbClr val="339966"/>
                </a:solidFill>
                <a:latin typeface="Courier New"/>
                <a:ea typeface="ＭＳ Ｐゴシック"/>
              </a:rPr>
              <a:t>dataTypen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aram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600" spc="-1" strike="noStrike">
                <a:solidFill>
                  <a:srgbClr val="3399ff"/>
                </a:solidFill>
                <a:latin typeface="Courier New"/>
                <a:ea typeface="ＭＳ Ｐゴシック"/>
              </a:rPr>
              <a:t>attributen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aram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 . 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1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2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09332DD4-DF34-47F5-9DF2-37FBD33A7363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23" name="Group 13"/>
          <p:cNvGrpSpPr/>
          <p:nvPr/>
        </p:nvGrpSpPr>
        <p:grpSpPr>
          <a:xfrm>
            <a:off x="685800" y="990720"/>
            <a:ext cx="7772400" cy="5495400"/>
            <a:chOff x="685800" y="990720"/>
            <a:chExt cx="7772400" cy="5495400"/>
          </a:xfrm>
        </p:grpSpPr>
        <p:sp>
          <p:nvSpPr>
            <p:cNvPr id="524" name="Rectangle 2"/>
            <p:cNvSpPr/>
            <p:nvPr/>
          </p:nvSpPr>
          <p:spPr>
            <a:xfrm>
              <a:off x="685800" y="990720"/>
              <a:ext cx="7772400" cy="518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5" name="Rectangle 3"/>
            <p:cNvSpPr/>
            <p:nvPr/>
          </p:nvSpPr>
          <p:spPr>
            <a:xfrm>
              <a:off x="914400" y="1130400"/>
              <a:ext cx="7315200" cy="53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ourse </a:t>
              </a:r>
              <a:r>
                <a:rPr b="0" lang="en-US" sz="18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8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// Attributes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ring studentName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ring courseCode 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ring getStudentName() 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udentName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ring getCourseCode() 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ourseCode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void setStudentName(String val) 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tudentName = val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void setCourseCode(String val) 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courseCode = val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7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B4E52090-8EF5-40AE-A1AA-08AA8DC1CF27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228600" y="152280"/>
            <a:ext cx="8610480" cy="60962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Rectangle 6"/>
          <p:cNvSpPr/>
          <p:nvPr/>
        </p:nvSpPr>
        <p:spPr>
          <a:xfrm>
            <a:off x="685800" y="3962520"/>
            <a:ext cx="8001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685800" y="3124080"/>
            <a:ext cx="6553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685800" y="1752480"/>
            <a:ext cx="6553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304920" y="304920"/>
            <a:ext cx="883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Registration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[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s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) {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 course1, course2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setCourseCode(“CSC112“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setStudentName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(</a:t>
            </a:r>
            <a:r>
              <a:rPr b="0" lang="en-US" sz="1800" spc="-1" strike="noStrike">
                <a:solidFill>
                  <a:srgbClr val="007f7f"/>
                </a:solidFill>
                <a:latin typeface="Courier New"/>
                <a:ea typeface="Courier New"/>
              </a:rPr>
              <a:t>“Majed AlKebir“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 =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setCourseCod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“CSC107“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setStudentNam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</a:t>
            </a:r>
            <a:r>
              <a:rPr b="0" lang="en-US" sz="1800" spc="-1" strike="noStrike">
                <a:solidFill>
                  <a:srgbClr val="007f7f"/>
                </a:solidFill>
                <a:latin typeface="Courier New"/>
                <a:ea typeface="Courier New"/>
              </a:rPr>
              <a:t>“Fahd AlAmri“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course1.getStudentNam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7f7f"/>
                </a:solidFill>
                <a:latin typeface="Courier New"/>
                <a:ea typeface="Courier New"/>
              </a:rPr>
              <a:t>" has the course “ +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getCourseCod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course2.getStudentNam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7f7f"/>
                </a:solidFill>
                <a:latin typeface="Courier New"/>
                <a:ea typeface="Courier New"/>
              </a:rPr>
              <a:t>" has the course “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getCourseCod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Date Placeholder 2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Footer Placeholder 3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6" name="Slide Number Placeholder 4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D803A654-F62F-4754-9D24-E47B381E8DA9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Passing an Object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to a Setter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538" name="Group 3"/>
          <p:cNvGrpSpPr/>
          <p:nvPr/>
        </p:nvGrpSpPr>
        <p:grpSpPr>
          <a:xfrm>
            <a:off x="1905120" y="1371600"/>
            <a:ext cx="4952880" cy="4876560"/>
            <a:chOff x="1905120" y="1371600"/>
            <a:chExt cx="4952880" cy="4876560"/>
          </a:xfrm>
        </p:grpSpPr>
        <p:pic>
          <p:nvPicPr>
            <p:cNvPr id="539" name="Picture 4" descr="ch4-5"/>
            <p:cNvPicPr/>
            <p:nvPr/>
          </p:nvPicPr>
          <p:blipFill>
            <a:blip r:embed="rId1"/>
            <a:stretch/>
          </p:blipFill>
          <p:spPr>
            <a:xfrm>
              <a:off x="1905120" y="1371600"/>
              <a:ext cx="4952880" cy="48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Rectangle 5"/>
            <p:cNvSpPr/>
            <p:nvPr/>
          </p:nvSpPr>
          <p:spPr>
            <a:xfrm>
              <a:off x="1981080" y="4952880"/>
              <a:ext cx="114300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1" name="Freeform 6"/>
            <p:cNvSpPr/>
            <p:nvPr/>
          </p:nvSpPr>
          <p:spPr>
            <a:xfrm>
              <a:off x="2629080" y="4432320"/>
              <a:ext cx="241200" cy="14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2" h="1">
                  <a:moveTo>
                    <a:pt x="152" y="0"/>
                  </a:moveTo>
                  <a:cubicBezTo>
                    <a:pt x="101" y="0"/>
                    <a:pt x="51" y="0"/>
                    <a:pt x="0" y="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2" name="Rectangle 7"/>
            <p:cNvSpPr/>
            <p:nvPr/>
          </p:nvSpPr>
          <p:spPr>
            <a:xfrm>
              <a:off x="2057400" y="4343400"/>
              <a:ext cx="5335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50011B8C-7266-40AC-AA39-2E0458AD7FA2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Why Method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ation hiding prevent the data an object stores from being directly accessed by outsider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capsulation allows objects containing the appropriate operations that could be applied on the data they sto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, the data that an object stores would be accessed only through appropriate opera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972E3AB2-E1DB-4A03-9619-F1BE4CDA66D4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Using Setters and sharing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the same Object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547" name="Picture 4" descr="ch4-4"/>
          <p:cNvPicPr/>
          <p:nvPr/>
        </p:nvPicPr>
        <p:blipFill>
          <a:blip r:embed="rId1"/>
          <a:stretch/>
        </p:blipFill>
        <p:spPr>
          <a:xfrm>
            <a:off x="380880" y="3048120"/>
            <a:ext cx="4638960" cy="31716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262320" cy="6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same Student object reference is passed to card1 and card2 using sette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5181480" y="4038480"/>
            <a:ext cx="358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ince we are actually passing 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the same object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reference, it results in the </a:t>
            </a:r>
            <a:r>
              <a:rPr b="0" lang="en-US" sz="1800" spc="-1" strike="noStrike">
                <a:solidFill>
                  <a:srgbClr val="6f89f7"/>
                </a:solidFill>
                <a:latin typeface="Arial"/>
              </a:rPr>
              <a:t>owner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of two LibraryCard objects referring to the same Student objec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50" name="Picture 3" descr="ch4-3"/>
          <p:cNvPicPr/>
          <p:nvPr/>
        </p:nvPicPr>
        <p:blipFill>
          <a:blip r:embed="rId2"/>
          <a:stretch/>
        </p:blipFill>
        <p:spPr>
          <a:xfrm>
            <a:off x="4267080" y="1295280"/>
            <a:ext cx="4534200" cy="2133720"/>
          </a:xfrm>
          <a:prstGeom prst="rect">
            <a:avLst/>
          </a:prstGeom>
          <a:ln w="0">
            <a:noFill/>
          </a:ln>
        </p:spPr>
      </p:pic>
      <p:sp>
        <p:nvSpPr>
          <p:cNvPr id="551" name="Line 6"/>
          <p:cNvSpPr/>
          <p:nvPr/>
        </p:nvSpPr>
        <p:spPr>
          <a:xfrm flipV="1">
            <a:off x="3503880" y="2538360"/>
            <a:ext cx="840960" cy="28800"/>
          </a:xfrm>
          <a:prstGeom prst="line">
            <a:avLst/>
          </a:prstGeom>
          <a:ln w="2844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Line 7"/>
          <p:cNvSpPr/>
          <p:nvPr/>
        </p:nvSpPr>
        <p:spPr>
          <a:xfrm>
            <a:off x="3505320" y="2590920"/>
            <a:ext cx="914400" cy="533160"/>
          </a:xfrm>
          <a:prstGeom prst="line">
            <a:avLst/>
          </a:prstGeom>
          <a:ln w="2844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C1FA9474-3462-446E-91DA-1E3E82E2932A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ass Constructo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clas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is a 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bluepri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or 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prototyp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from which objects of the same type are create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structors define the initial states of objects when they are create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Tahoma"/>
              </a:rPr>
              <a:t>ClassName x = </a:t>
            </a:r>
            <a:r>
              <a:rPr b="1" i="1" lang="en-US" sz="2400" spc="-1" strike="noStrike">
                <a:solidFill>
                  <a:srgbClr val="9900cc"/>
                </a:solidFill>
                <a:latin typeface="Tahoma"/>
              </a:rPr>
              <a:t>new </a:t>
            </a:r>
            <a:r>
              <a:rPr b="1" i="1" lang="en-US" sz="2400" spc="-1" strike="noStrike">
                <a:solidFill>
                  <a:srgbClr val="00cc99"/>
                </a:solidFill>
                <a:latin typeface="Tahoma"/>
              </a:rPr>
              <a:t>ClassName(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class contains at least one constructo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class may contain more than one constructo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334DEE90-8745-46BC-9C27-6B0D576FDD52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he Default Class Constructor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If no constructor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are defined in the class, 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the default constructor is added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by the compiler at compile tim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default constructor does 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not accept parameter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and creates objects with empty stat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Tahoma"/>
              </a:rPr>
              <a:t>ClassName x = </a:t>
            </a:r>
            <a:r>
              <a:rPr b="1" i="1" lang="en-US" sz="2400" spc="-1" strike="noStrike">
                <a:solidFill>
                  <a:srgbClr val="9900cc"/>
                </a:solidFill>
                <a:latin typeface="Tahoma"/>
              </a:rPr>
              <a:t>new </a:t>
            </a:r>
            <a:r>
              <a:rPr b="1" i="1" lang="en-US" sz="2400" spc="-1" strike="noStrike">
                <a:solidFill>
                  <a:srgbClr val="00cc99"/>
                </a:solidFill>
                <a:latin typeface="Tahoma"/>
              </a:rPr>
              <a:t>ClassName(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5855FB45-B91F-4066-9B97-53E2A58983C1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ass Constructors Declaration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339966"/>
                </a:solidFill>
                <a:latin typeface="Tahoma"/>
              </a:rPr>
              <a:t>constructor na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a constructor has the name of the class 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339966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represent values that will be passed to the constructor for initialize the object stat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nstructor declarations look like method declarations—except that they use the name of the class and have no return typ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68" name="Group 4"/>
          <p:cNvGrpSpPr/>
          <p:nvPr/>
        </p:nvGrpSpPr>
        <p:grpSpPr>
          <a:xfrm>
            <a:off x="304920" y="914400"/>
            <a:ext cx="8663040" cy="1447920"/>
            <a:chOff x="304920" y="914400"/>
            <a:chExt cx="8663040" cy="1447920"/>
          </a:xfrm>
        </p:grpSpPr>
        <p:sp>
          <p:nvSpPr>
            <p:cNvPr id="569" name="Rectangle 5"/>
            <p:cNvSpPr/>
            <p:nvPr/>
          </p:nvSpPr>
          <p:spPr>
            <a:xfrm>
              <a:off x="390600" y="914400"/>
              <a:ext cx="85327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0" name="Rectangle 6"/>
            <p:cNvSpPr/>
            <p:nvPr/>
          </p:nvSpPr>
          <p:spPr>
            <a:xfrm>
              <a:off x="304920" y="1066680"/>
              <a:ext cx="86630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public  &lt;constructor name&gt;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8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&lt;parameters&gt;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)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   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&lt;constructor body&gt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9EBB7B9D-B3F5-43CC-ADDF-6B3732A510AC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Example of 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a Constructor with No-Parameter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575" name="Group 3"/>
          <p:cNvGrpSpPr/>
          <p:nvPr/>
        </p:nvGrpSpPr>
        <p:grpSpPr>
          <a:xfrm>
            <a:off x="152280" y="1143000"/>
            <a:ext cx="3733920" cy="2745720"/>
            <a:chOff x="152280" y="1143000"/>
            <a:chExt cx="3733920" cy="2745720"/>
          </a:xfrm>
        </p:grpSpPr>
        <p:sp>
          <p:nvSpPr>
            <p:cNvPr id="576" name="Rectangle 4"/>
            <p:cNvSpPr/>
            <p:nvPr/>
          </p:nvSpPr>
          <p:spPr>
            <a:xfrm>
              <a:off x="152280" y="1143000"/>
              <a:ext cx="373392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7" name="Text Box 5"/>
            <p:cNvSpPr/>
            <p:nvPr/>
          </p:nvSpPr>
          <p:spPr>
            <a:xfrm>
              <a:off x="247680" y="1169640"/>
              <a:ext cx="3542400" cy="27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Kasre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t bast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t maquam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</a:t>
              </a:r>
              <a:r>
                <a:rPr b="1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Kasree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) 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bast = 0; maquam =1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78" name="Rectangle 6"/>
          <p:cNvSpPr/>
          <p:nvPr/>
        </p:nvSpPr>
        <p:spPr>
          <a:xfrm>
            <a:off x="419040" y="4114800"/>
            <a:ext cx="3314880" cy="1905120"/>
          </a:xfrm>
          <a:prstGeom prst="rect">
            <a:avLst/>
          </a:prstGeom>
          <a:solidFill>
            <a:srgbClr val="effbff"/>
          </a:solidFill>
          <a:ln w="9360">
            <a:solidFill>
              <a:srgbClr val="eaf0fe"/>
            </a:solidFill>
            <a:miter/>
          </a:ln>
          <a:effectLst>
            <a:outerShdw dist="117181" dir="2961631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538920" y="4584600"/>
            <a:ext cx="2984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x   =                 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1895400" y="60199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51d"/>
                </a:solidFill>
                <a:latin typeface="Tahoma"/>
                <a:ea typeface="ＭＳ Ｐゴシック"/>
              </a:rPr>
              <a:t>C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555480" y="4432320"/>
            <a:ext cx="1278000" cy="459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Kasree x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1357200" y="4889520"/>
            <a:ext cx="1843200" cy="50544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new Kasree</a:t>
            </a:r>
            <a:r>
              <a:rPr b="0" lang="en-US" sz="1800" spc="-1" strike="noStrike">
                <a:solidFill>
                  <a:srgbClr val="40458c"/>
                </a:solidFill>
                <a:latin typeface="Comic Sans MS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( 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83" name="Group 11"/>
          <p:cNvGrpSpPr/>
          <p:nvPr/>
        </p:nvGrpSpPr>
        <p:grpSpPr>
          <a:xfrm>
            <a:off x="-157320" y="3809880"/>
            <a:ext cx="3000240" cy="1047960"/>
            <a:chOff x="-157320" y="3809880"/>
            <a:chExt cx="3000240" cy="1047960"/>
          </a:xfrm>
        </p:grpSpPr>
        <p:sp>
          <p:nvSpPr>
            <p:cNvPr id="584" name="Oval 12"/>
            <p:cNvSpPr/>
            <p:nvPr/>
          </p:nvSpPr>
          <p:spPr>
            <a:xfrm>
              <a:off x="2406240" y="3809880"/>
              <a:ext cx="436680" cy="34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40186" dir="1096358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1051b"/>
                  </a:solidFill>
                  <a:latin typeface="Arial"/>
                  <a:ea typeface="ＭＳ Ｐゴシック"/>
                </a:rPr>
                <a:t>A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5" name="Line 13"/>
            <p:cNvSpPr/>
            <p:nvPr/>
          </p:nvSpPr>
          <p:spPr>
            <a:xfrm flipH="1">
              <a:off x="1756800" y="4066920"/>
              <a:ext cx="679320" cy="46548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6" name="Text Box 14"/>
            <p:cNvSpPr/>
            <p:nvPr/>
          </p:nvSpPr>
          <p:spPr>
            <a:xfrm>
              <a:off x="-157320" y="452124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87" name="Group 15"/>
          <p:cNvGrpSpPr/>
          <p:nvPr/>
        </p:nvGrpSpPr>
        <p:grpSpPr>
          <a:xfrm>
            <a:off x="709920" y="4360680"/>
            <a:ext cx="452520" cy="1513800"/>
            <a:chOff x="709920" y="4360680"/>
            <a:chExt cx="452520" cy="1513800"/>
          </a:xfrm>
        </p:grpSpPr>
        <p:sp>
          <p:nvSpPr>
            <p:cNvPr id="588" name="Line 16"/>
            <p:cNvSpPr/>
            <p:nvPr/>
          </p:nvSpPr>
          <p:spPr>
            <a:xfrm flipV="1">
              <a:off x="1017720" y="5287680"/>
              <a:ext cx="144720" cy="4104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9" name="Oval 17"/>
            <p:cNvSpPr/>
            <p:nvPr/>
          </p:nvSpPr>
          <p:spPr>
            <a:xfrm rot="5050200">
              <a:off x="919800" y="5706000"/>
              <a:ext cx="165240" cy="15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40186" dir="1096358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1051b"/>
                  </a:solidFill>
                  <a:latin typeface="Arial"/>
                  <a:ea typeface="ＭＳ Ｐゴシック"/>
                </a:rPr>
                <a:t>C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0" name="Text Box 18"/>
            <p:cNvSpPr/>
            <p:nvPr/>
          </p:nvSpPr>
          <p:spPr>
            <a:xfrm rot="5050200">
              <a:off x="563040" y="4532400"/>
              <a:ext cx="428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t" vert="eaVer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91" name="Group 19"/>
          <p:cNvGrpSpPr/>
          <p:nvPr/>
        </p:nvGrpSpPr>
        <p:grpSpPr>
          <a:xfrm>
            <a:off x="-309600" y="4429080"/>
            <a:ext cx="3753000" cy="885600"/>
            <a:chOff x="-309600" y="4429080"/>
            <a:chExt cx="3753000" cy="885600"/>
          </a:xfrm>
        </p:grpSpPr>
        <p:sp>
          <p:nvSpPr>
            <p:cNvPr id="592" name="Line 20"/>
            <p:cNvSpPr/>
            <p:nvPr/>
          </p:nvSpPr>
          <p:spPr>
            <a:xfrm flipH="1">
              <a:off x="2320560" y="4635360"/>
              <a:ext cx="692280" cy="4287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3" name="Oval 21"/>
            <p:cNvSpPr/>
            <p:nvPr/>
          </p:nvSpPr>
          <p:spPr>
            <a:xfrm>
              <a:off x="3006720" y="4429080"/>
              <a:ext cx="436680" cy="34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40186" dir="1096358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1051b"/>
                  </a:solidFill>
                  <a:latin typeface="Arial"/>
                  <a:ea typeface="ＭＳ Ｐゴシック"/>
                </a:rPr>
                <a:t>B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4" name="Text Box 22"/>
            <p:cNvSpPr/>
            <p:nvPr/>
          </p:nvSpPr>
          <p:spPr>
            <a:xfrm>
              <a:off x="-309600" y="49780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95" name="Text Box 23"/>
          <p:cNvSpPr/>
          <p:nvPr/>
        </p:nvSpPr>
        <p:spPr>
          <a:xfrm>
            <a:off x="5680440" y="5791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51d"/>
                </a:solidFill>
                <a:latin typeface="Tahoma"/>
                <a:ea typeface="ＭＳ Ｐゴシック"/>
              </a:rPr>
              <a:t>State of Mem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Rectangle 24"/>
          <p:cNvSpPr/>
          <p:nvPr/>
        </p:nvSpPr>
        <p:spPr>
          <a:xfrm>
            <a:off x="4038480" y="1216080"/>
            <a:ext cx="4918320" cy="44226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117181" dir="2961631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7" name="Rectangle 27"/>
          <p:cNvSpPr/>
          <p:nvPr/>
        </p:nvSpPr>
        <p:spPr>
          <a:xfrm>
            <a:off x="7439040" y="15476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  <a:ea typeface="ＭＳ Ｐゴシック"/>
              </a:rPr>
              <a:t>x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7748640" y="1631880"/>
            <a:ext cx="93816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71785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AutoShape 29"/>
          <p:cNvSpPr/>
          <p:nvPr/>
        </p:nvSpPr>
        <p:spPr>
          <a:xfrm>
            <a:off x="4267080" y="1512720"/>
            <a:ext cx="2057400" cy="6969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051b"/>
                </a:solidFill>
                <a:latin typeface="Arial"/>
                <a:ea typeface="ＭＳ Ｐゴシック"/>
              </a:rPr>
              <a:t>A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nstance variable 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cated in memory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AutoShape 30"/>
          <p:cNvSpPr/>
          <p:nvPr/>
        </p:nvSpPr>
        <p:spPr>
          <a:xfrm>
            <a:off x="4267080" y="2438280"/>
            <a:ext cx="236232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051b"/>
                </a:solidFill>
                <a:latin typeface="Arial"/>
                <a:ea typeface="ＭＳ Ｐゴシック"/>
              </a:rPr>
              <a:t>B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bject 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d with initial stat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1" name="AutoShape 31"/>
          <p:cNvSpPr/>
          <p:nvPr/>
        </p:nvSpPr>
        <p:spPr>
          <a:xfrm>
            <a:off x="4343400" y="350532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051b"/>
                </a:solidFill>
                <a:latin typeface="Arial"/>
                <a:ea typeface="ＭＳ Ｐゴシック"/>
              </a:rPr>
              <a:t>C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reference of the object created in B  is assigned to the variable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2" name="AutoShape 48"/>
          <p:cNvSpPr/>
          <p:nvPr/>
        </p:nvSpPr>
        <p:spPr>
          <a:xfrm>
            <a:off x="6934320" y="3581280"/>
            <a:ext cx="1849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3" name="Rectangle 50"/>
          <p:cNvSpPr/>
          <p:nvPr/>
        </p:nvSpPr>
        <p:spPr>
          <a:xfrm>
            <a:off x="7043760" y="366084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04" name="Group 51"/>
          <p:cNvGrpSpPr/>
          <p:nvPr/>
        </p:nvGrpSpPr>
        <p:grpSpPr>
          <a:xfrm>
            <a:off x="7497720" y="3695760"/>
            <a:ext cx="903240" cy="328680"/>
            <a:chOff x="7497720" y="3695760"/>
            <a:chExt cx="903240" cy="328680"/>
          </a:xfrm>
        </p:grpSpPr>
        <p:sp>
          <p:nvSpPr>
            <p:cNvPr id="605" name="Rectangle 52"/>
            <p:cNvSpPr/>
            <p:nvPr/>
          </p:nvSpPr>
          <p:spPr>
            <a:xfrm>
              <a:off x="7543800" y="3741840"/>
              <a:ext cx="857160" cy="282600"/>
            </a:xfrm>
            <a:prstGeom prst="rect">
              <a:avLst/>
            </a:prstGeom>
            <a:solidFill>
              <a:srgbClr val="1b2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6" name="Rectangle 53"/>
            <p:cNvSpPr/>
            <p:nvPr/>
          </p:nvSpPr>
          <p:spPr>
            <a:xfrm>
              <a:off x="7497720" y="3695760"/>
              <a:ext cx="857160" cy="28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7" name="Rectangle 54"/>
            <p:cNvSpPr/>
            <p:nvPr/>
          </p:nvSpPr>
          <p:spPr>
            <a:xfrm>
              <a:off x="7497720" y="3695760"/>
              <a:ext cx="857160" cy="284040"/>
            </a:xfrm>
            <a:prstGeom prst="rect">
              <a:avLst/>
            </a:prstGeom>
            <a:noFill/>
            <a:ln cap="rnd" w="79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08" name="Rectangle 55"/>
          <p:cNvSpPr/>
          <p:nvPr/>
        </p:nvSpPr>
        <p:spPr>
          <a:xfrm>
            <a:off x="7327440" y="366084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09" name="Group 56"/>
          <p:cNvGrpSpPr/>
          <p:nvPr/>
        </p:nvGrpSpPr>
        <p:grpSpPr>
          <a:xfrm>
            <a:off x="7497720" y="3695760"/>
            <a:ext cx="903240" cy="328680"/>
            <a:chOff x="7497720" y="3695760"/>
            <a:chExt cx="903240" cy="328680"/>
          </a:xfrm>
        </p:grpSpPr>
        <p:sp>
          <p:nvSpPr>
            <p:cNvPr id="610" name="Rectangle 57"/>
            <p:cNvSpPr/>
            <p:nvPr/>
          </p:nvSpPr>
          <p:spPr>
            <a:xfrm>
              <a:off x="7543800" y="3741840"/>
              <a:ext cx="857160" cy="282600"/>
            </a:xfrm>
            <a:prstGeom prst="rect">
              <a:avLst/>
            </a:prstGeom>
            <a:solidFill>
              <a:srgbClr val="1b2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1" name="Rectangle 58"/>
            <p:cNvSpPr/>
            <p:nvPr/>
          </p:nvSpPr>
          <p:spPr>
            <a:xfrm>
              <a:off x="7497720" y="3695760"/>
              <a:ext cx="857160" cy="28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2" name="Rectangle 59"/>
            <p:cNvSpPr/>
            <p:nvPr/>
          </p:nvSpPr>
          <p:spPr>
            <a:xfrm>
              <a:off x="7497720" y="3695760"/>
              <a:ext cx="857160" cy="284040"/>
            </a:xfrm>
            <a:prstGeom prst="rect">
              <a:avLst/>
            </a:prstGeom>
            <a:noFill/>
            <a:ln cap="rnd" w="79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13" name="Freeform 73"/>
          <p:cNvSpPr/>
          <p:nvPr/>
        </p:nvSpPr>
        <p:spPr>
          <a:xfrm>
            <a:off x="7656480" y="3843360"/>
            <a:ext cx="192240" cy="817560"/>
          </a:xfrm>
          <a:custGeom>
            <a:avLst/>
            <a:gdLst>
              <a:gd name="textAreaLeft" fmla="*/ 0 w 192240"/>
              <a:gd name="textAreaRight" fmla="*/ 192600 w 19224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121" h="515">
                <a:moveTo>
                  <a:pt x="121" y="0"/>
                </a:moveTo>
                <a:lnTo>
                  <a:pt x="70" y="63"/>
                </a:lnTo>
                <a:lnTo>
                  <a:pt x="33" y="126"/>
                </a:lnTo>
                <a:lnTo>
                  <a:pt x="9" y="191"/>
                </a:lnTo>
                <a:lnTo>
                  <a:pt x="0" y="255"/>
                </a:lnTo>
                <a:lnTo>
                  <a:pt x="4" y="319"/>
                </a:lnTo>
                <a:lnTo>
                  <a:pt x="21" y="384"/>
                </a:lnTo>
                <a:lnTo>
                  <a:pt x="53" y="449"/>
                </a:lnTo>
                <a:lnTo>
                  <a:pt x="98" y="515"/>
                </a:lnTo>
              </a:path>
            </a:pathLst>
          </a:custGeom>
          <a:noFill/>
          <a:ln cap="rnd" w="3240">
            <a:solidFill>
              <a:srgbClr val="4677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4" name="Freeform 74"/>
          <p:cNvSpPr/>
          <p:nvPr/>
        </p:nvSpPr>
        <p:spPr>
          <a:xfrm>
            <a:off x="7781760" y="4633920"/>
            <a:ext cx="66960" cy="69840"/>
          </a:xfrm>
          <a:custGeom>
            <a:avLst/>
            <a:gdLst>
              <a:gd name="textAreaLeft" fmla="*/ 0 w 66960"/>
              <a:gd name="textAreaRight" fmla="*/ 67320 w 669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2" h="44">
                <a:moveTo>
                  <a:pt x="0" y="26"/>
                </a:moveTo>
                <a:lnTo>
                  <a:pt x="42" y="44"/>
                </a:lnTo>
                <a:lnTo>
                  <a:pt x="31" y="0"/>
                </a:lnTo>
                <a:lnTo>
                  <a:pt x="0" y="26"/>
                </a:lnTo>
                <a:close/>
              </a:path>
            </a:pathLst>
          </a:custGeom>
          <a:solidFill>
            <a:srgbClr val="467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15" name="Group 79"/>
          <p:cNvGrpSpPr/>
          <p:nvPr/>
        </p:nvGrpSpPr>
        <p:grpSpPr>
          <a:xfrm>
            <a:off x="6781680" y="2286000"/>
            <a:ext cx="2011320" cy="949320"/>
            <a:chOff x="6781680" y="2286000"/>
            <a:chExt cx="2011320" cy="949320"/>
          </a:xfrm>
        </p:grpSpPr>
        <p:sp>
          <p:nvSpPr>
            <p:cNvPr id="616" name="AutoShape 33"/>
            <p:cNvSpPr/>
            <p:nvPr/>
          </p:nvSpPr>
          <p:spPr>
            <a:xfrm>
              <a:off x="6781680" y="2286000"/>
              <a:ext cx="201132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7" name="Rectangle 34"/>
            <p:cNvSpPr/>
            <p:nvPr/>
          </p:nvSpPr>
          <p:spPr>
            <a:xfrm>
              <a:off x="6797520" y="2301840"/>
              <a:ext cx="1979640" cy="19836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8" name="Rectangle 35"/>
            <p:cNvSpPr/>
            <p:nvPr/>
          </p:nvSpPr>
          <p:spPr>
            <a:xfrm>
              <a:off x="6797520" y="2301840"/>
              <a:ext cx="1979640" cy="19836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9" name="Rectangle 36"/>
            <p:cNvSpPr/>
            <p:nvPr/>
          </p:nvSpPr>
          <p:spPr>
            <a:xfrm>
              <a:off x="7619400" y="2333520"/>
              <a:ext cx="67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Object: Kasree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0" name="Rectangle 37"/>
            <p:cNvSpPr/>
            <p:nvPr/>
          </p:nvSpPr>
          <p:spPr>
            <a:xfrm>
              <a:off x="6797520" y="2500200"/>
              <a:ext cx="1979640" cy="7192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1" name="Rectangle 38"/>
            <p:cNvSpPr/>
            <p:nvPr/>
          </p:nvSpPr>
          <p:spPr>
            <a:xfrm>
              <a:off x="6797520" y="2500200"/>
              <a:ext cx="1979640" cy="7192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2" name="Rectangle 39"/>
            <p:cNvSpPr/>
            <p:nvPr/>
          </p:nvSpPr>
          <p:spPr>
            <a:xfrm>
              <a:off x="6870600" y="2554200"/>
              <a:ext cx="71928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3" name="Rectangle 40"/>
            <p:cNvSpPr/>
            <p:nvPr/>
          </p:nvSpPr>
          <p:spPr>
            <a:xfrm>
              <a:off x="6924240" y="258120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t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4" name="Rectangle 41"/>
            <p:cNvSpPr/>
            <p:nvPr/>
          </p:nvSpPr>
          <p:spPr>
            <a:xfrm>
              <a:off x="7751880" y="2859120"/>
              <a:ext cx="77472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5" name="Rectangle 42"/>
            <p:cNvSpPr/>
            <p:nvPr/>
          </p:nvSpPr>
          <p:spPr>
            <a:xfrm>
              <a:off x="7751880" y="2859120"/>
              <a:ext cx="774720" cy="1810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6" name="Rectangle 43"/>
            <p:cNvSpPr/>
            <p:nvPr/>
          </p:nvSpPr>
          <p:spPr>
            <a:xfrm>
              <a:off x="7751880" y="2554200"/>
              <a:ext cx="77472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7" name="Rectangle 44"/>
            <p:cNvSpPr/>
            <p:nvPr/>
          </p:nvSpPr>
          <p:spPr>
            <a:xfrm>
              <a:off x="7751880" y="2554200"/>
              <a:ext cx="774720" cy="1796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8" name="Rectangle 45"/>
            <p:cNvSpPr/>
            <p:nvPr/>
          </p:nvSpPr>
          <p:spPr>
            <a:xfrm>
              <a:off x="6834240" y="2859120"/>
              <a:ext cx="70164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9" name="Rectangle 46"/>
            <p:cNvSpPr/>
            <p:nvPr/>
          </p:nvSpPr>
          <p:spPr>
            <a:xfrm>
              <a:off x="6915240" y="2886120"/>
              <a:ext cx="39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quam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0" name="Text Box 76"/>
            <p:cNvSpPr/>
            <p:nvPr/>
          </p:nvSpPr>
          <p:spPr>
            <a:xfrm>
              <a:off x="7923600" y="2743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1" name="Text Box 77"/>
            <p:cNvSpPr/>
            <p:nvPr/>
          </p:nvSpPr>
          <p:spPr>
            <a:xfrm>
              <a:off x="7923600" y="24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632" name="Group 80"/>
          <p:cNvGrpSpPr/>
          <p:nvPr/>
        </p:nvGrpSpPr>
        <p:grpSpPr>
          <a:xfrm>
            <a:off x="6781680" y="4689360"/>
            <a:ext cx="2011320" cy="949320"/>
            <a:chOff x="6781680" y="4689360"/>
            <a:chExt cx="2011320" cy="949320"/>
          </a:xfrm>
        </p:grpSpPr>
        <p:sp>
          <p:nvSpPr>
            <p:cNvPr id="633" name="AutoShape 81"/>
            <p:cNvSpPr/>
            <p:nvPr/>
          </p:nvSpPr>
          <p:spPr>
            <a:xfrm>
              <a:off x="6781680" y="4689360"/>
              <a:ext cx="201132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4" name="Rectangle 82"/>
            <p:cNvSpPr/>
            <p:nvPr/>
          </p:nvSpPr>
          <p:spPr>
            <a:xfrm>
              <a:off x="6797520" y="4705200"/>
              <a:ext cx="1979640" cy="19836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5" name="Rectangle 83"/>
            <p:cNvSpPr/>
            <p:nvPr/>
          </p:nvSpPr>
          <p:spPr>
            <a:xfrm>
              <a:off x="6797520" y="4705200"/>
              <a:ext cx="1979640" cy="19836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6" name="Rectangle 84"/>
            <p:cNvSpPr/>
            <p:nvPr/>
          </p:nvSpPr>
          <p:spPr>
            <a:xfrm>
              <a:off x="7619400" y="4736880"/>
              <a:ext cx="67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Object: Kasree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7" name="Rectangle 85"/>
            <p:cNvSpPr/>
            <p:nvPr/>
          </p:nvSpPr>
          <p:spPr>
            <a:xfrm>
              <a:off x="6797520" y="4903560"/>
              <a:ext cx="1979640" cy="7192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8" name="Rectangle 86"/>
            <p:cNvSpPr/>
            <p:nvPr/>
          </p:nvSpPr>
          <p:spPr>
            <a:xfrm>
              <a:off x="6797520" y="4903560"/>
              <a:ext cx="1979640" cy="7192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9" name="Rectangle 87"/>
            <p:cNvSpPr/>
            <p:nvPr/>
          </p:nvSpPr>
          <p:spPr>
            <a:xfrm>
              <a:off x="6870600" y="4957560"/>
              <a:ext cx="71928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0" name="Rectangle 88"/>
            <p:cNvSpPr/>
            <p:nvPr/>
          </p:nvSpPr>
          <p:spPr>
            <a:xfrm>
              <a:off x="6924240" y="498456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t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1" name="Rectangle 89"/>
            <p:cNvSpPr/>
            <p:nvPr/>
          </p:nvSpPr>
          <p:spPr>
            <a:xfrm>
              <a:off x="7751880" y="5262480"/>
              <a:ext cx="77472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2" name="Rectangle 90"/>
            <p:cNvSpPr/>
            <p:nvPr/>
          </p:nvSpPr>
          <p:spPr>
            <a:xfrm>
              <a:off x="7751880" y="5262480"/>
              <a:ext cx="774720" cy="1810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3" name="Rectangle 91"/>
            <p:cNvSpPr/>
            <p:nvPr/>
          </p:nvSpPr>
          <p:spPr>
            <a:xfrm>
              <a:off x="7751880" y="4957560"/>
              <a:ext cx="77472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4" name="Rectangle 92"/>
            <p:cNvSpPr/>
            <p:nvPr/>
          </p:nvSpPr>
          <p:spPr>
            <a:xfrm>
              <a:off x="7751880" y="4957560"/>
              <a:ext cx="774720" cy="1796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5" name="Rectangle 93"/>
            <p:cNvSpPr/>
            <p:nvPr/>
          </p:nvSpPr>
          <p:spPr>
            <a:xfrm>
              <a:off x="6834240" y="5262480"/>
              <a:ext cx="70164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6" name="Rectangle 94"/>
            <p:cNvSpPr/>
            <p:nvPr/>
          </p:nvSpPr>
          <p:spPr>
            <a:xfrm>
              <a:off x="6915240" y="5289480"/>
              <a:ext cx="39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quam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7" name="Text Box 95"/>
            <p:cNvSpPr/>
            <p:nvPr/>
          </p:nvSpPr>
          <p:spPr>
            <a:xfrm>
              <a:off x="7923600" y="5146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8" name="Text Box 96"/>
            <p:cNvSpPr/>
            <p:nvPr/>
          </p:nvSpPr>
          <p:spPr>
            <a:xfrm>
              <a:off x="7923600" y="485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398793EB-E243-4E04-A11B-E513AE855664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Class with Multiple Constructors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152280" y="1143000"/>
            <a:ext cx="426744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247680" y="1170000"/>
            <a:ext cx="42480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Kasr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bas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maquam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</a:t>
            </a: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Kasree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(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ast = 0; maquam =1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public </a:t>
            </a: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Kasree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a, int b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ast = a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 != 0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quam = b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quam = 1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419040" y="4648320"/>
            <a:ext cx="3314880" cy="1371600"/>
          </a:xfrm>
          <a:prstGeom prst="rect">
            <a:avLst/>
          </a:prstGeom>
          <a:solidFill>
            <a:srgbClr val="effbff"/>
          </a:solidFill>
          <a:ln w="9360">
            <a:solidFill>
              <a:srgbClr val="eaf0fe"/>
            </a:solidFill>
            <a:miter/>
          </a:ln>
          <a:effectLst>
            <a:outerShdw dist="117181" dir="2961631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538920" y="4903920"/>
            <a:ext cx="298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x   =  new Kasree(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y   = new Kasree(4, 3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1895400" y="60199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51d"/>
                </a:solidFill>
                <a:latin typeface="Tahoma"/>
                <a:ea typeface="ＭＳ Ｐゴシック"/>
              </a:rPr>
              <a:t>C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8" name="Text Box 9"/>
          <p:cNvSpPr/>
          <p:nvPr/>
        </p:nvSpPr>
        <p:spPr>
          <a:xfrm>
            <a:off x="556200" y="4751280"/>
            <a:ext cx="1765800" cy="459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Kasree x , y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59" name="Group 19"/>
          <p:cNvGrpSpPr/>
          <p:nvPr/>
        </p:nvGrpSpPr>
        <p:grpSpPr>
          <a:xfrm>
            <a:off x="-309600" y="4748040"/>
            <a:ext cx="3753000" cy="885600"/>
            <a:chOff x="-309600" y="4748040"/>
            <a:chExt cx="3753000" cy="885600"/>
          </a:xfrm>
        </p:grpSpPr>
        <p:sp>
          <p:nvSpPr>
            <p:cNvPr id="660" name="Line 20"/>
            <p:cNvSpPr/>
            <p:nvPr/>
          </p:nvSpPr>
          <p:spPr>
            <a:xfrm flipH="1">
              <a:off x="2320560" y="4954320"/>
              <a:ext cx="692280" cy="4287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1" name="Oval 21"/>
            <p:cNvSpPr/>
            <p:nvPr/>
          </p:nvSpPr>
          <p:spPr>
            <a:xfrm>
              <a:off x="3006720" y="4748040"/>
              <a:ext cx="436680" cy="34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40186" dir="1096358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1051b"/>
                  </a:solidFill>
                  <a:latin typeface="Arial"/>
                  <a:ea typeface="ＭＳ Ｐゴシック"/>
                </a:rPr>
                <a:t>A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2" name="Text Box 22"/>
            <p:cNvSpPr/>
            <p:nvPr/>
          </p:nvSpPr>
          <p:spPr>
            <a:xfrm>
              <a:off x="-309600" y="529704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63" name="Text Box 23"/>
          <p:cNvSpPr/>
          <p:nvPr/>
        </p:nvSpPr>
        <p:spPr>
          <a:xfrm>
            <a:off x="5680440" y="5791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51d"/>
                </a:solidFill>
                <a:latin typeface="Tahoma"/>
                <a:ea typeface="ＭＳ Ｐゴシック"/>
              </a:rPr>
              <a:t>State of Mem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4" name="Rectangle 24"/>
          <p:cNvSpPr/>
          <p:nvPr/>
        </p:nvSpPr>
        <p:spPr>
          <a:xfrm>
            <a:off x="4724280" y="1216080"/>
            <a:ext cx="4232520" cy="44226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117181" dir="2961631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5" name="Rectangle 25"/>
          <p:cNvSpPr/>
          <p:nvPr/>
        </p:nvSpPr>
        <p:spPr>
          <a:xfrm>
            <a:off x="7439040" y="15476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  <a:ea typeface="ＭＳ Ｐゴシック"/>
              </a:rPr>
              <a:t>x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6" name="Rectangle 26"/>
          <p:cNvSpPr/>
          <p:nvPr/>
        </p:nvSpPr>
        <p:spPr>
          <a:xfrm>
            <a:off x="7748640" y="1631880"/>
            <a:ext cx="93816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71785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7" name="AutoShape 28"/>
          <p:cNvSpPr/>
          <p:nvPr/>
        </p:nvSpPr>
        <p:spPr>
          <a:xfrm>
            <a:off x="4952880" y="1447920"/>
            <a:ext cx="243864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051b"/>
                </a:solidFill>
                <a:latin typeface="Arial"/>
                <a:ea typeface="ＭＳ Ｐゴシック"/>
              </a:rPr>
              <a:t>A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nstructor declared with no-parameter is used to create the objec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8" name="AutoShape 30"/>
          <p:cNvSpPr/>
          <p:nvPr/>
        </p:nvSpPr>
        <p:spPr>
          <a:xfrm>
            <a:off x="6934320" y="3581280"/>
            <a:ext cx="1849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69" name="Group 44"/>
          <p:cNvGrpSpPr/>
          <p:nvPr/>
        </p:nvGrpSpPr>
        <p:grpSpPr>
          <a:xfrm>
            <a:off x="6781680" y="2286000"/>
            <a:ext cx="2011320" cy="949320"/>
            <a:chOff x="6781680" y="2286000"/>
            <a:chExt cx="2011320" cy="949320"/>
          </a:xfrm>
        </p:grpSpPr>
        <p:sp>
          <p:nvSpPr>
            <p:cNvPr id="670" name="AutoShape 45"/>
            <p:cNvSpPr/>
            <p:nvPr/>
          </p:nvSpPr>
          <p:spPr>
            <a:xfrm>
              <a:off x="6781680" y="2286000"/>
              <a:ext cx="201132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1" name="Rectangle 46"/>
            <p:cNvSpPr/>
            <p:nvPr/>
          </p:nvSpPr>
          <p:spPr>
            <a:xfrm>
              <a:off x="6797520" y="2301840"/>
              <a:ext cx="1979640" cy="19836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2" name="Rectangle 47"/>
            <p:cNvSpPr/>
            <p:nvPr/>
          </p:nvSpPr>
          <p:spPr>
            <a:xfrm>
              <a:off x="6797520" y="2301840"/>
              <a:ext cx="1979640" cy="19836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3" name="Rectangle 48"/>
            <p:cNvSpPr/>
            <p:nvPr/>
          </p:nvSpPr>
          <p:spPr>
            <a:xfrm>
              <a:off x="7619400" y="2333520"/>
              <a:ext cx="67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Object: Kasree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4" name="Rectangle 49"/>
            <p:cNvSpPr/>
            <p:nvPr/>
          </p:nvSpPr>
          <p:spPr>
            <a:xfrm>
              <a:off x="6797520" y="2500200"/>
              <a:ext cx="1979640" cy="7192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5" name="Rectangle 50"/>
            <p:cNvSpPr/>
            <p:nvPr/>
          </p:nvSpPr>
          <p:spPr>
            <a:xfrm>
              <a:off x="6797520" y="2500200"/>
              <a:ext cx="1979640" cy="7192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6" name="Rectangle 51"/>
            <p:cNvSpPr/>
            <p:nvPr/>
          </p:nvSpPr>
          <p:spPr>
            <a:xfrm>
              <a:off x="6870600" y="2554200"/>
              <a:ext cx="71928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7" name="Rectangle 52"/>
            <p:cNvSpPr/>
            <p:nvPr/>
          </p:nvSpPr>
          <p:spPr>
            <a:xfrm>
              <a:off x="6924240" y="258120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t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8" name="Rectangle 53"/>
            <p:cNvSpPr/>
            <p:nvPr/>
          </p:nvSpPr>
          <p:spPr>
            <a:xfrm>
              <a:off x="7751880" y="2859120"/>
              <a:ext cx="77472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9" name="Rectangle 54"/>
            <p:cNvSpPr/>
            <p:nvPr/>
          </p:nvSpPr>
          <p:spPr>
            <a:xfrm>
              <a:off x="7751880" y="2859120"/>
              <a:ext cx="774720" cy="1810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0" name="Rectangle 55"/>
            <p:cNvSpPr/>
            <p:nvPr/>
          </p:nvSpPr>
          <p:spPr>
            <a:xfrm>
              <a:off x="7751880" y="2554200"/>
              <a:ext cx="77472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1" name="Rectangle 56"/>
            <p:cNvSpPr/>
            <p:nvPr/>
          </p:nvSpPr>
          <p:spPr>
            <a:xfrm>
              <a:off x="7751880" y="2554200"/>
              <a:ext cx="774720" cy="1796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2" name="Rectangle 57"/>
            <p:cNvSpPr/>
            <p:nvPr/>
          </p:nvSpPr>
          <p:spPr>
            <a:xfrm>
              <a:off x="6834240" y="2859120"/>
              <a:ext cx="70164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3" name="Rectangle 58"/>
            <p:cNvSpPr/>
            <p:nvPr/>
          </p:nvSpPr>
          <p:spPr>
            <a:xfrm>
              <a:off x="6915240" y="2886120"/>
              <a:ext cx="39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quam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4" name="Text Box 59"/>
            <p:cNvSpPr/>
            <p:nvPr/>
          </p:nvSpPr>
          <p:spPr>
            <a:xfrm>
              <a:off x="7923600" y="2743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5" name="Text Box 60"/>
            <p:cNvSpPr/>
            <p:nvPr/>
          </p:nvSpPr>
          <p:spPr>
            <a:xfrm>
              <a:off x="7923600" y="24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686" name="Group 61"/>
          <p:cNvGrpSpPr/>
          <p:nvPr/>
        </p:nvGrpSpPr>
        <p:grpSpPr>
          <a:xfrm>
            <a:off x="6781680" y="4689360"/>
            <a:ext cx="2011320" cy="949320"/>
            <a:chOff x="6781680" y="4689360"/>
            <a:chExt cx="2011320" cy="949320"/>
          </a:xfrm>
        </p:grpSpPr>
        <p:sp>
          <p:nvSpPr>
            <p:cNvPr id="687" name="AutoShape 62"/>
            <p:cNvSpPr/>
            <p:nvPr/>
          </p:nvSpPr>
          <p:spPr>
            <a:xfrm>
              <a:off x="6781680" y="4689360"/>
              <a:ext cx="201132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8" name="Rectangle 63"/>
            <p:cNvSpPr/>
            <p:nvPr/>
          </p:nvSpPr>
          <p:spPr>
            <a:xfrm>
              <a:off x="6797520" y="4705200"/>
              <a:ext cx="1979640" cy="19836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9" name="Rectangle 64"/>
            <p:cNvSpPr/>
            <p:nvPr/>
          </p:nvSpPr>
          <p:spPr>
            <a:xfrm>
              <a:off x="6797520" y="4705200"/>
              <a:ext cx="1979640" cy="19836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0" name="Rectangle 65"/>
            <p:cNvSpPr/>
            <p:nvPr/>
          </p:nvSpPr>
          <p:spPr>
            <a:xfrm>
              <a:off x="7619400" y="4736880"/>
              <a:ext cx="67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Object: Kasree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1" name="Rectangle 66"/>
            <p:cNvSpPr/>
            <p:nvPr/>
          </p:nvSpPr>
          <p:spPr>
            <a:xfrm>
              <a:off x="6797520" y="4903560"/>
              <a:ext cx="1979640" cy="7192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2" name="Rectangle 67"/>
            <p:cNvSpPr/>
            <p:nvPr/>
          </p:nvSpPr>
          <p:spPr>
            <a:xfrm>
              <a:off x="6797520" y="4903560"/>
              <a:ext cx="1979640" cy="7192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3" name="Rectangle 68"/>
            <p:cNvSpPr/>
            <p:nvPr/>
          </p:nvSpPr>
          <p:spPr>
            <a:xfrm>
              <a:off x="6870600" y="4957560"/>
              <a:ext cx="71928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4" name="Rectangle 69"/>
            <p:cNvSpPr/>
            <p:nvPr/>
          </p:nvSpPr>
          <p:spPr>
            <a:xfrm>
              <a:off x="6924240" y="498456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t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5" name="Rectangle 70"/>
            <p:cNvSpPr/>
            <p:nvPr/>
          </p:nvSpPr>
          <p:spPr>
            <a:xfrm>
              <a:off x="7751880" y="5262480"/>
              <a:ext cx="77472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6" name="Rectangle 71"/>
            <p:cNvSpPr/>
            <p:nvPr/>
          </p:nvSpPr>
          <p:spPr>
            <a:xfrm>
              <a:off x="7751880" y="5262480"/>
              <a:ext cx="774720" cy="1810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7" name="Rectangle 72"/>
            <p:cNvSpPr/>
            <p:nvPr/>
          </p:nvSpPr>
          <p:spPr>
            <a:xfrm>
              <a:off x="7751880" y="4957560"/>
              <a:ext cx="77472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8" name="Rectangle 73"/>
            <p:cNvSpPr/>
            <p:nvPr/>
          </p:nvSpPr>
          <p:spPr>
            <a:xfrm>
              <a:off x="7751880" y="4957560"/>
              <a:ext cx="774720" cy="1796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9" name="Rectangle 74"/>
            <p:cNvSpPr/>
            <p:nvPr/>
          </p:nvSpPr>
          <p:spPr>
            <a:xfrm>
              <a:off x="6834240" y="5262480"/>
              <a:ext cx="70164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0" name="Rectangle 75"/>
            <p:cNvSpPr/>
            <p:nvPr/>
          </p:nvSpPr>
          <p:spPr>
            <a:xfrm>
              <a:off x="6915240" y="5289480"/>
              <a:ext cx="39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quam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1" name="Text Box 76"/>
            <p:cNvSpPr/>
            <p:nvPr/>
          </p:nvSpPr>
          <p:spPr>
            <a:xfrm>
              <a:off x="7923600" y="5146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2" name="Text Box 77"/>
            <p:cNvSpPr/>
            <p:nvPr/>
          </p:nvSpPr>
          <p:spPr>
            <a:xfrm>
              <a:off x="7923600" y="485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703" name="Group 78"/>
          <p:cNvGrpSpPr/>
          <p:nvPr/>
        </p:nvGrpSpPr>
        <p:grpSpPr>
          <a:xfrm>
            <a:off x="57240" y="5181480"/>
            <a:ext cx="3752280" cy="885600"/>
            <a:chOff x="57240" y="5181480"/>
            <a:chExt cx="3752280" cy="885600"/>
          </a:xfrm>
        </p:grpSpPr>
        <p:sp>
          <p:nvSpPr>
            <p:cNvPr id="704" name="Line 79"/>
            <p:cNvSpPr/>
            <p:nvPr/>
          </p:nvSpPr>
          <p:spPr>
            <a:xfrm flipH="1">
              <a:off x="2687400" y="5387760"/>
              <a:ext cx="691920" cy="4287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5" name="Oval 80"/>
            <p:cNvSpPr/>
            <p:nvPr/>
          </p:nvSpPr>
          <p:spPr>
            <a:xfrm>
              <a:off x="3373200" y="5181480"/>
              <a:ext cx="436320" cy="34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40186" dir="1096358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1051b"/>
                  </a:solidFill>
                  <a:latin typeface="Arial"/>
                  <a:ea typeface="ＭＳ Ｐゴシック"/>
                </a:rPr>
                <a:t>B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6" name="Text Box 81"/>
            <p:cNvSpPr/>
            <p:nvPr/>
          </p:nvSpPr>
          <p:spPr>
            <a:xfrm>
              <a:off x="57240" y="573048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cxnSp>
        <p:nvCxnSpPr>
          <p:cNvPr id="707" name="AutoShape 83"/>
          <p:cNvCxnSpPr>
            <a:endCxn id="672" idx="0"/>
          </p:cNvCxnSpPr>
          <p:nvPr/>
        </p:nvCxnSpPr>
        <p:spPr>
          <a:xfrm rot="5400000">
            <a:off x="7771680" y="1768320"/>
            <a:ext cx="550080" cy="518400"/>
          </a:xfrm>
          <a:prstGeom prst="curvedConnector5">
            <a:avLst>
              <a:gd name="adj1" fmla="val 49967"/>
              <a:gd name="adj2" fmla="val 49965"/>
              <a:gd name="adj3" fmla="val 49967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708" name="Rectangle 86"/>
          <p:cNvSpPr/>
          <p:nvPr/>
        </p:nvSpPr>
        <p:spPr>
          <a:xfrm>
            <a:off x="7468920" y="35352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  <a:ea typeface="ＭＳ Ｐゴシック"/>
              </a:rPr>
              <a:t>y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Rectangle 87"/>
          <p:cNvSpPr/>
          <p:nvPr/>
        </p:nvSpPr>
        <p:spPr>
          <a:xfrm>
            <a:off x="7778880" y="3619440"/>
            <a:ext cx="93816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71785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cxnSp>
        <p:nvCxnSpPr>
          <p:cNvPr id="710" name="AutoShape 89"/>
          <p:cNvCxnSpPr>
            <a:endCxn id="689" idx="0"/>
          </p:cNvCxnSpPr>
          <p:nvPr/>
        </p:nvCxnSpPr>
        <p:spPr>
          <a:xfrm rot="5400000">
            <a:off x="7560720" y="4036680"/>
            <a:ext cx="896040" cy="442080"/>
          </a:xfrm>
          <a:prstGeom prst="curvedConnector5">
            <a:avLst>
              <a:gd name="adj1" fmla="val 50000"/>
              <a:gd name="adj2" fmla="val 49959"/>
              <a:gd name="adj3" fmla="val 5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711" name="AutoShape 90"/>
          <p:cNvSpPr/>
          <p:nvPr/>
        </p:nvSpPr>
        <p:spPr>
          <a:xfrm>
            <a:off x="4952880" y="3505320"/>
            <a:ext cx="243864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051b"/>
                </a:solidFill>
                <a:latin typeface="Arial"/>
                <a:ea typeface="ＭＳ Ｐゴシック"/>
              </a:rPr>
              <a:t>B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nstructor declared with parameters is used to create the objec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4DB0EED7-D5C6-4127-987F-8B6CA4881940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Overloading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wo of the components of a method declaration comprise the </a:t>
            </a: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method signatur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method's nam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nd the parameter typ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signature of the constructors declared above ar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Kasree()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Kasree(int, int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overloading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methods allows implementing different versions of the same method with different </a:t>
            </a: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method signature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is means that methods within a class can have the same name if they have different parameter lists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0159C3EA-990B-4096-AD93-5A76A889F8F7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Overloading (cont.)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Overloaded methods are differentiated b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number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nd the type of the arguments passed into the method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You cannot declare more than one method with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same name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nd the same number and type of parameter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compiler does not consider return type when differentiating method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No declaration of two methods having the same signature even if they have a different return typ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7846B73A-2370-470B-A072-AEA65D040BE4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Method Declaration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thod declaration is composed of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thod hea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thod bod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390600" y="3657600"/>
            <a:ext cx="8753400" cy="1447560"/>
            <a:chOff x="390600" y="3657600"/>
            <a:chExt cx="8753400" cy="1447560"/>
          </a:xfrm>
        </p:grpSpPr>
        <p:sp>
          <p:nvSpPr>
            <p:cNvPr id="273" name="Rectangle 5"/>
            <p:cNvSpPr/>
            <p:nvPr/>
          </p:nvSpPr>
          <p:spPr>
            <a:xfrm>
              <a:off x="390600" y="3657600"/>
              <a:ext cx="8532720" cy="14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4" name="Rectangle 6"/>
            <p:cNvSpPr/>
            <p:nvPr/>
          </p:nvSpPr>
          <p:spPr>
            <a:xfrm>
              <a:off x="480960" y="3841560"/>
              <a:ext cx="86630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&lt;method header&gt;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   </a:t>
              </a:r>
              <a:r>
                <a:rPr b="1" lang="en-US" sz="1800" spc="-1" strike="noStrike">
                  <a:solidFill>
                    <a:srgbClr val="3399ff"/>
                  </a:solidFill>
                  <a:latin typeface="Courier New"/>
                  <a:ea typeface="ＭＳ Ｐゴシック"/>
                </a:rPr>
                <a:t>&lt;method body&gt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2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19B974AE-E1F1-4DDF-8AF4-71C4BC008471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Method Declaration (cont.)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2600" y="462276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Courier New"/>
                <a:ea typeface="ＭＳ Ｐゴシック"/>
              </a:rPr>
              <a:t>public    void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 setOwnerName  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ＭＳ Ｐゴシック"/>
              </a:rPr>
              <a:t>(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String  name   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ＭＳ Ｐゴシック"/>
              </a:rPr>
              <a:t>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ownerName = name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ＭＳ Ｐゴシック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AutoShape 8"/>
          <p:cNvSpPr/>
          <p:nvPr/>
        </p:nvSpPr>
        <p:spPr>
          <a:xfrm>
            <a:off x="6477120" y="5105520"/>
            <a:ext cx="1625400" cy="353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hod body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AutoShape 9"/>
          <p:cNvSpPr/>
          <p:nvPr/>
        </p:nvSpPr>
        <p:spPr>
          <a:xfrm>
            <a:off x="1295280" y="5029200"/>
            <a:ext cx="4029120" cy="571680"/>
          </a:xfrm>
          <a:prstGeom prst="roundRect">
            <a:avLst>
              <a:gd name="adj" fmla="val 16667"/>
            </a:avLst>
          </a:prstGeom>
          <a:noFill/>
          <a:ln cap="rnd" w="38160">
            <a:solidFill>
              <a:srgbClr val="a5002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5562720" y="4572000"/>
            <a:ext cx="1736640" cy="0"/>
          </a:xfrm>
          <a:prstGeom prst="line">
            <a:avLst/>
          </a:prstGeom>
          <a:ln cap="rnd" w="57240">
            <a:solidFill>
              <a:srgbClr val="a5002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Line 14"/>
          <p:cNvSpPr/>
          <p:nvPr/>
        </p:nvSpPr>
        <p:spPr>
          <a:xfrm flipV="1">
            <a:off x="5410080" y="5257440"/>
            <a:ext cx="1067040" cy="12600"/>
          </a:xfrm>
          <a:prstGeom prst="line">
            <a:avLst/>
          </a:prstGeom>
          <a:ln w="28440">
            <a:solidFill>
              <a:srgbClr val="40458c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84" name="Group 19"/>
          <p:cNvGrpSpPr/>
          <p:nvPr/>
        </p:nvGrpSpPr>
        <p:grpSpPr>
          <a:xfrm>
            <a:off x="228600" y="3502080"/>
            <a:ext cx="1155600" cy="1025640"/>
            <a:chOff x="228600" y="3502080"/>
            <a:chExt cx="1155600" cy="1025640"/>
          </a:xfrm>
        </p:grpSpPr>
        <p:sp>
          <p:nvSpPr>
            <p:cNvPr id="285" name="Line 7"/>
            <p:cNvSpPr/>
            <p:nvPr/>
          </p:nvSpPr>
          <p:spPr>
            <a:xfrm flipV="1">
              <a:off x="1014480" y="3854520"/>
              <a:ext cx="0" cy="673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6" name="AutoShape 15"/>
            <p:cNvSpPr/>
            <p:nvPr/>
          </p:nvSpPr>
          <p:spPr>
            <a:xfrm>
              <a:off x="228600" y="3502080"/>
              <a:ext cx="1155600" cy="3542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4045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odifier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87" name="Group 20"/>
          <p:cNvGrpSpPr/>
          <p:nvPr/>
        </p:nvGrpSpPr>
        <p:grpSpPr>
          <a:xfrm>
            <a:off x="1676520" y="3502080"/>
            <a:ext cx="1523880" cy="1025640"/>
            <a:chOff x="1676520" y="3502080"/>
            <a:chExt cx="1523880" cy="1025640"/>
          </a:xfrm>
        </p:grpSpPr>
        <p:sp>
          <p:nvSpPr>
            <p:cNvPr id="288" name="Line 10"/>
            <p:cNvSpPr/>
            <p:nvPr/>
          </p:nvSpPr>
          <p:spPr>
            <a:xfrm flipV="1">
              <a:off x="2341440" y="3854520"/>
              <a:ext cx="0" cy="673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9" name="AutoShape 16"/>
            <p:cNvSpPr/>
            <p:nvPr/>
          </p:nvSpPr>
          <p:spPr>
            <a:xfrm>
              <a:off x="1676520" y="3502080"/>
              <a:ext cx="1523880" cy="3542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4045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turn Type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90" name="Group 21"/>
          <p:cNvGrpSpPr/>
          <p:nvPr/>
        </p:nvGrpSpPr>
        <p:grpSpPr>
          <a:xfrm>
            <a:off x="3581280" y="3502080"/>
            <a:ext cx="1625760" cy="1025640"/>
            <a:chOff x="3581280" y="3502080"/>
            <a:chExt cx="1625760" cy="1025640"/>
          </a:xfrm>
        </p:grpSpPr>
        <p:sp>
          <p:nvSpPr>
            <p:cNvPr id="291" name="Line 11"/>
            <p:cNvSpPr/>
            <p:nvPr/>
          </p:nvSpPr>
          <p:spPr>
            <a:xfrm flipV="1">
              <a:off x="4305240" y="3854520"/>
              <a:ext cx="0" cy="673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2" name="AutoShape 17"/>
            <p:cNvSpPr/>
            <p:nvPr/>
          </p:nvSpPr>
          <p:spPr>
            <a:xfrm>
              <a:off x="3581280" y="3502080"/>
              <a:ext cx="1625760" cy="3542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4045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ethod Name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93" name="Group 22"/>
          <p:cNvGrpSpPr/>
          <p:nvPr/>
        </p:nvGrpSpPr>
        <p:grpSpPr>
          <a:xfrm>
            <a:off x="5638680" y="3502080"/>
            <a:ext cx="1523880" cy="1025280"/>
            <a:chOff x="5638680" y="3502080"/>
            <a:chExt cx="1523880" cy="1025280"/>
          </a:xfrm>
        </p:grpSpPr>
        <p:sp>
          <p:nvSpPr>
            <p:cNvPr id="294" name="Line 12"/>
            <p:cNvSpPr/>
            <p:nvPr/>
          </p:nvSpPr>
          <p:spPr>
            <a:xfrm flipV="1">
              <a:off x="6432480" y="3909960"/>
              <a:ext cx="0" cy="6174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5" name="AutoShape 18"/>
            <p:cNvSpPr/>
            <p:nvPr/>
          </p:nvSpPr>
          <p:spPr>
            <a:xfrm>
              <a:off x="5638680" y="3502080"/>
              <a:ext cx="1523880" cy="3542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4045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meters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96" name="Group 23"/>
          <p:cNvGrpSpPr/>
          <p:nvPr/>
        </p:nvGrpSpPr>
        <p:grpSpPr>
          <a:xfrm>
            <a:off x="304920" y="1295280"/>
            <a:ext cx="8663040" cy="1447920"/>
            <a:chOff x="304920" y="1295280"/>
            <a:chExt cx="8663040" cy="1447920"/>
          </a:xfrm>
        </p:grpSpPr>
        <p:sp>
          <p:nvSpPr>
            <p:cNvPr id="297" name="Rectangle 24"/>
            <p:cNvSpPr/>
            <p:nvPr/>
          </p:nvSpPr>
          <p:spPr>
            <a:xfrm>
              <a:off x="390600" y="1295280"/>
              <a:ext cx="85327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8" name="Rectangle 25"/>
            <p:cNvSpPr/>
            <p:nvPr/>
          </p:nvSpPr>
          <p:spPr>
            <a:xfrm>
              <a:off x="304920" y="1447560"/>
              <a:ext cx="86630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&lt;modifiers&gt;  &lt;return type&gt;  &lt;method name&gt;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&lt;parameters&gt;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)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   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&lt;method body&gt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F1E945F0-0E2A-4C98-A28D-A608D4446B15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Method Header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339966"/>
                </a:solidFill>
                <a:latin typeface="Tahoma"/>
              </a:rPr>
              <a:t>modifier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represent the way the method is accesse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339966"/>
                </a:solidFill>
                <a:latin typeface="Tahoma"/>
              </a:rPr>
              <a:t>return typ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ndicates the type of value (if any) the method return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f the method returns a value, the type of the value must be declare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turned values can be used by the calling method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ny method can return at most one value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f the method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turns nothing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the keyword </a:t>
            </a:r>
            <a:r>
              <a:rPr b="1" i="1" lang="en-US" sz="1800" spc="-1" strike="noStrike">
                <a:solidFill>
                  <a:srgbClr val="9900cc"/>
                </a:solidFill>
                <a:latin typeface="Tahoma"/>
              </a:rPr>
              <a:t>voi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must be used as th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return type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339966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represent a list of variables whose values will be passed to the method for use by the metho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y are optional.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method that does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not accept parameters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is declared with an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empty set of parameters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side the parentheses.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304920" y="914400"/>
            <a:ext cx="8663040" cy="1447920"/>
            <a:chOff x="304920" y="914400"/>
            <a:chExt cx="8663040" cy="1447920"/>
          </a:xfrm>
        </p:grpSpPr>
        <p:sp>
          <p:nvSpPr>
            <p:cNvPr id="305" name="Rectangle 5"/>
            <p:cNvSpPr/>
            <p:nvPr/>
          </p:nvSpPr>
          <p:spPr>
            <a:xfrm>
              <a:off x="390600" y="914400"/>
              <a:ext cx="85327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>
              <a:off x="304920" y="1066680"/>
              <a:ext cx="86630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&lt;modifiers&gt;  &lt;return type&gt;  &lt;method name&gt;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8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&lt;parameters&gt;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)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   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&lt;method body&gt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727FD3F9-B3AC-424C-81EE-DFF6690E7D87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ypes of method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re 3 different criteria defining types of method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difiers: this criteria is also composed of 3 sub-criter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isibility: public or private (or protected in csc 113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hared between all instances or not: class member (static) or instance meth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verride able or not (final): to be discussed in CSC 113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turn type: method with or without (void) return valu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meters: with or without paramet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35A72712-F6F4-4E1A-82B3-A4353E81D9F0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Example of Methods with 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No-Parameters and No-Return value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685800" y="1676520"/>
            <a:ext cx="8077320" cy="44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914400" y="1816200"/>
            <a:ext cx="7772400" cy="45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import java.util.Scanner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ours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Attribut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studentName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courseCode 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canner input = new Scanner(System.in); //Class att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Methods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enterDataFromKeyBoard() 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ystem.out.print (“Enter the student name: ”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udentName = input.next(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ystem.out.print (“Enter the course code: ”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urseCode = input.next(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displayData() 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ystem.out.println (“The student name is: ” + studentName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ystem.out.println (“The the course code is: ”+ courseCode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EA78EFEA-18A0-4B80-A75A-277BD5F4CDF4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Message Passing Principle 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or Method Invocation</a:t>
            </a:r>
            <a:br>
              <a:rPr sz="4000"/>
            </a:b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ssage passing is the principle that allows objects to communicate by exchanging messag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ssing a message to an object means ordering this latter to execute a specific metho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ssing messages to objects is also known as method invocati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8:45:47Z</dcterms:created>
  <dc:creator>Staff Member</dc:creator>
  <dc:description/>
  <dc:language>en-US</dc:language>
  <cp:lastModifiedBy>Rawan</cp:lastModifiedBy>
  <dcterms:modified xsi:type="dcterms:W3CDTF">2012-11-15T12:35:15Z</dcterms:modified>
  <cp:revision>13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dience">
    <vt:lpwstr/>
  </property>
  <property fmtid="{D5CDD505-2E9C-101B-9397-08002B2CF9AE}" pid="3" name="Comments">
    <vt:lpwstr/>
  </property>
  <property fmtid="{D5CDD505-2E9C-101B-9397-08002B2CF9AE}" pid="4" name="Comments1">
    <vt:lpwstr/>
  </property>
  <property fmtid="{D5CDD505-2E9C-101B-9397-08002B2CF9AE}" pid="5" name="PublishingContactEmail">
    <vt:lpwstr/>
  </property>
  <property fmtid="{D5CDD505-2E9C-101B-9397-08002B2CF9AE}" pid="6" name="PublishingContactName">
    <vt:lpwstr/>
  </property>
  <property fmtid="{D5CDD505-2E9C-101B-9397-08002B2CF9AE}" pid="7" name="PublishingContactPicture">
    <vt:lpwstr/>
  </property>
  <property fmtid="{D5CDD505-2E9C-101B-9397-08002B2CF9AE}" pid="8" name="PublishingRollupImage">
    <vt:lpwstr/>
  </property>
  <property fmtid="{D5CDD505-2E9C-101B-9397-08002B2CF9AE}" pid="9" name="_TemplateID">
    <vt:lpwstr>TC010689871033</vt:lpwstr>
  </property>
</Properties>
</file>