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8B13-7A07-4E47-B3D1-65313E8B97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3E4C-97FF-4F2B-8665-8D0C36A91C0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D978-9BB2-4D80-A777-DA29A0DCF03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2A91-10FF-4EFC-B623-E34600B8411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6303-B5FA-4C1C-A36B-53D90325257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DAA0-A2B2-4433-AAB7-FC3114C2406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6174-3F49-40C5-9D88-B216154C04A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CF44-183B-47A1-9950-C6131DB21BB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FF8C-362F-48F0-B85F-C7F42840BC9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D744-5351-4AFA-BCB0-EEA3394BE66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B6F6-9062-4361-B526-5152181A6EC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A7D9-E9F7-4934-9C50-FB8E0E86CC0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9A01-2ABE-4FCC-A400-3802DAB4923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3276-AA5C-4735-80E4-E0AE2BD7BA1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8F3B-1EC0-4C8B-94AC-B0549B7D174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7D77-13CB-48D9-9D13-7B3BC590B19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4A1D-19E4-47E2-A734-3DAD97EC069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CFAC-72F8-4A8A-8913-9A2E96CBAC5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B382-5AF4-48EA-9A7B-BFCFA018D21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E79F-2E8E-43B6-9CB8-52199B2C881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87A5-770F-49E6-AE48-860C69FFACF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67AB-F863-4AD0-8506-3C7EE5C6F58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B650-FCA8-4937-9D7A-97B39759D1F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3B07-AFE5-4CA8-BB94-034D308E56B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D868-D338-44AE-B81B-80B7B145CD1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FB30-ACF0-474C-AD05-28DD7975F0C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6999-FFA4-4B96-B395-A3A8E8693AF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C329-BB09-4990-AF2D-9FDA084E661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3C20-4136-4230-9073-BA2099DF7B6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01B2-3C79-4438-A988-5BD7B2D7286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EB4858-6321-4DAC-8B0C-E7DA63A9E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29A78A-2CDD-43A8-B339-D776795AB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93BADE-E4EC-492F-8942-03D833455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3A2FD7-0B18-4711-94C8-516AC3D78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F24EE6-40A6-48E7-B3A3-6F3E27926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1AD8E2-95F4-4135-9E0A-21E43FBA32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2220A-0926-4702-93A3-09B044752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14A1A3-66D2-42A5-94A0-3253A372B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91290F-8798-4D66-9138-E509078D01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F9C05-5604-4BCD-A613-BBC53236CE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A5269-C8CD-4768-B3DF-6E633EA4B4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A02032-22AE-42DB-9B58-A8CC2DE5B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F5B9-256B-4E37-8D84-A6A4914FEDA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EDF-87E4-45E2-A395-3E6700E264A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A69E-3F6E-4355-83E0-B3F4C0777C5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A107-830D-4FF0-96C6-FE8482509C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90C9-58CF-400B-BA7E-18FF160604E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A28D-88A1-4B12-9984-AA36E3E9A05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30A0-9958-472B-ACDC-5626F916934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816B-6E90-44FC-809C-884D6E9D75B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1EA2-8160-4DA8-AE1D-433CCB7FB3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2B00-A016-4C18-82A3-8E0FACBCB02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82A5-8966-4E17-8AC0-3DFB1A96A15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F157-8183-408C-9529-721D8F7C2F5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DB29-D6FF-4579-8AFF-B4BE056DFD0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3FAB-FAB1-49C1-ABA1-63EB9A1D39E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7A9E-18F8-4F06-BEA4-AAF5AD7299E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5647-DB3C-4972-B5B8-545E414632D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5C4B-B880-4F66-85FD-D83CBE4ECE8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2C70-0AE1-4E0C-A961-43A00E7B43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BA96-D787-4911-AE0D-8A824106F95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5636-639F-4AF0-B4EE-64DC7053045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4F95-B0D7-4BBF-B756-08338BFF57B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3C86-AED9-4E2F-AD0A-B61CA8D569D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B397-D121-420A-92E4-395BD504A85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36DE-3144-49C3-821C-156A85C0543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B83B-D489-438A-B38D-4EB70B7BE96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7D2D-A069-4790-9ADE-0BFC95918D2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020-E718-410C-B32E-EA7ABD69083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20A4-E740-480A-A9F7-7812A221F3F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C079-A5E5-46E7-B3DC-67E7C3BB682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10:43Z</dcterms:modified>
  <cp:revision>139</cp:revision>
  <dc:subject>Survey of Probability Concepts</dc:subject>
  <dc:title>Chapter 5</dc:title>
</cp:coreProperties>
</file>