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3722-F6B2-48FD-A4E6-7C649AC02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6816-A031-43A2-A3E4-9B9C5B356E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86F3-2956-4C57-A35E-92686246F5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579F-DB99-4D51-9D2A-73DA15D739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B6E8-81B8-4BC4-8B40-D775470467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52C6-BE35-45D3-8F77-BC8224063E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CC65-3329-46DB-A997-5ABF027777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2787-07B7-4287-9161-D3F7E62787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3987-8F79-4F01-AB28-217C63415B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BC0E-7D75-40B7-9B24-02246C6B06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C0C9-F3F5-4A9B-A4DB-945114ED60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38A1-55D4-4F80-AA5C-751533FE47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9F57-FC1B-4506-90E8-1BA27B36FB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C62C-DDF6-42E9-B50E-B60B6ADEAD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33DE-8159-4C31-A7A8-EEE82885BE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7A74-76C1-41E1-B518-0B0AF6B8E3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3A42-A284-442A-8C73-5A23294540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C01A-E6F8-43B5-B8B7-5705C7B5E6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A656-A0F6-44E5-8AB0-C501E1A900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8A75-0BB0-4FB7-836B-D27A379B2F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0BB2-5F36-4AFF-8ABB-8216B18F11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2BA5-072C-42CD-8AEB-E8C8939973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4BED-3D7C-4B86-9838-75C45F9AC7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DE56-073E-4351-BE75-E034A2D3E8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417E-AB93-477E-A2A5-536678DD63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1A0B-7EF5-417D-A0BD-7F089FE014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FDC8-FC8A-49FB-A4A7-F52267F952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935F-94C4-4462-86B0-4CADA9D6ED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329E-47B9-452B-A2D7-8B831BB840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B1EF-1408-474F-A610-3E47B3EBED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9607-8AB5-4E90-86AF-3EB371953D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4FF0-92B8-4A72-8E23-DEC8775205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14CD-1E9E-4F1D-BB47-18522CFC6F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B3A4-66D5-4998-8A6F-450C8B4A86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33D4-5768-4339-AC68-051B89D6FB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19C0-C94C-4E2B-8F0A-992E15C590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2BEA-2777-4D9A-BF42-91FEA2AC22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6605-49BD-4876-AB51-8DF8FFC868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4D3A-2DE9-418B-8FA4-F0EE4C2BAD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9E24-766B-4C9B-A1CC-CFE25F4357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EAAFF-C4AD-46DC-9CB3-E944E8802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37F21-3A3D-4E9A-B75C-222F6B9AD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F5444-F911-48D7-8023-C7FBF801F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B037-7A78-4296-8428-B31843BAB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C1A05-B6ED-4A1B-9752-17CE28DB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ED622-6DC7-4F6B-BDC0-A7BB9556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7DD1E-CC6A-41EC-85AF-52A300B8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5DF87-9A31-42C4-8993-8C1CBD2A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FB936-6515-4A3F-A6B4-2F8105AC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A35CC-AD6C-4C20-8336-E12B9295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367A1-30C4-4FB0-B9B6-5D7D6067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04A58-CCE8-4C12-BFAB-EFF036F771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FD740-2E8A-4288-81DD-02A7774C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9E412-E392-4A31-9D0A-5FAF8E47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40E52-B65F-440C-B555-B4E4B0D2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600CA-6B8A-47F4-B66C-7C0D837E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06580-448F-4548-B89D-9719DA71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46D9D-88BD-430B-8FAB-25CBB040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183EF-7548-41EA-8EB8-FC5158C3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2971A-1BF6-45F5-BC34-19226437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823CB-A6FD-41E3-9ECB-DD00F5FC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EA06D-FAC2-46FC-A7EE-F8ACA594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CC93C-C54D-4EB1-B802-CA784F71FB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E7A09-8992-4639-B9D3-BEAD182D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BE01F-2781-4BA6-AB73-FA055401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2EDD74-A372-47C2-ADD5-0C240C03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AEB93B-6952-425B-B670-FB586A46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79B74-7632-4E8E-91C0-AAF27866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37A69-D727-4A0D-83AE-7E74B063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64ADE-9326-4D40-91A8-048FAB75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10F7-40B0-4BD3-8A64-385B3D12D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576B8-A4F6-4AE6-B398-C56C20F78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4B28-997B-4C50-855D-BDD200FD7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E6511-D35A-4C80-A67E-911FC1EDA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969A0-C367-4026-A0BD-3C3DA89ED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D7885-4EB4-4626-9FA2-16FB1A7F7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1D29-01C5-4DEF-8BA4-B21AF74D147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F833-5B19-4A08-A7E5-C381136B161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DFD9-9427-4B0E-AD8E-E5E58EE4A50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4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5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onfiguring, Managing, and Troubleshooting Resource Acces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1" name="Picture 3" descr="Cengage_1.jpg"/>
          <p:cNvPicPr/>
          <p:nvPr/>
        </p:nvPicPr>
        <p:blipFill>
          <a:blip r:embed="rId1"/>
          <a:stretch/>
        </p:blipFill>
        <p:spPr>
          <a:xfrm>
            <a:off x="0" y="0"/>
            <a:ext cx="366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113E-AF69-4B66-A289-5FDA623EC604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Attribut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ress attribut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folder and its contents can be stored on the disk in compressed forma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ression saves space and you can work on compressed files in the same way as on uncompressed fil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ressed files increase CPU overhead to open the files and to copy th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7FD1-E1EA-4C33-AD8D-0798377DC73D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ncrypt attribut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lnSpc>
                <a:spcPct val="15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tects folders and files so that only the user who encrypts the folder or file is able to read i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8400" indent="-268560">
              <a:lnSpc>
                <a:spcPct val="15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 encrypted folder or file uses the Microsoft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Encrypting File System (EFS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074240" indent="-214560">
              <a:lnSpc>
                <a:spcPct val="150000"/>
              </a:lnSpc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Which sets up a unique, private encryption key associated with the user account that encrypted the folder or fil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698400" indent="-268560">
              <a:lnSpc>
                <a:spcPct val="15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hen you move an encrypted file to another folder on the same computer, that file remains encrypted, even if you rename i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3CFB-B7D5-4E24-9583-3E48C0D605DD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Permiss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ermiss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rol access to an object, such as a folder or fi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you configure a folder so that a domain local group has access to only read the contents of that fold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You are configuring permiss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t the same time, you are configuring that folder’s discretionary access control list (DACL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A9DE-F3CA-47D7-997E-A32E5D9FD49E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41936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1CE9-6F60-46D7-9E77-8798356CBC75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676440" y="1558800"/>
            <a:ext cx="7781760" cy="4689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Permission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45FD-A127-4987-80DF-F9DED8B26B56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1"/>
          <a:stretch/>
        </p:blipFill>
        <p:spPr>
          <a:xfrm>
            <a:off x="2286000" y="122400"/>
            <a:ext cx="457200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143E-780A-4110-998C-61295A59952A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730520" y="122400"/>
            <a:ext cx="5661000" cy="60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CC7C-1B76-4035-91C0-10235A90EDF6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Audit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Audit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you to track activity on a folder or fi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2008 NTFS folders and files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 you to audit a combination of any or all of the activities listed as special permissions in Table 5-2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F849-19D1-4234-96FD-73D741AB7051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Ownershi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th permissions and auditing set up, you might want to verify the ownership of a fold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lders are first owned by the account that creates th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lder owners have the ability to change permissions for the folders they creat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wnership can be transferred only by having the Take ownership special permiss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 Full control permission (which includes Take ownership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192C-2E39-4E88-8630-7918BAE2DAFA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838080" y="246240"/>
            <a:ext cx="74678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689E-51AA-4D34-A5BC-327C69CB8FCD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t up security for folders and fi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figure shared folders and shared folder secur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tall and set up the Distributed File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figure disk quot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mplement UNIX compatibil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3087-C314-4377-B5FF-16498C883579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Shared Folders and Shared Folder Permiss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folder can be set up as a shared folder for users to access over the networ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figuring a shared folder is changed in Windows Server 2008 from previous vers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 help make the person offering the shared folder more aware of security op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first step for sharing a folder over the network is to turn on file sha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0639-100C-432F-AB81-3A532C003DBE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299C-B23B-4074-94D4-4B89314B1F62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349360" y="152280"/>
            <a:ext cx="444528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7999-AADC-48DA-9931-19ED0A175DCE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Shared Folders and Shared Folder Permission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hare permissions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r an objec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ffer from the NTFS access permissions set through the Security tab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NTFS and share permissions are cumulative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th the exception of permissions that are deni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hare permission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a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ribut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-own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wn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E2D7-2C30-42CD-BD05-999C79C5BDFE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Shared Folders and Shared Folder Permiss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cache a folder to make the contents of a shared folder available offlin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y offline files that have been modified can be synchronized with the network versions of the fil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folder can be cached in three way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nly the files and programs that users specify will be available offlin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 files and programs that users open from the share will be automatically available offlin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les or programs from the share will not be available offlin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98A6-3EB8-4D3B-B961-0E45DF4923EE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ublishing a Shared Folder in Active Directo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ublish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an objec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eans to make it available for users to access when they view Active Directory cont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Makes it easier to find when a user searches for that objec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irectory Service Client (DSClient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s earlier Windows-based operating systems to search Active Director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you publish an object, you can publish it to be shared for domain-wide access or to be shared and managed through an organizational unit (OU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515D-DDD7-4FCB-A340-6B1C7729E318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oubleshooting a Security Conflic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2008 offers the Effective Permissions tab in the properties of a folder or fi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s a tool to help troubleshoot permissions conflic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ing the Effective Permissions tab, you can view the effective permissions assigned to a user or grou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ake into account what happens when a folder or files in a folder are copied or mov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newly created file inherits the permissions already set up in a fol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DD78-97C9-4497-8F79-55F1EDF48202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oubleshooting a Security Conflict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ake into account what happens when a folder or files in a folder are copied or moved (continued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file that is copied from one folder to another on the same volume inherits the permissions of the folder to which it is copi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file or folder that is moved from one folder to another on the same volume takes with it the permissions it had in the original fol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file or folder that is moved or copied to a folder on a different volume inherits the permissions of the folder to which it is moved or copi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1787-F214-4922-8717-8BA443FF9CED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oubleshooting a Security Conflict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ake into account what happens when a folder or files in a folder are copied or moved (continued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file or folder that is moved or copied from an NTFS volume to a folder in a FAT volume is not protected by NTFS permiss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But it does inherit share permissions if they are assigned to the FAT folder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file or folder that is moved or copied from a FAT volume to a folder in an NTFS volume inherits the permissions already assigned in the NTFS fol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0519-BFC9-408C-810A-BC67E0EB1FF0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a Distributed File Syste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istributed File System (DF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you to simplify access to the shared folders on a network by setting up folders to appear as though they are accessed from only one pla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FS also makes managing folder access easier for server administrato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f DFS is used in a domain, then shared folder contents can be replicated to one or more DCs or member serv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2A5A-DD63-4BE4-941D-CA4BCAD888BF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ing Folder and File Securit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reating accounts and groups are the initial steps for sharing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next steps are to create access control lists (ACLs) to secure these objects and then to set them up for shar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iscretionary ACL (DACL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 ACL that is configured by a server administrator or owner of an obje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ystem control ACL (SACL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ains information used to audit the access to an obje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49A0-84D1-4F2E-A964-EEFF09F44F94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a Distributed File Syste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FS advantage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hared folders can be set up so that they appear in one hierarchy of fol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Enabling users to save time when searching for informatio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TFS access permissions fully apply to DFS on NTFS-formatted volum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ault tolerance is an option by replicating shared folders on multiple serv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ess to shared folders can be distributed across many servers (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load balancing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6707-EA89-4745-9382-34AAD7DB14F8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a Distributed File Syste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FS advantages: (continued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ess is improved to resources for Web-based Internet and intranet sit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ital shared folders on multiple computers can be backed up from one set of master fol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FS reduces the number of calls to server administrators asking where to find a particular resour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other advantage of DFS in a domain is that folders can be replicated automatically or manually through Microsoft File Replication Servi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CC1A-1FC5-47C3-BBB9-A8AD4789B6A4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FS Model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tand-alone DFS mod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o Active Directory implementation is available to help manage the shared fol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is model provides only a single or flat level sha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omain-based DFS mod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akes full advantage of Active Directory and is available only to servers and workstations that are members of a domai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a deep, root-based, hierarchical arrangement of shared folders that is published in Active Director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BB79-5202-4056-95FC-B0914CC1D2B2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FS Topolog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FS topolog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hierarchical structure of DFS in the domain-based mode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Namespace roo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main container (top-level folder) in Active Directory that holds links to shared folders that can be accessed from the roo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amespace ser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server that maintains the namespace roo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the namespace root is created, it is populated by shared folders for users to acc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53A1-2760-4DC6-9B4E-F34A49D9E269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FS Topolog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lders are established in a level hierarchy and appear to be in one server loc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though they can be on many serv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eplication grou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set of shared folders that is replicated or copied to one or more servers in a domai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212A-8681-4139-8776-846CB2DFC0A6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Disk Quota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sk quotas advantage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eventing users from filling the disk capac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couraging users to help manage disk spa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racking disk capacity needs on a per-user basis for future plann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ing server administrators with information about when users are nearing or have reached their quota limi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sk quotas can be set on any local or shared volu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25F4-2B97-4CB4-AACB-B6E975ADB7D2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Disk Quota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establish disk quotas by volume or us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sk quota management paramet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 quota manage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ny disk space to users exceeding quota limi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o not limit disk usag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imit disk space to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t warning level to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og event when a user exceeds their quota limi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og event when the user exceeds their warning leve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0BA2-6BD7-4AAD-8A3F-E5324852AE35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UNIX Interoperabilit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ubsystem for UNIX-based Applications (SUA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s interoperability between Windows Server 2008 and UNIX and Linux sys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A allows you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un UNIX/Linux applications with few or no changes to the program source cod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un UNIX/Linux scrip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un most UNIX/Linux comman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un the popular vi UNIX/Linux edit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15F5-AB19-4DDD-BAF8-6D3A7725BAC9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UNIX Interoperability in Windows Server 2008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2008 offers several important new features for SUA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re transparent ability for UNIX/Linux applications to connect to Oracle and SQL Server databa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ains true 64-bit libraries for support of 64-bit applications and utilities for high-performance respon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bility for application developers to use Microsoft Visual Studio for designing UNIX/Linux appl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9F16-4F77-401A-8306-D8FCA4AB61D3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UNIX Interoperability in Windows Server 2008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1"/>
          <a:stretch/>
        </p:blipFill>
        <p:spPr>
          <a:xfrm>
            <a:off x="533520" y="1776240"/>
            <a:ext cx="807696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ACCA-A236-4CCB-92A0-BFDB04CBE36F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Attribut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ttributes are stored as header information with each folder and fi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ong with other characteristics including volume label, designation as a subfolder, date of creation, and time of cre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wo basic attributes remain in NTFS that are still compatible with F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ad-only and hidde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advanced attributes are archive, index, compress, and encryp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888E-153B-460B-A1AE-D18D7AA0C10F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361800" y="328680"/>
            <a:ext cx="840132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DD36-6C5F-47F9-93C9-D8E79802103E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Attribut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rchive attribut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dicates that the folder or file needs to be backed up because it is new or chang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le server backup systems can be set to detect files with the archive attribute to ensure those files are backed u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dex attribute vs. Windows Search Servi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NTFS index attribute is used to index the folder and file contents so that file properties can be quickly searched in Windows Server 2008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Through the Indexing Servic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B6F2-1E1D-4112-AC14-F407405C62CF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Attribut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dex attribute vs. Windows Search Service (continued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Server 2008 offers a newer, faster search service called the Windows Search Servi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 use the Windows Search Service, you must install the File Services role via Server Manag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ultimaster replic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ach DC is equal to every other DC in that it contains the full range of information that composes Active Director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tive Directory is built to make replication effici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9C27-E192-4271-905E-A6643710F27B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898560" y="304920"/>
            <a:ext cx="733104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1CAF-2E11-40B0-B7EE-0E7A3FE60CDF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2050920" y="380880"/>
            <a:ext cx="50421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5-10-28T17:04:32Z</dcterms:modified>
  <cp:revision>694</cp:revision>
  <dc:subject/>
  <dc:title>Chapter 1</dc:title>
</cp:coreProperties>
</file>