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1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1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7856F-B1DB-4F8E-8ECC-35D9E492C5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A9B50-FDF0-4181-9EB6-F374A1F903C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C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EFBB8-399F-446B-B8ED-A3A98E98D42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CDF52-2C9B-4FB6-96B8-A7260D7788D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728E6-8F69-468D-B5C3-ACE23F979A4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9E82D-A5A0-439F-9F3C-DE171F03231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84EDE-78EC-429F-B74C-C3E0A021BE4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DFDC2-9BBB-4BE6-B5EF-95ED3E98E0A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B3CEF-5CA5-4C71-A5A9-ED01DA5BF17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D5136-2BFE-4546-9E77-8F65E4BD345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A1603-62BC-4A03-9F29-56D8F5F9E5D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B1B4A-9736-4B81-8481-C4902A5575E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1D062-70EC-407D-B50F-444C80CC9B4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58F2E-A89A-4EB7-BA6E-FC688B89CFB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4730D-EADD-46FF-A015-117617C32EA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6FC31-CA80-459F-818B-C342561CC64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F6591-C194-432F-BEC6-8AE8A23BC7F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FB7C8-2535-4C51-A622-177A9BE21FE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BD1E7-257E-4FF5-BA62-41253CFB82E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80ACA-CE56-4643-9C08-9BC9AF01DD1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1029D-391A-41BE-A09A-0CDEE8929A2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1F9E9-CB15-4337-9394-92DE1BCA9AE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1BB12-D26F-46F9-908A-47A581A8688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44D54-2F7C-4D80-AE4B-55FD9CA87FC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7C123-25AF-4952-AD4E-C98D6AFB12A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52CC2-2F4E-4433-8117-91F17399EE5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E58C2-3018-4AE6-A738-5152DDCECB9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A66D4-CBCB-47F8-96E3-1B44E5CE57B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BFCDD-03A5-4454-A6D1-42D13527194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D9E6A-40BD-4E71-9512-A6801873483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D4669-F143-4BFD-B220-F3C3080BDAB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AB0F8-F724-4834-8147-485F1C7D3A6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E7CD0-23EB-46E9-9090-BBE0417E199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A2B2C-12CC-4C18-9133-08A5099670D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5909A-0921-41BF-80A8-5115A5E5E50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2FCC0-A1C7-4C02-A371-02222DB3AD6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F8E36-0D53-4001-80D1-1AF3064CEEF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DD63D-3553-464B-BDFA-CF30F4BFC92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B8DD6-7F3C-4041-92CA-CD866D3D0E1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66C5A-73A0-45BB-861B-26C8D6E3D56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ACC8CA-8631-408A-BB12-02C30FD30F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335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461C4C-CD10-4856-8951-152950FDEF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335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20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43ACAE-A521-4D70-BA43-470C56FD02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644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958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335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644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958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3DC673-A0B7-4DFA-9404-A11B2B6F21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0887F2-C131-41A0-A057-33C28F5B1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9C0C55-EF9B-4AC5-AB34-5883FAA87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6A3B85-A8F1-4C0C-9E36-5B3A6D01E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FB7989-35CA-4336-AB26-EDA7927AB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BFFD52-12EE-4BA6-A4B4-47453E5AE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533520" y="38052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021014-F6D2-46FD-BFF0-A514D62D8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335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3A891A-9A24-40E9-A0AC-9CAE1DAB9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9DC885-F595-40F3-A626-E01067CED0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20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85CA1D-0939-49BC-B47F-0FC85A6BF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335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370A80-79DF-4E66-8C32-AC7A2A0DF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335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1BCE44-DB0B-4D0E-9417-CA6DF953F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335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20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67355D-EF69-467C-AF09-D8A25A269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644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958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335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644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958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909CA9-8B63-4847-B20B-B7B3F83AA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65CDB68-E9FE-4A23-BEF2-EF0B03334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5A30E55-86CC-4634-973A-E6E0C898E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3CC55F3-D4AD-42CF-A07E-BE6D1B44E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62AB28F-8DC2-4EF1-85B8-1135B7E79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83019C9-4D8C-4180-ABE8-0968D7E2F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4D2273-3CDF-4AD2-B1DE-6C5617463B1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533520" y="38052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B31A7DA-7C33-4195-A6A0-8FC6961EC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335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0837EA1-D74E-46ED-AD7D-FE56AEA31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20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A89DFA7-7B2A-4EE1-A09D-069954857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335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B5D5E9A-4CB7-43FF-8AFA-B0CD5D752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335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E7EBD57-6D82-4F72-812F-CDD001776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5335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20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B307A0E-E057-4175-B2CD-A1C247A5C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644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958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5335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644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958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6F5844D-8B36-4A9E-B48D-A08AE8002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88B43D-EF67-4E80-A20F-E417701BA1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959CE6-2BA1-4B76-9F81-FAD50DE0E5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533520" y="38052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4E771D-51D6-49B4-8C55-5D78AFD4AE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335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50394F-BA97-4A3F-97D3-50EFA929BC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20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1F8469-7956-4375-8F05-8FC159B547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335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4E7CED-FD69-484F-B89D-1545818D5D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533520" y="6324120"/>
            <a:ext cx="58672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2222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Hands-On Microsoft Windows Server 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324120"/>
            <a:ext cx="2057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2222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80D8A-BDF6-41F5-9760-3D17B0782C4F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2222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Hands-On Microsoft Windows Server 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2222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C4E48-A28B-4FF2-8951-D5AF9494C218}" type="slidenum"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2222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Hands-On Microsoft Windows Server 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2222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C2B2A-A9A8-4C75-85F4-C48B59F0A51B}" type="slidenum"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1447920"/>
            <a:ext cx="80010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2222"/>
                </a:solidFill>
                <a:latin typeface="Arial"/>
              </a:rPr>
              <a:t>Hands-On Microsoft Windows Server 2008</a:t>
            </a:r>
            <a:endParaRPr b="0" lang="en-US" sz="44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609120" y="4419360"/>
            <a:ext cx="807732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222222"/>
                </a:solidFill>
                <a:latin typeface="Arial"/>
              </a:rPr>
              <a:t>Chapter 5</a:t>
            </a:r>
            <a:endParaRPr b="0" lang="en-US" sz="3400" spc="-1" strike="noStrike">
              <a:solidFill>
                <a:srgbClr val="222222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222222"/>
                </a:solidFill>
                <a:latin typeface="Arial"/>
              </a:rPr>
              <a:t>Configuring, Managing, and Troubleshooting Resource Access</a:t>
            </a:r>
            <a:endParaRPr b="0" lang="en-US" sz="3400" spc="-1" strike="noStrike">
              <a:solidFill>
                <a:srgbClr val="222222"/>
              </a:solidFill>
              <a:latin typeface="Arial"/>
            </a:endParaRPr>
          </a:p>
        </p:txBody>
      </p:sp>
      <p:pic>
        <p:nvPicPr>
          <p:cNvPr id="131" name="Picture 3" descr="Cengage_1.jpg"/>
          <p:cNvPicPr/>
          <p:nvPr/>
        </p:nvPicPr>
        <p:blipFill>
          <a:blip r:embed="rId1"/>
          <a:stretch/>
        </p:blipFill>
        <p:spPr>
          <a:xfrm>
            <a:off x="0" y="0"/>
            <a:ext cx="366696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Hands-On Microsoft Windows Server 20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2AEB6-981E-48DA-997C-4DEA76913D94}" type="slidenum">
              <a:rPr b="0" lang="en-US" sz="1400" spc="-1" strike="noStrike">
                <a:solidFill>
                  <a:srgbClr val="222222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0769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Configuring Folder and File Attributes (continued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Compress attribute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A folder and its contents can be stored on the disk in compressed format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Compression saves space and you can work on compressed files in the same way as on uncompressed file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Compressed files increase CPU overhead to open the files and to copy them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Hands-On Microsoft Windows Server 20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1C1ED-6F00-460C-9293-B5449E5ACF62}" type="slidenum">
              <a:rPr b="0" lang="en-US" sz="1400" spc="-1" strike="noStrike">
                <a:solidFill>
                  <a:srgbClr val="222222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33520" y="-152280"/>
            <a:ext cx="80769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Encrypt attribute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-360" y="1219320"/>
            <a:ext cx="89917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lvl="1" marL="698400" indent="-268560">
              <a:lnSpc>
                <a:spcPct val="150000"/>
              </a:lnSpc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Protects folders and files so that only the user who encrypts the folder or file is able to read it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698400" indent="-268560">
              <a:lnSpc>
                <a:spcPct val="150000"/>
              </a:lnSpc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An encrypted folder or file uses the Microsoft </a:t>
            </a:r>
            <a:r>
              <a:rPr b="1" lang="en-US" sz="2400" spc="-1" strike="noStrike">
                <a:solidFill>
                  <a:srgbClr val="222222"/>
                </a:solidFill>
                <a:latin typeface="Arial"/>
              </a:rPr>
              <a:t>Encrypting File System (EFS)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2" marL="1074240" indent="-214560">
              <a:lnSpc>
                <a:spcPct val="150000"/>
              </a:lnSpc>
              <a:spcBef>
                <a:spcPts val="550"/>
              </a:spcBef>
              <a:buClr>
                <a:srgbClr val="22222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22222"/>
                </a:solidFill>
                <a:latin typeface="Arial"/>
              </a:rPr>
              <a:t>Which sets up a unique, private encryption key associated with the user account that encrypted the folder or file</a:t>
            </a:r>
            <a:endParaRPr b="0" lang="en-US" sz="2200" spc="-1" strike="noStrike">
              <a:solidFill>
                <a:srgbClr val="222222"/>
              </a:solidFill>
              <a:latin typeface="Arial"/>
            </a:endParaRPr>
          </a:p>
          <a:p>
            <a:pPr lvl="1" marL="698400" indent="-268560">
              <a:lnSpc>
                <a:spcPct val="150000"/>
              </a:lnSpc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When you move an encrypted file to another folder on the same computer, that file remains encrypted, even if you rename it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Hands-On Microsoft Windows Server 20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9558F-20D0-4D91-BD06-1A25E6BFB90A}" type="slidenum">
              <a:rPr b="0" lang="en-US" sz="1400" spc="-1" strike="noStrike">
                <a:solidFill>
                  <a:srgbClr val="222222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Configuring Folder and File Permissions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22222"/>
                </a:solidFill>
                <a:latin typeface="Arial"/>
              </a:rPr>
              <a:t>Permission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Control access to an object, such as a folder or file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When you configure a folder so that a domain local group has access to only read the contents of that folder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You are configuring permission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At the same time, you are configuring that folder’s discretionary access control list (DACL)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Hands-On Microsoft Windows Server 20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1FA47-9BD4-432D-930F-2AF2F1409248}" type="slidenum">
              <a:rPr b="0" lang="en-US" sz="1400" spc="-1" strike="noStrike">
                <a:solidFill>
                  <a:srgbClr val="222222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5" name="Picture 5" descr=""/>
          <p:cNvPicPr/>
          <p:nvPr/>
        </p:nvPicPr>
        <p:blipFill>
          <a:blip r:embed="rId1"/>
          <a:stretch/>
        </p:blipFill>
        <p:spPr>
          <a:xfrm>
            <a:off x="2362320" y="228600"/>
            <a:ext cx="4419360" cy="603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Hands-On Microsoft Windows Server 20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02698-0EC4-46A4-B20C-C00803E8B85E}" type="slidenum">
              <a:rPr b="0" lang="en-US" sz="1400" spc="-1" strike="noStrike">
                <a:solidFill>
                  <a:srgbClr val="222222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8" name="Picture 2" descr=""/>
          <p:cNvPicPr/>
          <p:nvPr/>
        </p:nvPicPr>
        <p:blipFill>
          <a:blip r:embed="rId1"/>
          <a:stretch/>
        </p:blipFill>
        <p:spPr>
          <a:xfrm>
            <a:off x="676440" y="1558800"/>
            <a:ext cx="7781760" cy="46897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Configuring Folder and File Permissions (continued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Hands-On Microsoft Windows Server 20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99EA1-412C-4B78-90AE-5F6C5198264C}" type="slidenum">
              <a:rPr b="0" lang="en-US" sz="1400" spc="-1" strike="noStrike">
                <a:solidFill>
                  <a:srgbClr val="222222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2" name="Picture 6" descr=""/>
          <p:cNvPicPr/>
          <p:nvPr/>
        </p:nvPicPr>
        <p:blipFill>
          <a:blip r:embed="rId1"/>
          <a:stretch/>
        </p:blipFill>
        <p:spPr>
          <a:xfrm>
            <a:off x="2286000" y="122400"/>
            <a:ext cx="4572000" cy="61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Hands-On Microsoft Windows Server 20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E3C31-00D8-451E-AE67-98F1AC72B67B}" type="slidenum">
              <a:rPr b="0" lang="en-US" sz="1400" spc="-1" strike="noStrike">
                <a:solidFill>
                  <a:srgbClr val="222222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5" name="Picture 2" descr=""/>
          <p:cNvPicPr/>
          <p:nvPr/>
        </p:nvPicPr>
        <p:blipFill>
          <a:blip r:embed="rId1"/>
          <a:stretch/>
        </p:blipFill>
        <p:spPr>
          <a:xfrm>
            <a:off x="1730520" y="122400"/>
            <a:ext cx="5661000" cy="608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Hands-On Microsoft Windows Server 20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E649A-994B-4117-92DF-538529B779F4}" type="slidenum">
              <a:rPr b="0" lang="en-US" sz="1400" spc="-1" strike="noStrike">
                <a:solidFill>
                  <a:srgbClr val="222222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Configuring Folder and File Auditing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22222"/>
                </a:solidFill>
                <a:latin typeface="Arial"/>
              </a:rPr>
              <a:t>Auditing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Enables you to track activity on a folder or file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Windows Server 2008 NTFS folders and files 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Enable you to audit a combination of any or all of the activities listed as special permissions in Table 5-2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Hands-On Microsoft Windows Server 20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87B4B-402F-403B-8D43-E4F36D81754F}" type="slidenum">
              <a:rPr b="0" lang="en-US" sz="1400" spc="-1" strike="noStrike">
                <a:solidFill>
                  <a:srgbClr val="222222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Configuring Folder and File Ownership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With permissions and auditing set up, you might want to verify the ownership of a folder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Folders are first owned by the account that creates them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Folder owners have the ability to change permissions for the folders they create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Ownership can be transferred only by having the Take ownership special permission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Or Full control permission (which includes Take ownership)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Hands-On Microsoft Windows Server 20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1B46E-F3BA-4722-9702-69C355111C85}" type="slidenum">
              <a:rPr b="0" lang="en-US" sz="1400" spc="-1" strike="noStrike">
                <a:solidFill>
                  <a:srgbClr val="222222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6" name="Picture 6" descr=""/>
          <p:cNvPicPr/>
          <p:nvPr/>
        </p:nvPicPr>
        <p:blipFill>
          <a:blip r:embed="rId1"/>
          <a:stretch/>
        </p:blipFill>
        <p:spPr>
          <a:xfrm>
            <a:off x="838080" y="246240"/>
            <a:ext cx="7467840" cy="59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Hands-On Microsoft Windows Server 20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D82D0-6E59-4363-83C0-B41EC214133E}" type="slidenum">
              <a:rPr b="0" lang="en-US" sz="1400" spc="-1" strike="noStrike">
                <a:solidFill>
                  <a:srgbClr val="222222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Objectives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et up security for folders and file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Configure shared folders and shared folder security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Install and set up the Distributed File System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Configure disk quota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Implement UNIX compatibility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Hands-On Microsoft Windows Server 20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A208F-FE92-4009-BB6E-7E8ACAA850F5}" type="slidenum">
              <a:rPr b="0" lang="en-US" sz="1400" spc="-1" strike="noStrike">
                <a:solidFill>
                  <a:srgbClr val="222222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Configuring Shared Folders and Shared Folder Permissions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A folder can be set up as a shared folder for users to access over the network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Configuring a shared folder is changed in Windows Server 2008 from previous version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To help make the person offering the shared folder more aware of security option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The first step for sharing a folder over the network is to turn on file sharing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Hands-On Microsoft Windows Server 20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63B4D-8A2A-4EA4-A80D-EAA439E978A1}" type="slidenum">
              <a:rPr b="0" lang="en-US" sz="1400" spc="-1" strike="noStrike">
                <a:solidFill>
                  <a:srgbClr val="222222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3" name="Picture 5" descr=""/>
          <p:cNvPicPr/>
          <p:nvPr/>
        </p:nvPicPr>
        <p:blipFill>
          <a:blip r:embed="rId1"/>
          <a:stretch/>
        </p:blipFill>
        <p:spPr>
          <a:xfrm>
            <a:off x="762120" y="380880"/>
            <a:ext cx="7619760" cy="574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Hands-On Microsoft Windows Server 20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EE5EB-DC0E-43B5-84CE-771CCCA47886}" type="slidenum">
              <a:rPr b="0" lang="en-US" sz="1400" spc="-1" strike="noStrike">
                <a:solidFill>
                  <a:srgbClr val="222222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6" name="Picture 2" descr=""/>
          <p:cNvPicPr/>
          <p:nvPr/>
        </p:nvPicPr>
        <p:blipFill>
          <a:blip r:embed="rId1"/>
          <a:stretch/>
        </p:blipFill>
        <p:spPr>
          <a:xfrm>
            <a:off x="2349360" y="152280"/>
            <a:ext cx="4445280" cy="611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Hands-On Microsoft Windows Server 20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0FE8A-DFA5-4A73-83D3-585980B3BD8F}" type="slidenum">
              <a:rPr b="0" lang="en-US" sz="1400" spc="-1" strike="noStrike">
                <a:solidFill>
                  <a:srgbClr val="222222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Configuring Shared Folders and Shared Folder Permissions (continued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22222"/>
                </a:solidFill>
                <a:latin typeface="Arial"/>
              </a:rPr>
              <a:t>Share permissions </a:t>
            </a: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for an object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Differ from the NTFS access permissions set through the Security tab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The NTFS and share permissions are cumulative 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With the exception of permissions that are denied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hare permissions: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Reader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Contributor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Co-owner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Owner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Hands-On Microsoft Windows Server 20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C4C4C-E104-4088-ACFE-43FB3391A1D2}" type="slidenum">
              <a:rPr b="0" lang="en-US" sz="1400" spc="-1" strike="noStrike">
                <a:solidFill>
                  <a:srgbClr val="222222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Configuring Shared Folders and Shared Folder Permissions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You can cache a folder to make the contents of a shared folder available offline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Any offline files that have been modified can be synchronized with the network versions of the file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39480" indent="-3394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A folder can be cached in three ways: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Only the files and programs that users specify will be available offline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All files and programs that users open from the share will be automatically available offline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Files or programs from the share will not be available offline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Hands-On Microsoft Windows Server 20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D65C5-14F9-4E91-A72E-83D32924A750}" type="slidenum">
              <a:rPr b="0" lang="en-US" sz="1400" spc="-1" strike="noStrike">
                <a:solidFill>
                  <a:srgbClr val="222222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Publishing a Shared Folder in Active Directory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To </a:t>
            </a:r>
            <a:r>
              <a:rPr b="1" lang="en-US" sz="2600" spc="-1" strike="noStrike">
                <a:solidFill>
                  <a:srgbClr val="222222"/>
                </a:solidFill>
                <a:latin typeface="Arial"/>
              </a:rPr>
              <a:t>publish</a:t>
            </a: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 an object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Means to make it available for users to access when they view Active Directory content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2" marL="1131480" indent="-226080">
              <a:spcBef>
                <a:spcPts val="550"/>
              </a:spcBef>
              <a:buClr>
                <a:srgbClr val="22222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22222"/>
                </a:solidFill>
                <a:latin typeface="Arial"/>
              </a:rPr>
              <a:t>Makes it easier to find when a user searches for that object</a:t>
            </a:r>
            <a:endParaRPr b="0" lang="en-US" sz="2200" spc="-1" strike="noStrike">
              <a:solidFill>
                <a:srgbClr val="222222"/>
              </a:solidFill>
              <a:latin typeface="Arial"/>
            </a:endParaRPr>
          </a:p>
          <a:p>
            <a:pPr marL="339480" indent="-3394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22222"/>
                </a:solidFill>
                <a:latin typeface="Arial"/>
              </a:rPr>
              <a:t>Directory Service Client (DSClient)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Allows earlier Windows-based operating systems to search Active Directory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39480" indent="-3394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When you publish an object, you can publish it to be shared for domain-wide access or to be shared and managed through an organizational unit (OU)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Hands-On Microsoft Windows Server 20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DA421-A84B-486A-95F9-BCFCB71E431B}" type="slidenum">
              <a:rPr b="0" lang="en-US" sz="1400" spc="-1" strike="noStrike">
                <a:solidFill>
                  <a:srgbClr val="222222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Troubleshooting a Security Conflict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Windows Server 2008 offers the Effective Permissions tab in the properties of a folder or file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As a tool to help troubleshoot permissions conflict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Using the Effective Permissions tab, you can view the effective permissions assigned to a user or group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Take into account what happens when a folder or files in a folder are copied or moved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A newly created file inherits the permissions already set up in a folder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Hands-On Microsoft Windows Server 20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B60FC-0741-4A84-82AE-AA99F1E0E49F}" type="slidenum">
              <a:rPr b="0" lang="en-US" sz="1400" spc="-1" strike="noStrike">
                <a:solidFill>
                  <a:srgbClr val="222222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Troubleshooting a Security Conflict (continued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Take into account what happens when a folder or files in a folder are copied or moved (continued)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A file that is copied from one folder to another on the same volume inherits the permissions of the folder to which it is copied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A file or folder that is moved from one folder to another on the same volume takes with it the permissions it had in the original folder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A file or folder that is moved or copied to a folder on a different volume inherits the permissions of the folder to which it is moved or copied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Hands-On Microsoft Windows Server 20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A3F8D-CC1A-4541-A3BC-9A4579DEBC01}" type="slidenum">
              <a:rPr b="0" lang="en-US" sz="1400" spc="-1" strike="noStrike">
                <a:solidFill>
                  <a:srgbClr val="222222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Troubleshooting a Security Conflict (continued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Take into account what happens when a folder or files in a folder are copied or moved (continued)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A file or folder that is moved or copied from an NTFS volume to a folder in a FAT volume is not protected by NTFS permission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22222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22222"/>
                </a:solidFill>
                <a:latin typeface="Arial"/>
              </a:rPr>
              <a:t>But it does inherit share permissions if they are assigned to the FAT folder</a:t>
            </a:r>
            <a:endParaRPr b="0" lang="en-US" sz="22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A file or folder that is moved or copied from a FAT volume to a folder in an NTFS volume inherits the permissions already assigned in the NTFS folder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Hands-On Microsoft Windows Server 20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2966F-9CDB-4E56-A127-FC43B58A5B79}" type="slidenum">
              <a:rPr b="0" lang="en-US" sz="1400" spc="-1" strike="noStrike">
                <a:solidFill>
                  <a:srgbClr val="222222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Implementing a Distributed File System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22222"/>
                </a:solidFill>
                <a:latin typeface="Arial"/>
              </a:rPr>
              <a:t>Distributed File System (DFS)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Enables you to simplify access to the shared folders on a network by setting up folders to appear as though they are accessed from only one place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DFS also makes managing folder access easier for server administrator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If DFS is used in a domain, then shared folder contents can be replicated to one or more DCs or member server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Hands-On Microsoft Windows Server 20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902D2-5E90-48D5-844D-2FC53E81FA06}" type="slidenum">
              <a:rPr b="0" lang="en-US" sz="1400" spc="-1" strike="noStrike">
                <a:solidFill>
                  <a:srgbClr val="222222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Managing Folder and File Security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Creating accounts and groups are the initial steps for sharing resource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The next steps are to create access control lists (ACLs) to secure these objects and then to set them up for sharing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35880" indent="-3358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22222"/>
                </a:solidFill>
                <a:latin typeface="Arial"/>
              </a:rPr>
              <a:t>Discretionary ACL (DACL)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An ACL that is configured by a server administrator or owner of an object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35880" indent="-3358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22222"/>
                </a:solidFill>
                <a:latin typeface="Arial"/>
              </a:rPr>
              <a:t>System control ACL (SACL)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Contains information used to audit the access to an object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Hands-On Microsoft Windows Server 20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0635A-BB1F-4319-AAAD-FBB298C079C6}" type="slidenum">
              <a:rPr b="0" lang="en-US" sz="1400" spc="-1" strike="noStrike">
                <a:solidFill>
                  <a:srgbClr val="222222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Implementing a Distributed File System (continued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DFS advantages: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Shared folders can be set up so that they appear in one hierarchy of folder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22222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22222"/>
                </a:solidFill>
                <a:latin typeface="Arial"/>
              </a:rPr>
              <a:t>Enabling users to save time when searching for information</a:t>
            </a:r>
            <a:endParaRPr b="0" lang="en-US" sz="22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NTFS access permissions fully apply to DFS on NTFS-formatted volume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Fault tolerance is an option by replicating shared folders on multiple server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Access to shared folders can be distributed across many servers (</a:t>
            </a:r>
            <a:r>
              <a:rPr b="1" lang="en-US" sz="2400" spc="-1" strike="noStrike">
                <a:solidFill>
                  <a:srgbClr val="222222"/>
                </a:solidFill>
                <a:latin typeface="Arial"/>
              </a:rPr>
              <a:t>load balancing</a:t>
            </a: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Hands-On Microsoft Windows Server 20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96DA9-0591-4099-BB2D-0741E16680E4}" type="slidenum">
              <a:rPr b="0" lang="en-US" sz="1400" spc="-1" strike="noStrike">
                <a:solidFill>
                  <a:srgbClr val="222222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Implementing a Distributed File System (continued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DFS advantages: (continued)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Access is improved to resources for Web-based Internet and intranet site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Vital shared folders on multiple computers can be backed up from one set of master folder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35880" indent="-3358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DFS reduces the number of calls to server administrators asking where to find a particular resource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35880" indent="-3358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Another advantage of DFS in a domain is that folders can be replicated automatically or manually through Microsoft File Replication Service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Hands-On Microsoft Windows Server 20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231B0-9B9A-4C6E-A00C-F4E46DB913B2}" type="slidenum">
              <a:rPr b="0" lang="en-US" sz="1400" spc="-1" strike="noStrike">
                <a:solidFill>
                  <a:srgbClr val="222222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DFS Models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22222"/>
                </a:solidFill>
                <a:latin typeface="Arial"/>
              </a:rPr>
              <a:t>Stand-alone DFS mod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No Active Directory implementation is available to help manage the shared folder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This model provides only a single or flat level share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22222"/>
                </a:solidFill>
                <a:latin typeface="Arial"/>
              </a:rPr>
              <a:t>Domain-based DFS mod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Takes full advantage of Active Directory and is available only to servers and workstations that are members of a domain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Enables a deep, root-based, hierarchical arrangement of shared folders that is published in Active Directory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Hands-On Microsoft Windows Server 20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7B907-3F02-4D34-A195-ACA57569C3C6}" type="slidenum">
              <a:rPr b="0" lang="en-US" sz="1400" spc="-1" strike="noStrike">
                <a:solidFill>
                  <a:srgbClr val="222222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DFS Topology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22222"/>
                </a:solidFill>
                <a:latin typeface="Arial"/>
              </a:rPr>
              <a:t>DFS topology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The hierarchical structure of DFS in the domain-based model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29040" indent="-32904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22222"/>
                </a:solidFill>
                <a:latin typeface="Arial"/>
              </a:rPr>
              <a:t>Namespace root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A main container (top-level folder) in Active Directory that holds links to shared folders that can be accessed from the root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29040" indent="-32904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Namespace server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The server that maintains the namespace root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29040" indent="-32904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After the namespace root is created, it is populated by shared folders for users to acces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Hands-On Microsoft Windows Server 20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BDB44-04B9-41DA-AA3D-D1F28CC9A788}" type="slidenum">
              <a:rPr b="0" lang="en-US" sz="1400" spc="-1" strike="noStrike">
                <a:solidFill>
                  <a:srgbClr val="222222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DFS Topology (continued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Folders are established in a level hierarchy and appear to be in one server location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Although they can be on many server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22222"/>
                </a:solidFill>
                <a:latin typeface="Arial"/>
              </a:rPr>
              <a:t>Replication group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A set of shared folders that is replicated or copied to one or more servers in a domain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Hands-On Microsoft Windows Server 20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BE1BD-0F72-4A87-A1F0-DCBD5B680769}" type="slidenum">
              <a:rPr b="0" lang="en-US" sz="1400" spc="-1" strike="noStrike">
                <a:solidFill>
                  <a:srgbClr val="222222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Configuring Disk Quotas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Disk quotas advantages: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Preventing users from filling the disk capacity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Encouraging users to help manage disk space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Tracking disk capacity needs on a per-user basis for future planning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Providing server administrators with information about when users are nearing or have reached their quota limit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Disk quotas can be set on any local or shared volume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Hands-On Microsoft Windows Server 20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9A3DC-0F69-4082-9A68-8C237136256D}" type="slidenum">
              <a:rPr b="0" lang="en-US" sz="1400" spc="-1" strike="noStrike">
                <a:solidFill>
                  <a:srgbClr val="222222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Configuring Disk Quotas (continued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You can establish disk quotas by volume or user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Disk quota management parameter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Enable quota management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Deny disk space to users exceeding quota limit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Do not limit disk usage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Limit disk space to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Set warning level to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Log event when a user exceeds their quota limit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Log event when the user exceeds their warning level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Hands-On Microsoft Windows Server 20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9A395-8339-4147-9876-8A579518D7BA}" type="slidenum">
              <a:rPr b="0" lang="en-US" sz="1400" spc="-1" strike="noStrike">
                <a:solidFill>
                  <a:srgbClr val="222222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33520" y="-2289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Using UNIX Interoperability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50000"/>
              </a:lnSpc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22222"/>
                </a:solidFill>
                <a:latin typeface="Arial"/>
              </a:rPr>
              <a:t>Subsystem for UNIX-based Applications (SUA)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Provides interoperability between Windows Server 2008 and UNIX and Linux system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18960" indent="-318960">
              <a:lnSpc>
                <a:spcPct val="150000"/>
              </a:lnSpc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UA allows you to: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690840" indent="-265680">
              <a:lnSpc>
                <a:spcPct val="150000"/>
              </a:lnSpc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Run UNIX/Linux applications with few or no changes to the program source code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690840" indent="-265680">
              <a:lnSpc>
                <a:spcPct val="150000"/>
              </a:lnSpc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Run UNIX/Linux script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690840" indent="-265680">
              <a:lnSpc>
                <a:spcPct val="150000"/>
              </a:lnSpc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Run most UNIX/Linux command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690840" indent="-265680">
              <a:lnSpc>
                <a:spcPct val="150000"/>
              </a:lnSpc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Run the popular vi UNIX/Linux editor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Hands-On Microsoft Windows Server 20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51054-535E-49B0-8559-64B2B7684533}" type="slidenum">
              <a:rPr b="0" lang="en-US" sz="1400" spc="-1" strike="noStrike">
                <a:solidFill>
                  <a:srgbClr val="222222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Using UNIX Interoperability in Windows Server 2008 (continued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76320" y="1295280"/>
            <a:ext cx="89913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50000"/>
              </a:lnSpc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Windows Server 2008 offers several important new features for SUA: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05600" indent="-271440">
              <a:lnSpc>
                <a:spcPct val="150000"/>
              </a:lnSpc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More transparent ability for UNIX/Linux applications to connect to Oracle and SQL Server database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05600" indent="-271440">
              <a:lnSpc>
                <a:spcPct val="150000"/>
              </a:lnSpc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Contains true 64-bit libraries for support of 64-bit applications and utilities for high-performance response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05600" indent="-271440">
              <a:lnSpc>
                <a:spcPct val="150000"/>
              </a:lnSpc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Ability for application developers to use Microsoft Visual Studio for designing UNIX/Linux application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Hands-On Microsoft Windows Server 20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946DA-0B34-4B0E-9008-62F750C37335}" type="slidenum">
              <a:rPr b="0" lang="en-US" sz="1400" spc="-1" strike="noStrike">
                <a:solidFill>
                  <a:srgbClr val="222222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Using UNIX Interoperability in Windows Server 2008 (continued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pic>
        <p:nvPicPr>
          <p:cNvPr id="274" name="Picture 6" descr=""/>
          <p:cNvPicPr/>
          <p:nvPr/>
        </p:nvPicPr>
        <p:blipFill>
          <a:blip r:embed="rId1"/>
          <a:stretch/>
        </p:blipFill>
        <p:spPr>
          <a:xfrm>
            <a:off x="533520" y="1776240"/>
            <a:ext cx="8076960" cy="43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Hands-On Microsoft Windows Server 20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46F3B-F719-40C5-9C87-353BB5A60F51}" type="slidenum">
              <a:rPr b="0" lang="en-US" sz="1400" spc="-1" strike="noStrike">
                <a:solidFill>
                  <a:srgbClr val="222222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Configuring Folder and File Attributes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Attributes are stored as header information with each folder and file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Along with other characteristics including volume label, designation as a subfolder, date of creation, and time of creation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Two basic attributes remain in NTFS that are still compatible with FAT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Read-only and hidden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The advanced attributes are archive, index, compress, and encrypt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Hands-On Microsoft Windows Server 20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5236F-90EA-4EB9-AC80-9501574FE905}" type="slidenum">
              <a:rPr b="0" lang="en-US" sz="1400" spc="-1" strike="noStrike">
                <a:solidFill>
                  <a:srgbClr val="222222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6" name="Picture 5" descr=""/>
          <p:cNvPicPr/>
          <p:nvPr/>
        </p:nvPicPr>
        <p:blipFill>
          <a:blip r:embed="rId1"/>
          <a:stretch/>
        </p:blipFill>
        <p:spPr>
          <a:xfrm>
            <a:off x="361800" y="328680"/>
            <a:ext cx="8401320" cy="58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Hands-On Microsoft Windows Server 20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D66F6-9286-4CD5-8081-83A97B092F9B}" type="slidenum">
              <a:rPr b="0" lang="en-US" sz="1400" spc="-1" strike="noStrike">
                <a:solidFill>
                  <a:srgbClr val="222222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Configuring Folder and File Attributes (continued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Archive attribute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Indicates that the folder or file needs to be backed up because it is new or changed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File server backup systems can be set to detect files with the archive attribute to ensure those files are backed up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Index attribute vs. Windows Search Service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The NTFS index attribute is used to index the folder and file contents so that file properties can be quickly searched in Windows Server 2008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22222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22222"/>
                </a:solidFill>
                <a:latin typeface="Arial"/>
              </a:rPr>
              <a:t>Through the Indexing Service</a:t>
            </a:r>
            <a:endParaRPr b="0" lang="en-US" sz="22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Hands-On Microsoft Windows Server 20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411CB-A745-47F3-BF84-A807968E87A5}" type="slidenum">
              <a:rPr b="0" lang="en-US" sz="1400" spc="-1" strike="noStrike">
                <a:solidFill>
                  <a:srgbClr val="222222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Configuring Folder and File Attributes (continued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Index attribute vs. Windows Search Service (continued)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Windows Server 2008 offers a newer, faster search service called the Windows Search Service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To use the Windows Search Service, you must install the File Services role via Server Manager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35880" indent="-3358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Multimaster replication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Each DC is equal to every other DC in that it contains the full range of information that composes Active Directory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35880" indent="-3358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Active Directory is built to make replication efficient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Hands-On Microsoft Windows Server 20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25C06-AE04-4DFA-9AEA-86FEC71758A0}" type="slidenum">
              <a:rPr b="0" lang="en-US" sz="1400" spc="-1" strike="noStrike">
                <a:solidFill>
                  <a:srgbClr val="222222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7" name="Picture 6" descr=""/>
          <p:cNvPicPr/>
          <p:nvPr/>
        </p:nvPicPr>
        <p:blipFill>
          <a:blip r:embed="rId1"/>
          <a:stretch/>
        </p:blipFill>
        <p:spPr>
          <a:xfrm>
            <a:off x="898560" y="304920"/>
            <a:ext cx="7331040" cy="580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Hands-On Microsoft Windows Server 20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797D8-1DD7-4B2F-B340-BEB5828379AE}" type="slidenum">
              <a:rPr b="0" lang="en-US" sz="1400" spc="-1" strike="noStrike">
                <a:solidFill>
                  <a:srgbClr val="222222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0" name="Picture 5" descr=""/>
          <p:cNvPicPr/>
          <p:nvPr/>
        </p:nvPicPr>
        <p:blipFill>
          <a:blip r:embed="rId1"/>
          <a:stretch/>
        </p:blipFill>
        <p:spPr>
          <a:xfrm>
            <a:off x="2050920" y="380880"/>
            <a:ext cx="504216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7T23:29:22Z</dcterms:created>
  <dc:creator/>
  <dc:description/>
  <dc:language>en-US</dc:language>
  <cp:lastModifiedBy/>
  <dcterms:modified xsi:type="dcterms:W3CDTF">2015-10-28T17:04:32Z</dcterms:modified>
  <cp:revision>694</cp:revision>
  <dc:subject/>
  <dc:title>Chapter 1</dc:title>
</cp:coreProperties>
</file>