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C266-8F42-48D1-ADCB-34A4B11EC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B70A-99BF-4CF8-8AEF-3EF702A2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173-B81E-49A5-A07B-D184BC32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F5F1-99BC-4DF1-9DFA-8025F8ECE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389-CD9D-416B-865D-F110AFF8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F4F7-C838-41A1-9BDF-0C8B686E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87A-1ECE-40F5-B923-C3B26AF921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85F-B56D-4647-81BD-9795F87C61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9AE-D63D-418A-93CF-3E7211B05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162-A062-480A-BCA2-CC8EEF4F61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60B-4BD2-472A-B4D7-6B33C67EF1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27C-2F62-412C-AE9C-C0EC98C0E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398-0C79-4AE8-ACD2-C30FC871A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EA3-D216-4FC7-B9B7-FE6F55BC30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818-9B32-479B-B855-DCB221FA1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189-5FAD-46D1-85D6-529E1F746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3D6-24A7-44B8-B8DC-1915A41027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DBB-A3FC-4BED-9804-B1D0543610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D7974-01D0-4FFD-88C3-C2EAD40154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54AF1-AACF-40F6-8958-F5726565F3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C8552-0834-49B1-9F56-086B7C044F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673FE-DDE4-4B4B-B55D-D43D31295D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77A6F-3B2E-4259-B98A-3AECD0C0A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4632E-94A6-4A15-871C-C227E1C979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84525-34CB-4CAC-BFDC-7470F25ACF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C11D6-0151-4522-9AE8-BA0497EA99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8B50F-B1A2-4C0C-8E58-2B24FA1DB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1AA95-22CF-4281-B315-DEDD457826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6A2F7-BD4C-4743-8C1E-6A10BB7AAC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964D-2146-4A32-90DA-8B59E4852A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C2B64900-68B7-47B8-9C6F-6EC1AEF246F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8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973-654E-4233-B0B6-714DBDF3CA8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9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15B-3CA3-4D94-B098-5057953DFC2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72400" y="394920"/>
            <a:ext cx="7846200" cy="5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33321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0715"/>
          <p:cNvPicPr/>
          <p:nvPr/>
        </p:nvPicPr>
        <p:blipFill>
          <a:blip r:embed="rId1"/>
          <a:stretch/>
        </p:blipFill>
        <p:spPr>
          <a:xfrm>
            <a:off x="4521240" y="1600200"/>
            <a:ext cx="4228920" cy="34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75280" y="397440"/>
            <a:ext cx="8195040" cy="5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075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3957840" cy="20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0" descr="0718"/>
          <p:cNvPicPr/>
          <p:nvPr/>
        </p:nvPicPr>
        <p:blipFill>
          <a:blip r:embed="rId2"/>
          <a:stretch/>
        </p:blipFill>
        <p:spPr>
          <a:xfrm>
            <a:off x="5105520" y="3340080"/>
            <a:ext cx="36957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69800" y="1333080"/>
            <a:ext cx="4138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84640" y="356040"/>
            <a:ext cx="78217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93" name="Picture 15" descr="0721"/>
          <p:cNvPicPr/>
          <p:nvPr/>
        </p:nvPicPr>
        <p:blipFill>
          <a:blip r:embed="rId1"/>
          <a:stretch/>
        </p:blipFill>
        <p:spPr>
          <a:xfrm>
            <a:off x="711360" y="3137040"/>
            <a:ext cx="3466800" cy="3539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4832280" y="160812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3" descr="0723"/>
          <p:cNvPicPr/>
          <p:nvPr/>
        </p:nvPicPr>
        <p:blipFill>
          <a:blip r:embed="rId2"/>
          <a:stretch/>
        </p:blipFill>
        <p:spPr>
          <a:xfrm>
            <a:off x="5038560" y="2705040"/>
            <a:ext cx="343224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C516-FF8F-415F-BD21-B597E3EE689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9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7073-3718-4D39-A273-FF388E7E053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3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المستخدم</cp:lastModifiedBy>
  <dcterms:modified xsi:type="dcterms:W3CDTF">2015-10-15T06:44:01Z</dcterms:modified>
  <cp:revision>212</cp:revision>
  <dc:subject>Normal Probability Distribution</dc:subject>
  <dc:title>Chapter 7</dc:title>
</cp:coreProperties>
</file>