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07FC-D1CE-473E-A88D-87093928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C91B-E817-4B36-AAA8-20612A165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6FA-D92A-4162-ADFD-FF75AD38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838F-4B19-4E9A-ACBB-6E75A2A7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0D6-A465-4A93-8CAC-5B976D634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E47-C2F8-4E4B-AF24-D785716D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154-ACA4-4249-8499-F9B2FDF9F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C01-187E-49DA-9CCC-CC1CDA4E09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BDE-592C-47B1-9843-FF668BE24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4D5-4618-4B10-BAF1-A506EB8294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EF7-D6E9-4F6B-B362-0BBE4059E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317-AA3A-40EE-A3F4-93363A053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1E4-6A61-4430-85B5-73A8243FE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B4A-3FEF-4095-950B-4D3EA0D525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B24-B1EF-4E08-9E03-BE97254D1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CD2-78FA-483C-8D18-BE1B29BE9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DE5-85EE-4D64-8EC4-6647A8694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40-F1F9-4BD4-B378-BD9CA07EBC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AF314-CDF6-4414-9F51-71079C773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1E633-6C3E-4733-9007-2EB29E3564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C024D-6E45-4AF5-B8ED-6CC6D9CB17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CF81-A1E1-4D8A-82B2-502C9719BD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007B8-F3C7-49AF-BCB3-19DE157AC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7B856-2A9A-4B52-A15D-319EA808B6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C3BD6-92F9-41BC-9DFC-B689A789E8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4621C-4558-45B9-92FB-262D0BF2E0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D4AC-C22F-4A2D-B1DE-8DD209C6BF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604AD-21D3-404A-8F85-24175800A2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51B3-D719-4765-A076-F9F7E0332E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A942F-7A2E-4864-A1B5-8B5CBBF316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C670634B-4463-4AC0-BED6-F73714FEEE4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5190-A5F5-4400-AFE4-EBD24D3CFA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915-F219-4254-A1BF-2574C5FD15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3957840" cy="20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0" descr="0718"/>
          <p:cNvPicPr/>
          <p:nvPr/>
        </p:nvPicPr>
        <p:blipFill>
          <a:blip r:embed="rId2"/>
          <a:stretch/>
        </p:blipFill>
        <p:spPr>
          <a:xfrm>
            <a:off x="5105520" y="3340080"/>
            <a:ext cx="36957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93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228-59F4-47F9-9498-D7BE77A2397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9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5340-6EA0-4FC5-8DB2-DF447B4CBC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3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المستخدم</cp:lastModifiedBy>
  <dcterms:modified xsi:type="dcterms:W3CDTF">2015-10-15T06:44:01Z</dcterms:modified>
  <cp:revision>212</cp:revision>
  <dc:subject>Normal Probability Distribution</dc:subject>
  <dc:title>Chapter 7</dc:title>
</cp:coreProperties>
</file>