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1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sldNum" idx="1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5FF9-A7AD-419D-AFB4-842AED279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70A5-8CB7-4EC8-A114-5A7185F2F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BF10-8F87-4AE3-89EA-7A2A5A987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2C82-44E8-40E7-8316-AA46BA7D7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BD3E-9428-46C3-B30D-76512D37F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D0E3-7B54-4BCA-9E87-604050482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88B4-4A4E-43C8-A339-8A588469F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71CC-2797-456E-B27B-E099DE450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DED1-AF26-4327-A4E5-BF992FE62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E93F-34E8-4DD7-BAD3-42475F998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A602-DE5B-45C2-B6CD-D14C53F49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3485-F94E-4447-9CAA-64B717EC7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A186-CE17-4899-B8EB-6FE4E8F74E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C996-3298-43E0-BA90-6024696B75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D5EA-A609-4189-9255-CEF634416E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36A8-46A3-4332-9746-8ED6A5344A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B1FD-68E1-4592-84BC-09FC1DC33C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727E-B019-4787-A3ED-226C2DF3AE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D237-41CA-4F1B-AA25-92BAD97FC9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7F82-88F8-4CC8-86F1-B8069E79C3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2EC7-8B54-4913-BF27-8E0A1695AA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E8D4-6F3E-4EE7-BCA0-E8E228A499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1070-66C7-4B58-AE6F-A795C9592A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2AB0-1511-45D1-BAD8-6733B9683A8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8B58F-80C4-44EC-84AA-25DBDB049A8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B29FB-4620-49FB-AF1B-77B293E04CC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0518A-BFAA-48DE-82A6-ECE1E2FC20A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382C7-B618-4917-B7D8-60599D6522E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AC06CE-E54B-4AE4-92A2-CA428FD5D3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963F8-1364-4316-B90F-1B14959D10F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14EF2-354A-44FB-8320-09EB308B104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91909-8FF3-4F4C-865F-D92B2ABB65C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64CCF-6013-4959-93BF-4D537593A07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2BED8-BFFA-4926-9CDE-5D312C1B043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1C51C-7689-4EA6-A0B0-B1033192692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61D9B-056F-4789-BE77-ECE926FA924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-234000" y="657864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7-</a:t>
            </a:r>
            <a:fld id="{6AED3C8A-0C0B-4627-BE9E-840FAE9120E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3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48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3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5064-1D48-4F63-A2BA-CE3762984B3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reeform 3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9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5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5368-6C5A-4A84-94FC-FA07E2422BD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3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3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Text Box 13"/>
          <p:cNvSpPr/>
          <p:nvPr/>
        </p:nvSpPr>
        <p:spPr>
          <a:xfrm>
            <a:off x="87480" y="6545160"/>
            <a:ext cx="160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3486240" y="6507000"/>
            <a:ext cx="580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pyright © 2010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83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86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Text Box 12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ftr" idx="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3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3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Text Box 12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1111680" y="1416600"/>
            <a:ext cx="7377840" cy="205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inuous Probability Distributions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500760" y="351720"/>
            <a:ext cx="7636680" cy="47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Using Z in Finding X Given Area - Exampl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44600" y="1155240"/>
            <a:ext cx="416376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yton Tire and Rubber Company wishes to set a minimum mileage guarantee on its new MX100 tire. Tests reveal the 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mean mileage is 67,9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ith a 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standard deviation of 2,0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iles and that the distribution of miles follows the normal probability distribution. Layton wants to set the minimum guaranteed mileage so that 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no more than 4 perc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tires will have to be replace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minimum guaranteed mileage should Layton announc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15" descr="0726"/>
          <p:cNvPicPr/>
          <p:nvPr/>
        </p:nvPicPr>
        <p:blipFill>
          <a:blip r:embed="rId1"/>
          <a:srcRect l="0" t="0" r="54556" b="45793"/>
          <a:stretch/>
        </p:blipFill>
        <p:spPr>
          <a:xfrm>
            <a:off x="507960" y="3581280"/>
            <a:ext cx="4165560" cy="2997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32" name="Object 1"/>
              <p:cNvSpPr txBox="1"/>
              <p:nvPr/>
            </p:nvSpPr>
            <p:spPr>
              <a:xfrm>
                <a:off x="4894200" y="2260440"/>
                <a:ext cx="3983040" cy="388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e X using the formula: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0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50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The value of z is found using the 4% inform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area between 67,900 and x is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00, found by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00-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sing Appendix 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, the area closest to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00 is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99, whic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ives a z alue of -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n substituting into the equation: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x-67,9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,05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, then solving for x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,05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-67,900</m:t>
                        </m:r>
                      </m:e>
                      <m:e/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,900-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,050</m:t>
                        </m:r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4,3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578880" y="375480"/>
            <a:ext cx="7833240" cy="63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Normal Approximation to the Binomial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660240" y="1231920"/>
            <a:ext cx="795024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normal distribution (a continuous distribution) yields a good approximation of the binomial distribution (a discrete distribution) for large values of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normal probability distribution is generally a good approximation to the binomial probability distribution when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(1-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are both greater than 5.  This is because a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creases, a binomial distribution gets closer and closer to a normal distribu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Group 5"/>
          <p:cNvGrpSpPr/>
          <p:nvPr/>
        </p:nvGrpSpPr>
        <p:grpSpPr>
          <a:xfrm>
            <a:off x="622440" y="3111480"/>
            <a:ext cx="8013600" cy="2975040"/>
            <a:chOff x="622440" y="3111480"/>
            <a:chExt cx="8013600" cy="2975040"/>
          </a:xfrm>
        </p:grpSpPr>
        <p:pic>
          <p:nvPicPr>
            <p:cNvPr id="336" name="Picture 28" descr="0729"/>
            <p:cNvPicPr/>
            <p:nvPr/>
          </p:nvPicPr>
          <p:blipFill>
            <a:blip r:embed="rId1"/>
            <a:stretch/>
          </p:blipFill>
          <p:spPr>
            <a:xfrm>
              <a:off x="622440" y="3111480"/>
              <a:ext cx="8013600" cy="266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29" descr=""/>
            <p:cNvPicPr/>
            <p:nvPr/>
          </p:nvPicPr>
          <p:blipFill>
            <a:blip r:embed="rId2"/>
            <a:stretch/>
          </p:blipFill>
          <p:spPr>
            <a:xfrm>
              <a:off x="659520" y="5873760"/>
              <a:ext cx="7812720" cy="2127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83920" y="342360"/>
            <a:ext cx="7823160" cy="69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Normal Probability Distributio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542520" y="1219320"/>
            <a:ext cx="3954600" cy="17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329040" indent="-32904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bell-shap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has a single peak at the center of the distrib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symmetric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m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asymptoti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rve gets closer and closer to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xis but never actually touches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cation of a normal distribution is determined by the mean,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 dispersion or spread of the distribution is determined by the standard deviation,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ithmetic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mean, medi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mode are equ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area under the curve is 1.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half the area under the normal curve is to the right of this center point and the other half to the left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8" descr="0711"/>
          <p:cNvPicPr/>
          <p:nvPr/>
        </p:nvPicPr>
        <p:blipFill>
          <a:blip r:embed="rId1"/>
          <a:stretch/>
        </p:blipFill>
        <p:spPr>
          <a:xfrm>
            <a:off x="355680" y="4327560"/>
            <a:ext cx="4064040" cy="2263680"/>
          </a:xfrm>
          <a:prstGeom prst="rect">
            <a:avLst/>
          </a:prstGeom>
          <a:ln w="0">
            <a:noFill/>
          </a:ln>
        </p:spPr>
      </p:pic>
      <p:grpSp>
        <p:nvGrpSpPr>
          <p:cNvPr id="289" name="Group 16"/>
          <p:cNvGrpSpPr/>
          <p:nvPr/>
        </p:nvGrpSpPr>
        <p:grpSpPr>
          <a:xfrm>
            <a:off x="4635360" y="1295280"/>
            <a:ext cx="4241880" cy="4917240"/>
            <a:chOff x="4635360" y="1295280"/>
            <a:chExt cx="4241880" cy="4917240"/>
          </a:xfrm>
        </p:grpSpPr>
        <p:grpSp>
          <p:nvGrpSpPr>
            <p:cNvPr id="290" name="Group 6"/>
            <p:cNvGrpSpPr/>
            <p:nvPr/>
          </p:nvGrpSpPr>
          <p:grpSpPr>
            <a:xfrm>
              <a:off x="4635360" y="1852560"/>
              <a:ext cx="2138040" cy="2000160"/>
              <a:chOff x="4635360" y="1852560"/>
              <a:chExt cx="2138040" cy="2000160"/>
            </a:xfrm>
          </p:grpSpPr>
          <p:pic>
            <p:nvPicPr>
              <p:cNvPr id="291" name="Picture 15" descr="0712b"/>
              <p:cNvPicPr/>
              <p:nvPr/>
            </p:nvPicPr>
            <p:blipFill>
              <a:blip r:embed="rId2"/>
              <a:stretch/>
            </p:blipFill>
            <p:spPr>
              <a:xfrm>
                <a:off x="4635360" y="1852560"/>
                <a:ext cx="2138040" cy="172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2" name="Rectangle 8"/>
              <p:cNvSpPr/>
              <p:nvPr/>
            </p:nvSpPr>
            <p:spPr>
              <a:xfrm>
                <a:off x="4959000" y="3454200"/>
                <a:ext cx="1733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ifferent Means and Standard Devi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Group 9"/>
            <p:cNvGrpSpPr/>
            <p:nvPr/>
          </p:nvGrpSpPr>
          <p:grpSpPr>
            <a:xfrm>
              <a:off x="6773760" y="1855800"/>
              <a:ext cx="1889280" cy="2164680"/>
              <a:chOff x="6773760" y="1855800"/>
              <a:chExt cx="1889280" cy="2164680"/>
            </a:xfrm>
          </p:grpSpPr>
          <p:pic>
            <p:nvPicPr>
              <p:cNvPr id="294" name="Picture 13" descr="0712a"/>
              <p:cNvPicPr/>
              <p:nvPr/>
            </p:nvPicPr>
            <p:blipFill>
              <a:blip r:embed="rId3"/>
              <a:stretch/>
            </p:blipFill>
            <p:spPr>
              <a:xfrm>
                <a:off x="6773760" y="1855800"/>
                <a:ext cx="1889280" cy="163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5" name="Rectangle 11"/>
              <p:cNvSpPr/>
              <p:nvPr/>
            </p:nvSpPr>
            <p:spPr>
              <a:xfrm>
                <a:off x="6911640" y="3469680"/>
                <a:ext cx="17416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Equal Means and Different Standard Devi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Group 12"/>
            <p:cNvGrpSpPr/>
            <p:nvPr/>
          </p:nvGrpSpPr>
          <p:grpSpPr>
            <a:xfrm>
              <a:off x="4694760" y="4209480"/>
              <a:ext cx="4182480" cy="2003040"/>
              <a:chOff x="4694760" y="4209480"/>
              <a:chExt cx="4182480" cy="2003040"/>
            </a:xfrm>
          </p:grpSpPr>
          <p:pic>
            <p:nvPicPr>
              <p:cNvPr id="297" name="Picture 17" descr="0712c"/>
              <p:cNvPicPr/>
              <p:nvPr/>
            </p:nvPicPr>
            <p:blipFill>
              <a:blip r:embed="rId4"/>
              <a:stretch/>
            </p:blipFill>
            <p:spPr>
              <a:xfrm>
                <a:off x="4694760" y="4209480"/>
                <a:ext cx="4182480" cy="171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Rectangle 14"/>
              <p:cNvSpPr/>
              <p:nvPr/>
            </p:nvSpPr>
            <p:spPr>
              <a:xfrm>
                <a:off x="4863600" y="5966280"/>
                <a:ext cx="3775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ifferent Means and Equal Standard Devi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Rectangle 15"/>
            <p:cNvSpPr/>
            <p:nvPr/>
          </p:nvSpPr>
          <p:spPr>
            <a:xfrm>
              <a:off x="5478120" y="1295280"/>
              <a:ext cx="25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amily of Distribu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570960" y="495000"/>
            <a:ext cx="7849080" cy="52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The Standard Normal  Probability Distribution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685800" y="1231560"/>
            <a:ext cx="250200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tandard normal distribution is a normal distribution with a mean of 0 and a standard deviation of 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 is also called th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tribu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1400" spc="-1" strike="noStrike">
                <a:solidFill>
                  <a:srgbClr val="33cc33"/>
                </a:solidFill>
                <a:latin typeface="Arial"/>
              </a:rPr>
              <a:t>z-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value</a:t>
            </a:r>
            <a:r>
              <a:rPr b="0" lang="en-US" sz="1400" spc="-1" strike="noStrike">
                <a:solidFill>
                  <a:srgbClr val="4db14b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the signed distance between a selected value, designate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nd the population mean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ivided by the population standard deviation,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formula 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9" descr="0713"/>
          <p:cNvPicPr/>
          <p:nvPr/>
        </p:nvPicPr>
        <p:blipFill>
          <a:blip r:embed="rId1"/>
          <a:stretch/>
        </p:blipFill>
        <p:spPr>
          <a:xfrm>
            <a:off x="755640" y="4714920"/>
            <a:ext cx="2013120" cy="7095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2" descr="0714"/>
          <p:cNvPicPr/>
          <p:nvPr/>
        </p:nvPicPr>
        <p:blipFill>
          <a:blip r:embed="rId2"/>
          <a:stretch/>
        </p:blipFill>
        <p:spPr>
          <a:xfrm>
            <a:off x="3162240" y="1206360"/>
            <a:ext cx="5791320" cy="511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72400" y="394920"/>
            <a:ext cx="7846200" cy="54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The Normal Distribution – Exampl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838080" y="1142640"/>
            <a:ext cx="333216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eekly incomes of shift foremen in the glass industry follow the normal probability distribution with a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mean of $1,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standard deviation of $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0" i="1" lang="en-US" sz="2000" spc="-1" strike="noStrike">
                <a:solidFill>
                  <a:srgbClr val="33cc33"/>
                </a:solidFill>
                <a:latin typeface="Arial"/>
              </a:rPr>
              <a:t>z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e income, let’s call i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a foreman who earns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$1,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 week? For a foreman who earns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$9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 wee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8" descr="0715"/>
          <p:cNvPicPr/>
          <p:nvPr/>
        </p:nvPicPr>
        <p:blipFill>
          <a:blip r:embed="rId1"/>
          <a:stretch/>
        </p:blipFill>
        <p:spPr>
          <a:xfrm>
            <a:off x="4521240" y="1600200"/>
            <a:ext cx="4228920" cy="341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87880" y="359280"/>
            <a:ext cx="7815240" cy="75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The Empirical Rule - Exampl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439560" y="1282680"/>
            <a:ext cx="3135600" cy="54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part of its quality assurance program, the Autolite Battery Company conducts tests on battery life. For a particular D-cell alkaline battery, the mean life is 19 hours. The useful life of the battery follows a normal distribution with a standard deviation of 1.2 hou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swer the following ques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 68 percent of the batteries failed between what two values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 95 percent of the batteries failed between what two valu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ly all of the batteries failed between what two valu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4" descr="0717"/>
          <p:cNvPicPr/>
          <p:nvPr/>
        </p:nvPicPr>
        <p:blipFill>
          <a:blip r:embed="rId1"/>
          <a:stretch/>
        </p:blipFill>
        <p:spPr>
          <a:xfrm>
            <a:off x="3579840" y="1371600"/>
            <a:ext cx="5332320" cy="483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575280" y="397440"/>
            <a:ext cx="8195040" cy="5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Normal Distribution – Finding Probabilitie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838080" y="1218960"/>
            <a:ext cx="707544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an weekly income of a shift foreman in the glass industry is normally distributed with a mean of $1,000 and a standard deviation of $1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likelihood of selecting a foreman whose weekly income is between $1,000 and $1,10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25" descr="0719"/>
          <p:cNvPicPr/>
          <p:nvPr/>
        </p:nvPicPr>
        <p:blipFill>
          <a:blip r:embed="rId1"/>
          <a:srcRect l="0" t="17356" r="48680" b="18155"/>
          <a:stretch/>
        </p:blipFill>
        <p:spPr>
          <a:xfrm>
            <a:off x="792000" y="3646440"/>
            <a:ext cx="3957840" cy="202572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8"/>
          <p:cNvSpPr/>
          <p:nvPr/>
        </p:nvSpPr>
        <p:spPr>
          <a:xfrm>
            <a:off x="825480" y="5956200"/>
            <a:ext cx="71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Required probability is 0.34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20" descr="0718"/>
          <p:cNvPicPr/>
          <p:nvPr/>
        </p:nvPicPr>
        <p:blipFill>
          <a:blip r:embed="rId2"/>
          <a:stretch/>
        </p:blipFill>
        <p:spPr>
          <a:xfrm>
            <a:off x="5105520" y="3340080"/>
            <a:ext cx="3695760" cy="28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469800" y="1333080"/>
            <a:ext cx="41385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101"/>
                </a:solidFill>
                <a:latin typeface="Arial"/>
              </a:rPr>
              <a:t>Between $790 and $1,00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84640" y="356040"/>
            <a:ext cx="7821720" cy="7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Normal Distribution – Finding Probabilities (Example 2)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318" name="Picture 15" descr="0721"/>
          <p:cNvPicPr/>
          <p:nvPr/>
        </p:nvPicPr>
        <p:blipFill>
          <a:blip r:embed="rId1"/>
          <a:stretch/>
        </p:blipFill>
        <p:spPr>
          <a:xfrm>
            <a:off x="711360" y="3137040"/>
            <a:ext cx="3466800" cy="353988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5"/>
          <p:cNvSpPr/>
          <p:nvPr/>
        </p:nvSpPr>
        <p:spPr>
          <a:xfrm>
            <a:off x="4832280" y="1608120"/>
            <a:ext cx="403056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101"/>
                </a:solidFill>
                <a:latin typeface="Arial"/>
              </a:rPr>
              <a:t>Between $840 and $1,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Picture 13" descr="0723"/>
          <p:cNvPicPr/>
          <p:nvPr/>
        </p:nvPicPr>
        <p:blipFill>
          <a:blip r:embed="rId2"/>
          <a:stretch/>
        </p:blipFill>
        <p:spPr>
          <a:xfrm>
            <a:off x="5038560" y="2705040"/>
            <a:ext cx="3432240" cy="397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عنصر نائب لرقم الشريحة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9519-E1AA-4E83-AD77-7B7E948EABE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Less than $79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3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Picture 11" descr="0722"/>
          <p:cNvPicPr/>
          <p:nvPr/>
        </p:nvPicPr>
        <p:blipFill>
          <a:blip r:embed="rId1"/>
          <a:stretch/>
        </p:blipFill>
        <p:spPr>
          <a:xfrm>
            <a:off x="5054760" y="2031840"/>
            <a:ext cx="3695400" cy="4410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عنصر نائب لرقم الشريحة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98A3-81F1-4D52-A840-682CBF88F96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1,150 and $1,25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56268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rmal Distribution – Finding Probabilities (Example 5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Picture 77" descr="0724"/>
          <p:cNvPicPr/>
          <p:nvPr/>
        </p:nvPicPr>
        <p:blipFill>
          <a:blip r:embed="rId1"/>
          <a:stretch/>
        </p:blipFill>
        <p:spPr>
          <a:xfrm>
            <a:off x="4952880" y="2044800"/>
            <a:ext cx="3800520" cy="4257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المستخدم</cp:lastModifiedBy>
  <dcterms:modified xsi:type="dcterms:W3CDTF">2014-02-23T05:24:15Z</dcterms:modified>
  <cp:revision>211</cp:revision>
  <dc:subject>Normal Probability Distribution</dc:subject>
  <dc:title>Chapter 7</dc:title>
</cp:coreProperties>
</file>