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1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1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36A5-EEA2-4066-A129-A065C2196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F831-DE00-4082-B3EB-0A96302C3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051C-CB13-4C0E-B8B1-7A1DF0BA6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0571-C11E-407E-ACD2-91E6A0F65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C038-4795-4216-B261-9FA896B23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55E6-33AA-498F-AB44-AE34E232F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D230-FF9E-4F0A-8BC6-DBA9015A2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F4EA-1E9C-4D87-B220-3C6ABF358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829B-AB79-4FDF-9883-85FD020BC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9DE8-231E-4039-A995-676BDF219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E4B0-58EF-4A77-B110-9100D8B42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F919-A607-48CC-BDED-FFCFB0FE7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D0B-0EC8-4A23-8B48-FC0FAA9CDC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9E4-23DA-4FFD-ADC4-4CD0AC3786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866C-CD07-4E61-93AA-A94D41EB1A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80F-AA72-4229-9EB8-C197ACDA6B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4991-1890-4025-857E-5F8002B284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ED0-A8BE-44AE-8A7E-05768EFAF0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29AD-18BC-4C02-A49D-05F1BA125E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BC3C-F82D-4C77-A579-CFBFECEBE1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DE50-5ADA-4809-B42E-22325FCEE8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3AE-5702-4EC4-BE24-CD056519BC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CED-C59A-4C75-A28E-A08A14EF00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2E1-130F-4905-A09A-989D01F763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FEBD7-7664-4DDC-AC3B-EE398EF8E7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187EC-9673-45B4-AFFA-F362B2A78FB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303BA-0A07-4A33-89CB-ABA734E55A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0B3EE-F733-415E-BADA-9579E21EEC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6244E-974D-4E9C-9931-BCC944A2AF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9FA4E-C557-4AEE-BB90-CEF51879A6C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3D22BE-33C4-4C30-83E4-14B5C8B914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0FC68-B945-4F58-AB88-0B0CA93A71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A1415-034D-4B35-9CFA-CE88FBEEB2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1AA50-5C31-4995-886F-FFBAB15CB4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F48522-67DD-4894-B4EC-1E18AD5C5E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2367C-CE2A-427B-A46D-5B1703B39C1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-234000" y="6578640"/>
            <a:ext cx="945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-</a:t>
            </a:r>
            <a:fld id="{6776DA3A-7D6F-4B72-B973-F35BDC0D303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48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3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259C-80AC-4272-A7BE-5FF7A34B923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93" name="AutoShape 5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5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14A5-62BC-4250-BFB0-84E2A3526FB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Text Box 13"/>
          <p:cNvSpPr/>
          <p:nvPr/>
        </p:nvSpPr>
        <p:spPr>
          <a:xfrm>
            <a:off x="87480" y="6545160"/>
            <a:ext cx="160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3486240" y="6507000"/>
            <a:ext cx="58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pyright © 2010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ftr" idx="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3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3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12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111680" y="1416600"/>
            <a:ext cx="7377840" cy="205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inuous Probability Distribution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500760" y="351720"/>
            <a:ext cx="7636680" cy="47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sing Z in Finding X Given Area - Exampl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44600" y="1155240"/>
            <a:ext cx="41637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yton Tire and Rubber Company wishes to set a minimum mileage guarantee on its new MX100 tire. Tests reveal the 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mean mileage is 67,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th a 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standard deviation of 2,0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iles and that the distribution of miles follows the normal probability distribution. Layton wants to set the minimum guaranteed mileage so that 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no more than 4 perc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tires will have to be replace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minimum guaranteed mileage should Layton announc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5" descr="0726"/>
          <p:cNvPicPr/>
          <p:nvPr/>
        </p:nvPicPr>
        <p:blipFill>
          <a:blip r:embed="rId1"/>
          <a:srcRect l="0" t="0" r="54556" b="45793"/>
          <a:stretch/>
        </p:blipFill>
        <p:spPr>
          <a:xfrm>
            <a:off x="507960" y="3581280"/>
            <a:ext cx="4165560" cy="299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2" name="Object 1"/>
              <p:cNvSpPr txBox="1"/>
              <p:nvPr/>
            </p:nvSpPr>
            <p:spPr>
              <a:xfrm>
                <a:off x="4894200" y="2260440"/>
                <a:ext cx="3983040" cy="388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lve X using the formula: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0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0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he value of z is found using the 4% inform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area between 67,900 and x is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00, found by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00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4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ing Appendix 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, the area closest to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00 is 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99, which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ives a z alue of 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n substituting into the equation: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x-67,9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,05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, then solving for x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,05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-67,900</m:t>
                        </m:r>
                      </m:e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7,900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,050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,3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578880" y="375480"/>
            <a:ext cx="7833240" cy="63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Normal Approximation to the Binomia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660240" y="1231920"/>
            <a:ext cx="795024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normal distribution (a continuous distribution) yields a good approximation of the binomial distribution (a discrete distribution) for large values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normal probability distribution is generally a good approximation to the binomial probability distribution whe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(1-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are both greater than 5.  This is because a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reases, a binomial distribution gets closer and closer to a normal distrib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Group 5"/>
          <p:cNvGrpSpPr/>
          <p:nvPr/>
        </p:nvGrpSpPr>
        <p:grpSpPr>
          <a:xfrm>
            <a:off x="622440" y="3111480"/>
            <a:ext cx="8013600" cy="2975040"/>
            <a:chOff x="622440" y="3111480"/>
            <a:chExt cx="8013600" cy="2975040"/>
          </a:xfrm>
        </p:grpSpPr>
        <p:pic>
          <p:nvPicPr>
            <p:cNvPr id="336" name="Picture 28" descr="0729"/>
            <p:cNvPicPr/>
            <p:nvPr/>
          </p:nvPicPr>
          <p:blipFill>
            <a:blip r:embed="rId1"/>
            <a:stretch/>
          </p:blipFill>
          <p:spPr>
            <a:xfrm>
              <a:off x="622440" y="3111480"/>
              <a:ext cx="8013600" cy="266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29" descr=""/>
            <p:cNvPicPr/>
            <p:nvPr/>
          </p:nvPicPr>
          <p:blipFill>
            <a:blip r:embed="rId2"/>
            <a:stretch/>
          </p:blipFill>
          <p:spPr>
            <a:xfrm>
              <a:off x="659520" y="5873760"/>
              <a:ext cx="7812720" cy="212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83920" y="342360"/>
            <a:ext cx="7823160" cy="69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Normal Probability Distributio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542520" y="1219320"/>
            <a:ext cx="3954600" cy="17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bell-shap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has a single peak at the center of the distrib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symmetric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the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symptoti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ve gets closer and closer to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xis but never actually touches i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tion of a normal distribution is determined by the mean,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 dispersion or spread of the distribution is determined by the standard deviation,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ithmetic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ean, medi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mode are eq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</a:t>
            </a:r>
            <a:r>
              <a:rPr b="0" lang="en-US" sz="1200" spc="-1" strike="noStrike">
                <a:solidFill>
                  <a:srgbClr val="33cc33"/>
                </a:solidFill>
                <a:latin typeface="Arial"/>
              </a:rPr>
              <a:t>area under the curve is 1.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half the area under the normal curve is to the right of this center point and the other half to the left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8" descr="0711"/>
          <p:cNvPicPr/>
          <p:nvPr/>
        </p:nvPicPr>
        <p:blipFill>
          <a:blip r:embed="rId1"/>
          <a:stretch/>
        </p:blipFill>
        <p:spPr>
          <a:xfrm>
            <a:off x="355680" y="4327560"/>
            <a:ext cx="4064040" cy="226368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16"/>
          <p:cNvGrpSpPr/>
          <p:nvPr/>
        </p:nvGrpSpPr>
        <p:grpSpPr>
          <a:xfrm>
            <a:off x="4635360" y="1295280"/>
            <a:ext cx="4241880" cy="4917240"/>
            <a:chOff x="4635360" y="1295280"/>
            <a:chExt cx="4241880" cy="4917240"/>
          </a:xfrm>
        </p:grpSpPr>
        <p:grpSp>
          <p:nvGrpSpPr>
            <p:cNvPr id="290" name="Group 6"/>
            <p:cNvGrpSpPr/>
            <p:nvPr/>
          </p:nvGrpSpPr>
          <p:grpSpPr>
            <a:xfrm>
              <a:off x="4635360" y="1852560"/>
              <a:ext cx="2138040" cy="2000160"/>
              <a:chOff x="4635360" y="1852560"/>
              <a:chExt cx="2138040" cy="2000160"/>
            </a:xfrm>
          </p:grpSpPr>
          <p:pic>
            <p:nvPicPr>
              <p:cNvPr id="291" name="Picture 15" descr="0712b"/>
              <p:cNvPicPr/>
              <p:nvPr/>
            </p:nvPicPr>
            <p:blipFill>
              <a:blip r:embed="rId2"/>
              <a:stretch/>
            </p:blipFill>
            <p:spPr>
              <a:xfrm>
                <a:off x="4635360" y="1852560"/>
                <a:ext cx="2138040" cy="172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Rectangle 8"/>
              <p:cNvSpPr/>
              <p:nvPr/>
            </p:nvSpPr>
            <p:spPr>
              <a:xfrm>
                <a:off x="4959000" y="3454200"/>
                <a:ext cx="1733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Group 9"/>
            <p:cNvGrpSpPr/>
            <p:nvPr/>
          </p:nvGrpSpPr>
          <p:grpSpPr>
            <a:xfrm>
              <a:off x="6773760" y="1855800"/>
              <a:ext cx="1889280" cy="2164680"/>
              <a:chOff x="6773760" y="1855800"/>
              <a:chExt cx="1889280" cy="2164680"/>
            </a:xfrm>
          </p:grpSpPr>
          <p:pic>
            <p:nvPicPr>
              <p:cNvPr id="294" name="Picture 13" descr="0712a"/>
              <p:cNvPicPr/>
              <p:nvPr/>
            </p:nvPicPr>
            <p:blipFill>
              <a:blip r:embed="rId3"/>
              <a:stretch/>
            </p:blipFill>
            <p:spPr>
              <a:xfrm>
                <a:off x="6773760" y="1855800"/>
                <a:ext cx="1889280" cy="16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Rectangle 11"/>
              <p:cNvSpPr/>
              <p:nvPr/>
            </p:nvSpPr>
            <p:spPr>
              <a:xfrm>
                <a:off x="6911640" y="3469680"/>
                <a:ext cx="17416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qual Means and Different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12"/>
            <p:cNvGrpSpPr/>
            <p:nvPr/>
          </p:nvGrpSpPr>
          <p:grpSpPr>
            <a:xfrm>
              <a:off x="4694760" y="4209480"/>
              <a:ext cx="4182480" cy="2003040"/>
              <a:chOff x="4694760" y="4209480"/>
              <a:chExt cx="4182480" cy="2003040"/>
            </a:xfrm>
          </p:grpSpPr>
          <p:pic>
            <p:nvPicPr>
              <p:cNvPr id="297" name="Picture 17" descr="0712c"/>
              <p:cNvPicPr/>
              <p:nvPr/>
            </p:nvPicPr>
            <p:blipFill>
              <a:blip r:embed="rId4"/>
              <a:stretch/>
            </p:blipFill>
            <p:spPr>
              <a:xfrm>
                <a:off x="4694760" y="4209480"/>
                <a:ext cx="4182480" cy="171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Rectangle 14"/>
              <p:cNvSpPr/>
              <p:nvPr/>
            </p:nvSpPr>
            <p:spPr>
              <a:xfrm>
                <a:off x="4863600" y="5966280"/>
                <a:ext cx="3775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Different Means and Equal Standard Devi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Rectangle 15"/>
            <p:cNvSpPr/>
            <p:nvPr/>
          </p:nvSpPr>
          <p:spPr>
            <a:xfrm>
              <a:off x="5478120" y="1295280"/>
              <a:ext cx="259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mily of Distribu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570960" y="495000"/>
            <a:ext cx="7849080" cy="52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he Standard Normal  Probability Distribut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685800" y="1231560"/>
            <a:ext cx="2502000" cy="206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tandard normal distribution is a normal distribution with a mean of 0 and a standard deviation of 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also called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ribu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400" spc="-1" strike="noStrike">
                <a:solidFill>
                  <a:srgbClr val="33cc33"/>
                </a:solidFill>
                <a:latin typeface="Arial"/>
              </a:rPr>
              <a:t>z-</a:t>
            </a: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1400" spc="-1" strike="noStrike">
                <a:solidFill>
                  <a:srgbClr val="4db14b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the signed distance between a selected value, designate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nd the population mea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ivided by the population standard deviation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34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formula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9" descr="0713"/>
          <p:cNvPicPr/>
          <p:nvPr/>
        </p:nvPicPr>
        <p:blipFill>
          <a:blip r:embed="rId1"/>
          <a:stretch/>
        </p:blipFill>
        <p:spPr>
          <a:xfrm>
            <a:off x="755640" y="4714920"/>
            <a:ext cx="2013120" cy="709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2" descr="0714"/>
          <p:cNvPicPr/>
          <p:nvPr/>
        </p:nvPicPr>
        <p:blipFill>
          <a:blip r:embed="rId2"/>
          <a:stretch/>
        </p:blipFill>
        <p:spPr>
          <a:xfrm>
            <a:off x="3162240" y="1206360"/>
            <a:ext cx="5791320" cy="51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72400" y="394920"/>
            <a:ext cx="7846200" cy="5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he Normal Distribution – Examp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838080" y="1142640"/>
            <a:ext cx="333216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eekly incomes of shift foremen in the glass industry follow the normal probability distribution with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mean of $1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standard deviation of $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i="1" lang="en-US" sz="2000" spc="-1" strike="noStrike">
                <a:solidFill>
                  <a:srgbClr val="33cc33"/>
                </a:solidFill>
                <a:latin typeface="Arial"/>
              </a:rPr>
              <a:t>z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income, let’s call i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1,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 For a foreman who earns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$9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week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8" descr="0715"/>
          <p:cNvPicPr/>
          <p:nvPr/>
        </p:nvPicPr>
        <p:blipFill>
          <a:blip r:embed="rId1"/>
          <a:stretch/>
        </p:blipFill>
        <p:spPr>
          <a:xfrm>
            <a:off x="4521240" y="1600200"/>
            <a:ext cx="4228920" cy="341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87880" y="35928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he Empirical Rule - Examp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39560" y="1282680"/>
            <a:ext cx="313560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part of its quality assurance program, the Autolite Battery Company conducts tests on battery life. For a particular D-cell alkaline battery, the mean life is 19 hours. The useful life of the battery follows a normal distribution with a standard deviation of 1.2 hou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68 percent of the batteries failed between what two valu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95 percent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ly all of the batteries failed between what two valu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4" descr="0717"/>
          <p:cNvPicPr/>
          <p:nvPr/>
        </p:nvPicPr>
        <p:blipFill>
          <a:blip r:embed="rId1"/>
          <a:stretch/>
        </p:blipFill>
        <p:spPr>
          <a:xfrm>
            <a:off x="3579840" y="1371600"/>
            <a:ext cx="5332320" cy="483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575280" y="397440"/>
            <a:ext cx="8195040" cy="5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ormal Distribution – Finding Probabiliti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838080" y="1218960"/>
            <a:ext cx="70754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 weekly income of a shift foreman in the glass industry is normally distributed with a mean of $1,000 and a standard deviation of $1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likelihood of selecting a foreman whose weekly income is between $1,000 and $1,1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5" descr="0719"/>
          <p:cNvPicPr/>
          <p:nvPr/>
        </p:nvPicPr>
        <p:blipFill>
          <a:blip r:embed="rId1"/>
          <a:srcRect l="0" t="17356" r="48680" b="18155"/>
          <a:stretch/>
        </p:blipFill>
        <p:spPr>
          <a:xfrm>
            <a:off x="792000" y="3646440"/>
            <a:ext cx="3957840" cy="202572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8"/>
          <p:cNvSpPr/>
          <p:nvPr/>
        </p:nvSpPr>
        <p:spPr>
          <a:xfrm>
            <a:off x="825480" y="595620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quired probability is 0.34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20" descr="0718"/>
          <p:cNvPicPr/>
          <p:nvPr/>
        </p:nvPicPr>
        <p:blipFill>
          <a:blip r:embed="rId2"/>
          <a:stretch/>
        </p:blipFill>
        <p:spPr>
          <a:xfrm>
            <a:off x="5105520" y="3340080"/>
            <a:ext cx="3695760" cy="28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69800" y="1333080"/>
            <a:ext cx="41385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790 and $1,0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84640" y="356040"/>
            <a:ext cx="7821720" cy="7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ormal Distribution – Finding Probabilities (Example 2)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318" name="Picture 15" descr="0721"/>
          <p:cNvPicPr/>
          <p:nvPr/>
        </p:nvPicPr>
        <p:blipFill>
          <a:blip r:embed="rId1"/>
          <a:stretch/>
        </p:blipFill>
        <p:spPr>
          <a:xfrm>
            <a:off x="711360" y="3137040"/>
            <a:ext cx="3466800" cy="35398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5"/>
          <p:cNvSpPr/>
          <p:nvPr/>
        </p:nvSpPr>
        <p:spPr>
          <a:xfrm>
            <a:off x="4832280" y="1608120"/>
            <a:ext cx="40305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101"/>
                </a:solidFill>
                <a:latin typeface="Arial"/>
              </a:rPr>
              <a:t>Between $840 and $1,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13" descr="0723"/>
          <p:cNvPicPr/>
          <p:nvPr/>
        </p:nvPicPr>
        <p:blipFill>
          <a:blip r:embed="rId2"/>
          <a:stretch/>
        </p:blipFill>
        <p:spPr>
          <a:xfrm>
            <a:off x="5038560" y="2705040"/>
            <a:ext cx="3432240" cy="39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عنصر نائب لرقم الشريحة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8B6A-2286-4692-82F9-404D53F345B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Less than $790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Normal Distribution – Finding Probabilities (Example 3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Picture 11" descr="0722"/>
          <p:cNvPicPr/>
          <p:nvPr/>
        </p:nvPicPr>
        <p:blipFill>
          <a:blip r:embed="rId1"/>
          <a:stretch/>
        </p:blipFill>
        <p:spPr>
          <a:xfrm>
            <a:off x="5054760" y="2031840"/>
            <a:ext cx="3695400" cy="44103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عنصر نائب لرقم الشريحة 6"/>
          <p:cNvSpPr/>
          <p:nvPr/>
        </p:nvSpPr>
        <p:spPr>
          <a:xfrm>
            <a:off x="0" y="6527880"/>
            <a:ext cx="449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5546-6ADE-4981-95CA-74A214F3FACE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fer to the information regarding the weekly income of shift foremen in the glass industry. The distribution of weekly incomes follows the normal probability distribution with a mean of $1,000 and a standard deviation of $100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is the probability of selecting a shift foreman in the glass industry whose income i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101"/>
                </a:solidFill>
                <a:latin typeface="Arial"/>
              </a:rPr>
              <a:t>Between $1,150 and $1,25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6268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rmal Distribution – Finding Probabilities (Example 5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Picture 77" descr="0724"/>
          <p:cNvPicPr/>
          <p:nvPr/>
        </p:nvPicPr>
        <p:blipFill>
          <a:blip r:embed="rId1"/>
          <a:stretch/>
        </p:blipFill>
        <p:spPr>
          <a:xfrm>
            <a:off x="4952880" y="2044800"/>
            <a:ext cx="3800520" cy="4257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المستخدم</cp:lastModifiedBy>
  <dcterms:modified xsi:type="dcterms:W3CDTF">2014-02-23T05:24:15Z</dcterms:modified>
  <cp:revision>211</cp:revision>
  <dc:subject>Normal Probability Distribution</dc:subject>
  <dc:title>Chapter 7</dc:title>
</cp:coreProperties>
</file>