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3FB81-E54C-4EB8-A851-C9FC5AD55D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AE60E-5761-41B5-8CC6-5FCF314F32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7AAE4-DDF1-40D7-9CA1-3CCB54435A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23A9E-2B15-4F26-9CF0-893C8FB7B5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FAE26-1F34-4914-8821-DAD2EB08D2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B461C-9B8B-4E1D-B071-43B4E01B8A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A20B3-CD63-46C4-8BA7-9B8E729568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CFDD3-C4A2-4E01-B630-D1EB92A2F4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073D2-8BEC-4218-82A0-E6691D1038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E2858-BCB0-4FCE-850B-DC978DC5C3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DFBE6-31FD-4470-9E6A-8530CA28BF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9A786-0EF0-491D-8668-FCF0FDA49F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3886200" cy="685800"/>
          </a:xfrm>
          <a:custGeom>
            <a:avLst/>
            <a:gdLst/>
            <a:ahLst/>
            <a:rect l="l" t="t" r="r" b="b"/>
            <a:pathLst>
              <a:path w="1728" h="735">
                <a:moveTo>
                  <a:pt x="1728" y="0"/>
                </a:moveTo>
                <a:lnTo>
                  <a:pt x="1728" y="480"/>
                </a:lnTo>
                <a:lnTo>
                  <a:pt x="380" y="482"/>
                </a:lnTo>
                <a:lnTo>
                  <a:pt x="354" y="480"/>
                </a:lnTo>
                <a:lnTo>
                  <a:pt x="308" y="489"/>
                </a:lnTo>
                <a:cubicBezTo>
                  <a:pt x="290" y="498"/>
                  <a:pt x="263" y="513"/>
                  <a:pt x="246" y="531"/>
                </a:cubicBezTo>
                <a:cubicBezTo>
                  <a:pt x="229" y="549"/>
                  <a:pt x="215" y="574"/>
                  <a:pt x="206" y="597"/>
                </a:cubicBezTo>
                <a:cubicBezTo>
                  <a:pt x="197" y="620"/>
                  <a:pt x="194" y="643"/>
                  <a:pt x="192" y="666"/>
                </a:cubicBezTo>
                <a:lnTo>
                  <a:pt x="192" y="735"/>
                </a:lnTo>
                <a:lnTo>
                  <a:pt x="0" y="735"/>
                </a:lnTo>
                <a:lnTo>
                  <a:pt x="0" y="480"/>
                </a:lnTo>
                <a:lnTo>
                  <a:pt x="0" y="0"/>
                </a:lnTo>
                <a:lnTo>
                  <a:pt x="1728" y="0"/>
                </a:lnTo>
                <a:close/>
              </a:path>
            </a:pathLst>
          </a:cu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3" name="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D6857-BACB-423B-A0BD-D77504004906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9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ftr" idx="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327720" y="6583320"/>
            <a:ext cx="276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©The McGraw-Hill Companies, Inc. 2008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4440" y="6583320"/>
            <a:ext cx="138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McGraw-Hill/Irwin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What is Statistic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apter 1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038240" y="3833640"/>
            <a:ext cx="2171520" cy="21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ur Levels of Measure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Nominal level -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ata that is classified into categories and cannot be arranged in any particular order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eye color, gender, religious affiliation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Ordinal level –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involves data arranged in some order, but the differences between data values cannot be determined or are meaningless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During a taste test of 4 soft drinks, Mellow Yellow was ranked number 1, Sprite number 2, Seven-up number 3, and Orange Crush number 4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6064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Interval level -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milar to the ordinal level, with the additional property that meaningful amounts of differences between data values can be determined. There is no natural zero point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Temperature on the Fahrenheit scale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Ratio level -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e interval level with an inherent zero starting point.  Differences and ratios are meaningful for this level of measurement.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1600" spc="-1" strike="noStrike">
                <a:solidFill>
                  <a:srgbClr val="ff3101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Monthly income of surgeons, or distance traveled by manufacturer’s representatives per month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09640" y="1886040"/>
            <a:ext cx="36860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547BA-3297-418A-A80C-2A01D111BC5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81760" y="648360"/>
            <a:ext cx="780912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ummary of the Characteristics for Levels of Measuremen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84080" y="2362320"/>
            <a:ext cx="6980400" cy="3209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16A60-E90A-4B4B-BACD-08F82B8AEF9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724320" y="318204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d of Chapter 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FBE7B-8B95-460C-A5EB-57BBD56FA2AA}" type="slidenum">
              <a:t>12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OA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99920" y="2114280"/>
            <a:ext cx="769284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derstand why we study statisti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lain what is meant by descriptive statistics and inferential statisti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inguish between a qualitative variable and a quantitative vari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cribe how a discrete variable is different from a continuous vari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inguish among the nominal, ordinal, interval, and ratio levels of measure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CE343-FFDE-4877-9DDE-48BBDC3D0AA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Meant by Statistic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00280" y="2166480"/>
            <a:ext cx="7410240" cy="33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912ea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33cccc"/>
                </a:solidFill>
                <a:latin typeface="Arial"/>
              </a:rPr>
              <a:t>Statistics</a:t>
            </a: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is the science of collecting, organizing, presenting, analyzing, and interpreting numerical data to assist in making more effective decisions.</a:t>
            </a: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D7C73-19E2-4423-B6B9-2D746E3A954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o Uses Statistic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9720" y="2085480"/>
            <a:ext cx="6597720" cy="33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tatistical techniques are used extensively by marketing, accounting, quality control, consumers, professional sports people, hospital administrators, educators, politicians, physicians, etc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23D1C-DC79-47E6-840D-8ACD3A08D1F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ypes of Statistics – Descriptive Statistic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09640" y="1870200"/>
            <a:ext cx="7927920" cy="396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Descriptive Statistics -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thods of organizing, summarizing, and presenting data in an informative wa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 1</a:t>
            </a:r>
            <a:r>
              <a:rPr b="0" lang="en-US" sz="14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A Gallup poll found that 49% of the people in a survey knew the name of the first book of the Bible. The statistic 49 describes the number out of every 100 persons who knew the answer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 2</a:t>
            </a:r>
            <a:r>
              <a:rPr b="0" lang="en-US" sz="14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According to Consumer Reports, General Electric washing machine owners reported 9 problems per 100 machines during 2001. The statistic 9 describes the number of problems out of every 100 machines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Inferential Statistics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 decision, estimate, prediction, or generalization about a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population,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based on a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sampl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280EE-0F93-4DFD-A363-3DCA89B321E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pulation versus S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752400" y="1917720"/>
            <a:ext cx="7743960" cy="4764240"/>
            <a:chOff x="752400" y="1917720"/>
            <a:chExt cx="7743960" cy="4764240"/>
          </a:xfrm>
        </p:grpSpPr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1625760" y="3672000"/>
              <a:ext cx="6211800" cy="30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752400" y="1917720"/>
              <a:ext cx="77439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A </a:t>
              </a:r>
              <a:r>
                <a:rPr b="0" lang="en-US" sz="2000" spc="-1" strike="noStrike">
                  <a:solidFill>
                    <a:srgbClr val="33cccc"/>
                  </a:solidFill>
                  <a:latin typeface="Arial"/>
                </a:rPr>
                <a:t>population</a:t>
              </a:r>
              <a:r>
                <a:rPr b="0" lang="en-US" sz="2000" spc="-1" strike="noStrike">
                  <a:solidFill>
                    <a:srgbClr val="0099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is a </a:t>
              </a:r>
              <a:r>
                <a:rPr b="0" lang="en-US" sz="2000" spc="-1" strike="noStrike">
                  <a:solidFill>
                    <a:srgbClr val="33cccc"/>
                  </a:solidFill>
                  <a:latin typeface="Arial"/>
                </a:rPr>
                <a:t>collection </a:t>
              </a: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of all possible individuals, objects, or measurements of  interest. 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33cccc"/>
                  </a:solidFill>
                  <a:latin typeface="Arial"/>
                </a:rPr>
                <a:t> sample </a:t>
              </a: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is a portion, or part, of the population of interest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DBC2B-E75F-4056-9ED9-54A16803C44A}" type="slidenum">
              <a:t>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es of Variable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828200" cy="437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Qualitativ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Attribute variable</a:t>
            </a:r>
            <a:r>
              <a:rPr b="0" lang="en-US" sz="2800" spc="-1" strike="noStrike">
                <a:solidFill>
                  <a:srgbClr val="4db14b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characteristic being studied is nonnumeric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Gender, religious affiliation, type of automobile owned, state of birth, eye color are example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B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Quantitative variab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- information is reported numericall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balance in your checking account, minutes remaining in class, or number of children in a family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19C43-7A83-4F00-93EF-8EBDC3EFF53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Quantitative Variables - Classificatio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864560" cy="446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Quantitative variables can be classified as either 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discret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continuou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A. Discrete variables</a:t>
            </a:r>
            <a:r>
              <a:rPr b="0" lang="en-US" sz="2400" spc="-1" strike="noStrike">
                <a:solidFill>
                  <a:srgbClr val="4db14b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can only assume certain values and there are usually “gaps” between value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</a:t>
            </a:r>
            <a:r>
              <a:rPr b="0" lang="en-US" sz="14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the number of bedrooms in a house, or the number of hammers sold at the local Home Depot (1,2,3,…,etc)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B. 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Continuous variabl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can assume any value within a specified rang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The pressure in a tire, the weight of a pork chop, or the height of students in a class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9280" y="2728800"/>
            <a:ext cx="8099280" cy="16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99A08-80C2-4351-8D10-79D5AE054497}" type="slidenum">
              <a:t>8</a:t>
            </a:fld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 of Types of Varia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06560" y="2308320"/>
            <a:ext cx="6473880" cy="3949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868DE-E05E-44D0-A14E-0E17C65B337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7T15:17:12Z</dcterms:created>
  <dc:creator>Rene Leo E. Ordonez</dc:creator>
  <dc:description/>
  <dc:language>en-US</dc:language>
  <cp:lastModifiedBy>MHE</cp:lastModifiedBy>
  <dcterms:modified xsi:type="dcterms:W3CDTF">2006-07-19T16:10:59Z</dcterms:modified>
  <cp:revision>89</cp:revision>
  <dc:subject>What is Statistics</dc:subject>
  <dc:title>Chapter 1</dc:title>
</cp:coreProperties>
</file>