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2762-290D-4BD2-961C-0917FEE7C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2725-9874-4951-B076-78FEB7A67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9361-2E2F-4514-BD5F-058237E21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2F50-49EA-4475-8B17-D345EC97D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B4FD-D5F3-4121-B013-899B6950C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69B6-5DC6-4D93-BE1E-4364D7508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FD9B-E94A-45C2-8FCA-C05C632FA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53EA-F76E-49C0-874D-312B278A7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DF2F-5A77-4765-BE5B-A3AFDB92E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05FC-9015-4B93-9C80-C40634965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AC76-8977-4C65-92BB-231CEBA9B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AC79-8E6D-4473-B572-12091FEE2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E038-DCD9-477D-BFB6-410EFF791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D577-2C26-4654-86C4-B8675304E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FC7F-4EE2-4EB2-8999-88F177043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D9A6-9DB1-4E33-8268-1650D515A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C7B9-F42C-460E-9079-6B4679745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405DE-2CA9-44F8-ACC0-A776705DAF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10AC6-5929-4CB3-BCFD-6057A13F0C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CDC3D-F5B4-4EF5-8748-B0DC67EE8B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5B2C2-177A-49BC-BCF3-174957E65A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091D9-709F-45E1-98B7-C842D7F16A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24E86-E2FD-43FA-B6C5-BB153D1EB8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F091B-238F-410B-9B10-761173C297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22C54-4112-4317-99A9-74E5963A22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FE958-6B57-466E-AAD4-4EF2121797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C26C6-2475-4210-94CA-6C763965D8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85BC0-111F-4E0A-8B2D-02FB7A0037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F836E-9728-46A5-87AB-314A88308D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4CC3-2754-41CC-A515-5828CE185884}" type="slidenum"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grpSp>
        <p:nvGrpSpPr>
          <p:cNvPr id="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sp>
        <p:nvSpPr>
          <p:cNvPr id="51" name="Text Box 12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:/Black%20Flash%20KSA/Stat%20Final%20Oct%2018,%2008/Statistics%20Techniques%20in%20Bus%20&amp;%20Econ%20KSU%20En%2008%20OK/Chapter01.doc" TargetMode="External"/><Relationship Id="rId2" Type="http://schemas.openxmlformats.org/officeDocument/2006/relationships/hyperlink" Target="file:///C:/Black%20Flash%20KSA/Stat%20Final%20Oct%2018,%2008/Statistics%20Techniques%20in%20Bus%20&amp;amp%3B%20Econ%20KSU%20En%2008%20OK/Chapter02.doc" TargetMode="External"/><Relationship Id="rId3" Type="http://schemas.openxmlformats.org/officeDocument/2006/relationships/hyperlink" Target="file:///C:/Black%20Flash%20KSA/Stat%20Final%20Oct%2018,%2008/Statistics%20Techniques%20in%20Bus%20&amp;amp%3B%20Econ%20KSU%20En%2008%20OK/Chapter03.doc" TargetMode="External"/><Relationship Id="rId4" Type="http://schemas.openxmlformats.org/officeDocument/2006/relationships/hyperlink" Target="file:///C:/Black%20Flash%20KSA/Stat%20Final%20Oct%2018,%2008/Statistics%20Techniques%20in%20Bus%20&amp;amp%3B%20Econ%20KSU%20En%2008%20OK/Chapter04.doc" TargetMode="External"/><Relationship Id="rId5" Type="http://schemas.openxmlformats.org/officeDocument/2006/relationships/hyperlink" Target="file:///C:/Black%20Flash%20KSA/Stat%20Final%20Oct%2018,%2008/Statistics%20Techniques%20in%20Bus%20&amp;amp%3B%20Econ%20KSU%20En%2008%20OK/Chapter05.doc" TargetMode="External"/><Relationship Id="rId6" Type="http://schemas.openxmlformats.org/officeDocument/2006/relationships/hyperlink" Target="file:///C:/Black%20Flash%20KSA/Stat%20Final%20Oct%2018,%2008/Statistics%20Techniques%20in%20Bus%20&amp;amp%3B%20Econ%20KSU%20En%2008%20OK/Chapter06.doc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C:/Black%20Flash%20KSA/Stat%20Final%20Oct%2018,%2008/Statistics%20Techniques%20in%20Bus%20&amp;amp%3B%20Econ%20KSU%20En%2008%20OK/Chapter07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673520" y="3535200"/>
            <a:ext cx="401328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uglas Lind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lliam Marchal &amp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amuel Wath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25280" y="1269360"/>
            <a:ext cx="761112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atistical Techniques in Business &amp; Economics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pulation versus S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6FBA-9B30-4BDF-BA53-5BC4EA8B252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grpSp>
        <p:nvGrpSpPr>
          <p:cNvPr id="132" name="Group 8"/>
          <p:cNvGrpSpPr/>
          <p:nvPr/>
        </p:nvGrpSpPr>
        <p:grpSpPr>
          <a:xfrm>
            <a:off x="752400" y="1781280"/>
            <a:ext cx="7743960" cy="4900680"/>
            <a:chOff x="752400" y="1781280"/>
            <a:chExt cx="7743960" cy="4900680"/>
          </a:xfrm>
        </p:grpSpPr>
        <p:pic>
          <p:nvPicPr>
            <p:cNvPr id="133" name="Picture 4" descr=""/>
            <p:cNvPicPr/>
            <p:nvPr/>
          </p:nvPicPr>
          <p:blipFill>
            <a:blip r:embed="rId1"/>
            <a:stretch/>
          </p:blipFill>
          <p:spPr>
            <a:xfrm>
              <a:off x="1625760" y="3672000"/>
              <a:ext cx="621180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Rectangle 7"/>
            <p:cNvSpPr/>
            <p:nvPr/>
          </p:nvSpPr>
          <p:spPr>
            <a:xfrm>
              <a:off x="752400" y="1781280"/>
              <a:ext cx="77439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A 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population</a:t>
              </a:r>
              <a:r>
                <a:rPr b="0" lang="en-US" sz="28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is a 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collection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of all possible individuals, objects, or measurements of  interest. </a:t>
              </a:r>
              <a:endParaRPr b="0" lang="en-US" sz="2800" spc="-1" strike="noStrike">
                <a:solidFill>
                  <a:srgbClr val="33cc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 sample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is a portion, or part, of the population of interest</a:t>
              </a:r>
              <a:endParaRPr b="0" lang="en-US" sz="2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Variabl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7720" y="1905120"/>
            <a:ext cx="7828200" cy="43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litativ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ttribute variable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haracteristic being studied is nonnumeric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Gender, religious affiliation, type of automobile owned, state of birth, eye color are exampl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ntitative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- information is reported numerical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balance in your checking account, minutes remaining in class, or number of children in a family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4C49-9904-40AD-BA02-C2C16C503BE4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antitative Variables - Classif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02920" y="1904760"/>
            <a:ext cx="8442360" cy="44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antitative variables can be classified as eithe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iscre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continuo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iscrete variables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only assume certain values and there are usually “gaps” between valu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e number of bedrooms in a house, or the number of hammers sold at the local Home Depot (1,2,3,…,etc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 Continuous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assume any value within a specified rang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pressure in a tire, the weight of a pork chop, or the height of students in a clas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5A71-78B4-4055-AADB-90D739240414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49280" y="2728800"/>
            <a:ext cx="80992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of Types of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777960" y="2193840"/>
            <a:ext cx="7146720" cy="4100760"/>
          </a:xfrm>
          <a:prstGeom prst="rect">
            <a:avLst/>
          </a:prstGeom>
          <a:ln w="0">
            <a:noFill/>
          </a:ln>
        </p:spPr>
      </p:pic>
      <p:sp>
        <p:nvSpPr>
          <p:cNvPr id="14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5AB2-9D42-4511-A188-3DA216D2B34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ur Levels of Measur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72680" y="1768320"/>
            <a:ext cx="420516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Nominal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a that is classified into categories and cannot be arranged in any particular order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ye color, gender, religious affili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Ordinal level –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involves data arranged in some order, but the differences between data values cannot be determined or are meaningles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uring a taste test of 4 soft drinks, Mellow Yellow was ranked number 1, Sprite number 2, Seven-up number 3, and Orange Crush number 4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87480" y="1752480"/>
            <a:ext cx="43275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Interval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milar to the ordinal level, with the additional property that meaningful amounts of differences between data values can be determined. There is no natural zero point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emperature on the Fahrenheit scal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Ratio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interval level with an inherent zero starting point.  Differences and ratios are meaningful for this level of measurement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nthly income of surgeons, or distance traveled by manufacturer’s representatives per month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13D3-D596-42EF-B5CB-47BCC3768D1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809640" y="1886040"/>
            <a:ext cx="3686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58176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Arial"/>
              </a:rPr>
              <a:t>Summary of the Characteristics for Levels of Measurement</a:t>
            </a:r>
            <a:endParaRPr b="1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198440" y="2390760"/>
            <a:ext cx="6972480" cy="3210120"/>
          </a:xfrm>
          <a:prstGeom prst="rect">
            <a:avLst/>
          </a:prstGeom>
          <a:ln w="0">
            <a:noFill/>
          </a:ln>
        </p:spPr>
      </p:pic>
      <p:sp>
        <p:nvSpPr>
          <p:cNvPr id="15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D17F-D477-4744-B522-7FCF1788F9D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07DA-E878-412D-A578-1AE7DC1165F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01560" y="357120"/>
            <a:ext cx="7787880" cy="94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07 QUA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URSE CONT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12400" y="1962000"/>
            <a:ext cx="8931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bc0000"/>
                </a:solidFill>
                <a:uFillTx/>
                <a:latin typeface="Arial"/>
              </a:rPr>
              <a:t>Chapter </a:t>
            </a:r>
            <a:r>
              <a:rPr b="1" i="1" lang="en-US" sz="24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400" spc="-1" strike="noStrike" u="sng">
                <a:solidFill>
                  <a:srgbClr val="bc0000"/>
                </a:solidFill>
                <a:uFillTx/>
                <a:latin typeface="Arial"/>
              </a:rPr>
              <a:t>Title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hat is Statist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Describing Data: Frequency Distributions and 		Graphic Presentation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Describing Data:  Numerical Measures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Describing Data: Displaying and Exploring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A Survey of Probability Concep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6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Discrete Probability Distributions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4F48-2878-492C-AAA4-8C4F8FD0219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01560" y="357120"/>
            <a:ext cx="7787880" cy="94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AT 107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URSE CONT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34800" y="1962000"/>
            <a:ext cx="880920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bc0000"/>
                </a:solidFill>
                <a:uFillTx/>
                <a:latin typeface="Arial"/>
              </a:rPr>
              <a:t>Chapter </a:t>
            </a:r>
            <a:r>
              <a:rPr b="1" i="1" lang="en-US" sz="28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bc0000"/>
                </a:solidFill>
                <a:uFillTx/>
                <a:latin typeface="Arial"/>
              </a:rPr>
              <a:t>Title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7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Continuous Probability Distribu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8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ampling Methods and the Central 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mit Theor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near Regression and Correl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5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Index Numb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6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Time Series and Forecas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9E44-69C5-4C58-8109-648A6C0B293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at is Statist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99920" y="1962000"/>
            <a:ext cx="7692840" cy="41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why we study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what is meant by descriptive statistics and inferential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between a qualitative variable and a quantitative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how a discrete variable is different from a continuous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among the nominal, ordinal, interval, and ratio levels of measur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BB3F-48EB-4EA0-AA52-EC4E611C29E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Meant by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00280" y="2166480"/>
            <a:ext cx="741024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912ea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33cccc"/>
                </a:solidFill>
                <a:latin typeface="Arial"/>
              </a:rPr>
              <a:t>Statistics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s the science of collecting, organizing, presenting, analyzing, and interpreting numerical data to assist in making more effective decisions.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8449-90F0-4E4C-B923-1FEBB25A3B8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Uses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99720" y="2085480"/>
            <a:ext cx="659772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tistical techniques are used extensively by marketing, accounting, quality control, consumers, professional sports people, hospital administrators, educators, politicians, physicians, etc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80F5-2242-4E5A-9FC4-3B0C39970AB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Statistic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09640" y="2072880"/>
            <a:ext cx="792792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1.Descriptive Statistics -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ethods of organizing, summarizing, and presenting data in an informative way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 1</a:t>
            </a:r>
            <a:r>
              <a:rPr b="0" lang="en-US" sz="28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Gallup poll found that 49% of the people in a survey knew the name of the first book of the Bible. The statistic 49 describes the number out of every 100 persons who knew the answ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6E5A-9606-42B9-8402-AA7E84A3029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Arial"/>
              </a:rPr>
              <a:t>Types of Statistics – Descriptive Statistics</a:t>
            </a:r>
            <a:endParaRPr b="1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09640" y="1869840"/>
            <a:ext cx="792792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 2</a:t>
            </a:r>
            <a:r>
              <a:rPr b="0" lang="en-US" sz="28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ccording to Consumer Reports, General Electric washing machine owners reported 9 problems per 100 machines during 2001. The statistic 9 describes the number of problems out of every 100 machin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2.Inferential Statistic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decision, estimate, prediction, or generalization about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opulation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ased on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ampl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BC87-EF95-4DB9-81BD-7B47B8522D8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Maiadah Fawaz</cp:lastModifiedBy>
  <dcterms:modified xsi:type="dcterms:W3CDTF">2014-09-09T21:50:17Z</dcterms:modified>
  <cp:revision>105</cp:revision>
  <dc:subject>What is Statistics</dc:subject>
  <dc:title>Chapter 1</dc:title>
</cp:coreProperties>
</file>