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F6EB-ECFD-4EBC-B40B-571D1F3F2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DED5F-AE12-44B0-A899-FDDC2FC72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3AB6A-B9A8-4FCE-BF04-69584CD22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2FBE-CB2D-4A46-90CF-56696678C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099F1-46A6-416C-AE3D-70AFBEE23C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39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0080" y="190476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39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0080" y="4088880"/>
            <a:ext cx="24768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58E7-C711-4707-961B-D02256C04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D1C1F-B1D4-426F-B9C5-5AFED927B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9A664-427B-4194-826D-8A12EE68C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1120" y="515160"/>
            <a:ext cx="7808760" cy="370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9CA27-B5E2-4923-932C-ACD74A8E4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A64CD-1CC9-4078-A5DA-26A3BCE4D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08888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C27F-0F4A-47E9-843C-92A109DBC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1904760"/>
            <a:ext cx="375408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088880"/>
            <a:ext cx="7693200" cy="199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951B9-7C8B-4C7B-BB9F-4471AB9D5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86200" cy="685800"/>
          </a:xfrm>
          <a:custGeom>
            <a:avLst/>
            <a:gdLst/>
            <a:ahLst/>
            <a:rect l="l" t="t" r="r" b="b"/>
            <a:pathLst>
              <a:path w="1728" h="735">
                <a:moveTo>
                  <a:pt x="1728" y="0"/>
                </a:moveTo>
                <a:lnTo>
                  <a:pt x="1728" y="480"/>
                </a:lnTo>
                <a:lnTo>
                  <a:pt x="380" y="482"/>
                </a:lnTo>
                <a:lnTo>
                  <a:pt x="354" y="480"/>
                </a:lnTo>
                <a:lnTo>
                  <a:pt x="308" y="489"/>
                </a:lnTo>
                <a:cubicBezTo>
                  <a:pt x="290" y="498"/>
                  <a:pt x="263" y="513"/>
                  <a:pt x="246" y="531"/>
                </a:cubicBezTo>
                <a:cubicBezTo>
                  <a:pt x="229" y="549"/>
                  <a:pt x="215" y="574"/>
                  <a:pt x="206" y="597"/>
                </a:cubicBezTo>
                <a:cubicBezTo>
                  <a:pt x="197" y="620"/>
                  <a:pt x="194" y="643"/>
                  <a:pt x="192" y="666"/>
                </a:cubicBezTo>
                <a:lnTo>
                  <a:pt x="192" y="735"/>
                </a:lnTo>
                <a:lnTo>
                  <a:pt x="0" y="735"/>
                </a:lnTo>
                <a:lnTo>
                  <a:pt x="0" y="480"/>
                </a:lnTo>
                <a:lnTo>
                  <a:pt x="0" y="0"/>
                </a:lnTo>
                <a:lnTo>
                  <a:pt x="1728" y="0"/>
                </a:lnTo>
                <a:close/>
              </a:path>
            </a:pathLst>
          </a:cu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3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6932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0" y="6527520"/>
            <a:ext cx="44928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DD8-4518-401F-9A8C-A8FAF2BB8318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ftr" idx="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27720" y="6583320"/>
            <a:ext cx="27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©The McGraw-Hill Companies, Inc. 20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40" y="6583320"/>
            <a:ext cx="138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Times New Roman"/>
              </a:rPr>
              <a:t>McGraw-Hill/Irwi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at is Statistic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apter 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38240" y="3833640"/>
            <a:ext cx="2171520" cy="21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ur Levels of Measure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Nomin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ta that is classified into categories and cannot be arranged in any particular order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eye color, gender, religious affiliation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Ordinal level –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volves data arranged in some order, but the differences between data values cannot be determined or are meaningless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During a taste test of 4 soft drinks, Mellow Yellow was ranked number 1, Sprite number 2, Seven-up number 3, and Orange Crush number 4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60640" y="1904760"/>
            <a:ext cx="3770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Interval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milar to the ordinal level, with the additional property that meaningful amounts of differences between data values can be determined. There is no natural zero point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emperature on the Fahrenheit scale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Arial"/>
              </a:rPr>
              <a:t>Ratio level -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interval level with an inherent zero starting point.  Differences and ratios are meaningful for this level of measurement.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1600" spc="-1" strike="noStrike">
                <a:solidFill>
                  <a:srgbClr val="ff3101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onthly income of surgeons, or distance traveled by manufacturer’s representatives per month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640" y="1886040"/>
            <a:ext cx="3686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A57A1-A321-46F9-9EAF-71238884295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81760" y="648360"/>
            <a:ext cx="780912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ummary of the Characteristics for Levels of Measure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080" y="2362320"/>
            <a:ext cx="698040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B993-A353-4E69-B944-7574723B005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24320" y="318204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d of Chapter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538A-9AE4-4824-98DB-686AEEE7851E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99920" y="2114280"/>
            <a:ext cx="769284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stand why we study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what is meant by descriptive statistics and inferential statistic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between a qualitative variable and a quantitative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be how a discrete variable is different from a continuous vari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tinguish among the nominal, ordinal, interval, and ratio levels of measur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C91B-71AF-4D8D-AAD9-CB62C79AB8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eant by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0280" y="2166480"/>
            <a:ext cx="741024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912ea"/>
                </a:solidFill>
                <a:latin typeface="Arial"/>
              </a:rPr>
              <a:t>	</a:t>
            </a:r>
            <a:r>
              <a:rPr b="0" i="1" lang="en-US" sz="3600" spc="-1" strike="noStrike">
                <a:solidFill>
                  <a:srgbClr val="33cccc"/>
                </a:solidFill>
                <a:latin typeface="Arial"/>
              </a:rPr>
              <a:t>Statistics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is the science of collecting, organizing, presenting, analyzing, and interpreting numerical data to assist in making more effective decisions.</a:t>
            </a:r>
            <a:r>
              <a:rPr b="0" i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F444D-9EE9-4C68-977E-5E6D70455F6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o Uses Statistic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9720" y="2085480"/>
            <a:ext cx="6597720" cy="33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tistical techniques are used extensively by marketing, accounting, quality control, consumers, professional sports people, hospital administrators, educators, politicians, physicians, etc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3FE5-4F01-493B-B95D-09AE0F04F2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ypes of Statistics – Descriptive Statistic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09640" y="1870200"/>
            <a:ext cx="7927920" cy="39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Descriptive Statistics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thods of organizing, summarizing, and presenting data in an informative wa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1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 Gallup poll found that 49% of the people in a survey knew the name of the first book of the Bible. The statistic 49 describes the number out of every 100 persons who knew the answ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 2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According to Consumer Reports, General Electric washing machine owners reported 9 problems per 100 machines during 2001. The statistic 9 describes the number of problems out of every 100 machin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Inferential Statistics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 decision, estimate, prediction, or generalization about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opulation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based on a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ampl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CA282-B60E-4C1A-A81F-4C40E318D28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91120" y="515160"/>
            <a:ext cx="780876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tion versus S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52400" y="1917720"/>
            <a:ext cx="7743960" cy="4764240"/>
            <a:chOff x="752400" y="1917720"/>
            <a:chExt cx="7743960" cy="476424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1625760" y="3672000"/>
              <a:ext cx="621180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52400" y="1917720"/>
              <a:ext cx="77439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population</a:t>
              </a:r>
              <a:r>
                <a:rPr b="0" lang="en-US" sz="2000" spc="-1" strike="noStrike">
                  <a:solidFill>
                    <a:srgbClr val="0099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collection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of all possible individuals, objects, or measurements of  interest. 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0" lang="en-US" sz="2000" spc="-1" strike="noStrike">
                  <a:solidFill>
                    <a:srgbClr val="33cccc"/>
                  </a:solidFill>
                  <a:latin typeface="Arial"/>
                </a:rPr>
                <a:t> sample </a:t>
              </a:r>
              <a:r>
                <a:rPr b="0" lang="en-US" sz="2000" spc="-1" strike="noStrike">
                  <a:solidFill>
                    <a:srgbClr val="003366"/>
                  </a:solidFill>
                  <a:latin typeface="Arial"/>
                </a:rPr>
                <a:t>is a portion, or part, of the population of interes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65AF-52B8-4A2F-8D70-375679014F21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ypes of Variabl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28200" cy="43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litativ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Attribute variable</a:t>
            </a:r>
            <a:r>
              <a:rPr b="0" lang="en-US" sz="2800" spc="-1" strike="noStrike">
                <a:solidFill>
                  <a:srgbClr val="4db14b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characteristic being studied is nonnumeric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Gender, religious affiliation, type of automobile owned, state of birth, eye color are examp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Quantitative variab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information is reported numerically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balance in your checking account, minutes remaining in class, or number of children in a family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53CD-93EA-4CEF-B5E8-C58950F7052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Quantitative Variables - Classif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864560" cy="446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antitative variables can be classified as eithe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A. Discrete variables</a:t>
            </a:r>
            <a:r>
              <a:rPr b="0" lang="en-US" sz="2400" spc="-1" strike="noStrike">
                <a:solidFill>
                  <a:srgbClr val="4db14b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only assume certain values and there are usually “gaps” between value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</a:t>
            </a:r>
            <a:r>
              <a:rPr b="0" lang="en-US" sz="1400" spc="-1" strike="noStrike">
                <a:solidFill>
                  <a:srgbClr val="ff3101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number of bedrooms in a house, or the number of hammers sold at the local Home Depot (1,2,3,…,etc)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Continuous variabl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an assume any value within a specified ran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cc"/>
                </a:solidFill>
                <a:latin typeface="Arial"/>
              </a:rPr>
              <a:t>EXAMPLE: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The pressure in a tire, the weight of a pork chop, or the height of students in a class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280" y="2728800"/>
            <a:ext cx="8099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46E21-1120-4E30-A58B-326502BB067C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mmary of Types of Vari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06560" y="2308320"/>
            <a:ext cx="6473880" cy="394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9D81-8EBA-4120-8355-796C0F5350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7T15:17:12Z</dcterms:created>
  <dc:creator>Rene Leo E. Ordonez</dc:creator>
  <dc:description/>
  <dc:language>en-US</dc:language>
  <cp:lastModifiedBy>MHE</cp:lastModifiedBy>
  <dcterms:modified xsi:type="dcterms:W3CDTF">2006-07-19T16:10:59Z</dcterms:modified>
  <cp:revision>89</cp:revision>
  <dc:subject>What is Statistics</dc:subject>
  <dc:title>Chapter 1</dc:title>
</cp:coreProperties>
</file>