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D060-BDE9-4119-80EF-72AFA5DEB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6A65-A69E-4730-B605-E33B26FE2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AC36-C418-4BB4-AEF8-62AD0F983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C192-E992-45EB-A810-1A8930C5B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EF4D-A236-454F-9310-A95C9C70F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9355-B65B-4E16-BCB1-0F96CF546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88F6-4A65-4C71-85D6-6C9998B64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419D-B632-483B-A584-BF613ADA7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C6D1-9309-4D2B-BC95-78DF18204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CA34-1666-46B3-8189-2D5CF5396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9A89-8EDA-42B6-A472-C1B68CF44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57A0-8DA5-4D6B-8473-4CAAE5DE8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3DA6-D661-4BE0-BECC-E949BAE64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1515-8047-4B4B-BEFF-823AED68B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077D-389A-4A50-BF48-54BCCCEBA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54D4-AD81-42C0-842D-AFFD4A122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60E8-8A76-4019-90C1-8F8762A80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790B6-DD44-457E-AF34-860290B2F2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6CCFC-C0D4-40D6-BD7B-C2B1BBD717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99EEF-840A-441C-9039-8A5AE7C47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32C9A-04B0-46FC-A9FC-2D3F7D21CE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CD20D-6CF5-42CB-8B95-2F987214F1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8D704-81ED-4D65-9AB2-4CA6C93BD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A4A59-5A02-4FBB-A711-C0A869E880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15BE8-9C3E-40CD-8AA3-8D7853ED14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0029F-B208-42BE-A2B6-31F0ED6D66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4E72E-F92A-432B-B79E-DC48F819F3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9B0F6-12E3-4434-9505-DFB6456F81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B3B16-26B7-493A-9CFF-AC7DD83065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B076-221A-49BF-AE30-48D16DA1A347}" type="slidenum"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1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Black%20Flash%20KSA/Stat%20Final%20Oct%2018,%2008/Statistics%20Techniques%20in%20Bus%20&amp;%20Econ%20KSU%20En%2008%20OK/Chapter01.doc" TargetMode="External"/><Relationship Id="rId2" Type="http://schemas.openxmlformats.org/officeDocument/2006/relationships/hyperlink" Target="file:///C:/Black%20Flash%20KSA/Stat%20Final%20Oct%2018,%2008/Statistics%20Techniques%20in%20Bus%20&amp;amp%3B%20Econ%20KSU%20En%2008%20OK/Chapter02.doc" TargetMode="External"/><Relationship Id="rId3" Type="http://schemas.openxmlformats.org/officeDocument/2006/relationships/hyperlink" Target="file:///C:/Black%20Flash%20KSA/Stat%20Final%20Oct%2018,%2008/Statistics%20Techniques%20in%20Bus%20&amp;amp%3B%20Econ%20KSU%20En%2008%20OK/Chapter03.doc" TargetMode="External"/><Relationship Id="rId4" Type="http://schemas.openxmlformats.org/officeDocument/2006/relationships/hyperlink" Target="file:///C:/Black%20Flash%20KSA/Stat%20Final%20Oct%2018,%2008/Statistics%20Techniques%20in%20Bus%20&amp;amp%3B%20Econ%20KSU%20En%2008%20OK/Chapter04.doc" TargetMode="External"/><Relationship Id="rId5" Type="http://schemas.openxmlformats.org/officeDocument/2006/relationships/hyperlink" Target="file:///C:/Black%20Flash%20KSA/Stat%20Final%20Oct%2018,%2008/Statistics%20Techniques%20in%20Bus%20&amp;amp%3B%20Econ%20KSU%20En%2008%20OK/Chapter05.doc" TargetMode="External"/><Relationship Id="rId6" Type="http://schemas.openxmlformats.org/officeDocument/2006/relationships/hyperlink" Target="file:///C:/Black%20Flash%20KSA/Stat%20Final%20Oct%2018,%2008/Statistics%20Techniques%20in%20Bus%20&amp;amp%3B%20Econ%20KSU%20En%2008%20OK/Chapter06.doc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:/Black%20Flash%20KSA/Stat%20Final%20Oct%2018,%2008/Statistics%20Techniques%20in%20Bus%20&amp;amp%3B%20Econ%20KSU%20En%2008%20OK/Chapter07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673520" y="3535200"/>
            <a:ext cx="401328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uglas Lind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iam Marchal &amp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muel Wath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25280" y="1269360"/>
            <a:ext cx="761112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istical Techniques in Business &amp; Economics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4ABC-7D1C-4711-ACC6-5AF4DD73E69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132" name="Group 8"/>
          <p:cNvGrpSpPr/>
          <p:nvPr/>
        </p:nvGrpSpPr>
        <p:grpSpPr>
          <a:xfrm>
            <a:off x="752400" y="1781280"/>
            <a:ext cx="7743960" cy="4900680"/>
            <a:chOff x="752400" y="1781280"/>
            <a:chExt cx="7743960" cy="4900680"/>
          </a:xfrm>
        </p:grpSpPr>
        <p:pic>
          <p:nvPicPr>
            <p:cNvPr id="133" name="Picture 4" descr=""/>
            <p:cNvPicPr/>
            <p:nvPr/>
          </p:nvPicPr>
          <p:blipFill>
            <a:blip r:embed="rId1"/>
            <a:stretch/>
          </p:blipFill>
          <p:spPr>
            <a:xfrm>
              <a:off x="1625760" y="3672000"/>
              <a:ext cx="62118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7"/>
            <p:cNvSpPr/>
            <p:nvPr/>
          </p:nvSpPr>
          <p:spPr>
            <a:xfrm>
              <a:off x="752400" y="1781280"/>
              <a:ext cx="77439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population</a:t>
              </a:r>
              <a:r>
                <a:rPr b="0" lang="en-US" sz="28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collection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of all possible individuals, objects, or measurements of  interest. 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 sample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portion, or part, of the population of interest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Variab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7720" y="1905120"/>
            <a:ext cx="78282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lita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ttribute variable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racteristic being studied is nonnumer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Gender, religious affiliation, type of automobile owned, state of birth, eye color are exampl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ntitative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information is reported numer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alance in your checking account, minutes remaining in class, or number of children in a family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BBFB-C9BD-4F2E-B452-CA07515DEF3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antitative Variables - Classif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02920" y="1904760"/>
            <a:ext cx="8442360" cy="44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ntitative variables can be classified as eithe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continuo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 variables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only assume certain values and there are usually “gaps” between valu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e number of bedrooms in a house, or the number of hammers sold at the local Home Depot (1,2,3,…,etc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 Continuous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assume any value within a specified ran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pressure in a tire, the weight of a pork chop, or the height of students in a clas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A02F-253B-4803-8B25-23B5EB0AA7E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49280" y="2728800"/>
            <a:ext cx="8099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of Types of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777960" y="2193840"/>
            <a:ext cx="7146720" cy="410076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75B6-7F07-4AF5-9E4B-64D831DDB1B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ur Levels of Measu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72680" y="1768320"/>
            <a:ext cx="420516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Nominal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a that is classified into categories and cannot be arranged in any particular order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ye color, gender, religious affili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Ordinal level –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nvolves data arranged in some order, but the differences between data values cannot be determined or are meaningles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uring a taste test of 4 soft drinks, Mellow Yellow was ranked number 1, Sprite number 2, Seven-up number 3, and Orange Crush number 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87480" y="1752480"/>
            <a:ext cx="43275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Interval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milar to the ordinal level, with the additional property that meaningful amounts of differences between data values can be determined. There is no natural zero poi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emperature on the Fahrenheit scal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Ratio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interval level with an inherent zero starting point.  Differences and ratios are meaningful for this level of measureme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nthly income of surgeons, or distance traveled by manufacturer’s representatives per month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AEF6-450C-42F1-BC67-F6F627BE80D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809640" y="1886040"/>
            <a:ext cx="3686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58176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Summary of the Characteristics for Levels of Measurement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198440" y="2390760"/>
            <a:ext cx="6972480" cy="321012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7A02-6C4D-42AD-A539-114517FF560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1F8F-3B35-497E-B9B8-EFD82F204D4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01560" y="35712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07 QUA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RSE CONT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2400" y="1962000"/>
            <a:ext cx="8931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bc0000"/>
                </a:solidFill>
                <a:uFillTx/>
                <a:latin typeface="Arial"/>
              </a:rPr>
              <a:t>Chapter </a:t>
            </a:r>
            <a:r>
              <a:rPr b="1" i="1" lang="en-US" sz="24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bc0000"/>
                </a:solidFill>
                <a:uFillTx/>
                <a:latin typeface="Arial"/>
              </a:rPr>
              <a:t>Title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hat is Statist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Describing Data: Frequency Distributions and 		Graphic Presentation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Describing Data:  Numerical Measures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Describing Data: Displaying and Exploring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A Survey of Probability Concep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Discrete Probability Distributions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5AFB-D4D5-4AEE-9140-6F72D273FAA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01560" y="35712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 107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RSE CONT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34800" y="1962000"/>
            <a:ext cx="880920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bc0000"/>
                </a:solidFill>
                <a:uFillTx/>
                <a:latin typeface="Arial"/>
              </a:rPr>
              <a:t>Chapter </a:t>
            </a:r>
            <a:r>
              <a:rPr b="1" i="1" lang="en-US" sz="28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bc0000"/>
                </a:solidFill>
                <a:uFillTx/>
                <a:latin typeface="Arial"/>
              </a:rPr>
              <a:t>Title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ontinuous Probability Distrib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8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ampling Methods and the Central 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mit Theor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near Regression and Correl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5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Index Nu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6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Time Series and Forecas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E91B-C1D4-4303-BDEE-9E1280F6FCA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is Statist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99920" y="1962000"/>
            <a:ext cx="7692840" cy="41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why we study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is meant by descriptive statistics and inferential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a qualitative variable and a quantitative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discrete variable is different from a continuous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among the nominal, ordinal, interval, and ratio levels of measu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3A46-E5EC-4D97-84EF-56DBD2C8967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eant by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00280" y="2166480"/>
            <a:ext cx="741024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912ea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33cccc"/>
                </a:solidFill>
                <a:latin typeface="Arial"/>
              </a:rPr>
              <a:t>Statistics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s the science of collecting, organizing, presenting, analyzing, and interpreting numerical data to assist in making more effective decisions.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5877-679C-4F0B-B25B-44540C3C48B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Uses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9720" y="2085480"/>
            <a:ext cx="659772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tistical techniques are used extensively by marketing, accounting, quality control, consumers, professional sports people, hospital administrators, educators, politicians, physicians, etc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D156-18EE-4AE3-8C01-E941DCB43F3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09640" y="2072880"/>
            <a:ext cx="792792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1.Descriptive Statistics -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ethods of organizing, summarizing, and presenting data in an informative way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1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Gallup poll found that 49% of the people in a survey knew the name of the first book of the Bible. The statistic 49 describes the number out of every 100 persons who knew the answ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AF59-FA55-4AE9-B9E7-24C42FE38C6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09640" y="1869840"/>
            <a:ext cx="792792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2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ccording to Consumer Reports, General Electric washing machine owners reported 9 problems per 100 machines during 2001. The statistic 9 describes the number of problems out of every 100 machin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2.Inferential Statistic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decision, estimate, prediction, or generalization about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opulation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sed on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amp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8580-7C0F-4B4D-938C-269B3C6B52F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Nadia MS</cp:lastModifiedBy>
  <dcterms:modified xsi:type="dcterms:W3CDTF">2017-09-18T17:14:25Z</dcterms:modified>
  <cp:revision>105</cp:revision>
  <dc:subject>What is Statistics</dc:subject>
  <dc:title>Chapter 1</dc:title>
</cp:coreProperties>
</file>