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111F-AC8B-4FFD-92D3-8360089B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4F23-7783-4B99-8425-9E8B0B858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BBF1-5420-4AF9-BB27-46FE8005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E88F-7062-4875-8902-16D20BE71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9E49-1D2F-4956-99DA-E52E46E6D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1491-0631-4238-A805-D34AE3986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0065-0D09-4E7A-8690-864E463D2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F4D7-8870-48EE-8122-BCA46903F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299A-322B-402A-AABD-ADD74C52C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C6E2-3174-4296-B9FE-F342FDD66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5719-5D1B-4AD2-BCA1-DD6825C00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A0C6-A3D1-4700-8CE2-1F8D7155A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4AE5-F4B8-4D68-B6DD-A6F57CE7A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071-C1BD-4C47-86CB-FC8FE641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3626-5287-401F-98B0-C11C3F229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DD8-A041-43F9-B4B3-1218ABB4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FBA4-2D35-4848-BC65-EF76D5691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1A483-A22A-46D8-BDF2-E0B4BB827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C380-D3E1-4CC4-A3CD-E5E2AA83E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5935-98D4-4744-B5D1-4B3A4AE8D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36C8-A417-432F-8CB5-9846E9CDB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E312-F600-485A-9270-DB395C482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E4E3-F676-47EE-BDEB-55C7718E3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CA66-BA7E-4A14-BFB1-34C4AA5ED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C9A9-B5C6-4316-B69B-0718157B3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9228-5115-4B80-8D2F-31E15D59A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9C10-6B82-42E9-B830-72797844B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9182-AC36-4E56-B102-8A315D4DE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696A-BFED-45F2-A037-468E4451E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4358-2D92-4813-A579-73F08EB6C9E1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F66B-5194-435F-835F-2ABA1075ED7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F3DB-DFDE-452F-85D0-60BAFF0E209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F098-7E30-42C5-A496-278F4009C2A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94E7-13A0-4CEE-A995-EED63297204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7B5E-817A-4BAA-B2FA-B0B3F2875D4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9A56-7D78-4DE5-BE8E-1C15F329FDC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49CD-E498-44C2-BAE5-8146107EFFA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E2DC-D8A8-4FEF-89EB-242D42EC67B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C81A-DD2B-4BAC-B01F-CF6759A67B6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9D78-D197-47A4-8A44-7224BED04E0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67CB-8CBB-4257-A5E5-54C2E9200C2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AAFA-C219-430C-B708-0440F4A6D21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5E01-32E4-4718-AE89-9B15FA78EB5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798D-AF7D-449B-94CB-7B947D53D44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Nadia MS</cp:lastModifiedBy>
  <dcterms:modified xsi:type="dcterms:W3CDTF">2017-09-18T17:14:25Z</dcterms:modified>
  <cp:revision>105</cp:revision>
  <dc:subject>What is Statistics</dc:subject>
  <dc:title>Chapter 1</dc:title>
</cp:coreProperties>
</file>