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1AEA-EC80-4095-AE59-751E38010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4907-826E-474A-B270-E6550D6AD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879E-63D5-4162-8246-1DAD0AE1D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6B97-AC9D-448D-9BA9-B7DFC91E9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2398-712C-4D31-A665-B115A5A94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706D-82DD-4486-A129-534F630FF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A78C-0390-4CD4-B1FD-1D9332FA1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6558-4A41-4604-9019-8E5039F89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2E70-AB74-4ACB-BC16-3D653B617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C455-8055-4EF2-A283-6A9825FC2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6874-53F2-47EA-90B1-D96A23C18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B595-9218-414E-8115-C80081855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47AC-4653-4442-8A1A-2A37A459E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E271-7A5C-4430-B71A-295CBAE69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4903-14FF-4DFE-A8E5-630313664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A1A2-7C20-438B-B0FF-1C2741F77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DEB1-8435-462B-9802-766F788D0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C2EB5-4E9E-469A-BFED-C8D1CFA13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D080-62D5-4592-937D-A785C976E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50BE-03A7-4408-8DFB-627AF99E4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783C-2CBB-4716-BE20-8168AB2A4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FD20C-A56C-4DEB-8285-0067AC554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1F64D-FFA3-4733-9230-33ACA8DA8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1182-474D-4463-B869-19605982B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9130-3FD9-472C-90C7-C585AA69F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B01DA-9080-4F33-B7FB-8950B9FB6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62F2-B519-4016-89D5-C34D01648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9E4B-742D-4233-8FB4-CA8BC85D8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F2ED-673E-4A7C-87A0-94986F6D8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B527-CDDC-44D8-BD72-6034E867242F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D08E-2059-4C42-99FD-F83A6657512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20C9-92FE-4606-B340-C61144B954B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0291-0429-4A13-81CE-919D7DE56B2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C44E-490E-42CE-937C-CA7D7DFA2F0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2066-2224-4507-8E0F-D8894C043BD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5417-F17C-45AB-B27B-EEF00740360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A2CF-1A84-4AA2-B251-9BA60E09E0A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CA17-7FBC-44A0-9C44-45B36010CC5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BB8C-9017-446A-B45A-4D14573C6F9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0430-8B16-43FB-9593-8FC6FD4BAF2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65CD-6B62-44CC-8379-2F97026C0F4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BC4F-15ED-44D4-97B8-3AA126CAA06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E9E4-35ED-44B6-9FCE-0819A2D30E3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6964-19BC-4B5B-B331-B7518566344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www.arabswell.com</cp:lastModifiedBy>
  <dcterms:modified xsi:type="dcterms:W3CDTF">2008-10-20T05:49:33Z</dcterms:modified>
  <cp:revision>104</cp:revision>
  <dc:subject>What is Statistics</dc:subject>
  <dc:title>Chapter 1</dc:title>
</cp:coreProperties>
</file>