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B51AB-6DD3-43B1-AD97-D9CBE4741D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D3908-A46E-42D6-8424-2ECE13822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CA708-CB6F-49D6-9935-1B9299137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1B76E-DE81-4331-AF7E-19B0E5580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52726-DC72-45FD-8C99-2ED6F02C93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4A0BC-67B2-4185-9A19-B0BE6D4A1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02467-AC56-4694-B327-2E753F0763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7956-7B99-428C-8A21-B71BEF02E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9F09E-B8EB-46A0-AE33-0666F9693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7C761-781D-4448-9B90-8C5EABA7D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2287B-FE54-4329-B3AF-46B26E7B3B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BA1AF-3FEB-4088-8D61-EFD8D82CDC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DEBD3-0E03-400A-B306-C9ACF5E62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9BA0D-556F-46F7-B08F-E4F7FA350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C2352-8952-46F7-A3F2-EADA46077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41A64-6F30-4943-B770-CB618BFEFF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A73B3-ACFB-49B3-A47D-2C68BA7959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20D22-F86A-47FC-898A-61E3E19DA2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D46A8-216F-492D-9497-4A98A7F090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35EA5-BB0F-4DE1-8C03-0E6C1B4A56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A551C-0AE7-4DD1-B1D7-E3FF1F55A7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2EBFD-17F5-44A9-8A9C-5825D66922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243C1-3C91-4708-9137-4E23FAC005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CA70E-60B4-4793-818F-747C70D8D7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5082F-02F2-469E-B3E3-6F8722A2F9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77100-C33D-4DEE-BCA2-F04BE2823D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EA005-796A-436A-9318-945B6C0928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854A4-CC6C-4682-871A-2C08EDCB59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A55AE-CD3D-44E3-8E6D-A4FC9A28B7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3886200" cy="685800"/>
          </a:xfrm>
          <a:prstGeom prst="pie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3" name="AutoShape 5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1481C-49A3-4DFF-8B87-2E7EDF59F511}" type="slidenum"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</p:grpSp>
      <p:grpSp>
        <p:nvGrpSpPr>
          <p:cNvPr id="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  <p:sp>
          <p:nvSpPr>
            <p:cNvPr id="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</p:grpSp>
      <p:sp>
        <p:nvSpPr>
          <p:cNvPr id="51" name="Text Box 12"/>
          <p:cNvSpPr/>
          <p:nvPr/>
        </p:nvSpPr>
        <p:spPr>
          <a:xfrm>
            <a:off x="6327720" y="6583320"/>
            <a:ext cx="276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©The McGraw-Hill Companies, Inc. 2008</a:t>
            </a:r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154440" y="6583320"/>
            <a:ext cx="138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McGraw-Hill/Irwin</a:t>
            </a:r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C:/Black%20Flash%20KSA/Stat%20Final%20Oct%2018,%2008/Statistics%20Techniques%20in%20Bus%20&amp;%20Econ%20KSU%20En%2008%20OK/Chapter01.doc" TargetMode="External"/><Relationship Id="rId2" Type="http://schemas.openxmlformats.org/officeDocument/2006/relationships/hyperlink" Target="file:///C:/Black%20Flash%20KSA/Stat%20Final%20Oct%2018,%2008/Statistics%20Techniques%20in%20Bus%20&amp;amp%3B%20Econ%20KSU%20En%2008%20OK/Chapter02.doc" TargetMode="External"/><Relationship Id="rId3" Type="http://schemas.openxmlformats.org/officeDocument/2006/relationships/hyperlink" Target="file:///C:/Black%20Flash%20KSA/Stat%20Final%20Oct%2018,%2008/Statistics%20Techniques%20in%20Bus%20&amp;amp%3B%20Econ%20KSU%20En%2008%20OK/Chapter03.doc" TargetMode="External"/><Relationship Id="rId4" Type="http://schemas.openxmlformats.org/officeDocument/2006/relationships/hyperlink" Target="file:///C:/Black%20Flash%20KSA/Stat%20Final%20Oct%2018,%2008/Statistics%20Techniques%20in%20Bus%20&amp;amp%3B%20Econ%20KSU%20En%2008%20OK/Chapter04.doc" TargetMode="External"/><Relationship Id="rId5" Type="http://schemas.openxmlformats.org/officeDocument/2006/relationships/hyperlink" Target="file:///C:/Black%20Flash%20KSA/Stat%20Final%20Oct%2018,%2008/Statistics%20Techniques%20in%20Bus%20&amp;amp%3B%20Econ%20KSU%20En%2008%20OK/Chapter05.doc" TargetMode="External"/><Relationship Id="rId6" Type="http://schemas.openxmlformats.org/officeDocument/2006/relationships/hyperlink" Target="file:///C:/Black%20Flash%20KSA/Stat%20Final%20Oct%2018,%2008/Statistics%20Techniques%20in%20Bus%20&amp;amp%3B%20Econ%20KSU%20En%2008%20OK/Chapter06.doc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C:/Black%20Flash%20KSA/Stat%20Final%20Oct%2018,%2008/Statistics%20Techniques%20in%20Bus%20&amp;amp%3B%20Econ%20KSU%20En%2008%20OK/Chapter07.doc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673520" y="3535200"/>
            <a:ext cx="4013280" cy="121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ouglas Lind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illiam Marchal &amp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amuel Wath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25280" y="1269360"/>
            <a:ext cx="761112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tatistical Techniques in Business &amp; Economics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1038240" y="3833640"/>
            <a:ext cx="2171520" cy="21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pulation versus S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50EA-F090-4713-AEE5-C921B7C34099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grpSp>
        <p:nvGrpSpPr>
          <p:cNvPr id="132" name="Group 8"/>
          <p:cNvGrpSpPr/>
          <p:nvPr/>
        </p:nvGrpSpPr>
        <p:grpSpPr>
          <a:xfrm>
            <a:off x="752400" y="1781280"/>
            <a:ext cx="7743960" cy="4900680"/>
            <a:chOff x="752400" y="1781280"/>
            <a:chExt cx="7743960" cy="4900680"/>
          </a:xfrm>
        </p:grpSpPr>
        <p:pic>
          <p:nvPicPr>
            <p:cNvPr id="133" name="Picture 4" descr=""/>
            <p:cNvPicPr/>
            <p:nvPr/>
          </p:nvPicPr>
          <p:blipFill>
            <a:blip r:embed="rId1"/>
            <a:stretch/>
          </p:blipFill>
          <p:spPr>
            <a:xfrm>
              <a:off x="1625760" y="3672000"/>
              <a:ext cx="6211800" cy="30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Rectangle 7"/>
            <p:cNvSpPr/>
            <p:nvPr/>
          </p:nvSpPr>
          <p:spPr>
            <a:xfrm>
              <a:off x="752400" y="1781280"/>
              <a:ext cx="774396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A </a:t>
              </a:r>
              <a:r>
                <a:rPr b="0" lang="en-US" sz="2800" spc="-1" strike="noStrike">
                  <a:solidFill>
                    <a:srgbClr val="33cccc"/>
                  </a:solidFill>
                  <a:latin typeface="Arial"/>
                </a:rPr>
                <a:t>population</a:t>
              </a:r>
              <a:r>
                <a:rPr b="0" lang="en-US" sz="2800" spc="-1" strike="noStrike">
                  <a:solidFill>
                    <a:srgbClr val="0099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is a </a:t>
              </a:r>
              <a:r>
                <a:rPr b="0" lang="en-US" sz="2800" spc="-1" strike="noStrike">
                  <a:solidFill>
                    <a:srgbClr val="33cccc"/>
                  </a:solidFill>
                  <a:latin typeface="Arial"/>
                </a:rPr>
                <a:t>collection </a:t>
              </a: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of all possible individuals, objects, or measurements of  interest. </a:t>
              </a:r>
              <a:endParaRPr b="0" lang="en-US" sz="2800" spc="-1" strike="noStrike">
                <a:solidFill>
                  <a:srgbClr val="33cc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A</a:t>
              </a:r>
              <a:r>
                <a:rPr b="0" lang="en-US" sz="2800" spc="-1" strike="noStrike">
                  <a:solidFill>
                    <a:srgbClr val="33cccc"/>
                  </a:solidFill>
                  <a:latin typeface="Arial"/>
                </a:rPr>
                <a:t> sample </a:t>
              </a: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is a portion, or part, of the population of interest</a:t>
              </a:r>
              <a:endParaRPr b="0" lang="en-US" sz="2800" spc="-1" strike="noStrike">
                <a:solidFill>
                  <a:srgbClr val="33cccc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es of Variable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7720" y="1905120"/>
            <a:ext cx="7828200" cy="437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Qualitativ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Attribute variable</a:t>
            </a:r>
            <a:r>
              <a:rPr b="0" lang="en-US" sz="2800" spc="-1" strike="noStrike">
                <a:solidFill>
                  <a:srgbClr val="4db14b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characteristic being studied is nonnumeric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Gender, religious affiliation, type of automobile owned, state of birth, eye color are example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B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Quantitative variab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- information is reported numericall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balance in your checking account, minutes remaining in class, or number of children in a family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EA96E-3DAB-45BF-9AA5-1F39FD6C1528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Quantitative Variables - Classificatio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02920" y="1904760"/>
            <a:ext cx="8442360" cy="446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uantitative variables can be classified as either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discret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continuou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Discrete variables</a:t>
            </a:r>
            <a:r>
              <a:rPr b="0" lang="en-US" sz="2800" spc="-1" strike="noStrike">
                <a:solidFill>
                  <a:srgbClr val="4db14b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an only assume certain values and there are usually “gaps” between valu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the number of bedrooms in a house, or the number of hammers sold at the local Home Depot (1,2,3,…,etc)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B. Continuous variab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an assume any value within a specified rang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he pressure in a tire, the weight of a pork chop, or the height of students in a clas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540A4-60FA-4B10-BD10-5636297C1438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449280" y="2728800"/>
            <a:ext cx="8099280" cy="16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 of Types of Varia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1"/>
          <a:stretch/>
        </p:blipFill>
        <p:spPr>
          <a:xfrm>
            <a:off x="777960" y="2193840"/>
            <a:ext cx="7146720" cy="4100760"/>
          </a:xfrm>
          <a:prstGeom prst="rect">
            <a:avLst/>
          </a:prstGeom>
          <a:ln w="0">
            <a:noFill/>
          </a:ln>
        </p:spPr>
      </p:pic>
      <p:sp>
        <p:nvSpPr>
          <p:cNvPr id="146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4E1D7-4AE1-4AF2-907B-8A77A85BDFDF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ur Levels of Measure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72680" y="1768320"/>
            <a:ext cx="420516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Nominal level -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ata that is classified into categories and cannot be arranged in any particular order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eye color, gender, religious affilia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Ordinal level –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involves data arranged in some order, but the differences between data values cannot be determined or are meaningles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During a taste test of 4 soft drinks, Mellow Yellow was ranked number 1, Sprite number 2, Seven-up number 3, and Orange Crush number 4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87480" y="1752480"/>
            <a:ext cx="432756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Interval level -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milar to the ordinal level, with the additional property that meaningful amounts of differences between data values can be determined. There is no natural zero point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Temperature on the Fahrenheit scal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Ratio level -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interval level with an inherent zero starting point.  Differences and ratios are meaningful for this level of measurement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nthly income of surgeons, or distance traveled by manufacturer’s representatives per month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459ED-F0B2-458D-903B-CCD55399E736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809640" y="1886040"/>
            <a:ext cx="36860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581760" y="648360"/>
            <a:ext cx="780912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66"/>
                </a:solidFill>
                <a:latin typeface="Arial"/>
              </a:rPr>
              <a:t>Summary of the Characteristics for Levels of Measurement</a:t>
            </a:r>
            <a:endParaRPr b="1" lang="en-US" sz="29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198440" y="2390760"/>
            <a:ext cx="6972480" cy="3210120"/>
          </a:xfrm>
          <a:prstGeom prst="rect">
            <a:avLst/>
          </a:prstGeom>
          <a:ln w="0">
            <a:noFill/>
          </a:ln>
        </p:spPr>
      </p:pic>
      <p:sp>
        <p:nvSpPr>
          <p:cNvPr id="156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8DF7A-01C0-4B16-A540-5B417DC6F1E1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724320" y="318204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d of Chapter 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39CAF-4B08-4D69-B4C4-1C7D10E14359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01560" y="357120"/>
            <a:ext cx="7787880" cy="94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107 QUA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OURSE CONTEN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12400" y="1962000"/>
            <a:ext cx="89312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bc0000"/>
                </a:solidFill>
                <a:uFillTx/>
                <a:latin typeface="Arial"/>
              </a:rPr>
              <a:t>Chapter </a:t>
            </a:r>
            <a:r>
              <a:rPr b="1" i="1" lang="en-US" sz="2400" spc="-1" strike="noStrike">
                <a:solidFill>
                  <a:srgbClr val="bc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bc0000"/>
                </a:solidFill>
                <a:latin typeface="Arial"/>
              </a:rPr>
              <a:t>	</a:t>
            </a:r>
            <a:r>
              <a:rPr b="1" i="1" lang="en-US" sz="2400" spc="-1" strike="noStrike" u="sng">
                <a:solidFill>
                  <a:srgbClr val="bc0000"/>
                </a:solidFill>
                <a:uFillTx/>
                <a:latin typeface="Arial"/>
              </a:rPr>
              <a:t>Title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What is Statistic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Describing Data: Frequency Distributions and 		Graphic Presentation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Describing Data:  Numerical Measures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Describing Data: Displaying and Exploring D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5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A Survey of Probability Concep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6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6"/>
              </a:rPr>
              <a:t>Discrete Probability Distributions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B3B49-A262-4162-9ACA-64E0A4A03A1A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601560" y="357120"/>
            <a:ext cx="7787880" cy="94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TAT 107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OURSE CONTEN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34800" y="1962000"/>
            <a:ext cx="880920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bc0000"/>
                </a:solidFill>
                <a:uFillTx/>
                <a:latin typeface="Arial"/>
              </a:rPr>
              <a:t>Chapter </a:t>
            </a:r>
            <a:r>
              <a:rPr b="1" i="1" lang="en-US" sz="2800" spc="-1" strike="noStrike">
                <a:solidFill>
                  <a:srgbClr val="bc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bc0000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bc0000"/>
                </a:solidFill>
                <a:uFillTx/>
                <a:latin typeface="Arial"/>
              </a:rPr>
              <a:t>Title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7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Continuous Probability Distribu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8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Sampling Methods and the Central 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Limit Theore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13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Linear Regression and Correl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15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Index Numb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16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Time Series and Forecas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0974C-B41B-4344-A879-AFDBB96A7FFB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apter 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What is Statistic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1038240" y="3833640"/>
            <a:ext cx="2171520" cy="21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OA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99920" y="1962000"/>
            <a:ext cx="7692840" cy="41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derstand why we study statist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lain what is meant by descriptive statistics and inferential statist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inguish between a qualitative variable and a quantitative vari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cribe how a discrete variable is different from a continuous vari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inguish among the nominal, ordinal, interval, and ratio levels of measure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5E742-0C82-4D8F-BE09-496980E4CAA4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Meant by Statistic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00280" y="2166480"/>
            <a:ext cx="7410240" cy="33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912ea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33cccc"/>
                </a:solidFill>
                <a:latin typeface="Arial"/>
              </a:rPr>
              <a:t>Statistics</a:t>
            </a: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is the science of collecting, organizing, presenting, analyzing, and interpreting numerical data to assist in making more effective decisions.</a:t>
            </a: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ED069-5325-40D0-AD29-7687DE2EC6E1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o Uses Statistic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99720" y="2085480"/>
            <a:ext cx="6597720" cy="33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tatistical techniques are used extensively by marketing, accounting, quality control, consumers, professional sports people, hospital administrators, educators, politicians, physicians, etc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059CA-1933-4871-9AC9-67A1C5CE5D8B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ypes of Statistic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09640" y="2072880"/>
            <a:ext cx="7927920" cy="432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Arial"/>
              </a:rPr>
              <a:t>1.Descriptive Statistics -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ethods of organizing, summarizing, and presenting data in an informative way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EXAMPLE 1</a:t>
            </a:r>
            <a:r>
              <a:rPr b="0" lang="en-US" sz="28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 Gallup poll found that 49% of the people in a survey knew the name of the first book of the Bible. The statistic 49 describes the number out of every 100 persons who knew the answ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BFCD4-1354-455D-89B5-3DCB10B93DB2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66"/>
                </a:solidFill>
                <a:latin typeface="Arial"/>
              </a:rPr>
              <a:t>Types of Statistics – Descriptive Statistics</a:t>
            </a:r>
            <a:endParaRPr b="1" lang="en-US" sz="29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09640" y="1869840"/>
            <a:ext cx="792792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EXAMPLE 2</a:t>
            </a:r>
            <a:r>
              <a:rPr b="0" lang="en-US" sz="28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ccording to Consumer Reports, General Electric washing machine owners reported 9 problems per 100 machines during 2001. The statistic 9 describes the number of problems out of every 100 machin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2.Inferential Statistics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 decision, estimate, prediction, or generalization about a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population,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based on a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sampl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22DFE-367F-4B68-BE5B-E9F056495A4B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7T15:17:12Z</dcterms:created>
  <dc:creator>Rene Leo E. Ordonez</dc:creator>
  <dc:description/>
  <dc:language>en-US</dc:language>
  <cp:lastModifiedBy>ksu</cp:lastModifiedBy>
  <dcterms:modified xsi:type="dcterms:W3CDTF">2014-02-17T08:19:17Z</dcterms:modified>
  <cp:revision>105</cp:revision>
  <dc:subject>What is Statistics</dc:subject>
  <dc:title>Chapter 1</dc:title>
</cp:coreProperties>
</file>