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CA710-4399-467D-9137-F87D57CF22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E2992-E207-4DF2-9526-DD72C265E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FAD0-43F5-4820-AF17-5E1635935F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9B897-71A5-4F83-997F-1C29BF6DC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23786-65C2-4A07-890B-8AE09D9A7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B2868-6ED5-4DBE-BEFE-9DDD4F1247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4E71D-9F8C-4D5D-8E64-CD51C38FE1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A4E85-932A-497C-A130-F9A42C617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C1548-35DF-489E-91AE-420BFEC1B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7816E-4A72-467D-BCCB-C26338928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88C9F-2541-457F-87CF-0B3016C09D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EA78D-08C1-4BA2-B15E-D3CA6F4F8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D8CE6-CCB6-40B5-B8EB-ACA10D169F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4051B-E657-44A6-B778-D4A68ECBB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08BA3-2612-4274-B811-348ABD5F1A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AF188-380C-436E-AA35-7E6902E16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FC15E-F931-4599-B49C-255C3DBC1A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A28BD-F4F1-43FE-8084-02C78C6D48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07B9D-F4F2-4263-A430-9061225E91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0D7AE-99DC-4311-B741-539FDA715B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92B6A-9CD8-4517-ADDB-7AB09F8758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C810D-0623-49A3-8519-B9C9213AC2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D7219-73D6-43B0-862F-A7AFB0CA1E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64B9F-507C-44D4-9375-8C9402F78D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30DFC-D177-44C0-8F16-723B3E1D65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B599F-93DE-4C7F-AE58-3DAE824217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AF7F6-AE04-4ACA-B9DA-11A024F09C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0C054-294F-457E-AF19-F722D329BA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60C20-6D94-4D13-945E-E8E0D79C33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3886200" cy="685800"/>
          </a:xfrm>
          <a:prstGeom prst="pie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3" name="AutoShape 5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9737-D9F3-4F7E-A0A5-47B693A8D2BE}" type="slidenum"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</p:grpSp>
      <p:grpSp>
        <p:nvGrpSpPr>
          <p:cNvPr id="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  <p:sp>
          <p:nvSpPr>
            <p:cNvPr id="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</p:grpSp>
      <p:sp>
        <p:nvSpPr>
          <p:cNvPr id="51" name="Text Box 12"/>
          <p:cNvSpPr/>
          <p:nvPr/>
        </p:nvSpPr>
        <p:spPr>
          <a:xfrm>
            <a:off x="6327720" y="6583320"/>
            <a:ext cx="276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©The McGraw-Hill Companies, Inc. 2008</a:t>
            </a:r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154440" y="6583320"/>
            <a:ext cx="138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McGraw-Hill/Irwin</a:t>
            </a:r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C:/Black%20Flash%20KSA/Stat%20Final%20Oct%2018,%2008/Statistics%20Techniques%20in%20Bus%20&amp;%20Econ%20KSU%20En%2008%20OK/Chapter01.doc" TargetMode="External"/><Relationship Id="rId2" Type="http://schemas.openxmlformats.org/officeDocument/2006/relationships/hyperlink" Target="file:///C:/Black%20Flash%20KSA/Stat%20Final%20Oct%2018,%2008/Statistics%20Techniques%20in%20Bus%20&amp;amp%3B%20Econ%20KSU%20En%2008%20OK/Chapter02.doc" TargetMode="External"/><Relationship Id="rId3" Type="http://schemas.openxmlformats.org/officeDocument/2006/relationships/hyperlink" Target="file:///C:/Black%20Flash%20KSA/Stat%20Final%20Oct%2018,%2008/Statistics%20Techniques%20in%20Bus%20&amp;amp%3B%20Econ%20KSU%20En%2008%20OK/Chapter03.doc" TargetMode="External"/><Relationship Id="rId4" Type="http://schemas.openxmlformats.org/officeDocument/2006/relationships/hyperlink" Target="file:///C:/Black%20Flash%20KSA/Stat%20Final%20Oct%2018,%2008/Statistics%20Techniques%20in%20Bus%20&amp;amp%3B%20Econ%20KSU%20En%2008%20OK/Chapter04.doc" TargetMode="External"/><Relationship Id="rId5" Type="http://schemas.openxmlformats.org/officeDocument/2006/relationships/hyperlink" Target="file:///C:/Black%20Flash%20KSA/Stat%20Final%20Oct%2018,%2008/Statistics%20Techniques%20in%20Bus%20&amp;amp%3B%20Econ%20KSU%20En%2008%20OK/Chapter05.doc" TargetMode="External"/><Relationship Id="rId6" Type="http://schemas.openxmlformats.org/officeDocument/2006/relationships/hyperlink" Target="file:///C:/Black%20Flash%20KSA/Stat%20Final%20Oct%2018,%2008/Statistics%20Techniques%20in%20Bus%20&amp;amp%3B%20Econ%20KSU%20En%2008%20OK/Chapter06.doc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C:/Black%20Flash%20KSA/Stat%20Final%20Oct%2018,%2008/Statistics%20Techniques%20in%20Bus%20&amp;amp%3B%20Econ%20KSU%20En%2008%20OK/Chapter07.doc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673520" y="3535200"/>
            <a:ext cx="4013280" cy="121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ouglas Lind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illiam Marchal &amp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amuel Wath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25280" y="1269360"/>
            <a:ext cx="761112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tatistical Techniques in Business &amp; Economics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1038240" y="3833640"/>
            <a:ext cx="2171520" cy="21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pulation versus S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C02B0-B576-4083-829C-5A9CAE200C15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grpSp>
        <p:nvGrpSpPr>
          <p:cNvPr id="132" name="Group 8"/>
          <p:cNvGrpSpPr/>
          <p:nvPr/>
        </p:nvGrpSpPr>
        <p:grpSpPr>
          <a:xfrm>
            <a:off x="752400" y="1781280"/>
            <a:ext cx="7743960" cy="4900680"/>
            <a:chOff x="752400" y="1781280"/>
            <a:chExt cx="7743960" cy="4900680"/>
          </a:xfrm>
        </p:grpSpPr>
        <p:pic>
          <p:nvPicPr>
            <p:cNvPr id="133" name="Picture 4" descr=""/>
            <p:cNvPicPr/>
            <p:nvPr/>
          </p:nvPicPr>
          <p:blipFill>
            <a:blip r:embed="rId1"/>
            <a:stretch/>
          </p:blipFill>
          <p:spPr>
            <a:xfrm>
              <a:off x="1625760" y="3672000"/>
              <a:ext cx="6211800" cy="30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Rectangle 7"/>
            <p:cNvSpPr/>
            <p:nvPr/>
          </p:nvSpPr>
          <p:spPr>
            <a:xfrm>
              <a:off x="752400" y="1781280"/>
              <a:ext cx="774396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A </a:t>
              </a:r>
              <a:r>
                <a:rPr b="0" lang="en-US" sz="2800" spc="-1" strike="noStrike">
                  <a:solidFill>
                    <a:srgbClr val="33cccc"/>
                  </a:solidFill>
                  <a:latin typeface="Arial"/>
                </a:rPr>
                <a:t>population</a:t>
              </a:r>
              <a:r>
                <a:rPr b="0" lang="en-US" sz="2800" spc="-1" strike="noStrike">
                  <a:solidFill>
                    <a:srgbClr val="0099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is a </a:t>
              </a:r>
              <a:r>
                <a:rPr b="0" lang="en-US" sz="2800" spc="-1" strike="noStrike">
                  <a:solidFill>
                    <a:srgbClr val="33cccc"/>
                  </a:solidFill>
                  <a:latin typeface="Arial"/>
                </a:rPr>
                <a:t>collection </a:t>
              </a: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of all possible individuals, objects, or measurements of  interest. </a:t>
              </a:r>
              <a:endParaRPr b="0" lang="en-US" sz="2800" spc="-1" strike="noStrike">
                <a:solidFill>
                  <a:srgbClr val="33cc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A</a:t>
              </a:r>
              <a:r>
                <a:rPr b="0" lang="en-US" sz="2800" spc="-1" strike="noStrike">
                  <a:solidFill>
                    <a:srgbClr val="33cccc"/>
                  </a:solidFill>
                  <a:latin typeface="Arial"/>
                </a:rPr>
                <a:t> sample </a:t>
              </a: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is a portion, or part, of the population of interest</a:t>
              </a:r>
              <a:endParaRPr b="0" lang="en-US" sz="2800" spc="-1" strike="noStrike">
                <a:solidFill>
                  <a:srgbClr val="33cccc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es of Variable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7720" y="1905120"/>
            <a:ext cx="7828200" cy="437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Qualitativ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Attribute variable</a:t>
            </a:r>
            <a:r>
              <a:rPr b="0" lang="en-US" sz="2800" spc="-1" strike="noStrike">
                <a:solidFill>
                  <a:srgbClr val="4db14b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characteristic being studied is nonnumeric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Gender, religious affiliation, type of automobile owned, state of birth, eye color are example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B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Quantitative variab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- information is reported numericall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balance in your checking account, minutes remaining in class, or number of children in a family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4C27A-9317-45FB-936C-7BE7F991EB8E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Quantitative Variables - Classificatio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02920" y="1904760"/>
            <a:ext cx="8442360" cy="446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uantitative variables can be classified as either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discret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continuou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Discrete variables</a:t>
            </a:r>
            <a:r>
              <a:rPr b="0" lang="en-US" sz="2800" spc="-1" strike="noStrike">
                <a:solidFill>
                  <a:srgbClr val="4db14b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an only assume certain values and there are usually “gaps” between valu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the number of bedrooms in a house, or the number of hammers sold at the local Home Depot (1,2,3,…,etc)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B. Continuous variab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an assume any value within a specified rang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he pressure in a tire, the weight of a pork chop, or the height of students in a clas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421AD-55C2-4BE6-8D06-9F5C5F63BB7C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449280" y="2728800"/>
            <a:ext cx="8099280" cy="16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 of Types of Varia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1"/>
          <a:stretch/>
        </p:blipFill>
        <p:spPr>
          <a:xfrm>
            <a:off x="777960" y="2193840"/>
            <a:ext cx="7146720" cy="4100760"/>
          </a:xfrm>
          <a:prstGeom prst="rect">
            <a:avLst/>
          </a:prstGeom>
          <a:ln w="0">
            <a:noFill/>
          </a:ln>
        </p:spPr>
      </p:pic>
      <p:sp>
        <p:nvSpPr>
          <p:cNvPr id="146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9135B-DC06-407E-94DF-FB943EA933CA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ur Levels of Measure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72680" y="1768320"/>
            <a:ext cx="420516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Nominal level -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ata that is classified into categories and cannot be arranged in any particular order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eye color, gender, religious affilia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Ordinal level –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involves data arranged in some order, but the differences between data values cannot be determined or are meaningles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During a taste test of 4 soft drinks, Mellow Yellow was ranked number 1, Sprite number 2, Seven-up number 3, and Orange Crush number 4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87480" y="1752480"/>
            <a:ext cx="432756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Interval level -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milar to the ordinal level, with the additional property that meaningful amounts of differences between data values can be determined. There is no natural zero point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Temperature on the Fahrenheit scal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Ratio level -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interval level with an inherent zero starting point.  Differences and ratios are meaningful for this level of measurement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nthly income of surgeons, or distance traveled by manufacturer’s representatives per month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08E8D-42C3-46DD-BE52-FA06867BEECD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809640" y="1886040"/>
            <a:ext cx="36860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581760" y="648360"/>
            <a:ext cx="780912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66"/>
                </a:solidFill>
                <a:latin typeface="Arial"/>
              </a:rPr>
              <a:t>Summary of the Characteristics for Levels of Measurement</a:t>
            </a:r>
            <a:endParaRPr b="1" lang="en-US" sz="29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198440" y="2390760"/>
            <a:ext cx="6972480" cy="3210120"/>
          </a:xfrm>
          <a:prstGeom prst="rect">
            <a:avLst/>
          </a:prstGeom>
          <a:ln w="0">
            <a:noFill/>
          </a:ln>
        </p:spPr>
      </p:pic>
      <p:sp>
        <p:nvSpPr>
          <p:cNvPr id="156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12F6D-F392-4345-9E45-112F711D46E6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724320" y="318204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d of Chapter 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E96DE-F313-47C0-8F1B-7F27A876FD6B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01560" y="357120"/>
            <a:ext cx="7787880" cy="94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107 QUA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OURSE CONTEN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12400" y="1962000"/>
            <a:ext cx="89312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bc0000"/>
                </a:solidFill>
                <a:uFillTx/>
                <a:latin typeface="Arial"/>
              </a:rPr>
              <a:t>Chapter </a:t>
            </a:r>
            <a:r>
              <a:rPr b="1" i="1" lang="en-US" sz="2400" spc="-1" strike="noStrike">
                <a:solidFill>
                  <a:srgbClr val="bc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bc0000"/>
                </a:solidFill>
                <a:latin typeface="Arial"/>
              </a:rPr>
              <a:t>	</a:t>
            </a:r>
            <a:r>
              <a:rPr b="1" i="1" lang="en-US" sz="2400" spc="-1" strike="noStrike" u="sng">
                <a:solidFill>
                  <a:srgbClr val="bc0000"/>
                </a:solidFill>
                <a:uFillTx/>
                <a:latin typeface="Arial"/>
              </a:rPr>
              <a:t>Title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What is Statistic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Describing Data: Frequency Distributions and 		Graphic Presentation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Describing Data:  Numerical Measures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Describing Data: Displaying and Exploring D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5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A Survey of Probability Concep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6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6"/>
              </a:rPr>
              <a:t>Discrete Probability Distributions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44E95-1535-42B3-935E-97F57DA33201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601560" y="357120"/>
            <a:ext cx="7787880" cy="94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TAT 107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OURSE CONTEN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34800" y="1962000"/>
            <a:ext cx="880920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bc0000"/>
                </a:solidFill>
                <a:uFillTx/>
                <a:latin typeface="Arial"/>
              </a:rPr>
              <a:t>Chapter </a:t>
            </a:r>
            <a:r>
              <a:rPr b="1" i="1" lang="en-US" sz="2800" spc="-1" strike="noStrike">
                <a:solidFill>
                  <a:srgbClr val="bc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bc0000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bc0000"/>
                </a:solidFill>
                <a:uFillTx/>
                <a:latin typeface="Arial"/>
              </a:rPr>
              <a:t>Title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7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Continuous Probability Distribu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8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Sampling Methods and the Central 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Limit Theore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13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Linear Regression and Correl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15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Index Numb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16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Time Series and Forecas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334AA-2D00-484A-BD04-C7DE0FF25580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apter 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What is Statistic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1038240" y="3833640"/>
            <a:ext cx="2171520" cy="21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OA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99920" y="1962000"/>
            <a:ext cx="7692840" cy="41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derstand why we study statist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lain what is meant by descriptive statistics and inferential statist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inguish between a qualitative variable and a quantitative vari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cribe how a discrete variable is different from a continuous vari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inguish among the nominal, ordinal, interval, and ratio levels of measure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3D5F4-954B-49B0-8432-E71333B18CE3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Meant by Statistic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00280" y="2166480"/>
            <a:ext cx="7410240" cy="33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912ea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33cccc"/>
                </a:solidFill>
                <a:latin typeface="Arial"/>
              </a:rPr>
              <a:t>Statistics</a:t>
            </a: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is the science of collecting, organizing, presenting, analyzing, and interpreting numerical data to assist in making more effective decisions.</a:t>
            </a: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48465-6189-4C6A-B7E1-C7213EFEFA45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o Uses Statistic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99720" y="2085480"/>
            <a:ext cx="6597720" cy="33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tatistical techniques are used extensively by marketing, accounting, quality control, consumers, professional sports people, hospital administrators, educators, politicians, physicians, etc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F2E7A-A334-41AE-9A9E-1578F7F1C32E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ypes of Statistic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09640" y="2072880"/>
            <a:ext cx="7927920" cy="432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Arial"/>
              </a:rPr>
              <a:t>1.Descriptive Statistics -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ethods of organizing, summarizing, and presenting data in an informative way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EXAMPLE 1</a:t>
            </a:r>
            <a:r>
              <a:rPr b="0" lang="en-US" sz="28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 Gallup poll found that 49% of the people in a survey knew the name of the first book of the Bible. The statistic 49 describes the number out of every 100 persons who knew the answ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99F85-CDB9-4F9C-996D-A997140AC65E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66"/>
                </a:solidFill>
                <a:latin typeface="Arial"/>
              </a:rPr>
              <a:t>Types of Statistics – Descriptive Statistics</a:t>
            </a:r>
            <a:endParaRPr b="1" lang="en-US" sz="29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09640" y="1869840"/>
            <a:ext cx="792792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EXAMPLE 2</a:t>
            </a:r>
            <a:r>
              <a:rPr b="0" lang="en-US" sz="28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ccording to Consumer Reports, General Electric washing machine owners reported 9 problems per 100 machines during 2001. The statistic 9 describes the number of problems out of every 100 machin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2.Inferential Statistics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 decision, estimate, prediction, or generalization about a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population,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based on a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sampl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57EE5-F68F-49DB-8360-E833E54660AA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7T15:17:12Z</dcterms:created>
  <dc:creator>Rene Leo E. Ordonez</dc:creator>
  <dc:description/>
  <dc:language>en-US</dc:language>
  <cp:lastModifiedBy>ksu</cp:lastModifiedBy>
  <dcterms:modified xsi:type="dcterms:W3CDTF">2014-02-17T08:19:17Z</dcterms:modified>
  <cp:revision>105</cp:revision>
  <dc:subject>What is Statistics</dc:subject>
  <dc:title>Chapter 1</dc:title>
</cp:coreProperties>
</file>