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9C4FD-6D79-4F10-AF54-2D26752BA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2CE1C-4821-446C-8460-2A510678D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69BA8-DC7B-4163-BF29-22DA55C6D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DB9AD-E677-4458-8199-8CBCE4C184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F1C31-CAD9-464F-A167-4F58561815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A03F-6258-4672-9FD5-C5DC8AF8D4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B8EBE-A502-48C7-BE03-B9F7398FA7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9BA9-7FC7-4E02-BF06-ACAB9369B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8546-193D-43EF-99FA-0D4BA9EBB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C6277-8030-4A6B-8A2B-AE578CBF7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56951-62B7-400E-9446-07CE8435EB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FD1FD-7D1C-474D-91AA-99CFFFE926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05DE8-FE63-434F-90B5-E9DC203BCE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3D85E-51F3-4D03-9048-B55A8B712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8402E-4437-4F4B-BB9C-67E85D256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2CF16-DF0E-4E04-BE97-AADBDBA0BB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BFE22-FBBE-4326-96D8-5AA581C6B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129AB-9059-4D6F-989B-7A98342A87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1C109-7C28-4682-935C-8BE1276023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F8728-834E-4D02-81E7-E3A5E26E04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8B71A-DD2D-43B3-ABC6-DD6817D2CE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349B6-D307-4B5E-B9C8-1BB18C0F1B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20F2A-1B1A-4D42-A4B1-5D7563A16F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82C12-AC00-4C04-AF4C-3F946FEF22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A4834-4C8E-4EF4-AAE4-FA1E2EDA3B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C865E-22E4-4DA6-BA18-5291765A06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421E7-DEFE-4234-B1AC-000DCF8CDF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051BB-3659-40CD-A13F-8E27FEFC31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92D22-C605-425E-85D9-72E1B6DC26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3886200" cy="685800"/>
          </a:xfrm>
          <a:prstGeom prst="pie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3" name="AutoShape 5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E9271-46A3-414A-95BA-61725C5A362A}" type="slidenum"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</p:grpSp>
      <p:grpSp>
        <p:nvGrpSpPr>
          <p:cNvPr id="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  <p:sp>
          <p:nvSpPr>
            <p:cNvPr id="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</p:grpSp>
      <p:sp>
        <p:nvSpPr>
          <p:cNvPr id="51" name="Text Box 12"/>
          <p:cNvSpPr/>
          <p:nvPr/>
        </p:nvSpPr>
        <p:spPr>
          <a:xfrm>
            <a:off x="6327720" y="6583320"/>
            <a:ext cx="276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©The McGraw-Hill Companies, Inc. 2008</a:t>
            </a:r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154440" y="6583320"/>
            <a:ext cx="138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McGraw-Hill/Irwin</a:t>
            </a:r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C:/Black%20Flash%20KSA/Stat%20Final%20Oct%2018,%2008/Statistics%20Techniques%20in%20Bus%20&amp;%20Econ%20KSU%20En%2008%20OK/Chapter01.doc" TargetMode="External"/><Relationship Id="rId2" Type="http://schemas.openxmlformats.org/officeDocument/2006/relationships/hyperlink" Target="file:///C:/Black%20Flash%20KSA/Stat%20Final%20Oct%2018,%2008/Statistics%20Techniques%20in%20Bus%20&amp;amp%3B%20Econ%20KSU%20En%2008%20OK/Chapter02.doc" TargetMode="External"/><Relationship Id="rId3" Type="http://schemas.openxmlformats.org/officeDocument/2006/relationships/hyperlink" Target="file:///C:/Black%20Flash%20KSA/Stat%20Final%20Oct%2018,%2008/Statistics%20Techniques%20in%20Bus%20&amp;amp%3B%20Econ%20KSU%20En%2008%20OK/Chapter03.doc" TargetMode="External"/><Relationship Id="rId4" Type="http://schemas.openxmlformats.org/officeDocument/2006/relationships/hyperlink" Target="file:///C:/Black%20Flash%20KSA/Stat%20Final%20Oct%2018,%2008/Statistics%20Techniques%20in%20Bus%20&amp;amp%3B%20Econ%20KSU%20En%2008%20OK/Chapter04.doc" TargetMode="External"/><Relationship Id="rId5" Type="http://schemas.openxmlformats.org/officeDocument/2006/relationships/hyperlink" Target="file:///C:/Black%20Flash%20KSA/Stat%20Final%20Oct%2018,%2008/Statistics%20Techniques%20in%20Bus%20&amp;amp%3B%20Econ%20KSU%20En%2008%20OK/Chapter05.doc" TargetMode="External"/><Relationship Id="rId6" Type="http://schemas.openxmlformats.org/officeDocument/2006/relationships/hyperlink" Target="file:///C:/Black%20Flash%20KSA/Stat%20Final%20Oct%2018,%2008/Statistics%20Techniques%20in%20Bus%20&amp;amp%3B%20Econ%20KSU%20En%2008%20OK/Chapter06.doc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C:/Black%20Flash%20KSA/Stat%20Final%20Oct%2018,%2008/Statistics%20Techniques%20in%20Bus%20&amp;amp%3B%20Econ%20KSU%20En%2008%20OK/Chapter07.doc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673520" y="3535200"/>
            <a:ext cx="4013280" cy="121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ouglas Lind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illiam Marchal &amp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amuel Wath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25280" y="1269360"/>
            <a:ext cx="761112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tatistical Techniques in Business &amp; Economics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1038240" y="3833640"/>
            <a:ext cx="2171520" cy="21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pulation versus S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1CEBE-64D4-4B58-B1E9-E9FEEF3DBEE6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grpSp>
        <p:nvGrpSpPr>
          <p:cNvPr id="132" name="Group 8"/>
          <p:cNvGrpSpPr/>
          <p:nvPr/>
        </p:nvGrpSpPr>
        <p:grpSpPr>
          <a:xfrm>
            <a:off x="752400" y="1781280"/>
            <a:ext cx="7743960" cy="4900680"/>
            <a:chOff x="752400" y="1781280"/>
            <a:chExt cx="7743960" cy="4900680"/>
          </a:xfrm>
        </p:grpSpPr>
        <p:pic>
          <p:nvPicPr>
            <p:cNvPr id="133" name="Picture 4" descr=""/>
            <p:cNvPicPr/>
            <p:nvPr/>
          </p:nvPicPr>
          <p:blipFill>
            <a:blip r:embed="rId1"/>
            <a:stretch/>
          </p:blipFill>
          <p:spPr>
            <a:xfrm>
              <a:off x="1625760" y="3672000"/>
              <a:ext cx="6211800" cy="30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Rectangle 7"/>
            <p:cNvSpPr/>
            <p:nvPr/>
          </p:nvSpPr>
          <p:spPr>
            <a:xfrm>
              <a:off x="752400" y="1781280"/>
              <a:ext cx="774396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A </a:t>
              </a:r>
              <a:r>
                <a:rPr b="0" lang="en-US" sz="2800" spc="-1" strike="noStrike">
                  <a:solidFill>
                    <a:srgbClr val="33cccc"/>
                  </a:solidFill>
                  <a:latin typeface="Arial"/>
                </a:rPr>
                <a:t>population</a:t>
              </a:r>
              <a:r>
                <a:rPr b="0" lang="en-US" sz="2800" spc="-1" strike="noStrike">
                  <a:solidFill>
                    <a:srgbClr val="0099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is a </a:t>
              </a:r>
              <a:r>
                <a:rPr b="0" lang="en-US" sz="2800" spc="-1" strike="noStrike">
                  <a:solidFill>
                    <a:srgbClr val="33cccc"/>
                  </a:solidFill>
                  <a:latin typeface="Arial"/>
                </a:rPr>
                <a:t>collection </a:t>
              </a: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of all possible individuals, objects, or measurements of  interest. </a:t>
              </a:r>
              <a:endParaRPr b="0" lang="en-US" sz="2800" spc="-1" strike="noStrike">
                <a:solidFill>
                  <a:srgbClr val="33cc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A</a:t>
              </a:r>
              <a:r>
                <a:rPr b="0" lang="en-US" sz="2800" spc="-1" strike="noStrike">
                  <a:solidFill>
                    <a:srgbClr val="33cccc"/>
                  </a:solidFill>
                  <a:latin typeface="Arial"/>
                </a:rPr>
                <a:t> sample </a:t>
              </a: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is a portion, or part, of the population of interest</a:t>
              </a:r>
              <a:endParaRPr b="0" lang="en-US" sz="2800" spc="-1" strike="noStrike">
                <a:solidFill>
                  <a:srgbClr val="33cccc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es of Variable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7720" y="1905120"/>
            <a:ext cx="7828200" cy="437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Qualitativ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Attribute variable</a:t>
            </a:r>
            <a:r>
              <a:rPr b="0" lang="en-US" sz="2800" spc="-1" strike="noStrike">
                <a:solidFill>
                  <a:srgbClr val="4db14b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characteristic being studied is nonnumeric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Gender, religious affiliation, type of automobile owned, state of birth, eye color are example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B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Quantitative variab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- information is reported numericall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balance in your checking account, minutes remaining in class, or number of children in a family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76A95-D103-431E-8D26-A0CBF6B1CF1A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Quantitative Variables - Classificatio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02920" y="1904760"/>
            <a:ext cx="8442360" cy="446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uantitative variables can be classified as either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discret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continuou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Discrete variables</a:t>
            </a:r>
            <a:r>
              <a:rPr b="0" lang="en-US" sz="2800" spc="-1" strike="noStrike">
                <a:solidFill>
                  <a:srgbClr val="4db14b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an only assume certain values and there are usually “gaps” between valu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the number of bedrooms in a house, or the number of hammers sold at the local Home Depot (1,2,3,…,etc)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B. Continuous variab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an assume any value within a specified rang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he pressure in a tire, the weight of a pork chop, or the height of students in a clas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496A8-F914-438F-8CBB-F03AF8F6E9BA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449280" y="2728800"/>
            <a:ext cx="8099280" cy="16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 of Types of Varia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1"/>
          <a:stretch/>
        </p:blipFill>
        <p:spPr>
          <a:xfrm>
            <a:off x="777960" y="2193840"/>
            <a:ext cx="7146720" cy="4100760"/>
          </a:xfrm>
          <a:prstGeom prst="rect">
            <a:avLst/>
          </a:prstGeom>
          <a:ln w="0">
            <a:noFill/>
          </a:ln>
        </p:spPr>
      </p:pic>
      <p:sp>
        <p:nvSpPr>
          <p:cNvPr id="146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8EE73-2315-4669-B705-14548794927D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ur Levels of Measure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72680" y="1768320"/>
            <a:ext cx="420516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Nominal level -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ata that is classified into categories and cannot be arranged in any particular order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eye color, gender, religious affilia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Ordinal level –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involves data arranged in some order, but the differences between data values cannot be determined or are meaningles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During a taste test of 4 soft drinks, Mellow Yellow was ranked number 1, Sprite number 2, Seven-up number 3, and Orange Crush number 4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87480" y="1752480"/>
            <a:ext cx="432756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Interval level -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milar to the ordinal level, with the additional property that meaningful amounts of differences between data values can be determined. There is no natural zero point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Temperature on the Fahrenheit scal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Ratio level -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interval level with an inherent zero starting point.  Differences and ratios are meaningful for this level of measurement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nthly income of surgeons, or distance traveled by manufacturer’s representatives per month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C0B9B-E230-4B1C-A34F-11A7E47C1BCB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809640" y="1886040"/>
            <a:ext cx="36860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581760" y="648360"/>
            <a:ext cx="780912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66"/>
                </a:solidFill>
                <a:latin typeface="Arial"/>
              </a:rPr>
              <a:t>Summary of the Characteristics for Levels of Measurement</a:t>
            </a:r>
            <a:endParaRPr b="1" lang="en-US" sz="29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198440" y="2390760"/>
            <a:ext cx="6972480" cy="3210120"/>
          </a:xfrm>
          <a:prstGeom prst="rect">
            <a:avLst/>
          </a:prstGeom>
          <a:ln w="0">
            <a:noFill/>
          </a:ln>
        </p:spPr>
      </p:pic>
      <p:sp>
        <p:nvSpPr>
          <p:cNvPr id="156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0731B-CE2E-49BE-B2DD-58B9D9644850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724320" y="318204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d of Chapter 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40D70-B478-407C-9836-0C1FD4BF9870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01560" y="357120"/>
            <a:ext cx="7787880" cy="94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107 QUA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OURSE CONTEN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12400" y="1962000"/>
            <a:ext cx="89312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bc0000"/>
                </a:solidFill>
                <a:uFillTx/>
                <a:latin typeface="Arial"/>
              </a:rPr>
              <a:t>Chapter </a:t>
            </a:r>
            <a:r>
              <a:rPr b="1" i="1" lang="en-US" sz="2400" spc="-1" strike="noStrike">
                <a:solidFill>
                  <a:srgbClr val="bc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bc0000"/>
                </a:solidFill>
                <a:latin typeface="Arial"/>
              </a:rPr>
              <a:t>	</a:t>
            </a:r>
            <a:r>
              <a:rPr b="1" i="1" lang="en-US" sz="2400" spc="-1" strike="noStrike" u="sng">
                <a:solidFill>
                  <a:srgbClr val="bc0000"/>
                </a:solidFill>
                <a:uFillTx/>
                <a:latin typeface="Arial"/>
              </a:rPr>
              <a:t>Title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What is Statistic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Describing Data: Frequency Distributions and 		Graphic Presentation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Describing Data:  Numerical Measures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Describing Data: Displaying and Exploring D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5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A Survey of Probability Concep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6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6"/>
              </a:rPr>
              <a:t>Discrete Probability Distributions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9D502-05F2-4797-B195-D57ACE138C6F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601560" y="357120"/>
            <a:ext cx="7787880" cy="94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TAT 107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OURSE CONTEN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34800" y="1962000"/>
            <a:ext cx="880920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bc0000"/>
                </a:solidFill>
                <a:uFillTx/>
                <a:latin typeface="Arial"/>
              </a:rPr>
              <a:t>Chapter </a:t>
            </a:r>
            <a:r>
              <a:rPr b="1" i="1" lang="en-US" sz="2800" spc="-1" strike="noStrike">
                <a:solidFill>
                  <a:srgbClr val="bc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bc0000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bc0000"/>
                </a:solidFill>
                <a:uFillTx/>
                <a:latin typeface="Arial"/>
              </a:rPr>
              <a:t>Title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7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Continuous Probability Distribu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8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Sampling Methods and the Central 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Limit Theore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13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Linear Regression and Correl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15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Index Numb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16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Time Series and Forecas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86CE0-CB84-4D8E-AA56-BB0E0B0E92E3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apter 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What is Statistic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1038240" y="3833640"/>
            <a:ext cx="2171520" cy="21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OA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99920" y="1962000"/>
            <a:ext cx="7692840" cy="41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derstand why we study statist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lain what is meant by descriptive statistics and inferential statist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inguish between a qualitative variable and a quantitative vari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cribe how a discrete variable is different from a continuous vari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inguish among the nominal, ordinal, interval, and ratio levels of measure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CD49C-836C-4F31-8725-99BF146657AD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Meant by Statistic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00280" y="2166480"/>
            <a:ext cx="7410240" cy="33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912ea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33cccc"/>
                </a:solidFill>
                <a:latin typeface="Arial"/>
              </a:rPr>
              <a:t>Statistics</a:t>
            </a: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is the science of collecting, organizing, presenting, analyzing, and interpreting numerical data to assist in making more effective decisions.</a:t>
            </a: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B457E-C94B-4DCA-8853-CDB8E9EF9EDC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o Uses Statistic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99720" y="2085480"/>
            <a:ext cx="6597720" cy="33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tatistical techniques are used extensively by marketing, accounting, quality control, consumers, professional sports people, hospital administrators, educators, politicians, physicians, etc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5C7AB-5478-4EE3-8545-1B93CF845F19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ypes of Statistic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09640" y="2072880"/>
            <a:ext cx="7927920" cy="432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Arial"/>
              </a:rPr>
              <a:t>1.Descriptive Statistics -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ethods of organizing, summarizing, and presenting data in an informative way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EXAMPLE 1</a:t>
            </a:r>
            <a:r>
              <a:rPr b="0" lang="en-US" sz="28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 Gallup poll found that 49% of the people in a survey knew the name of the first book of the Bible. The statistic 49 describes the number out of every 100 persons who knew the answ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18BAC-FD80-4BBD-ABFF-5FA5EBC14D6C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66"/>
                </a:solidFill>
                <a:latin typeface="Arial"/>
              </a:rPr>
              <a:t>Types of Statistics – Descriptive Statistics</a:t>
            </a:r>
            <a:endParaRPr b="1" lang="en-US" sz="29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09640" y="1869840"/>
            <a:ext cx="792792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EXAMPLE 2</a:t>
            </a:r>
            <a:r>
              <a:rPr b="0" lang="en-US" sz="28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ccording to Consumer Reports, General Electric washing machine owners reported 9 problems per 100 machines during 2001. The statistic 9 describes the number of problems out of every 100 machin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2.Inferential Statistics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 decision, estimate, prediction, or generalization about a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population,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based on a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sampl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09594-9EEF-45A1-B8AC-C5A8E2971D8E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7T15:17:12Z</dcterms:created>
  <dc:creator>Rene Leo E. Ordonez</dc:creator>
  <dc:description/>
  <dc:language>en-US</dc:language>
  <cp:lastModifiedBy>ksu</cp:lastModifiedBy>
  <dcterms:modified xsi:type="dcterms:W3CDTF">2014-02-17T08:19:17Z</dcterms:modified>
  <cp:revision>105</cp:revision>
  <dc:subject>What is Statistics</dc:subject>
  <dc:title>Chapter 1</dc:title>
</cp:coreProperties>
</file>