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5FB2-C005-460E-B512-730A35175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160E-03E6-4695-A8F7-F579D959E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5576-415C-4311-B8AD-55750F025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FDBA-D3B5-4785-BE91-AD149BB33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4454-43E3-4C70-BB4C-E6727958A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D065-866E-4804-B6CD-E82651710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4958-1D37-402C-8DBB-9DB297DA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D00-2B69-46A9-8BEC-75CEFFC9C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F7D0-EFB1-451F-BE0A-A7D168FF3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C0E3-8D5F-4A37-95CE-671855014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F8A9-6E31-4A1E-A86F-000E82C2A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FA17-0048-4BC4-B4F8-CD781C914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1564-CC6C-4587-ADF3-FFD8F4B76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5BFE-E276-4F0C-A86A-9494ECEC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AB9-47ED-4737-9297-874BCBA0E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F845-4B9F-49AB-A88B-85B7FCA87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AA47-4C5C-4F83-B83F-E1DF71282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42C7-E9CD-441F-904A-7434FA459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7B53D-FBC2-414A-BCFD-684B984F3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7C05-A05D-4594-AE9D-8467377FC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EFB9-3D7E-49B2-BBD2-F3329920A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6A9F-60DC-460A-B9F8-6F9301BD6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0B6D-2851-4AB5-B1DA-7D5BBCFD6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ADC9-A213-43D8-8A20-4662D8D7D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0850-5281-4DFC-BF5C-0ED0648FD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34D0-B534-45B6-86F9-48BA21DF1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E42B-F05C-49C4-889A-C1D8029C5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E8B0-10A8-4BC7-BFEA-B1250EB8A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09A8-76C9-4114-B9F9-DCF6F3655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CBC9-1087-4AE0-AA6E-690BC152A779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1767-E590-4184-8C0F-E769A2A8C4F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9E52-D805-4F96-B716-63E8759887A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C82C-A013-43D5-A402-588127003A3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EBAC-4497-4454-B28F-B8297046A98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9F72-A3AA-486E-80F3-58BAD6AC7B3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BE7F-49EC-4374-88F2-CB252DB8340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2772-3A36-445A-92A4-6895DC0F0FB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D57-08FD-4D4B-8F5C-7E4EFCB2277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EBFB-1E83-4271-8255-68E108AF271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A479-2961-4C0C-9A01-366E2859246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6EEA-AF06-42AB-AB26-45A0FECFA79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5456-E6C5-4433-BD41-C0DEA0C274A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24D2-30D0-4C33-B690-444EA417F9D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6C40-D5BE-40EB-AA2A-7F4A660D581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ksu</cp:lastModifiedBy>
  <dcterms:modified xsi:type="dcterms:W3CDTF">2014-02-17T08:19:17Z</dcterms:modified>
  <cp:revision>105</cp:revision>
  <dc:subject>What is Statistics</dc:subject>
  <dc:title>Chapter 1</dc:title>
</cp:coreProperties>
</file>