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4FBEC-1D42-4411-AB63-AFBA93D4E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93AF6-BC6A-4A84-87A6-6624527F2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0B816-768B-4A5C-B628-6E45B434E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C1F2D-D5AD-4D4D-8EA3-C6FF20BAA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D4065-CDCE-4EFB-99A3-47D3CA154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54143-95FF-405F-A992-AE4F6AE1E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D8298-E7CA-4418-9390-4F1DADE2B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953C1-E2BD-4ABC-B936-1F7EBDFF2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9D2D0-5934-47E2-964E-F77AAFF4E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22852-8071-4BAB-A6D0-9009C1537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14435-916D-48BC-A89C-5F0747CAA4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636E7-7894-4DAC-B8C5-4FF5A1810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B08F-8C51-4890-ACFF-650648AA64A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6064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6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68CEC-64CA-4B98-B924-E3EBBB2396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4080" y="2362320"/>
            <a:ext cx="6980400" cy="32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F941C-2248-445A-82BC-8AB92C9B6ED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D93FD-BB00-4BA9-AD0D-9D028391492F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99920" y="2114280"/>
            <a:ext cx="7692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07733-07AA-4B30-B3E3-119D8DF4314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7AA8C-27B4-470B-8DAD-C9C4D960AE5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B7277-CFD2-44AA-9CE4-707FB7E1E2C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640" y="1870200"/>
            <a:ext cx="792792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escriptive Statistics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911B9-380B-404E-90F3-18044DBCA48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52400" y="1917720"/>
            <a:ext cx="7743960" cy="4764240"/>
            <a:chOff x="752400" y="1917720"/>
            <a:chExt cx="7743960" cy="47642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52400" y="1917720"/>
              <a:ext cx="7743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21FA7-064A-40E0-93C3-ED905E50A5BD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CF619-440E-4B0C-86FF-97DB4643297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645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A. Discrete variables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 variab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56895-A943-4EA3-B842-A3F9AB57B29C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06560" y="2308320"/>
            <a:ext cx="6473880" cy="39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FEB82-8FFA-40C5-A80B-FF982F18CA6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0:59Z</dcterms:modified>
  <cp:revision>89</cp:revision>
  <dc:subject>What is Statistics</dc:subject>
  <dc:title>Chapter 1</dc:title>
</cp:coreProperties>
</file>