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FAB3-34B9-4D05-87DB-00332346C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14F3-E879-4F56-B466-C46B71FF8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FFB7-F131-4735-968D-A5AA4B796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8D4C-9D0F-4084-9672-CD3830E13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AD16-998D-4C0F-AC73-18440A1D2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2E00-0595-4CEE-BDC2-212D44BE0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5C53-DB06-43ED-9DE5-7AF04D479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A8AD-63C9-4DC7-B513-038C54B0C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C8CD-8AF1-450F-AE31-B19D235F3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103E-E05B-45F6-84EC-1B4F1C0BF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5B54-4AAD-4240-9E59-B37BA14C4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0E23-C8CB-4720-A73F-D67C3B930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4957-32CD-46A2-AFDF-46C1963DA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D7FF-3053-4E92-9E80-E05D02C41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F57A-14B6-48D9-94FB-2E7AEFEBC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B7A0-FE4F-43D4-984E-89C05386F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FC02-9DBA-47A2-80B2-78C194261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50339-C424-4CD6-A6E7-12CF5891ED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D9AFD-E6ED-4E41-8920-3B7D0E6F0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DF029-2128-470E-AF67-4B3635835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0AEAA-78EB-4DAC-8271-B827F83B2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E49A8-6E5B-4988-BE3A-17529015F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E5A45-D003-45D7-89E6-B35484A67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14544-5FF3-41FB-9543-6504A522A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05956-05A3-499A-95A4-83E3D6C99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A66D1-E8B4-4B4D-9E33-F99E217B7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C548C-B9FE-42D3-A7A3-314296590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0C47F-D697-46B5-84DF-105AB77A3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C8A5B-E8C0-4338-94A0-8DFD11090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60D5-B998-412A-9912-D6DB361AB48B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%20Econ%20KSU%20En%2008%20OK/Chapter01.doc" TargetMode="External"/><Relationship Id="rId2" Type="http://schemas.openxmlformats.org/officeDocument/2006/relationships/hyperlink" Target="file:///C:/Black%20Flash%20KSA/Stat%20Final%20Oct%2018,%2008/Statistics%20Techniques%20in%20Bus%20&amp;amp%3B%20Econ%20KSU%20En%2008%20OK/Chapter02.doc" TargetMode="External"/><Relationship Id="rId3" Type="http://schemas.openxmlformats.org/officeDocument/2006/relationships/hyperlink" Target="file:///C:/Black%20Flash%20KSA/Stat%20Final%20Oct%2018,%2008/Statistics%20Techniques%20in%20Bus%20&amp;amp%3B%20Econ%20KSU%20En%2008%20OK/Chapter03.doc" TargetMode="External"/><Relationship Id="rId4" Type="http://schemas.openxmlformats.org/officeDocument/2006/relationships/hyperlink" Target="file:///C:/Black%20Flash%20KSA/Stat%20Final%20Oct%2018,%2008/Statistics%20Techniques%20in%20Bus%20&amp;amp%3B%20Econ%20KSU%20En%2008%20OK/Chapter04.doc" TargetMode="External"/><Relationship Id="rId5" Type="http://schemas.openxmlformats.org/officeDocument/2006/relationships/hyperlink" Target="file:///C:/Black%20Flash%20KSA/Stat%20Final%20Oct%2018,%2008/Statistics%20Techniques%20in%20Bus%20&amp;amp%3B%20Econ%20KSU%20En%2008%20OK/Chapter05.doc" TargetMode="External"/><Relationship Id="rId6" Type="http://schemas.openxmlformats.org/officeDocument/2006/relationships/hyperlink" Target="file:///C:/Black%20Flash%20KSA/Stat%20Final%20Oct%2018,%2008/Statistics%20Techniques%20in%20Bus%20&amp;amp%3B%20Econ%20KSU%20En%2008%20OK/Chapter06.doc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amp%3B%20Econ%20KSU%20En%2008%20OK/Chapter07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73520" y="3535200"/>
            <a:ext cx="401328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uglas Lind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Marchal &amp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uel Wat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25280" y="1269360"/>
            <a:ext cx="76111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istical Techniques in Business &amp; Economic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D3C6-FF0D-4311-9561-DEDAD553D29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132" name="Group 8"/>
          <p:cNvGrpSpPr/>
          <p:nvPr/>
        </p:nvGrpSpPr>
        <p:grpSpPr>
          <a:xfrm>
            <a:off x="752400" y="1781280"/>
            <a:ext cx="7743960" cy="4900680"/>
            <a:chOff x="752400" y="1781280"/>
            <a:chExt cx="7743960" cy="4900680"/>
          </a:xfrm>
        </p:grpSpPr>
        <p:pic>
          <p:nvPicPr>
            <p:cNvPr id="133" name="Picture 4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7"/>
            <p:cNvSpPr/>
            <p:nvPr/>
          </p:nvSpPr>
          <p:spPr>
            <a:xfrm>
              <a:off x="752400" y="1781280"/>
              <a:ext cx="7743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65C3-D78B-437E-B5FD-00770213893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2920" y="1904760"/>
            <a:ext cx="84423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 variables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Continuous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4A5C-DE80-4910-9654-8CF25AE6BD1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77960" y="2193840"/>
            <a:ext cx="7146720" cy="410076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EB50-B89D-4F49-9EF6-1AB32E9C541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2680" y="1768320"/>
            <a:ext cx="420516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87480" y="1752480"/>
            <a:ext cx="43275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1FBF-0528-4857-BB7A-9C4FA50670C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198440" y="2390760"/>
            <a:ext cx="6972480" cy="32101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3A6C-7269-48CC-A96E-99D416083CE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981E-5011-4483-8AA4-241AFFB849A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 107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2400" y="1962000"/>
            <a:ext cx="8931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hat is Stat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Describing Data: Frequency Distributions and 		Graphic Presentation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Describing Data:  Numerical Measure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Describing Data: Displaying and Exploring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A Survey of Probability Concep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Discrete Probability Distribution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3B28-6F9B-40DB-920A-5CC7BA899F2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 107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4800" y="1962000"/>
            <a:ext cx="88092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ontinuous Probability Distrib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ampling Methods and the Central 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mit Theor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near Regression and Corre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dex Nu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6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ime Series and Forecas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4186-5FB1-454B-A410-9D9AC49259C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99920" y="1962000"/>
            <a:ext cx="769284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2897-D598-40B2-A912-18A9282A7B1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B514-88CF-4BCE-BF19-483C9205FB3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C5D3-4E51-4221-B4EF-46EC50CAABB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9640" y="2072880"/>
            <a:ext cx="79279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1.Descriptive Statistics -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432C-3EC6-43F0-9428-731A77B52C4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09640" y="1869840"/>
            <a:ext cx="7927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2.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BA20-399E-4CDE-9DEA-9F397858B38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www.arabswell.com</cp:lastModifiedBy>
  <dcterms:modified xsi:type="dcterms:W3CDTF">2008-10-20T05:49:33Z</dcterms:modified>
  <cp:revision>104</cp:revision>
  <dc:subject>What is Statistics</dc:subject>
  <dc:title>Chapter 1</dc:title>
</cp:coreProperties>
</file>