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8C2D-C5A3-44B6-A185-155608AFE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7350-A00F-4184-9BDE-368B7DD85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5C04-1C70-4FC7-BD54-020E7514A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6202-76DB-4E97-80C8-EB2C40191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5B05-6FCB-4E71-A2BA-6314CD848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1865-BB56-4B87-84FF-FAB1BCF47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892B-825A-4648-A17B-AE6DC286C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C64C-A759-447B-971B-073B3FAE4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E51A-E536-4420-B4F9-91811D60A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7946-0357-4A6B-AD61-B39B4C822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7279-410D-40D3-8C31-AF33792C2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A62B-9AD4-47B5-8164-FA2398B4B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52D9-8F65-4A8A-BE9B-8D851B93E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8364-B6F7-4300-8ADA-2B191BDC3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BE26-7395-400B-8555-24FAEDF82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519C-A3AA-4A72-8D22-95C6A3988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04E7-99E9-46F4-9B4E-11C1A3A49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609E6-AF24-4AA6-9297-ADB3083E1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60655-B8FA-4532-9C5A-700FA6047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215D8-6247-4BA7-B05C-4E55D3BD7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2936E-7284-4827-B47E-8AE86E2AF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1D875-CC73-407B-B85B-0CD09C89E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60CCE-F1C2-47F8-A62B-62DFCB0D0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EA105-7AD6-4D65-8EF4-ABD683018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CE020-D21A-4C0D-A9C5-9781FD455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BA465-C800-4F54-AB48-53AC970E3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6FF7E-25CC-4444-906E-113ED6DBF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FCF48-87A5-491E-8F10-3FE6A6223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B800B-8261-4B73-80AC-DC26A8755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EB65-1C79-495F-9FDF-E8DDC369A9FE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%20Econ%20KSU%20En%2008%20OK/Chapter01.doc" TargetMode="External"/><Relationship Id="rId2" Type="http://schemas.openxmlformats.org/officeDocument/2006/relationships/hyperlink" Target="file:///C:/Black%20Flash%20KSA/Stat%20Final%20Oct%2018,%2008/Statistics%20Techniques%20in%20Bus%20&amp;amp%3B%20Econ%20KSU%20En%2008%20OK/Chapter02.doc" TargetMode="External"/><Relationship Id="rId3" Type="http://schemas.openxmlformats.org/officeDocument/2006/relationships/hyperlink" Target="file:///C:/Black%20Flash%20KSA/Stat%20Final%20Oct%2018,%2008/Statistics%20Techniques%20in%20Bus%20&amp;amp%3B%20Econ%20KSU%20En%2008%20OK/Chapter03.doc" TargetMode="External"/><Relationship Id="rId4" Type="http://schemas.openxmlformats.org/officeDocument/2006/relationships/hyperlink" Target="file:///C:/Black%20Flash%20KSA/Stat%20Final%20Oct%2018,%2008/Statistics%20Techniques%20in%20Bus%20&amp;amp%3B%20Econ%20KSU%20En%2008%20OK/Chapter04.doc" TargetMode="External"/><Relationship Id="rId5" Type="http://schemas.openxmlformats.org/officeDocument/2006/relationships/hyperlink" Target="file:///C:/Black%20Flash%20KSA/Stat%20Final%20Oct%2018,%2008/Statistics%20Techniques%20in%20Bus%20&amp;amp%3B%20Econ%20KSU%20En%2008%20OK/Chapter05.doc" TargetMode="External"/><Relationship Id="rId6" Type="http://schemas.openxmlformats.org/officeDocument/2006/relationships/hyperlink" Target="file:///C:/Black%20Flash%20KSA/Stat%20Final%20Oct%2018,%2008/Statistics%20Techniques%20in%20Bus%20&amp;amp%3B%20Econ%20KSU%20En%2008%20OK/Chapter06.doc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amp%3B%20Econ%20KSU%20En%2008%20OK/Chapter07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3535200"/>
            <a:ext cx="40132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glas Li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Marchal &amp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uel Wat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25280" y="1269360"/>
            <a:ext cx="7611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istical Techniques in Business &amp; Economic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F202-166E-457C-B886-CA4135CE246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752400" y="1781280"/>
            <a:ext cx="7743960" cy="4900680"/>
            <a:chOff x="752400" y="1781280"/>
            <a:chExt cx="7743960" cy="4900680"/>
          </a:xfrm>
        </p:grpSpPr>
        <p:pic>
          <p:nvPicPr>
            <p:cNvPr id="133" name="Picture 4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7"/>
            <p:cNvSpPr/>
            <p:nvPr/>
          </p:nvSpPr>
          <p:spPr>
            <a:xfrm>
              <a:off x="752400" y="1781280"/>
              <a:ext cx="7743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1460-3B16-4D53-B85E-2EC303D1EDD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" y="1904760"/>
            <a:ext cx="84423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 variables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Continuous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62F0-86F5-40D0-B4FC-C31298FDB33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77960" y="2193840"/>
            <a:ext cx="7146720" cy="410076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FFB0-50B0-44B5-B95C-EB7B065206B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2680" y="1768320"/>
            <a:ext cx="4205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87480" y="1752480"/>
            <a:ext cx="43275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612F-1B16-48AD-BC48-3EEB05B04D4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198440" y="2390760"/>
            <a:ext cx="6972480" cy="32101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FEDD-A14D-4C5D-89E9-A44F5BE5F84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CB27-6BDD-4135-81C9-10A4A58796D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2400" y="1962000"/>
            <a:ext cx="8931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hat is Stat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escribing Data: Frequency Distributions and 		Graphic Presentation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Describing Data:  Numerical Measure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Describing Data: Displaying and Exploring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A Survey of Probability Conce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Discrete Probability Distribution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3300-E431-44FE-803F-5041E6CC5F5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4800" y="1962000"/>
            <a:ext cx="88092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ontinuous Probability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ampling Methods and the Central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mit Theor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near Regression and Corre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ex Nu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6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ime Series and Foreca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919D-37B8-4C2A-BD36-F4307A746D2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99920" y="1962000"/>
            <a:ext cx="769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184E-BD7E-4C89-9FF5-05FB8D182F9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5C31-37D8-4932-A83C-0846E3EAEAE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6675-56F9-4734-9586-0BA2281846C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1.Descriptive Statistics -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A43B-B9D4-49D3-81F1-CA0F6216351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09640" y="1869840"/>
            <a:ext cx="7927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2.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7D60-C6EF-4C10-B2D3-B7C14A48785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www.arabswell.com</cp:lastModifiedBy>
  <dcterms:modified xsi:type="dcterms:W3CDTF">2008-10-20T05:49:33Z</dcterms:modified>
  <cp:revision>104</cp:revision>
  <dc:subject>What is Statistics</dc:subject>
  <dc:title>Chapter 1</dc:title>
</cp:coreProperties>
</file>