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3B97-C821-4B86-BC9E-702AC0CAA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1739-E3F0-481D-8284-614D68253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F36A-3AB8-4430-ABC5-E16910C12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EF39-93FF-428A-8FE3-AD8902DE4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46CD-3FCF-4F3A-89D8-FF866EDD2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CE1D-B933-4329-A550-EBEC0BDE1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459D-22B1-4550-9894-F9A6FCA6F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E794-1E7F-4796-ABB5-7F638C0DA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A540-2762-483E-A404-5768D3C0E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8933-5636-4B3D-A86A-259039C6D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28D8-C7CE-42B7-B6F0-DD9DD7D89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AE14-E7C4-48DC-B48F-740A0BE42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3FBE-440B-4F69-9C2C-7331A84A2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7B55-05A3-4B46-994E-3281D0264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B067-0486-4551-8334-489D124D8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8A6C-1AC4-40E8-910E-7869D7F78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B35A-29AD-4D9E-8410-9361248E0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1844E-E079-40D2-9AA3-537D1F604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B0959-2BFA-4072-9740-322FC9918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DF62B-0F52-45EE-BAB4-CFCB17BFB2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153EF-6032-4E84-A587-0F6C44A504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51139-3F32-4BFD-B254-4872DBF3DE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0D947-E182-4BDF-B518-6B8E369FC5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45BFB-DA80-463E-8289-A3D63F8D7F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D2EF0-5E1E-4703-B1BC-CAF1583E5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775D3-06B0-42C9-B2C6-BAFD41F29D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B5E7D-8ACC-464B-A59D-DD46CF67C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55AE3-BA87-4945-A760-4ADA4D481E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30954-7375-465C-B4CF-CFB36A283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prstGeom prst="pie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9B12-4D77-4580-895A-95FCEA1D45B4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%20Econ%20KSU%20En%2008%20OK/Chapter01.doc" TargetMode="External"/><Relationship Id="rId2" Type="http://schemas.openxmlformats.org/officeDocument/2006/relationships/hyperlink" Target="file:///C:/Black%20Flash%20KSA/Stat%20Final%20Oct%2018,%2008/Statistics%20Techniques%20in%20Bus%20&amp;amp%3B%20Econ%20KSU%20En%2008%20OK/Chapter02.doc" TargetMode="External"/><Relationship Id="rId3" Type="http://schemas.openxmlformats.org/officeDocument/2006/relationships/hyperlink" Target="file:///C:/Black%20Flash%20KSA/Stat%20Final%20Oct%2018,%2008/Statistics%20Techniques%20in%20Bus%20&amp;amp%3B%20Econ%20KSU%20En%2008%20OK/Chapter03.doc" TargetMode="External"/><Relationship Id="rId4" Type="http://schemas.openxmlformats.org/officeDocument/2006/relationships/hyperlink" Target="file:///C:/Black%20Flash%20KSA/Stat%20Final%20Oct%2018,%2008/Statistics%20Techniques%20in%20Bus%20&amp;amp%3B%20Econ%20KSU%20En%2008%20OK/Chapter04.doc" TargetMode="External"/><Relationship Id="rId5" Type="http://schemas.openxmlformats.org/officeDocument/2006/relationships/hyperlink" Target="file:///C:/Black%20Flash%20KSA/Stat%20Final%20Oct%2018,%2008/Statistics%20Techniques%20in%20Bus%20&amp;amp%3B%20Econ%20KSU%20En%2008%20OK/Chapter05.doc" TargetMode="External"/><Relationship Id="rId6" Type="http://schemas.openxmlformats.org/officeDocument/2006/relationships/hyperlink" Target="file:///C:/Black%20Flash%20KSA/Stat%20Final%20Oct%2018,%2008/Statistics%20Techniques%20in%20Bus%20&amp;amp%3B%20Econ%20KSU%20En%2008%20OK/Chapter06.doc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amp%3B%20Econ%20KSU%20En%2008%20OK/Chapter07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73520" y="3535200"/>
            <a:ext cx="401328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uglas Lind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Marchal &amp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uel Wath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25280" y="1269360"/>
            <a:ext cx="761112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istical Techniques in Business &amp; Economics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FE7F-93A4-4103-9D56-D3B36139A0B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132" name="Group 8"/>
          <p:cNvGrpSpPr/>
          <p:nvPr/>
        </p:nvGrpSpPr>
        <p:grpSpPr>
          <a:xfrm>
            <a:off x="752400" y="1781280"/>
            <a:ext cx="7743960" cy="4900680"/>
            <a:chOff x="752400" y="1781280"/>
            <a:chExt cx="7743960" cy="4900680"/>
          </a:xfrm>
        </p:grpSpPr>
        <p:pic>
          <p:nvPicPr>
            <p:cNvPr id="133" name="Picture 4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7"/>
            <p:cNvSpPr/>
            <p:nvPr/>
          </p:nvSpPr>
          <p:spPr>
            <a:xfrm>
              <a:off x="752400" y="1781280"/>
              <a:ext cx="77439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8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EAD5-A5BE-4B24-B2F7-CF14FC42E21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2920" y="1904760"/>
            <a:ext cx="84423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 variables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Continuous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BA98-0BC2-4A97-BE3F-2E7FABA7BBF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77960" y="2193840"/>
            <a:ext cx="7146720" cy="410076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A9D5-809F-4719-9B30-18176B27784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72680" y="1768320"/>
            <a:ext cx="420516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87480" y="1752480"/>
            <a:ext cx="43275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2DC9-98FD-4D77-A3C9-D20E5831737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198440" y="2390760"/>
            <a:ext cx="6972480" cy="32101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80AF-980B-47BB-8899-2D4CD39ADBB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0E63-E2A4-4C7B-95BD-C165517C95B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07 QUA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2400" y="1962000"/>
            <a:ext cx="8931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hat is Statis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Describing Data: Frequency Distributions and 		Graphic Presentation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Describing Data:  Numerical Measure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Describing Data: Displaying and Exploring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A Survey of Probability Concep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Discrete Probability Distribution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7B90-995D-4AC5-B045-2B5E53D0311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 107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4800" y="1962000"/>
            <a:ext cx="880920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ontinuous Probability Distrib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ampling Methods and the Central 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mit Theor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near Regression and Corre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5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Index Nu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6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ime Series and Forecas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6F5A-47A9-476C-9B0C-E0F4B67BCE2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99920" y="1962000"/>
            <a:ext cx="7692840" cy="41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F1EB-EE47-4939-BA01-72A01031229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6FC0-0F41-4B61-9194-B8FC3B5CB82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9F24-900E-4AF1-AE63-334EB4154DC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09640" y="2072880"/>
            <a:ext cx="79279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1.Descriptive Statistics -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DB9B-0A4D-4226-A458-5586D2BE251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09640" y="1869840"/>
            <a:ext cx="79279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2.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439A-397F-4B3A-8CE0-0742BC017A2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ksu</cp:lastModifiedBy>
  <dcterms:modified xsi:type="dcterms:W3CDTF">2014-02-17T08:19:17Z</dcterms:modified>
  <cp:revision>105</cp:revision>
  <dc:subject>What is Statistics</dc:subject>
  <dc:title>Chapter 1</dc:title>
</cp:coreProperties>
</file>