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A732-F066-441F-BFDD-EFE403D8E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AB92-3277-4A50-9537-CC8615378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5F01-FDE0-4770-A0E2-43D920CA6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B2C9-A42F-4E71-9F2D-BB63A239A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096D-5AA6-4340-8028-A2753DA0D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E9AA-BB6B-4F44-9DD2-819630811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2546-FA3B-4718-BE1B-2C05DABAD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5360-0373-44D7-99E4-887CF2DDD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0153-CA2C-4FBC-8ADC-DBFB404B5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840D-CA17-4B3C-B1BF-D5941D615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90DF-A406-4C05-80F1-DC97B8B49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3623-2CA3-4D65-A44F-E2F5DB120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0F38-1C9C-4C10-A414-31D2BBBF8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DA71-8D48-4616-958A-0E3850206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4850-56A3-4940-AABE-00EAD7179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DE31-0949-44AB-8645-6447EBDC8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7C86-97DD-4A53-951F-ECBD64665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12F18-3133-4535-8F71-0B7606D96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64ABD-21E4-4318-9F17-2D4B22B97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A7FB2-CD47-4033-AD9D-4C0AEAEB3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1FC16-7E61-4299-98D0-8CC2CF410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D1029-8BC7-41AC-99AC-4F1B972D9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6F9E7-1602-4564-93EC-590E27A81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0251-0023-410E-9922-9D33C5AEA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F3708-F945-476B-92A5-8C3395D2D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C84E-1813-4034-8C36-30F79B54F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D9DF-FA91-435F-B7BE-B382EA3AC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E5FEA-D4FB-4239-98A9-04149367E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BB397-2F06-42C0-8461-3A7AD2A40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934A-1EFE-4057-AD12-E2045C35E118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%20Econ%20KSU%20En%2008%20OK/Chapter01.doc" TargetMode="External"/><Relationship Id="rId2" Type="http://schemas.openxmlformats.org/officeDocument/2006/relationships/hyperlink" Target="file:///C:/Black%20Flash%20KSA/Stat%20Final%20Oct%2018,%2008/Statistics%20Techniques%20in%20Bus%20&amp;amp%3B%20Econ%20KSU%20En%2008%20OK/Chapter02.doc" TargetMode="External"/><Relationship Id="rId3" Type="http://schemas.openxmlformats.org/officeDocument/2006/relationships/hyperlink" Target="file:///C:/Black%20Flash%20KSA/Stat%20Final%20Oct%2018,%2008/Statistics%20Techniques%20in%20Bus%20&amp;amp%3B%20Econ%20KSU%20En%2008%20OK/Chapter03.doc" TargetMode="External"/><Relationship Id="rId4" Type="http://schemas.openxmlformats.org/officeDocument/2006/relationships/hyperlink" Target="file:///C:/Black%20Flash%20KSA/Stat%20Final%20Oct%2018,%2008/Statistics%20Techniques%20in%20Bus%20&amp;amp%3B%20Econ%20KSU%20En%2008%20OK/Chapter04.doc" TargetMode="External"/><Relationship Id="rId5" Type="http://schemas.openxmlformats.org/officeDocument/2006/relationships/hyperlink" Target="file:///C:/Black%20Flash%20KSA/Stat%20Final%20Oct%2018,%2008/Statistics%20Techniques%20in%20Bus%20&amp;amp%3B%20Econ%20KSU%20En%2008%20OK/Chapter05.doc" TargetMode="External"/><Relationship Id="rId6" Type="http://schemas.openxmlformats.org/officeDocument/2006/relationships/hyperlink" Target="file:///C:/Black%20Flash%20KSA/Stat%20Final%20Oct%2018,%2008/Statistics%20Techniques%20in%20Bus%20&amp;amp%3B%20Econ%20KSU%20En%2008%20OK/Chapter06.doc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amp%3B%20Econ%20KSU%20En%2008%20OK/Chapter07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2CF8-501C-476E-BDF3-35B9C5F1680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3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07CD-3368-4581-B125-16A3A555AA2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47F2-C369-4BE1-819A-4F995A68440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70D9-58F3-4233-8EBA-0F43A194261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2680" y="1768320"/>
            <a:ext cx="4205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7480" y="1752480"/>
            <a:ext cx="43275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8757-8016-45F3-BD13-031837B7BD9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98440" y="2390760"/>
            <a:ext cx="6972480" cy="3210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9242-6610-4AF4-A178-14B7B016E31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8351-0A81-4862-BE07-01D00C0DF39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07 QUA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" y="1962000"/>
            <a:ext cx="8931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hat is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escribing Data: Frequency Distributions and 		Graphic Presentation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Describing Data:  Numerical Measure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Describing Data: Displaying and Explor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A Survey of Probability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Discrete Probability Distribution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40F5-F82F-4D0D-96AD-B0EE1B95012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4800" y="1962000"/>
            <a:ext cx="88092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ntinuous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ampling Methods and the Central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mit Theor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near Regression and Corre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ex 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6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ime Series and Foreca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B527-005A-411B-AEEF-963E36D5A7A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A13F-646D-496D-8742-03BA2DC8856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8AFB-5891-405E-B457-7E35F8C5F0C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5884-6130-4974-96F2-2538D6D5455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1.Descriptive Statistics 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D001-44C4-4786-8284-8225108D8B4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2.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C020-3758-4B0D-A079-B90810D6448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ksu</cp:lastModifiedBy>
  <dcterms:modified xsi:type="dcterms:W3CDTF">2014-02-17T08:19:17Z</dcterms:modified>
  <cp:revision>105</cp:revision>
  <dc:subject>What is Statistics</dc:subject>
  <dc:title>Chapter 1</dc:title>
</cp:coreProperties>
</file>