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139-7990-4618-AC3E-D5C6D70CB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1935-C04F-4307-9E7C-0D6D2B8C5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9A5-BFA6-4B72-B50C-DDDC8B56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80A-C63A-46C9-B4B9-9869C50C2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E981-B020-4B23-B00F-462758D8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138B-925D-495A-BD7C-FEB8CBE8A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829D-288C-48CD-89C3-47D042F2A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636-C524-4CC5-93FE-60087BC4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F6F5-B6C3-4A65-84B1-6B0B8A23E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F2F8-B079-4AD5-A42E-27327F17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80F-3747-481B-940D-AF11A9AE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7FF6-FBDD-4438-BC7F-B02B777F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1996-9DB1-45E7-9529-5FA9C7E9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182-7345-44E4-9BCB-DE5AD9AB4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04EC-0849-4BB5-98C8-162CAA39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CC11-0B53-4AB5-A722-A0272E465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D1EF-3D9B-41CE-8470-834466017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B8FB-2203-406A-88C1-2CE66B5CB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35F2-C2EE-417F-B317-B502F366F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D68A-0520-4509-B17B-30E8567AA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8263-BAE8-49DE-AB98-E08E4EB95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76D4-2694-400A-B51A-1F3E17A61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EDEA-24DE-46CE-87AD-11D25F58C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D156-0E9A-43E2-A68E-78E5D0902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67F3-15C7-4BCE-ADB7-9F695507C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7708-F7FA-41C7-AEC7-E532158B3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CC62-3829-4EBB-A2FD-82D8D09E8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68FE-613F-4668-85E9-BE6968D62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0FD6-18F6-42E3-994E-A6F2A9647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3A0-DC92-42D3-A477-450A39170869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D64-8B0B-4D36-AEF5-71BF3BCEFBC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E7A-8C3C-4F21-8F5B-C425A3254DF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2FE-75FE-4923-8E1A-A286871032A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C2FA-C940-45A9-97AD-9EFB65C5583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FC6C-8287-48C9-B585-366D7FC405F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C5C-0573-4258-894C-6972F83DCE1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AC00-C618-4376-BAEC-8B3D7DC1F04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39E-AB86-4BA3-8F7D-52D21BE23AD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1E7-C44E-4D42-A5B9-EFD24873A88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45B-D69F-4187-8BA3-7B4E555454E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B390-E737-47CB-A33F-D0712572A1C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3217-3514-400B-B049-6F40C1FBD12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C7C5-EF61-4685-B228-1C183AECAAB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D327-4F97-44B8-8738-BBB2B4DF745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www.arabswell.com</cp:lastModifiedBy>
  <dcterms:modified xsi:type="dcterms:W3CDTF">2008-10-20T05:49:33Z</dcterms:modified>
  <cp:revision>104</cp:revision>
  <dc:subject>What is Statistics</dc:subject>
  <dc:title>Chapter 1</dc:title>
</cp:coreProperties>
</file>