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E47B-81BE-45FC-AAB5-A5334167E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681E-9ACA-48E3-847C-1568476F7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C8B2-959C-4C7F-9390-D91895A01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9F3C-ABA5-448D-A03B-0838120A7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3196-C115-4F03-BEF9-957DD6BF8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0AB1-C1C4-4E03-9D95-13452AC54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F08E-7971-45F0-81B8-CAD60613E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4E06-E4DD-41CC-A155-B4F094E5B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F428-3D27-4A3C-80C3-7EDAAF613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00A7-CA85-4025-A8E3-97583AAF4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BB1B-7D61-4E03-9423-95DEC4073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D3FF-A3D1-409D-9C40-461E15FCC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84F9-0B5F-47F8-920E-922D89162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355F-70E3-4775-8FCD-9F2AFC42D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EF97-882C-4D91-BBE5-41ACEA00D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73E6-8A7D-4577-A463-38FEB48F8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0C20-33EF-47D7-88FD-F219509A0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773CD-90C0-4827-A9D2-758DA50C2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359A3-717F-4D5F-B7C3-3E955AFBD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D12F7-3FA3-4431-95B2-997C3E10E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4A32B-7483-4461-B47A-AC8CE661B3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116FF-F2C4-4B4F-938B-C06A0C527A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1E677-3F13-424F-877E-552E77687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CD4CE-384E-44D5-B126-6A1BC4AF5C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60F9A-A168-4A32-9F59-7132B72EC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5B0CC-F55D-4BE5-B04B-71C9194E2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A107B-B9DE-42E9-8338-73C7A0B34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0F1DB-A88F-47D4-97DD-47E0F820F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DB40C-13FA-4BCA-9CB9-89DD3F7B9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2BB9-E9F9-464F-8575-1ED9DCCDD870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%20Econ%20KSU%20En%2008%20OK/Chapter01.doc" TargetMode="External"/><Relationship Id="rId2" Type="http://schemas.openxmlformats.org/officeDocument/2006/relationships/hyperlink" Target="file:///C:/Black%20Flash%20KSA/Stat%20Final%20Oct%2018,%2008/Statistics%20Techniques%20in%20Bus%20&amp;amp%3B%20Econ%20KSU%20En%2008%20OK/Chapter02.doc" TargetMode="External"/><Relationship Id="rId3" Type="http://schemas.openxmlformats.org/officeDocument/2006/relationships/hyperlink" Target="file:///C:/Black%20Flash%20KSA/Stat%20Final%20Oct%2018,%2008/Statistics%20Techniques%20in%20Bus%20&amp;amp%3B%20Econ%20KSU%20En%2008%20OK/Chapter03.doc" TargetMode="External"/><Relationship Id="rId4" Type="http://schemas.openxmlformats.org/officeDocument/2006/relationships/hyperlink" Target="file:///C:/Black%20Flash%20KSA/Stat%20Final%20Oct%2018,%2008/Statistics%20Techniques%20in%20Bus%20&amp;amp%3B%20Econ%20KSU%20En%2008%20OK/Chapter04.doc" TargetMode="External"/><Relationship Id="rId5" Type="http://schemas.openxmlformats.org/officeDocument/2006/relationships/hyperlink" Target="file:///C:/Black%20Flash%20KSA/Stat%20Final%20Oct%2018,%2008/Statistics%20Techniques%20in%20Bus%20&amp;amp%3B%20Econ%20KSU%20En%2008%20OK/Chapter05.doc" TargetMode="External"/><Relationship Id="rId6" Type="http://schemas.openxmlformats.org/officeDocument/2006/relationships/hyperlink" Target="file:///C:/Black%20Flash%20KSA/Stat%20Final%20Oct%2018,%2008/Statistics%20Techniques%20in%20Bus%20&amp;amp%3B%20Econ%20KSU%20En%2008%20OK/Chapter06.doc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amp%3B%20Econ%20KSU%20En%2008%20OK/Chapter07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73520" y="3535200"/>
            <a:ext cx="401328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uglas Lind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Marchal &amp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uel Wath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25280" y="1269360"/>
            <a:ext cx="761112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istical Techniques in Business &amp; Economics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62B9-6B06-45F8-A8B3-F422DBCD1EA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132" name="Group 8"/>
          <p:cNvGrpSpPr/>
          <p:nvPr/>
        </p:nvGrpSpPr>
        <p:grpSpPr>
          <a:xfrm>
            <a:off x="752400" y="1781280"/>
            <a:ext cx="7743960" cy="4900680"/>
            <a:chOff x="752400" y="1781280"/>
            <a:chExt cx="7743960" cy="4900680"/>
          </a:xfrm>
        </p:grpSpPr>
        <p:pic>
          <p:nvPicPr>
            <p:cNvPr id="133" name="Picture 4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7"/>
            <p:cNvSpPr/>
            <p:nvPr/>
          </p:nvSpPr>
          <p:spPr>
            <a:xfrm>
              <a:off x="752400" y="1781280"/>
              <a:ext cx="77439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8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8F3B-2FE0-47A6-812F-009561FE647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2920" y="1904760"/>
            <a:ext cx="84423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 variables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Continuous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82F0-81E1-4CDB-8BC7-6BEFAEC988F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77960" y="2193840"/>
            <a:ext cx="7146720" cy="410076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2377-725E-4F75-8C6E-3FBD8C317D4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72680" y="1768320"/>
            <a:ext cx="420516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87480" y="1752480"/>
            <a:ext cx="43275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18EA-1768-4977-B5CF-68F1F8AD77A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198440" y="2390760"/>
            <a:ext cx="6972480" cy="32101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F6A9-2B16-4C17-916E-66D66ED0F7A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2928-7250-47D2-954F-5EC3C43FE78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 107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2400" y="1962000"/>
            <a:ext cx="8931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hat is Statis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Describing Data: Frequency Distributions and 		Graphic Presentation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Describing Data:  Numerical Measure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Describing Data: Displaying and Exploring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A Survey of Probability Concep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Discrete Probability Distribution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B10C-7A63-4229-A887-0A37307DFFC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 107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4800" y="1962000"/>
            <a:ext cx="880920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ontinuous Probability Distrib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ampling Methods and the Central 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mit Theor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near Regression and Corre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5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Index Nu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6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ime Series and Forecas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50C5-C7A2-458D-B391-C986BF1A6B4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99920" y="1962000"/>
            <a:ext cx="7692840" cy="41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A493-3D10-40CF-9DBE-92554FDCA30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DB74-A904-435F-B339-BE7BF641CDC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9E5A-9D26-49C6-AF41-E870FCA1955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09640" y="2072880"/>
            <a:ext cx="79279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1.Descriptive Statistics -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009C-ACDD-4B76-ACED-7B990871634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09640" y="1869840"/>
            <a:ext cx="79279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2.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5237-0CA2-47A9-AD46-23375D13D53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www.arabswell.com</cp:lastModifiedBy>
  <dcterms:modified xsi:type="dcterms:W3CDTF">2008-10-20T05:49:33Z</dcterms:modified>
  <cp:revision>104</cp:revision>
  <dc:subject>What is Statistics</dc:subject>
  <dc:title>Chapter 1</dc:title>
</cp:coreProperties>
</file>