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47BF-E3F2-480B-8E94-236026610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02EC-B894-40B7-B926-A03EEDDE1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1E99-BAEA-4573-9398-CAB46B4DD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426B-6BC6-452B-A793-CF15DE41D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6CBE-4C16-4F5F-9018-F64069211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D5DB-3785-49A8-A4D5-FA22CC67C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FBBA-44F9-429E-ABC5-171FE7174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5412-4941-4BBF-9242-39D540AEF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68E0-B175-4C39-9A11-21D6CAB1F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544B-58FC-4BEF-877A-342BDE4C2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B484-A9C7-49B1-AF86-ECB6633C6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4982-37C4-41A1-9EB7-916238D2C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9C15-F002-4270-AB17-CF994076D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DDA5-F4A1-468B-A64B-3E016F887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4274-FBC8-4FAF-A9D0-C688D087E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8F2D-5147-42BD-B142-FF54D5E9E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C1AB-41F4-49F0-B482-71A73F592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7C9A1-342F-4147-BE39-DFE43F268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9DBB7-B433-48F5-8833-9D85E4A06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78284-D6FB-46FE-A6A1-CCE7ED6FA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672A5-5B71-4BAF-9369-CAA4F25F6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62445-0428-4C9C-B06F-6FC25D2D62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75050-CB32-4CE0-A155-0C7E68BD9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C9852-681C-431E-91CB-0030DEDBA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C198D-10D4-4E22-BF66-EAB4F5285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DE0C8-81A0-48D1-8200-335D07C71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4B4FB-3A59-480B-B8DC-89619633B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BA73C-E76B-4D07-B925-3A8672B86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B0314-4F69-411E-8A06-C8A661F7F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7BBD-27DD-4769-B808-58BF63A00A65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%20Econ%20KSU%20En%2008%20OK/Chapter01.doc" TargetMode="External"/><Relationship Id="rId2" Type="http://schemas.openxmlformats.org/officeDocument/2006/relationships/hyperlink" Target="file:///C:/Black%20Flash%20KSA/Stat%20Final%20Oct%2018,%2008/Statistics%20Techniques%20in%20Bus%20&amp;amp%3B%20Econ%20KSU%20En%2008%20OK/Chapter02.doc" TargetMode="External"/><Relationship Id="rId3" Type="http://schemas.openxmlformats.org/officeDocument/2006/relationships/hyperlink" Target="file:///C:/Black%20Flash%20KSA/Stat%20Final%20Oct%2018,%2008/Statistics%20Techniques%20in%20Bus%20&amp;amp%3B%20Econ%20KSU%20En%2008%20OK/Chapter03.doc" TargetMode="External"/><Relationship Id="rId4" Type="http://schemas.openxmlformats.org/officeDocument/2006/relationships/hyperlink" Target="file:///C:/Black%20Flash%20KSA/Stat%20Final%20Oct%2018,%2008/Statistics%20Techniques%20in%20Bus%20&amp;amp%3B%20Econ%20KSU%20En%2008%20OK/Chapter04.doc" TargetMode="External"/><Relationship Id="rId5" Type="http://schemas.openxmlformats.org/officeDocument/2006/relationships/hyperlink" Target="file:///C:/Black%20Flash%20KSA/Stat%20Final%20Oct%2018,%2008/Statistics%20Techniques%20in%20Bus%20&amp;amp%3B%20Econ%20KSU%20En%2008%20OK/Chapter05.doc" TargetMode="External"/><Relationship Id="rId6" Type="http://schemas.openxmlformats.org/officeDocument/2006/relationships/hyperlink" Target="file:///C:/Black%20Flash%20KSA/Stat%20Final%20Oct%2018,%2008/Statistics%20Techniques%20in%20Bus%20&amp;amp%3B%20Econ%20KSU%20En%2008%20OK/Chapter06.doc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amp%3B%20Econ%20KSU%20En%2008%20OK/Chapter07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3535200"/>
            <a:ext cx="40132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glas Li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Marchal &amp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uel Wat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25280" y="1269360"/>
            <a:ext cx="7611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istical Techniques in Business &amp; Economic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B4BC-4E5D-48AB-BC65-A14EC436F1F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752400" y="1781280"/>
            <a:ext cx="7743960" cy="4900680"/>
            <a:chOff x="752400" y="1781280"/>
            <a:chExt cx="7743960" cy="4900680"/>
          </a:xfrm>
        </p:grpSpPr>
        <p:pic>
          <p:nvPicPr>
            <p:cNvPr id="133" name="Picture 4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7"/>
            <p:cNvSpPr/>
            <p:nvPr/>
          </p:nvSpPr>
          <p:spPr>
            <a:xfrm>
              <a:off x="752400" y="1781280"/>
              <a:ext cx="7743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A457-0710-4CD6-A1FE-0029AD37FAD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" y="1904760"/>
            <a:ext cx="84423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 variables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Continuous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D4CE-E499-4409-9538-6914AEDA53D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77960" y="2193840"/>
            <a:ext cx="7146720" cy="410076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9F3D-353E-4491-95D4-D498AFE1AC4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2680" y="1768320"/>
            <a:ext cx="4205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7480" y="1752480"/>
            <a:ext cx="43275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FA06-B5B5-4209-A31B-A0789F736BE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198440" y="2390760"/>
            <a:ext cx="6972480" cy="32101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C309-539B-4BA7-82CC-1D02ED95C26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1313-8E18-40AE-8018-A99905C64B9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07 QUA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2400" y="1962000"/>
            <a:ext cx="8931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hat is Stat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escribing Data: Frequency Distributions and 		Graphic Presentation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Describing Data:  Numerical Measure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Describing Data: Displaying and Exploring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A Survey of Probability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Discrete Probability Distribution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0B90-36A1-4CC5-9C86-3B40A468815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4800" y="1962000"/>
            <a:ext cx="88092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ontinuous Probability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ampling Methods and the Central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mit Theor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near Regression and Corre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ex 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6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ime Series and Foreca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99C3-4601-40F7-A2F6-058D3FD7E9C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99920" y="1962000"/>
            <a:ext cx="769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E15F-FDB3-44C3-BF34-283BA052610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28E7-A22E-471E-A833-CE44F67C47E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2F96-C6A5-439E-8553-2B854302E14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1.Descriptive Statistics -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BFA8-8D84-4569-8C73-2A3260301A3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09640" y="1869840"/>
            <a:ext cx="7927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2.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3425-BC5B-4F65-B6DE-A6E25EEA27B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NAJ</cp:lastModifiedBy>
  <dcterms:modified xsi:type="dcterms:W3CDTF">2014-09-06T18:02:13Z</dcterms:modified>
  <cp:revision>105</cp:revision>
  <dc:subject>What is Statistics</dc:subject>
  <dc:title>Chapter 1</dc:title>
</cp:coreProperties>
</file>