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47C0C-92BC-4964-A7FB-8F9B3844FF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C04C7-7AB8-4BF5-8E42-0650675DF0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89A45-C3EF-4622-9D41-B9EE7FA719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66C09-41FC-4947-8EBA-00D18D5706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3F9F0-5D32-4585-89C4-74F23385FC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A0E05-692E-4119-A29E-19CFC06966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C3CBE-E20F-49D2-A035-893E13274D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20B83-3695-468C-AE78-475CF213CB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FE33D-6EF1-4314-9E24-E4C7E9051F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CB942-7CCD-4F55-9AF0-F62EA5B160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81F20-B392-4A2D-ADFA-CE943686E2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FDD10-27C9-4966-9BD7-7535D0095C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77B7E-7755-4095-B21F-D1B26F6A09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FA893-DE25-4AAB-A90A-5FD7D3B520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2609C-A862-482E-9661-571547C29B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0AC9A-1453-4FA9-8875-F8474C0860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ACD14-BFAD-44B3-939A-827BBF74F5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56B7B-A470-492A-A61A-9424C1A1C8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86EE7-60B4-4DBD-98B7-CB7B74E63D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2C8B8-B0FA-4882-96F5-001B61D127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9D3EC-23AE-421E-9E7A-9FF2D31AEA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34A72-E108-436D-95A2-696448E381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B7076-880C-4995-BD1C-70B6615E4D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CBE01-CB41-483A-AD2D-A5AEEF6321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19917-C413-466A-9189-B557E388CC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B1DBB-8455-42E2-8842-EA5E985E7E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318FE-8C5B-403E-84BD-58FC1856DB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C51FE-273C-4F2E-B6A7-4A1554C5F7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3A713-2787-4F30-8979-2E1169CB08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3886200" cy="685800"/>
          </a:xfrm>
          <a:custGeom>
            <a:avLst/>
            <a:gdLst>
              <a:gd name="textAreaLeft" fmla="*/ 0 w 3886200"/>
              <a:gd name="textAreaRight" fmla="*/ 3886560 w 388620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1728" h="735">
                <a:moveTo>
                  <a:pt x="1728" y="0"/>
                </a:moveTo>
                <a:lnTo>
                  <a:pt x="1728" y="480"/>
                </a:lnTo>
                <a:lnTo>
                  <a:pt x="380" y="482"/>
                </a:lnTo>
                <a:lnTo>
                  <a:pt x="354" y="480"/>
                </a:lnTo>
                <a:lnTo>
                  <a:pt x="308" y="489"/>
                </a:lnTo>
                <a:cubicBezTo>
                  <a:pt x="290" y="498"/>
                  <a:pt x="263" y="513"/>
                  <a:pt x="246" y="531"/>
                </a:cubicBezTo>
                <a:cubicBezTo>
                  <a:pt x="229" y="549"/>
                  <a:pt x="215" y="574"/>
                  <a:pt x="206" y="597"/>
                </a:cubicBezTo>
                <a:cubicBezTo>
                  <a:pt x="197" y="620"/>
                  <a:pt x="194" y="643"/>
                  <a:pt x="192" y="666"/>
                </a:cubicBezTo>
                <a:lnTo>
                  <a:pt x="192" y="735"/>
                </a:lnTo>
                <a:lnTo>
                  <a:pt x="0" y="735"/>
                </a:lnTo>
                <a:lnTo>
                  <a:pt x="0" y="480"/>
                </a:lnTo>
                <a:lnTo>
                  <a:pt x="0" y="0"/>
                </a:lnTo>
                <a:lnTo>
                  <a:pt x="1728" y="0"/>
                </a:lnTo>
                <a:close/>
              </a:path>
            </a:pathLst>
          </a:cu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3" name="AutoShape 5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2D94D-7932-467B-8D31-73AD749E6155}" type="slidenum"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</p:grpSp>
      <p:grpSp>
        <p:nvGrpSpPr>
          <p:cNvPr id="4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  <p:sp>
          <p:nvSpPr>
            <p:cNvPr id="5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</p:grpSp>
      <p:sp>
        <p:nvSpPr>
          <p:cNvPr id="51" name="Text Box 12"/>
          <p:cNvSpPr/>
          <p:nvPr/>
        </p:nvSpPr>
        <p:spPr>
          <a:xfrm>
            <a:off x="6327720" y="6583320"/>
            <a:ext cx="276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©The McGraw-Hill Companies, Inc. 2008</a:t>
            </a:r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154440" y="6583320"/>
            <a:ext cx="138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McGraw-Hill/Irwin</a:t>
            </a:r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C:/Black%20Flash%20KSA/Stat%20Final%20Oct%2018,%2008/Statistics%20Techniques%20in%20Bus%20&amp;%20Econ%20KSU%20En%2008%20OK/Chapter01.doc" TargetMode="External"/><Relationship Id="rId2" Type="http://schemas.openxmlformats.org/officeDocument/2006/relationships/hyperlink" Target="file:///C:/Black%20Flash%20KSA/Stat%20Final%20Oct%2018,%2008/Statistics%20Techniques%20in%20Bus%20&amp;amp%3B%20Econ%20KSU%20En%2008%20OK/Chapter02.doc" TargetMode="External"/><Relationship Id="rId3" Type="http://schemas.openxmlformats.org/officeDocument/2006/relationships/hyperlink" Target="file:///C:/Black%20Flash%20KSA/Stat%20Final%20Oct%2018,%2008/Statistics%20Techniques%20in%20Bus%20&amp;amp%3B%20Econ%20KSU%20En%2008%20OK/Chapter03.doc" TargetMode="External"/><Relationship Id="rId4" Type="http://schemas.openxmlformats.org/officeDocument/2006/relationships/hyperlink" Target="file:///C:/Black%20Flash%20KSA/Stat%20Final%20Oct%2018,%2008/Statistics%20Techniques%20in%20Bus%20&amp;amp%3B%20Econ%20KSU%20En%2008%20OK/Chapter04.doc" TargetMode="External"/><Relationship Id="rId5" Type="http://schemas.openxmlformats.org/officeDocument/2006/relationships/hyperlink" Target="file:///C:/Black%20Flash%20KSA/Stat%20Final%20Oct%2018,%2008/Statistics%20Techniques%20in%20Bus%20&amp;amp%3B%20Econ%20KSU%20En%2008%20OK/Chapter05.doc" TargetMode="External"/><Relationship Id="rId6" Type="http://schemas.openxmlformats.org/officeDocument/2006/relationships/hyperlink" Target="file:///C:/Black%20Flash%20KSA/Stat%20Final%20Oct%2018,%2008/Statistics%20Techniques%20in%20Bus%20&amp;amp%3B%20Econ%20KSU%20En%2008%20OK/Chapter06.doc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C:/Black%20Flash%20KSA/Stat%20Final%20Oct%2018,%2008/Statistics%20Techniques%20in%20Bus%20&amp;amp%3B%20Econ%20KSU%20En%2008%20OK/Chapter07.doc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673520" y="3535200"/>
            <a:ext cx="4013280" cy="121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ouglas Lind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illiam Marchal &amp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amuel Wath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025280" y="1269360"/>
            <a:ext cx="761112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tatistical Techniques in Business &amp; Economics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1038240" y="3833640"/>
            <a:ext cx="2171520" cy="21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pulation versus S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66ECD-80B6-4D42-846C-C2FDA736C953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grpSp>
        <p:nvGrpSpPr>
          <p:cNvPr id="132" name="Group 8"/>
          <p:cNvGrpSpPr/>
          <p:nvPr/>
        </p:nvGrpSpPr>
        <p:grpSpPr>
          <a:xfrm>
            <a:off x="752400" y="1781280"/>
            <a:ext cx="7743960" cy="4900680"/>
            <a:chOff x="752400" y="1781280"/>
            <a:chExt cx="7743960" cy="4900680"/>
          </a:xfrm>
        </p:grpSpPr>
        <p:pic>
          <p:nvPicPr>
            <p:cNvPr id="133" name="Picture 4" descr=""/>
            <p:cNvPicPr/>
            <p:nvPr/>
          </p:nvPicPr>
          <p:blipFill>
            <a:blip r:embed="rId1"/>
            <a:stretch/>
          </p:blipFill>
          <p:spPr>
            <a:xfrm>
              <a:off x="1625760" y="3672000"/>
              <a:ext cx="6211800" cy="30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Rectangle 7"/>
            <p:cNvSpPr/>
            <p:nvPr/>
          </p:nvSpPr>
          <p:spPr>
            <a:xfrm>
              <a:off x="752400" y="1781280"/>
              <a:ext cx="774396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66"/>
                  </a:solidFill>
                  <a:latin typeface="Arial"/>
                </a:rPr>
                <a:t>A </a:t>
              </a:r>
              <a:r>
                <a:rPr b="0" lang="en-US" sz="2800" spc="-1" strike="noStrike">
                  <a:solidFill>
                    <a:srgbClr val="33cccc"/>
                  </a:solidFill>
                  <a:latin typeface="Arial"/>
                </a:rPr>
                <a:t>population</a:t>
              </a:r>
              <a:r>
                <a:rPr b="0" lang="en-US" sz="2800" spc="-1" strike="noStrike">
                  <a:solidFill>
                    <a:srgbClr val="0099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3366"/>
                  </a:solidFill>
                  <a:latin typeface="Arial"/>
                </a:rPr>
                <a:t>is a </a:t>
              </a:r>
              <a:r>
                <a:rPr b="0" lang="en-US" sz="2800" spc="-1" strike="noStrike">
                  <a:solidFill>
                    <a:srgbClr val="33cccc"/>
                  </a:solidFill>
                  <a:latin typeface="Arial"/>
                </a:rPr>
                <a:t>collection </a:t>
              </a:r>
              <a:r>
                <a:rPr b="0" lang="en-US" sz="2800" spc="-1" strike="noStrike">
                  <a:solidFill>
                    <a:srgbClr val="003366"/>
                  </a:solidFill>
                  <a:latin typeface="Arial"/>
                </a:rPr>
                <a:t>of all possible individuals, objects, or measurements of  interest. </a:t>
              </a:r>
              <a:endParaRPr b="0" lang="en-US" sz="2800" spc="-1" strike="noStrike">
                <a:solidFill>
                  <a:srgbClr val="33cc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66"/>
                  </a:solidFill>
                  <a:latin typeface="Arial"/>
                </a:rPr>
                <a:t>A</a:t>
              </a:r>
              <a:r>
                <a:rPr b="0" lang="en-US" sz="2800" spc="-1" strike="noStrike">
                  <a:solidFill>
                    <a:srgbClr val="33cccc"/>
                  </a:solidFill>
                  <a:latin typeface="Arial"/>
                </a:rPr>
                <a:t> sample </a:t>
              </a:r>
              <a:r>
                <a:rPr b="0" lang="en-US" sz="2800" spc="-1" strike="noStrike">
                  <a:solidFill>
                    <a:srgbClr val="003366"/>
                  </a:solidFill>
                  <a:latin typeface="Arial"/>
                </a:rPr>
                <a:t>is a portion, or part, of the population of interest</a:t>
              </a:r>
              <a:endParaRPr b="0" lang="en-US" sz="2800" spc="-1" strike="noStrike">
                <a:solidFill>
                  <a:srgbClr val="33cccc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ypes of Variables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7720" y="1905120"/>
            <a:ext cx="7828200" cy="437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A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Qualitative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r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Attribute variable</a:t>
            </a:r>
            <a:r>
              <a:rPr b="0" lang="en-US" sz="2800" spc="-1" strike="noStrike">
                <a:solidFill>
                  <a:srgbClr val="4db14b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characteristic being studied is nonnumeric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Gender, religious affiliation, type of automobile owned, state of birth, eye color are examples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B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Quantitative variab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- information is reported numerically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balance in your checking account, minutes remaining in class, or number of children in a family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64E23-30E4-46D1-9008-BC3AB8E931F7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Quantitative Variables - Classification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02920" y="1904760"/>
            <a:ext cx="8442360" cy="446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uantitative variables can be classified as either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discret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continuou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Discrete variables</a:t>
            </a:r>
            <a:r>
              <a:rPr b="0" lang="en-US" sz="2800" spc="-1" strike="noStrike">
                <a:solidFill>
                  <a:srgbClr val="4db14b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an only assume certain values and there are usually “gaps” between value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EXAMPLE</a:t>
            </a:r>
            <a:r>
              <a:rPr b="0" lang="en-US" sz="2400" spc="-1" strike="noStrike">
                <a:solidFill>
                  <a:srgbClr val="ff3101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the number of bedrooms in a house, or the number of hammers sold at the local Home Depot (1,2,3,…,etc)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B. Continuous variab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an assume any value within a specified rang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he pressure in a tire, the weight of a pork chop, or the height of students in a clas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A0052-D167-4172-9C7C-06CE0123CD0F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449280" y="2728800"/>
            <a:ext cx="8099280" cy="16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 of Types of Variab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1"/>
          <a:stretch/>
        </p:blipFill>
        <p:spPr>
          <a:xfrm>
            <a:off x="777960" y="2193840"/>
            <a:ext cx="7146720" cy="4100760"/>
          </a:xfrm>
          <a:prstGeom prst="rect">
            <a:avLst/>
          </a:prstGeom>
          <a:ln w="0">
            <a:noFill/>
          </a:ln>
        </p:spPr>
      </p:pic>
      <p:sp>
        <p:nvSpPr>
          <p:cNvPr id="146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2AE27-39AB-41D3-ACEC-7B2EDE75DAF1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ur Levels of Measure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72680" y="1768320"/>
            <a:ext cx="4205160" cy="50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Nominal level -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ata that is classified into categories and cannot be arranged in any particular order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eye color, gender, religious affilia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Ordinal level –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involves data arranged in some order, but the differences between data values cannot be determined or are meaningles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EXAMPLE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During a taste test of 4 soft drinks, Mellow Yellow was ranked number 1, Sprite number 2, Seven-up number 3, and Orange Crush number 4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87480" y="1752480"/>
            <a:ext cx="4327560" cy="46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Interval level -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milar to the ordinal level, with the additional property that meaningful amounts of differences between data values can be determined. There is no natural zero point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EXAMPLE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Temperature on the Fahrenheit scal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Ratio level -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interval level with an inherent zero starting point.  Differences and ratios are meaningful for this level of measurement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nthly income of surgeons, or distance traveled by manufacturer’s representatives per month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C90F6-4613-4C8E-A94B-8EE46CB9C0AE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809640" y="1886040"/>
            <a:ext cx="36860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581760" y="648360"/>
            <a:ext cx="780912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66"/>
                </a:solidFill>
                <a:latin typeface="Arial"/>
              </a:rPr>
              <a:t>Summary of the Characteristics for Levels of Measurement</a:t>
            </a:r>
            <a:endParaRPr b="1" lang="en-US" sz="29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1198440" y="2390760"/>
            <a:ext cx="6972480" cy="3210120"/>
          </a:xfrm>
          <a:prstGeom prst="rect">
            <a:avLst/>
          </a:prstGeom>
          <a:ln w="0">
            <a:noFill/>
          </a:ln>
        </p:spPr>
      </p:pic>
      <p:sp>
        <p:nvSpPr>
          <p:cNvPr id="156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B6946-7CF4-418B-9379-015A7C629DEF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724320" y="318204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d of Chapter 1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52E16-E476-4E76-9C28-E17D7489BBBD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01560" y="357120"/>
            <a:ext cx="7787880" cy="94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107 QUA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OURSE CONTENT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12400" y="1962000"/>
            <a:ext cx="89312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bc0000"/>
                </a:solidFill>
                <a:uFillTx/>
                <a:latin typeface="Arial"/>
              </a:rPr>
              <a:t>Chapter </a:t>
            </a:r>
            <a:r>
              <a:rPr b="1" i="1" lang="en-US" sz="2400" spc="-1" strike="noStrike">
                <a:solidFill>
                  <a:srgbClr val="bc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bc0000"/>
                </a:solidFill>
                <a:latin typeface="Arial"/>
              </a:rPr>
              <a:t>	</a:t>
            </a:r>
            <a:r>
              <a:rPr b="1" i="1" lang="en-US" sz="2400" spc="-1" strike="noStrike" u="sng">
                <a:solidFill>
                  <a:srgbClr val="bc0000"/>
                </a:solidFill>
                <a:uFillTx/>
                <a:latin typeface="Arial"/>
              </a:rPr>
              <a:t>Title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What is Statistic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Describing Data: Frequency Distributions and 		Graphic Presentation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Describing Data:  Numerical Measures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4"/>
              </a:rPr>
              <a:t>Describing Data: Displaying and Exploring Da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5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5"/>
              </a:rPr>
              <a:t>A Survey of Probability Concep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6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6"/>
              </a:rPr>
              <a:t>Discrete Probability Distributions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1B260-CD37-47F3-A4C6-EA5E17BA161F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601560" y="357120"/>
            <a:ext cx="7787880" cy="94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TAT 107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OURSE CONTENT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34800" y="1962000"/>
            <a:ext cx="880920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bc0000"/>
                </a:solidFill>
                <a:uFillTx/>
                <a:latin typeface="Arial"/>
              </a:rPr>
              <a:t>Chapter </a:t>
            </a:r>
            <a:r>
              <a:rPr b="1" i="1" lang="en-US" sz="2800" spc="-1" strike="noStrike">
                <a:solidFill>
                  <a:srgbClr val="bc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bc0000"/>
                </a:solidFill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bc0000"/>
                </a:solidFill>
                <a:uFillTx/>
                <a:latin typeface="Arial"/>
              </a:rPr>
              <a:t>Title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7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Continuous Probability Distribu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8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Sampling Methods and the Central 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Limit Theore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13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Linear Regression and Correl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15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Index Numb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16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Time Series and Forecas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2EFF0-2A05-4419-BB04-20585F0A56F7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hapter 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What is Statistic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1038240" y="3833640"/>
            <a:ext cx="2171520" cy="21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OA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99920" y="1962000"/>
            <a:ext cx="7692840" cy="41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derstand why we study statistic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plain what is meant by descriptive statistics and inferential statistic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tinguish between a qualitative variable and a quantitative variab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scribe how a discrete variable is different from a continuous variab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tinguish among the nominal, ordinal, interval, and ratio levels of measurem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30A25-85AF-40AB-881D-E9BB54EBFA71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is Meant by Statistic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00280" y="2166480"/>
            <a:ext cx="7410240" cy="33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912ea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33cccc"/>
                </a:solidFill>
                <a:latin typeface="Arial"/>
              </a:rPr>
              <a:t>Statistics</a:t>
            </a:r>
            <a:r>
              <a:rPr b="0" i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is the science of collecting, organizing, presenting, analyzing, and interpreting numerical data to assist in making more effective decisions.</a:t>
            </a:r>
            <a:r>
              <a:rPr b="0" i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8449D-8BEE-452F-9EFF-67DB8B318055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o Uses Statistic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99720" y="2085480"/>
            <a:ext cx="6597720" cy="33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tatistical techniques are used extensively by marketing, accounting, quality control, consumers, professional sports people, hospital administrators, educators, politicians, physicians, etc..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0681C-08BC-46D4-BF70-AD5761D5D719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ypes of Statistic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09640" y="2072880"/>
            <a:ext cx="7927920" cy="432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cc"/>
                </a:solidFill>
                <a:latin typeface="Arial"/>
              </a:rPr>
              <a:t>1.Descriptive Statistics -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methods of organizing, summarizing, and presenting data in an informative way.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EXAMPLE 1</a:t>
            </a:r>
            <a:r>
              <a:rPr b="0" lang="en-US" sz="2800" spc="-1" strike="noStrike">
                <a:solidFill>
                  <a:srgbClr val="ff3101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 Gallup poll found that 49% of the people in a survey knew the name of the first book of the Bible. The statistic 49 describes the number out of every 100 persons who knew the answ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AFA2E-ED8F-434C-8A1A-13CA3A4ACAFA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66"/>
                </a:solidFill>
                <a:latin typeface="Arial"/>
              </a:rPr>
              <a:t>Types of Statistics – Descriptive Statistics</a:t>
            </a:r>
            <a:endParaRPr b="1" lang="en-US" sz="29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09640" y="1869840"/>
            <a:ext cx="792792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EXAMPLE 2</a:t>
            </a:r>
            <a:r>
              <a:rPr b="0" lang="en-US" sz="2800" spc="-1" strike="noStrike">
                <a:solidFill>
                  <a:srgbClr val="ff3101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ccording to Consumer Reports, General Electric washing machine owners reported 9 problems per 100 machines during 2001. The statistic 9 describes the number of problems out of every 100 machin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2.Inferential Statistics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 decision, estimate, prediction, or generalization about a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population,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based on a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sample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1949C-5778-4BB0-B2B2-7260EED97778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7T15:17:12Z</dcterms:created>
  <dc:creator>Rene Leo E. Ordonez</dc:creator>
  <dc:description/>
  <dc:language>en-US</dc:language>
  <cp:lastModifiedBy>NAJ</cp:lastModifiedBy>
  <dcterms:modified xsi:type="dcterms:W3CDTF">2014-09-06T18:02:13Z</dcterms:modified>
  <cp:revision>105</cp:revision>
  <dc:subject>What is Statistics</dc:subject>
  <dc:title>Chapter 1</dc:title>
</cp:coreProperties>
</file>