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37616-CDE6-4365-9632-B5FA32041A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F150A-2B8A-490F-941D-1D5AEFEF01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DABC0-5672-4339-A1D6-EF69F3CFDC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9922A-9B3D-4ECD-9AEB-848EAD1CCF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8A071-459B-420E-BC94-99F2C80979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A43D0-4017-494B-B68B-49ECC61A04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98D84-0ABC-4335-A89C-E2E040B6BF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1C3E9-FF52-4B36-9ADD-0C16A8D864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A2733-C814-4F62-BC24-F309F0C31E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DB193-2E2A-4DCE-B998-2B4BC8CC30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5FAC5-6920-4FF1-9A4A-627C108D0B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15BB0-F3C0-4D3C-8AD8-FEBC48AFAE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DE32-0DBA-4C16-BA88-8B7A16FDC7F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is Statistic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ur Levels of Measur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Nominal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ata that is classified into categories and cannot be arranged in any particular order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eye color, gender, religious affiliation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Ordinal level –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involves data arranged in some order, but the differences between data values cannot be determined or are meaningless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During a taste test of 4 soft drinks, Mellow Yellow was ranked number 1, Sprite number 2, Seven-up number 3, and Orange Crush number 4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6064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Interval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milar to the ordinal level, with the additional property that meaningful amounts of differences between data values can be determined. There is no natural zero point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emperature on the Fahrenheit scale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Ratio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interval level with an inherent zero starting point.  Differences and ratios are meaningful for this level of measurement.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1600" spc="-1" strike="noStrike">
                <a:solidFill>
                  <a:srgbClr val="ff3101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onthly income of surgeons, or distance traveled by manufacturer’s representatives per month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9640" y="1886040"/>
            <a:ext cx="3686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724DC-1B97-4CC6-ACAC-F3D98DD2B17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8176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ummary of the Characteristics for Levels of Measurem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84080" y="2362320"/>
            <a:ext cx="6980400" cy="320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1B69F-5836-4016-9A8D-710199F65B4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87DD0-6142-43B7-ACCC-DAEA82BA741B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99920" y="2114280"/>
            <a:ext cx="769284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why we study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is meant by descriptive statistics and inferential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a qualitative variable and a quantitative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discrete variable is different from a continuous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among the nominal, ordinal, interval, and ratio levels of measu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35F64-99F8-40C0-BC3F-9241CAE9A09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eant by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00280" y="2166480"/>
            <a:ext cx="741024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912ea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33cccc"/>
                </a:solidFill>
                <a:latin typeface="Arial"/>
              </a:rPr>
              <a:t>Statistics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s the science of collecting, organizing, presenting, analyzing, and interpreting numerical data to assist in making more effective decisions.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D8398-3A45-4865-9204-E5FD66AB8C8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Uses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9720" y="2085480"/>
            <a:ext cx="659772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tistical techniques are used extensively by marketing, accounting, quality control, consumers, professional sports people, hospital administrators, educators, politicians, physicians, etc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B73DA-4DFA-4890-A613-2CA40A3CC45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9640" y="1870200"/>
            <a:ext cx="7927920" cy="39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escriptive Statistics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thods of organizing, summarizing, and presenting data in an informative wa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 1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A Gallup poll found that 49% of the people in a survey knew the name of the first book of the Bible. The statistic 49 describes the number out of every 100 persons who knew the answer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 2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According to Consumer Reports, General Electric washing machine owners reported 9 problems per 100 machines during 2001. The statistic 9 describes the number of problems out of every 100 machine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Inferential Statistic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decision, estimate, prediction, or generalization about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opulation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ased on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amp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11F7D-9EE7-47E0-B083-772CD344364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52400" y="1917720"/>
            <a:ext cx="7743960" cy="4764240"/>
            <a:chOff x="752400" y="1917720"/>
            <a:chExt cx="7743960" cy="476424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1625760" y="3672000"/>
              <a:ext cx="621180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52400" y="1917720"/>
              <a:ext cx="77439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 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population</a:t>
              </a:r>
              <a:r>
                <a:rPr b="0" lang="en-US" sz="20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is a 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collection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of all possible individuals, objects, or measurements of  interest. 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 sample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is a portion, or part, of the population of interes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9BB51-6708-4916-BD73-5B5246DF7291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Variab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282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lita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ttribute variable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racteristic being studied is nonnumeric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Gender, religious affiliation, type of automobile owned, state of birth, eye color are exampl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ntitative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information is reported numer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balance in your checking account, minutes remaining in class, or number of children in a family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977F6-22F1-407B-9890-CFF9AF8E07B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antitative Variables - Classif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864560" cy="44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antitative variables can be classified as eithe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discre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A. Discrete variables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an only assume certain values and there are usually “gaps” between valu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he number of bedrooms in a house, or the number of hammers sold at the local Home Depot (1,2,3,…,etc)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ontinuous variabl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an assume any value within a specified rang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he pressure in a tire, the weight of a pork chop, or the height of students in a clas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280" y="2728800"/>
            <a:ext cx="8099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3D434-EE39-4B7A-867B-81AE865EFCB7}" type="slidenum">
              <a:t>8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of Types of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06560" y="2308320"/>
            <a:ext cx="6473880" cy="394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466D8-ED53-4ED5-B07D-C0758A8BB59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HE</cp:lastModifiedBy>
  <dcterms:modified xsi:type="dcterms:W3CDTF">2006-07-19T16:10:59Z</dcterms:modified>
  <cp:revision>89</cp:revision>
  <dc:subject>What is Statistics</dc:subject>
  <dc:title>Chapter 1</dc:title>
</cp:coreProperties>
</file>